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8D8C-11DB-46C2-A671-556B0F24C0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5779-F842-4C89-B6D3-F088E301AE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5545-A1A7-439E-B6BA-AA949A78EEF0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18EF-DD28-455E-A042-AEBAA6191C1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00EB-BF58-4EB5-831A-76CC6FAE74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2818-9D25-487A-B68A-B9D03654B1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93D7-3310-40FC-B536-C566BFAC7380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DF2B-05A0-46F4-B4A9-A0E70E8780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C2C8-4DC5-437D-9755-4057F58679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96B6-E4BE-4AC2-991B-A03CAF01A4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02E-62DE-4F1A-B3BC-FA407F3BD89B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1B8A-20FA-4670-AE3C-799130B040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7FCF-31BD-4197-A251-710E1E09AE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9551-31E2-4267-A70C-3E3122266FC8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A12-09AC-41FB-A1FB-C535E59B4A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9B9-AADB-41DE-810D-0D027A393D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8F7A-9FF9-49FD-91A0-55AE202697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C51-196E-4AC0-BE3C-35F457F06F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5D07-98BE-48B1-A8D9-FB9220231F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3A0-F872-4512-801B-F50756E95A7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D00E-3799-41B2-9CEA-556084F95903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26C9-3116-4586-AF29-85B2003CCD95}" type="slidenum">
              <a:rPr b="0" lang="ar-EG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FD8-0D54-4268-AA1E-5B58DBD984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5038-B60D-4900-B99E-32E23B23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7E4-3B41-4D23-8209-20322CF6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899B-2C28-4315-A6B1-FB495896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01F-CC62-433E-8FB2-34F1C98E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808-8D65-434B-8E50-4C8DB226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7F4-C44B-4B53-8644-D1CC26AD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E91-4F7E-4F11-9CAB-A51CD997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4D5-AA22-4330-9698-0AE3674C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DD8-1C76-4AEB-9045-6C0CBEE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EA5-F43B-4B79-B3E4-9A51519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366-4E57-4C46-8F18-3B89F3A8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26D-6339-403F-900E-7A4FA8F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D171-561B-44E8-82BD-F1E92D21E63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E1A9-25A6-475F-92A8-0C2E4073F3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Impact"/>
              </a:rPr>
              <a:t>The Cell Organel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752480" y="3200400"/>
            <a:ext cx="579132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"/>
                <a:cs typeface="Al-Mothnna"/>
              </a:rPr>
              <a:t>عضيــات الخليـــــــــ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719280"/>
            <a:ext cx="8610480" cy="662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smooth 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شبكة الإندوبلازمية الناع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t is rich in enzymes and plays a role in metabo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ts enzymes synthesize lipi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هو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ils, phospholipids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nd steroids) including the sex hormo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رمونات الجنس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s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وجد بكثر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li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helps detox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بطال الأثر السا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خد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pois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سمو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rough ER: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شبكة الإندوبلازمية الخشنة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is especially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ose cells th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ecrete proteins as it contains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These secretory proteins are packaged in transp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vesicles that carry them to their nex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DE27-BFF9-424C-ACA8-27B5EAA634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2028600"/>
            <a:ext cx="891540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ransport vesic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ية ناقل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ER travel to the Golgi apparatus for modificati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طوي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ir cont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gi is a center of manufactur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صني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arehou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لي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ort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جَهي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ckag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hipp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نق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als to outside the ce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 Golgi apparatus is especially extensive in cell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pecialized for secre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إفراز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lgi also manufactures pectin and polysacchar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finishes, sort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جَه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ship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ن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F3D5-21A6-4419-A53F-5F8BD9F8E4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560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2, Page 1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6"/>
          <p:cNvGrpSpPr/>
          <p:nvPr/>
        </p:nvGrpSpPr>
        <p:grpSpPr>
          <a:xfrm>
            <a:off x="152280" y="0"/>
            <a:ext cx="8839440" cy="6248520"/>
            <a:chOff x="152280" y="0"/>
            <a:chExt cx="8839440" cy="6248520"/>
          </a:xfrm>
        </p:grpSpPr>
        <p:pic>
          <p:nvPicPr>
            <p:cNvPr id="98" name="Picture 3" descr=""/>
            <p:cNvPicPr/>
            <p:nvPr/>
          </p:nvPicPr>
          <p:blipFill>
            <a:blip r:embed="rId1"/>
            <a:srcRect l="0" t="0" r="0" b="10164"/>
            <a:stretch/>
          </p:blipFill>
          <p:spPr>
            <a:xfrm>
              <a:off x="152280" y="0"/>
              <a:ext cx="8839440" cy="624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5"/>
            <p:cNvSpPr/>
            <p:nvPr/>
          </p:nvSpPr>
          <p:spPr>
            <a:xfrm>
              <a:off x="3086280" y="34797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وعاء ناق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73D-8383-4E2A-8855-63D821610A5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ys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membrane-bounded sac of enzymes that digests macro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- Lysosom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جسام المُحللة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igestiv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1"/>
          <a:srcRect l="0" t="6939" r="35742" b="6358"/>
          <a:stretch/>
        </p:blipFill>
        <p:spPr>
          <a:xfrm>
            <a:off x="0" y="1935000"/>
            <a:ext cx="9144000" cy="492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085520" y="6308640"/>
            <a:ext cx="179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3a, Page 12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238880" y="4572000"/>
            <a:ext cx="8384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534520" cy="563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sosomal enzym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ork best a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 = 5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idic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ysosomal enzy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synthesiz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g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transferred to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تنقل إل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ol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n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s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nction of Lysozomal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hydrolyse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حل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, fats, polysaccharides, and nucleic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destroy the cell by autodigestion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utophagy)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هضم الذات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fuse with food vacuol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فحجوة الغذ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digest food, (when a food item is brought into the cell by phagocytos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fuse with another organelle or part of the cytosol. This process of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autophag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cyc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renews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752480" y="152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ysozomal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01BD-7524-467C-8A9B-9BF5610DDB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3080"/>
          <a:stretch/>
        </p:blipFill>
        <p:spPr>
          <a:xfrm>
            <a:off x="76320" y="77760"/>
            <a:ext cx="7404120" cy="6399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314480" y="569916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4, Page 12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1213-ACB7-43E7-93A2-C4B0D46C44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775880"/>
            <a:ext cx="9144000" cy="40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sic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عـ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vacuo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جوا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membrane-bound sa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كيا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varie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od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rom phagocytosis, fuse with lys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ractile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found in freshwater protists, pump excess water out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ntral vacuo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und in many mature plan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)- Vacuo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ave diverse fun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ظائف متنوع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ell maintena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لحفاظ على الخ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4D4C-0A1C-4910-9CE7-E1A899D792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5800" y="6461280"/>
            <a:ext cx="231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s. 7.15 &amp; 166, Page 1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0" y="168120"/>
            <a:ext cx="9144000" cy="6365880"/>
            <a:chOff x="0" y="168120"/>
            <a:chExt cx="9144000" cy="6365880"/>
          </a:xfrm>
        </p:grpSpPr>
        <p:pic>
          <p:nvPicPr>
            <p:cNvPr id="120" name="Picture 3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0" y="1298520"/>
              <a:ext cx="5943600" cy="523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5"/>
            <p:cNvSpPr/>
            <p:nvPr/>
          </p:nvSpPr>
          <p:spPr>
            <a:xfrm>
              <a:off x="2819520" y="1905120"/>
              <a:ext cx="143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000000"/>
                  </a:solidFill>
                  <a:latin typeface="Arial"/>
                </a:rPr>
                <a:t>الفجوة المركذي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9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648320" y="168120"/>
              <a:ext cx="449568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0"/>
            <p:cNvSpPr/>
            <p:nvPr/>
          </p:nvSpPr>
          <p:spPr>
            <a:xfrm>
              <a:off x="152280" y="762120"/>
              <a:ext cx="1436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نبا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1"/>
            <p:cNvSpPr/>
            <p:nvPr/>
          </p:nvSpPr>
          <p:spPr>
            <a:xfrm>
              <a:off x="7391520" y="3657600"/>
              <a:ext cx="1589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خلية حيو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9AB-BF46-4FE1-AF2D-DEDECB44AB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mbrane surrounding the central vacuole,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nopla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s selectiv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ختيارى النفاز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its transport of materials into the central vacu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al vacuo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 storing proteins or inorganic ions, depositing metabolic byproduc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رسيب نواتج الأيض الثانو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toring pi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أصبا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ز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so increases internal surface of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65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 Peroxi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 of peroxi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a po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oxisome has enzy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 for fu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إنتاج الطاق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y detox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بطل المفعول السُّم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harmful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s. Thus, it exi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vely in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ther Membranous Organelles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435640" y="2513160"/>
            <a:ext cx="3708360" cy="32781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A616-6C1C-41D1-9A19-8863CFA73B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1752120"/>
            <a:ext cx="8686800" cy="36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 contains most of the genes in an eukaryotic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us is separated from the cytoplasm by a double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مزدوج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uclear membran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قو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allow large macromolecules and particles to pass thr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clear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غلاف النو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maintaining the shape of the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 The nucleus: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tains the cell’s genetic library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محتوى الـﭽين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F9D8-E63F-418E-A07D-217F39F12C1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11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the organelles that convert energy to forms that cells can use fo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the sites of cellular respiration, generat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نتِ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catabol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, fats, and other fuel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صادر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e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loropla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found in plants and eukaryotic alga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طحال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e the site of photo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y convert solar energ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ل الطاقة الشمس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hemical energy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ynthesize new organic compounds from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not part of the endomembran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most all eukaryotic cells have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and chloroplasts are mobile and move around the cell along tracks in the cytoskelet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)-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Mitochondria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itochondr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loroplas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main energy transformer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9067680" cy="13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a smooth outer membrane and a highly folded inner membrane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rista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توء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ner membrane enclose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fluid-filled space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ribosomes, and enzy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0" t="0" r="0" b="6594"/>
          <a:stretch/>
        </p:blipFill>
        <p:spPr>
          <a:xfrm>
            <a:off x="152280" y="1566720"/>
            <a:ext cx="7296120" cy="5291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7243200" y="52815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17, Page 1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28FD-B64B-46CF-9A47-543CAFB3B9F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8915400" cy="17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chloropl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es sugar via photo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loroplasts gain their color from high levels of the green pigment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chlorophy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loroplasts measure about 2 microns x 5 microns and are found in leaves and other green structures of plants and in eukaryotic alga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152280" y="1933560"/>
            <a:ext cx="8763120" cy="4086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151560" y="647712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8, Page 1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57A6-154E-46CC-910D-6495240C1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es in the chloroplast are separated from the cytosol by two membr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de the innermost membrane is a fluid-filled space,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ro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n which float membranous sacs,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ylako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troma contains DNA, ribosomes, and enzymes for part of photo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ylakoids, flattened sacs, are stacked into grana and are critical for converting light to chemical energ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F611-017B-4026-92E0-11FC4AEAE3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655308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© 2002 Pearson Education, Inc., publishing as Benjamin Cumm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0" t="0" r="0" b="10286"/>
          <a:stretch/>
        </p:blipFill>
        <p:spPr>
          <a:xfrm>
            <a:off x="190440" y="914400"/>
            <a:ext cx="8763120" cy="40863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308160" y="54100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E458-C6FF-4319-9BDF-6E0ED838BB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rcRect l="3497" t="0" r="0" b="9000"/>
          <a:stretch/>
        </p:blipFill>
        <p:spPr>
          <a:xfrm>
            <a:off x="228600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380520" y="99072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9, Page 11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453A-1C36-4FE4-8E52-AD12CD0CEB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81880" cy="62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in the nucleus, the DNA and associated proteins are organized into fibrous material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a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normal cell they appear as diffuse m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when the cell prepares to divide, the chromatin fibers coil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ت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 seen as separate structure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eukaryotic species has a characteristic number of chromoso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رقم مُمَيـٍز من الكروموسوم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A typical human cell ha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6 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ut sex cells (eggs an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perm) have on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3 chromoso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eo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 dark region involved in production of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us directs protein synthesis by synthesizing messenger RNA (mRN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RNA travels to the cytoplasm and combines with ribosomes to translate its genetic message into the primary structure of a specific polypept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4C1A7-9288-4781-B5E7-B5B4ADC264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contain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ibosome is composed of two subuni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حدت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comb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ح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arry out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761760" y="-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bosomes :Build a cell’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51920" y="6324480"/>
            <a:ext cx="1744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0, Page 11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2286000"/>
            <a:ext cx="8991720" cy="3962520"/>
            <a:chOff x="152280" y="2286000"/>
            <a:chExt cx="8991720" cy="3962520"/>
          </a:xfrm>
        </p:grpSpPr>
        <p:pic>
          <p:nvPicPr>
            <p:cNvPr id="66" name="Picture 6" descr=""/>
            <p:cNvPicPr/>
            <p:nvPr/>
          </p:nvPicPr>
          <p:blipFill>
            <a:blip r:embed="rId1"/>
            <a:srcRect l="0" t="0" r="0" b="8186"/>
            <a:stretch/>
          </p:blipFill>
          <p:spPr>
            <a:xfrm>
              <a:off x="152280" y="2286000"/>
              <a:ext cx="899172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8"/>
            <p:cNvSpPr/>
            <p:nvPr/>
          </p:nvSpPr>
          <p:spPr>
            <a:xfrm>
              <a:off x="5499000" y="449568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مرتبط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5334120" y="39625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0000"/>
                  </a:solidFill>
                  <a:latin typeface="Arial"/>
                </a:rPr>
                <a:t>ح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EE3A-4D79-416C-A9FD-4E5BCFAD92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3207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cleol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ribosomal RNA (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R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synthesized and assembled wi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ytoplasm to for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osomal subun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bunits pass from the nuclear pores to the cytoplasm where they combine to form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ll types that synthesize large quantities of proteins (e.g., pancreas) have large numbers of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ibosomes are 2 typ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ee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suspended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عل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sol and synthesize proteins that func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in the cytos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und rib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ttached to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لتصق ب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side of the endoplasmic ret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synthesize proteins that are either included into membranes or for export from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3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666880" y="685800"/>
            <a:ext cx="3962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opperplate Gothic Bold"/>
              </a:rPr>
              <a:t>B- Eukaryotic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002440" y="0"/>
            <a:ext cx="114156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A025"/>
          <p:cNvPicPr/>
          <p:nvPr/>
        </p:nvPicPr>
        <p:blipFill>
          <a:blip r:embed="rId3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76" name="Line 7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4"/>
          <a:stretch/>
        </p:blipFill>
        <p:spPr>
          <a:xfrm>
            <a:off x="0" y="1371600"/>
            <a:ext cx="4836960" cy="548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5"/>
          <a:srcRect l="0" t="0" r="0" b="3080"/>
          <a:stretch/>
        </p:blipFill>
        <p:spPr>
          <a:xfrm>
            <a:off x="4800600" y="1371600"/>
            <a:ext cx="43434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33520" y="152280"/>
            <a:ext cx="7772400" cy="64260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3- The Endomembran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1219320"/>
            <a:ext cx="87631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plasmic reticul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بكة الإندوبلازم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olgi apparat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هاز جولـﭽـ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shes, sorts, and ships cel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oso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يسوز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digestive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5000"/>
              </a:lnSpc>
              <a:buClr>
                <a:srgbClr val="0000ff"/>
              </a:buClr>
              <a:buFont typeface="Arial"/>
              <a:buAutoNum type="alphaLcParenR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cu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فجو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diverse functions in cell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B16B-33B7-4B81-9CCA-564BB403845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0"/>
          <p:cNvGrpSpPr/>
          <p:nvPr/>
        </p:nvGrpSpPr>
        <p:grpSpPr>
          <a:xfrm>
            <a:off x="4676760" y="1295280"/>
            <a:ext cx="4467240" cy="5486400"/>
            <a:chOff x="4676760" y="1295280"/>
            <a:chExt cx="4467240" cy="5486400"/>
          </a:xfrm>
        </p:grpSpPr>
        <p:pic>
          <p:nvPicPr>
            <p:cNvPr id="83" name="Picture 4" descr=""/>
            <p:cNvPicPr/>
            <p:nvPr/>
          </p:nvPicPr>
          <p:blipFill>
            <a:blip r:embed="rId1"/>
            <a:srcRect l="0" t="0" r="0" b="3000"/>
            <a:stretch/>
          </p:blipFill>
          <p:spPr>
            <a:xfrm>
              <a:off x="4676760" y="1295280"/>
              <a:ext cx="446724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Line 8"/>
            <p:cNvSpPr/>
            <p:nvPr/>
          </p:nvSpPr>
          <p:spPr>
            <a:xfrm>
              <a:off x="59436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"/>
            <p:cNvSpPr/>
            <p:nvPr/>
          </p:nvSpPr>
          <p:spPr>
            <a:xfrm>
              <a:off x="8001000" y="495288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Rectangle 5"/>
          <p:cNvSpPr/>
          <p:nvPr/>
        </p:nvSpPr>
        <p:spPr>
          <a:xfrm>
            <a:off x="2875680" y="646128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11, Page 1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The endoplasmic reticulum manufacturers membranes and performs many other biosynthet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22860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88960"/>
            <a:ext cx="472428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cludes membranous tub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type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t differ in structure and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moot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smooth because i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cks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ough 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oks rough because ribosomes (bound ribosomes) are attached to the outside, including the outside of the nuclear envelop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hmed</cp:lastModifiedBy>
  <dcterms:modified xsi:type="dcterms:W3CDTF">2009-03-03T11:00:34Z</dcterms:modified>
  <cp:revision>192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