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0CA8-F243-4145-A7E3-785180D0FC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1B7F-8F98-47C1-B841-09B7F346AD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F98E-14C6-464F-B3CB-8BE0B6C4FDB0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19E7-7EB2-4B44-8E75-1CAD059B91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C281-1752-4BB8-8028-263F7F65E0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60A5-4F6D-450C-921E-D610BA6951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7303-3EF9-4D74-AD36-5AA62BAFCC65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B010-1B80-4FD9-B0C0-D8228BA4EB5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09F8-7207-45B1-BAB2-561B3894BD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D128-AA44-431A-BFA5-83A0A42D7D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07E0-7019-466C-852C-8DFB31E4D220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800-7007-4856-945C-6AC504AE1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D914-3E13-4006-87B5-763909E49B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49B-9672-47BF-8920-55F59001ABE5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9384-FA2F-4434-9895-1DA4392373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1768-C681-4ADA-94D8-559CEF5E58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088C-E2FA-449F-8577-C367630837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5411-DEAA-4DB7-BF1D-3147CF3BDA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7AB9-3638-45AB-B2CD-C3A9136434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B2A6-286E-4DB8-AC7C-9DB3DE57B3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B688-3F14-4E17-BD4A-2DBBF0366909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20A3-C3AB-4B2D-97AB-16D1F9192904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09B7-B251-42B6-8F55-0C59EC6791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0EF-C42B-4C54-8117-B9E3E75C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4BA-25E3-4D42-AFA4-277102C0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EC2-B5DC-4A80-9F7A-0C771969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3A7-BC68-47F0-9207-28C873F8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FEB-6179-43D1-BCB4-4E39D316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73C-B132-40A1-B5EB-1A634DF9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EB9-7D02-4006-9C92-5F0213AB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6CE-8F9E-4E3E-B1D1-00FC84B4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295-AA68-4F2B-862E-106D1A2A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055-7D3F-4E96-BDBD-083ADB3E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A6A-B08B-4757-A5F6-FE6B9673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191-2C68-4565-90CB-84CFA242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10B9-AEAF-4024-8E6A-5D32B96DFD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1E36-0F86-450A-9F21-E280650637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752480" y="3200400"/>
            <a:ext cx="57913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7192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DECE-F4F1-4559-989D-94D91296AB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1920" y="2028600"/>
            <a:ext cx="89154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ransport vesic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ER travel to the Golgi apparatus for modificati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lgi is a center of manufactur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arehou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ort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ـُجَهي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pecialized for secre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finishes, sort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ـُجَه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ship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ن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C782-7A87-4F1B-8E42-F697AE529B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5600" y="647712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2, Page 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6"/>
          <p:cNvGrpSpPr/>
          <p:nvPr/>
        </p:nvGrpSpPr>
        <p:grpSpPr>
          <a:xfrm>
            <a:off x="152280" y="0"/>
            <a:ext cx="8839440" cy="6248520"/>
            <a:chOff x="152280" y="0"/>
            <a:chExt cx="8839440" cy="6248520"/>
          </a:xfrm>
        </p:grpSpPr>
        <p:pic>
          <p:nvPicPr>
            <p:cNvPr id="98" name="Picture 3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5"/>
            <p:cNvSpPr/>
            <p:nvPr/>
          </p:nvSpPr>
          <p:spPr>
            <a:xfrm>
              <a:off x="3086280" y="3479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2F14-5478-4900-A983-54B4CC4DD5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membrane-bounded sac 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- Lysosom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جسام المُحلل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igestiv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7085520" y="6308640"/>
            <a:ext cx="1793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3a, Page 1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534520" cy="563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sosomal enzym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rk best a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 = 5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idic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ysosomal enzy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ynthesiz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g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transferred to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تنقل إل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lg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ys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nction of Lysozomal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hydrolyse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حل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, fats, polysaccharides, and nucleic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stroy the cell by autodigestion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tophagy)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ضم الذات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fuse with food vacuole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فحجوة الغذ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igest food, (when a food item is brought into the cell by phagocytos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lso fuse with another organelle or part of the cytosol. This process of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utophag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yc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renews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752480" y="152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4093-D996-46AE-8701-55553D1BB6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76320" y="77760"/>
            <a:ext cx="7404120" cy="6399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7314480" y="569916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4, Page 12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86AD-F960-4186-9834-35A9EC59BA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775880"/>
            <a:ext cx="914400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sic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وعـ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vacuo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جو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membrane-bound sac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كيا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varie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od vacuo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rom phagocytosis, fuse with lys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actile vacuo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und in freshwater protists, pump excess water out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ntral vacuo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und in many mature plan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)- Vacuo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ave diverse fun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ظائف متنوع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ell maintena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لحفاظ على الخ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B2C4-15B3-483A-88B0-A1A54AAB4D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5800" y="6461280"/>
            <a:ext cx="231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s. 7.15 &amp; 166, Page 1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0" y="168120"/>
            <a:ext cx="9144000" cy="6365880"/>
            <a:chOff x="0" y="168120"/>
            <a:chExt cx="9144000" cy="6365880"/>
          </a:xfrm>
        </p:grpSpPr>
        <p:pic>
          <p:nvPicPr>
            <p:cNvPr id="120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0" y="1298520"/>
              <a:ext cx="594360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5"/>
            <p:cNvSpPr/>
            <p:nvPr/>
          </p:nvSpPr>
          <p:spPr>
            <a:xfrm>
              <a:off x="2819520" y="1905120"/>
              <a:ext cx="143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9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8320" y="168120"/>
              <a:ext cx="449568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0"/>
            <p:cNvSpPr/>
            <p:nvPr/>
          </p:nvSpPr>
          <p:spPr>
            <a:xfrm>
              <a:off x="152280" y="762120"/>
              <a:ext cx="143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7391520" y="3657600"/>
              <a:ext cx="158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44B-E8AD-49CC-81CF-188D246CF9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838188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mbrane surrounding the central vacuole,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nopla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s selectiv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ختيارى النفاز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ts transport of materials into the central vacu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ntral vacu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storing proteins or inorganic ions, depositing metabolic byproduc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سيب نواتج الأيض الثانو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toring pi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أصبا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ز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so increases internal surface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43564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0E0E-006C-4C0A-BD22-6974F02A35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2280" y="1752120"/>
            <a:ext cx="8686800" cy="36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حتوى الـﭽين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BAD7-57F9-4104-A882-BF761EB0DD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11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 and chloroplasts are the organelles that convert energy to forms that cells can use fo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tochond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the sites of cellular respiration, genera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نتِ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 catabol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, fats, and other fuel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صادر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pre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lorop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ound in plants and eukaryotic alga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طحا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re the site of photo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y convert solar energ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ل الطاقة الشم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hemical energy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synthesize new organic compounds from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 and chloroplasts are not part of the endomembra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 all eukaryotic cells have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 and chloroplasts are mobile and move around the cell along tracks in the cytoskelet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tochondr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loroplas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he main energy transformers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52280" y="1566720"/>
            <a:ext cx="7296120" cy="5291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7243200" y="52815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7.17, Page 1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46C1-B394-4AA8-AC87-D8A7F3118A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1540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chloropl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es sugar via photo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loroplasts gain their color from high levels of the green pigment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hlorophy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loroplasts measure about 2 microns x 5 microns and are found in leaves and other green structures of plants and in eukaryotic alga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0" t="0" r="0" b="10286"/>
          <a:stretch/>
        </p:blipFill>
        <p:spPr>
          <a:xfrm>
            <a:off x="152280" y="1933560"/>
            <a:ext cx="8763120" cy="4086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51560" y="647712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8, Page 1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69A3-9AF6-4066-AD02-C757522734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38224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cesses in the chloroplast are separated from the cytosol by tw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the innermost membrane is a fluid-filled space,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o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n which float membranous sacs,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ylak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roma contains DNA, ribosomes, and enzymes for part of photo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hylakoids, flattened sacs, are stacked into grana and are critical for converting light to chemical energ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8D37-DF4B-4B64-A1E9-B1344C069B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rcRect l="0" t="0" r="0" b="10286"/>
          <a:stretch/>
        </p:blipFill>
        <p:spPr>
          <a:xfrm>
            <a:off x="190440" y="914400"/>
            <a:ext cx="8763120" cy="4086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308160" y="541008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EB48-361E-45BE-8C2B-6009420F65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228600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80520" y="99072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9, Page 1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1E75-322D-4DAA-9109-AC2C1F7008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62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the nucleus, the DNA and associated proteins are organized into fibrous material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romat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normal cell they appear as diffuse m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when the cell prepares to divide, the chromatin fibers coil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ت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seen as separate structur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romos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رقم مُمَيـٍز من الكروموسوم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 typical human cell ha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ut sex cells (eggs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perm)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mR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olypept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0E6D-3160-4BA1-9441-8EBC783309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14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comb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bosomes :Build a cell’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51920" y="6324480"/>
            <a:ext cx="1744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0, Page 11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152280" y="2286000"/>
            <a:ext cx="8991720" cy="3962520"/>
            <a:chOff x="152280" y="2286000"/>
            <a:chExt cx="8991720" cy="3962520"/>
          </a:xfrm>
        </p:grpSpPr>
        <p:pic>
          <p:nvPicPr>
            <p:cNvPr id="66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152280" y="2286000"/>
              <a:ext cx="899172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8"/>
            <p:cNvSpPr/>
            <p:nvPr/>
          </p:nvSpPr>
          <p:spPr>
            <a:xfrm>
              <a:off x="5499000" y="44956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5334120" y="39625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D65C-8C1A-465E-BDE5-1A7DCD4201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207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bunits pass from the nuclear pores to the cytoplasm where they combine to form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ll types that synthesize large quantities of proteins (e.g., pancreas) have large numbers of rib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bosomes are 2 typ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suspended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عل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sol and synthesize proteins that functi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attached to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لتصق ب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side of the endoplasmic reticul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synthesize proteins that are either included into membranes or for export from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76" name="Line 7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5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152280"/>
            <a:ext cx="7772400" cy="64260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1219320"/>
            <a:ext cx="8763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5FEA-DD32-4A44-A079-6A3982D97F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83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Line 8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9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5"/>
          <p:cNvSpPr/>
          <p:nvPr/>
        </p:nvSpPr>
        <p:spPr>
          <a:xfrm>
            <a:off x="2875680" y="646128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1, Page 1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The endoplasmic reticulum 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488960"/>
            <a:ext cx="4724280" cy="50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oks smooth 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oks rough because ribosomes (bound ribosomes) are attached to the outside, including the outside of the nuclear envel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Ahmed</cp:lastModifiedBy>
  <dcterms:modified xsi:type="dcterms:W3CDTF">2009-03-03T11:00:34Z</dcterms:modified>
  <cp:revision>192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