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F99B-9F25-429C-B083-76C7CB000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FC895-DDE5-4E51-AAB8-6D541E1B2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AAFF55B-A183-4181-B622-722A8C27B72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isco Networking Academ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outing &amp;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: Introduction to Switched Networ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4A192-2F87-4631-B19C-62943A1F8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943CC57-7EED-4A01-BF0E-E0359EE952D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1073F-70FF-488C-A19A-539B477DA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D91D688-6E14-414D-AF91-53779579076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ex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1B4F5-AFE3-49BE-B758-3030389EB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7547C82-EFBD-40B9-8B92-2564E9BDB6E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e Switch Ports at the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E39B-6EEC-4D79-AFC9-0880B3710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870F711-60F9-448B-8BB3-80EE89C74C9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02723-E8A5-49E8-A388-1AE9144C7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B19FB10-E653-4CF2-B4C4-40C3C6D6CF8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0C9F2-4022-46F1-8A72-A194A8D3A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EB8515C-70DC-47F6-BF71-37C1CB9252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2097-AE4A-4AFB-BDB3-037D025B9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99B7C3D-9B41-443B-9AD4-B92EDC153E1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ifying Switch Por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2EBA-E51D-432D-9EAE-2B0C50D23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6A42392-51C7-4841-AE81-A2312B4F7BC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11982-D27D-492B-B57A-713F9648C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874849D-F1D1-4951-BE95-8AF5B8EE361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4993B-7444-4370-9E48-7E9619BDD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B797DAF-9921-4FA8-AB6A-0EBA74D95A0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351E1-395B-4764-8EEE-587E6949D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CD70C97-46BA-46C2-8AA4-57386F06469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DE1BB-8A21-43CE-AA91-C8A061A04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B67FE9A-A430-4464-AB20-2DCDF6A899F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339E-493E-41FA-9A0C-D6DF7E595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6B06B-8450-496B-BE1D-9E33AB560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506F5C3-DFC9-4E86-94A0-EAEB8F3537D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44E83-D0DB-4256-A9E9-C38E1A20B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80B5E1C-EDD5-4B17-8EDB-345D690125F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4FD02-72FF-4842-93DD-6C6C8D345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0CF4BF0-99D2-46BB-B89D-66C3AA85BDE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T environment variable is set using 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boot system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onfiguration mode command. Us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bootvar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to see to what the current IOS boot file is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8EFC2-9F35-4DB2-A006-30ED29F4C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3AC97198-C078-4609-9574-F7828B46035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ing From a System 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46223-CE78-45FF-86E3-09FE32485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F033831-FFD2-496E-9C93-953F3ACA57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DA4B2-446E-4070-8C31-EBC8BCCD6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3A4AA06-D3A2-468F-AEAC-9773232FBF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D1467-014E-45DC-A66E-C10A1964E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E13887F-E5DC-47D6-B954-6746D254483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07EB274-8134-4E14-985E-EC03E13CFEF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 hidden="1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 hidden="1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1911240"/>
            <a:ext cx="9144000" cy="24321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7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BC68D35-4171-4FA5-8552-3F26876E344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4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2671560"/>
            <a:ext cx="3767400" cy="82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243919D-A537-4348-962E-97CB26419AD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560" y="79848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55200" y="2014200"/>
            <a:ext cx="7939080" cy="357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395FDA2-6188-488C-BC88-8967C771305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0680" y="2263320"/>
            <a:ext cx="3854520" cy="1481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Introduction to Switch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11040" y="4672080"/>
            <a:ext cx="678816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And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019240" y="3949560"/>
            <a:ext cx="6710400" cy="2152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040" y="1365120"/>
            <a:ext cx="683604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Duplex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0320" y="1670040"/>
            <a:ext cx="6719760" cy="43783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385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2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onfigure Switch Ports at the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14400" y="1246320"/>
            <a:ext cx="6700680" cy="5025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008680" y="596916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511200" y="1405080"/>
            <a:ext cx="7940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able types (straight-through or crossover) were required when connec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omatic medium-dependent interface crossover (auto-MDIX) feature eliminat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uto-MDIX is enabled, the interface automatically detects and configures the connection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auto-MDIX on an interface, the interface speed and duplex must be se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008680" y="609120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581040" y="1309680"/>
            <a:ext cx="7826400" cy="4932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8440" y="2467080"/>
            <a:ext cx="7826400" cy="27558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0" y="1239840"/>
            <a:ext cx="8935920" cy="4881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Verifying Switch Por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600120" y="1209600"/>
            <a:ext cx="7624800" cy="4870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2440" y="399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68160" y="1614600"/>
            <a:ext cx="7624800" cy="4605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82440" y="2281320"/>
            <a:ext cx="8982360" cy="3813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Switch Media (connection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47720" y="1601640"/>
            <a:ext cx="81313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B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Switch Security: Management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82440" y="2689200"/>
            <a:ext cx="8982360" cy="299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Interface-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0" y="0"/>
            <a:ext cx="9144000" cy="685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44000" h="685800">
                <a:moveTo>
                  <a:pt x="0" y="0"/>
                </a:moveTo>
                <a:lnTo>
                  <a:pt x="25400" y="0"/>
                </a:lnTo>
                <a:lnTo>
                  <a:pt x="25400" y="1905"/>
                </a:lnTo>
                <a:lnTo>
                  <a:pt x="0" y="19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: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719280" y="1471680"/>
            <a:ext cx="81309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advantages and disadvantages of stat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initial settings on a Cisco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to meet network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management switch virtu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basic security attack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security best practice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port security feature to restrict network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655560" y="165096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oot load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does low-level CPU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initializes the flash fil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locates and loads a default IOS operating system software image into memory and hands control of the switch over to the 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55560" y="1419120"/>
            <a:ext cx="79408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find a suitable IOS image, the switch goes through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ttempts to automatically boot by using information in the BOOT environm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variable is not set, the switch performs a top-to-bottom search through the flash file system. It will load and execute the first executable file, if it 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OS operating system then initializes the interfaces using the Cisco IOS commands found in the configuration file, startup configuration, which is stored in NV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mm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set the BOOT environm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Recovering From a System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also be used to manage the switch if the IOS can’t be 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be accessed through a console connectio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onnect a PC by console cable to the switch console port. Unplug the switch power 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econnect the power cord to the switch and press and hold down the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The System LED turns briefly amber and then solid green. Relea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: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in the terminal emulation software on the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655560" y="1419120"/>
            <a:ext cx="794088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ort on Cisco Catalyst switches have status LED indicator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these LED lights reflect port activity but they can also provide other information about the switch throug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modes are available on Cisco Catalyst 2960 swi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ower System (RPS)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tatus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Duplex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peed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ver Ethernet (PoE) Mode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2960 switch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957240" y="2027160"/>
            <a:ext cx="6288120" cy="45496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55560" y="1419120"/>
            <a:ext cx="7940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remotely manage a Cisco switch, it needs to be configured to access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P address and a subnet mask must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naging the switch from a remote network, a default gateway must also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information (address, subnet mask, gateway) is to be assigned to a switch SVI (switch virtual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se IP settings allow remote management and remote access to the switch, they do not allow the switch to route Layer 3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hab</cp:lastModifiedBy>
  <dcterms:modified xsi:type="dcterms:W3CDTF">2015-02-25T16:55:28Z</dcterms:modified>
  <cp:revision>28</cp:revision>
  <dc:subject/>
  <dc:title>Chapter 2: Introduction to Switched Networks</dc:title>
</cp:coreProperties>
</file>