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776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176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dt" idx="1"/>
          </p:nvPr>
        </p:nvSpPr>
        <p:spPr>
          <a:xfrm>
            <a:off x="4398480" y="-360"/>
            <a:ext cx="337212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ftr" idx="2"/>
          </p:nvPr>
        </p:nvSpPr>
        <p:spPr>
          <a:xfrm>
            <a:off x="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 type="sldNum" idx="3"/>
          </p:nvPr>
        </p:nvSpPr>
        <p:spPr>
          <a:xfrm>
            <a:off x="439848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622FB3-DB5D-4D01-89CD-9FE217EDB1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4D07FD-AA45-4FAD-878A-589D68C7FE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"/>
          <p:cNvSpPr/>
          <p:nvPr/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fld id="{D76DA131-E903-496F-8ABA-D064467B091D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-13763520" y="-11798280"/>
            <a:ext cx="15730560" cy="1179972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404640" y="4378320"/>
            <a:ext cx="6121440" cy="42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文泉驛正黑"/>
              </a:rPr>
              <a:t>Cisco Networking Academy pro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文泉驛正黑"/>
              </a:rPr>
              <a:t>Routing &amp; Swi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文泉驛正黑"/>
              </a:rPr>
              <a:t>Chapter 2: Introduction to Switched Network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87AE06-29AF-4A9A-AA3C-5CDA9CF47E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"/>
          <p:cNvSpPr/>
          <p:nvPr/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fld id="{1D326DA0-491B-4963-ABB5-B540EE38A992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-13763520" y="-11798280"/>
            <a:ext cx="15730560" cy="1179972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文泉驛正黑"/>
              </a:rPr>
              <a:t>2.1 Basic Switch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文泉驛正黑"/>
              </a:rPr>
              <a:t>2.1.1 Configure a Switch With Initial Sett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文泉驛正黑"/>
              </a:rPr>
              <a:t>2.1.1.5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eparing for Basic Switch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B0444B-5878-48BF-B640-B309D49530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"/>
          <p:cNvSpPr/>
          <p:nvPr/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fld id="{E1EC8DDE-985C-4236-B5DF-09DEAE26790E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-13763520" y="-11798280"/>
            <a:ext cx="15730560" cy="1179972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文泉驛正黑"/>
              </a:rPr>
              <a:t>2.1 Basic Switch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文泉驛正黑"/>
              </a:rPr>
              <a:t>2.1.2 Configure Switch P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文泉驛正黑"/>
              </a:rPr>
              <a:t>2.1.2.1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uplex Commun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DE920B-F2EC-4968-96D1-4D16E40C70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1"/>
          <p:cNvSpPr/>
          <p:nvPr/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fld id="{6E400F20-5858-4A7A-8F26-098C21B4A4DA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-13763520" y="-11798280"/>
            <a:ext cx="15730560" cy="1179972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文泉驛正黑"/>
              </a:rPr>
              <a:t>2.1 Basic Switch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文泉驛正黑"/>
              </a:rPr>
              <a:t>2.1.2 Configure Switch P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文泉驛正黑"/>
              </a:rPr>
              <a:t>2.1.2.2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figure Switch Ports at the Physical 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780558-C12F-4912-97F8-95B6927E16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1"/>
          <p:cNvSpPr/>
          <p:nvPr/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fld id="{0DA6141C-9641-49E0-9B1D-3D19C5199E33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-13763520" y="-11798280"/>
            <a:ext cx="15730560" cy="1179972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文泉驛正黑"/>
              </a:rPr>
              <a:t>2.1 Basic Switch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文泉驛正黑"/>
              </a:rPr>
              <a:t>2.1.2 Configure Switch P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文泉驛正黑"/>
              </a:rPr>
              <a:t>2.1.2.3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DIX Auto Fe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C95DA1-7FEC-41A4-A77A-AF68494F88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"/>
          <p:cNvSpPr/>
          <p:nvPr/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fld id="{78DC677F-912A-4789-AB3A-62AC89EDCF20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-13763520" y="-11798280"/>
            <a:ext cx="15730560" cy="1179972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文泉驛正黑"/>
              </a:rPr>
              <a:t>2.1 Basic Switch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文泉驛正黑"/>
              </a:rPr>
              <a:t>2.1.2 Configure Switch P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文泉驛正黑"/>
              </a:rPr>
              <a:t>2.1.2.3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DIX Auto Fe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0DAB47-EA94-4E96-9740-93835F8C54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1"/>
          <p:cNvSpPr/>
          <p:nvPr/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fld id="{A1E5BC58-6F0F-4EEE-A953-BEB3C4B86FC5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-13763520" y="-11798280"/>
            <a:ext cx="15730560" cy="1179972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文泉驛正黑"/>
              </a:rPr>
              <a:t>2.1 Basic Switch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文泉驛正黑"/>
              </a:rPr>
              <a:t>2.1.2 Configure Switch P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文泉驛正黑"/>
              </a:rPr>
              <a:t>2.1.2.3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DIX Auto Fe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38DEDB-BD2E-439D-93CE-608DAB0F45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"/>
          <p:cNvSpPr/>
          <p:nvPr/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fld id="{7D57CEC8-6C5B-45B4-922B-5885FB1184BF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-13763520" y="-11798280"/>
            <a:ext cx="15730560" cy="1179972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文泉驛正黑"/>
              </a:rPr>
              <a:t>2.1 Basic Switch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文泉驛正黑"/>
              </a:rPr>
              <a:t>2.1.2 Configure Switch P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文泉驛正黑"/>
              </a:rPr>
              <a:t>2.1.2.4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ifying Switch Port Configu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2283C2-0A3C-46F3-A23C-C14F6B2428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"/>
          <p:cNvSpPr/>
          <p:nvPr/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fld id="{E04C3E1C-CE99-4A22-A4E1-464D05040A8B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-13763520" y="-11798280"/>
            <a:ext cx="15730560" cy="1179972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文泉驛正黑"/>
              </a:rPr>
              <a:t>2.1 Basic Switch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文泉驛正黑"/>
              </a:rPr>
              <a:t>2.1.2 Configure Switch P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文泉驛正黑"/>
              </a:rPr>
              <a:t>2.1.2.5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twork Access Layer Iss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778CC2-BD99-4BDE-AF2A-679B3CC498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1"/>
          <p:cNvSpPr/>
          <p:nvPr/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fld id="{1E9573DC-E219-467F-B0B6-DA3E5B226EBD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-13763520" y="-11798280"/>
            <a:ext cx="15730560" cy="1179972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文泉驛正黑"/>
              </a:rPr>
              <a:t>2.1 Basic Switch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文泉驛正黑"/>
              </a:rPr>
              <a:t>2.1.2 Configure Switch P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文泉驛正黑"/>
              </a:rPr>
              <a:t>2.1.2.5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twork Access Layer Iss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9C3D5D-2F00-4209-A3D4-D1FD83ED83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"/>
          <p:cNvSpPr/>
          <p:nvPr/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fld id="{0FACB39E-2B54-4FF4-B9CD-7BFF99E59282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-13763520" y="-11798280"/>
            <a:ext cx="15730560" cy="1179972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文泉驛正黑"/>
              </a:rPr>
              <a:t>2.1 Basic Switch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文泉驛正黑"/>
              </a:rPr>
              <a:t>2.1.2 Configure Switch P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文泉驛正黑"/>
              </a:rPr>
              <a:t>2.1.2.6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oubleshooting Network Access Layer Iss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5439BE-48FD-4CCD-A81C-8646AD5362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"/>
          <p:cNvSpPr/>
          <p:nvPr/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fld id="{A9DB06AE-333B-4866-8BED-B48A1B4FC3FA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-13763520" y="-11798280"/>
            <a:ext cx="15730560" cy="1179972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文泉驛正黑"/>
              </a:rPr>
              <a:t>Chapter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EB5A31-B5ED-41BE-B8AF-C41EFB3130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"/>
          <p:cNvSpPr/>
          <p:nvPr/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fld id="{C982C52D-4EF2-459C-8A85-6723C4CF5AFF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-13763520" y="-11798280"/>
            <a:ext cx="15730560" cy="1179972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文泉驛正黑"/>
              </a:rPr>
              <a:t>2.1 Basic Switch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文泉驛正黑"/>
              </a:rPr>
              <a:t>2.1.2 Configure Switch P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文泉驛正黑"/>
              </a:rPr>
              <a:t>2.1.2.6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oubleshooting Network Access Layer Iss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9D3FB5-E9B9-4FE2-BF87-F4C39C5831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81160" y="70632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701280" y="4414680"/>
            <a:ext cx="56070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35F43B-B42D-4973-A318-17198D67BE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"/>
          <p:cNvSpPr/>
          <p:nvPr/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fld id="{55E22114-4A4C-4E54-8337-082CFA8FFF4E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-13763520" y="-11798280"/>
            <a:ext cx="15730560" cy="1179972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文泉驛正黑"/>
              </a:rPr>
              <a:t>2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FB85EE-9DC0-407D-91EF-77BEC74B86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"/>
          <p:cNvSpPr/>
          <p:nvPr/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fld id="{54A58F44-EFCE-435A-8206-B56FD5528A0D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-13763520" y="-11798280"/>
            <a:ext cx="15730560" cy="1179972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文泉驛正黑"/>
              </a:rPr>
              <a:t>2.1 Basic Switch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文泉驛正黑"/>
              </a:rPr>
              <a:t>2.1.1 Configure a Switch With Initial Sett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文泉驛正黑"/>
              </a:rPr>
              <a:t>2.1.1.1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witch Boot Sequ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E8CB81-C7FE-4496-9BF0-DFAE79E775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"/>
          <p:cNvSpPr/>
          <p:nvPr/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fld id="{E9FD2DF6-68A3-4643-BC6B-ACD278E83E07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-13763520" y="-11798280"/>
            <a:ext cx="15730560" cy="1179972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文泉驛正黑"/>
              </a:rPr>
              <a:t>2.1 Basic Switch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文泉驛正黑"/>
              </a:rPr>
              <a:t>2.1.1 Configure a Switch With Initial Sett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文泉驛正黑"/>
              </a:rPr>
              <a:t>2.1.1.1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witch Boot Sequ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OT environment variable is set using the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 boot system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al configuration mode command. Use th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how bootvar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and to see to what the current IOS boot file is se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6C7176-CF9A-4C0F-BE88-D2DD40028F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"/>
          <p:cNvSpPr/>
          <p:nvPr/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fld id="{D16ED070-5AD2-46B3-AB41-3B544D8E1767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-13763520" y="-11798280"/>
            <a:ext cx="15730560" cy="1179972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文泉驛正黑"/>
              </a:rPr>
              <a:t>2.1 Basic Switch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文泉驛正黑"/>
              </a:rPr>
              <a:t>2.1.1 Configure a Switch With Initial Sett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文泉驛正黑"/>
              </a:rPr>
              <a:t>2.1.1.2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covering From a System Cr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F72946-FC16-43EF-AACA-F437D2E325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"/>
          <p:cNvSpPr/>
          <p:nvPr/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fld id="{4E7DD09F-EF3C-490E-B87A-1C7A974C67AA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-13763520" y="-11798280"/>
            <a:ext cx="15730560" cy="1179972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文泉驛正黑"/>
              </a:rPr>
              <a:t>2.1 Basic Switch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文泉驛正黑"/>
              </a:rPr>
              <a:t>2.1.1 Configure a Switch With Initial Sett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文泉驛正黑"/>
              </a:rPr>
              <a:t>2.1.1.3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witch LED Indic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641B5E-EA08-42C7-BA46-54F45EF709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"/>
          <p:cNvSpPr/>
          <p:nvPr/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fld id="{7CC3D1C1-8821-4A5A-A2F8-7031C5F0C441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-13763520" y="-11798280"/>
            <a:ext cx="15730560" cy="1179972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文泉驛正黑"/>
              </a:rPr>
              <a:t>2.1 Basic Switch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文泉驛正黑"/>
              </a:rPr>
              <a:t>2.1.1 Configure a Switch With Initial Sett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文泉驛正黑"/>
              </a:rPr>
              <a:t>2.1.1.3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witch LED Indic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38CE17-1E12-4F5E-BBF8-74D147B516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"/>
          <p:cNvSpPr/>
          <p:nvPr/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fld id="{E0F14C60-0FC4-4590-B38F-9B0AA03119EB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-13763520" y="-11798280"/>
            <a:ext cx="15730560" cy="1179972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文泉驛正黑"/>
              </a:rPr>
              <a:t>2.1 Basic Switch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文泉驛正黑"/>
              </a:rPr>
              <a:t>2.1.1 Configure a Switch With Initial Sett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文泉驛正黑"/>
              </a:rPr>
              <a:t>2.1.1.4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eparing for Basic Switch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0452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0452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9560" y="160488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9560" y="368136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5902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77360" y="1604880"/>
            <a:ext cx="25902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897520" y="1604880"/>
            <a:ext cx="25902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5902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77360" y="3681360"/>
            <a:ext cx="25902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897520" y="3681360"/>
            <a:ext cx="25902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0452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0452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9258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9560" y="1604880"/>
            <a:ext cx="39258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604880"/>
            <a:ext cx="39258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0452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9258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60488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9560" y="368136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9560" y="160488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0452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0452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0452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9560" y="160488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9560" y="368136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5902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177360" y="1604880"/>
            <a:ext cx="25902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897520" y="1604880"/>
            <a:ext cx="25902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5902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177360" y="3681360"/>
            <a:ext cx="25902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897520" y="3681360"/>
            <a:ext cx="25902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0452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0452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9258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9560" y="1604880"/>
            <a:ext cx="39258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0452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9560" y="1604880"/>
            <a:ext cx="39258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9258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9560" y="160488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9560" y="368136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9560" y="160488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0452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0452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0452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9560" y="160488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9560" y="368136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5902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177360" y="1604880"/>
            <a:ext cx="25902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897520" y="1604880"/>
            <a:ext cx="25902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5902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177360" y="3681360"/>
            <a:ext cx="25902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897520" y="3681360"/>
            <a:ext cx="25902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9258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79560" y="1604880"/>
            <a:ext cx="39258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9560" y="1604880"/>
            <a:ext cx="39258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9258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9560" y="160488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9560" y="368136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9560" y="1604880"/>
            <a:ext cx="392580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0452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 hidden="1"/>
          <p:cNvSpPr/>
          <p:nvPr/>
        </p:nvSpPr>
        <p:spPr>
          <a:xfrm>
            <a:off x="193680" y="6672240"/>
            <a:ext cx="961920" cy="1890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Presentation_I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AutoShape 2" hidden="1"/>
          <p:cNvSpPr/>
          <p:nvPr/>
        </p:nvSpPr>
        <p:spPr>
          <a:xfrm>
            <a:off x="8387640" y="6626520"/>
            <a:ext cx="739800" cy="2347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fld id="{C454FF5D-1221-419B-8300-F087602196BD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AutoShape 3" hidden="1"/>
          <p:cNvSpPr/>
          <p:nvPr/>
        </p:nvSpPr>
        <p:spPr>
          <a:xfrm>
            <a:off x="4510080" y="6672240"/>
            <a:ext cx="2000160" cy="1890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8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AutoShape 4" hidden="1"/>
          <p:cNvSpPr/>
          <p:nvPr/>
        </p:nvSpPr>
        <p:spPr>
          <a:xfrm>
            <a:off x="6897960" y="6672240"/>
            <a:ext cx="875520" cy="1890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Confidential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41280"/>
          </a:xfrm>
          <a:prstGeom prst="rect">
            <a:avLst/>
          </a:prstGeom>
          <a:ln w="0">
            <a:noFill/>
          </a:ln>
        </p:spPr>
      </p:pic>
      <p:pic>
        <p:nvPicPr>
          <p:cNvPr id="5" name="Picture 6" descr=""/>
          <p:cNvPicPr/>
          <p:nvPr/>
        </p:nvPicPr>
        <p:blipFill>
          <a:blip r:embed="rId3"/>
          <a:stretch/>
        </p:blipFill>
        <p:spPr>
          <a:xfrm>
            <a:off x="0" y="1911240"/>
            <a:ext cx="9144000" cy="2432160"/>
          </a:xfrm>
          <a:prstGeom prst="rect">
            <a:avLst/>
          </a:prstGeom>
          <a:ln w="0">
            <a:noFill/>
          </a:ln>
        </p:spPr>
      </p:pic>
      <p:sp>
        <p:nvSpPr>
          <p:cNvPr id="6" name="AutoShape 7"/>
          <p:cNvSpPr/>
          <p:nvPr/>
        </p:nvSpPr>
        <p:spPr>
          <a:xfrm>
            <a:off x="4510080" y="6672240"/>
            <a:ext cx="2000160" cy="1890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8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AutoShape 8"/>
          <p:cNvSpPr/>
          <p:nvPr/>
        </p:nvSpPr>
        <p:spPr>
          <a:xfrm>
            <a:off x="6897960" y="6672240"/>
            <a:ext cx="875520" cy="1890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Confidential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AutoShape 9"/>
          <p:cNvSpPr/>
          <p:nvPr/>
        </p:nvSpPr>
        <p:spPr>
          <a:xfrm>
            <a:off x="193680" y="6672240"/>
            <a:ext cx="961920" cy="1890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Presentation_I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AutoShape 10"/>
          <p:cNvSpPr/>
          <p:nvPr/>
        </p:nvSpPr>
        <p:spPr>
          <a:xfrm>
            <a:off x="8387640" y="6626520"/>
            <a:ext cx="739800" cy="2347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fld id="{7CAB61EF-6BFA-4A6D-96A9-EB7558FE0F37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" name="Picture 11" descr=""/>
          <p:cNvPicPr/>
          <p:nvPr/>
        </p:nvPicPr>
        <p:blipFill>
          <a:blip r:embed="rId4"/>
          <a:stretch/>
        </p:blipFill>
        <p:spPr>
          <a:xfrm>
            <a:off x="5483160" y="5940360"/>
            <a:ext cx="3354480" cy="474840"/>
          </a:xfrm>
          <a:prstGeom prst="rect">
            <a:avLst/>
          </a:prstGeom>
          <a:ln w="0">
            <a:noFill/>
          </a:ln>
        </p:spPr>
      </p:pic>
      <p:pic>
        <p:nvPicPr>
          <p:cNvPr id="11" name="Picture 12" descr=""/>
          <p:cNvPicPr/>
          <p:nvPr/>
        </p:nvPicPr>
        <p:blipFill>
          <a:blip r:embed="rId5"/>
          <a:stretch/>
        </p:blipFill>
        <p:spPr>
          <a:xfrm>
            <a:off x="246240" y="119160"/>
            <a:ext cx="1171440" cy="904680"/>
          </a:xfrm>
          <a:prstGeom prst="rect">
            <a:avLst/>
          </a:prstGeom>
          <a:ln w="0">
            <a:noFill/>
          </a:ln>
        </p:spPr>
      </p:pic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0680" y="2671560"/>
            <a:ext cx="3767400" cy="8283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0452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AutoShape 1"/>
          <p:cNvSpPr/>
          <p:nvPr/>
        </p:nvSpPr>
        <p:spPr>
          <a:xfrm>
            <a:off x="193680" y="6672240"/>
            <a:ext cx="961920" cy="1890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Presentation_I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2"/>
          <p:cNvSpPr/>
          <p:nvPr/>
        </p:nvSpPr>
        <p:spPr>
          <a:xfrm>
            <a:off x="8387640" y="6626520"/>
            <a:ext cx="739800" cy="2347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fld id="{4EAC5D2A-D210-45F3-A541-A1DB2D304DE2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3"/>
          <p:cNvSpPr/>
          <p:nvPr/>
        </p:nvSpPr>
        <p:spPr>
          <a:xfrm>
            <a:off x="4510080" y="6672240"/>
            <a:ext cx="2000160" cy="1890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8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4"/>
          <p:cNvSpPr/>
          <p:nvPr/>
        </p:nvSpPr>
        <p:spPr>
          <a:xfrm>
            <a:off x="6897960" y="6672240"/>
            <a:ext cx="875520" cy="1890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Confidential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412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55560" y="798480"/>
            <a:ext cx="8143920" cy="836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55200" y="2014200"/>
            <a:ext cx="7939080" cy="35701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AutoShape 1"/>
          <p:cNvSpPr/>
          <p:nvPr/>
        </p:nvSpPr>
        <p:spPr>
          <a:xfrm>
            <a:off x="193680" y="6672240"/>
            <a:ext cx="961920" cy="1890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Presentation_I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2"/>
          <p:cNvSpPr/>
          <p:nvPr/>
        </p:nvSpPr>
        <p:spPr>
          <a:xfrm>
            <a:off x="8387640" y="6626520"/>
            <a:ext cx="739800" cy="2347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fld id="{4BD2B197-DD24-49F5-ADE2-AF3F2E98165C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3"/>
          <p:cNvSpPr/>
          <p:nvPr/>
        </p:nvSpPr>
        <p:spPr>
          <a:xfrm>
            <a:off x="4510080" y="6672240"/>
            <a:ext cx="2000160" cy="1890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8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4"/>
          <p:cNvSpPr/>
          <p:nvPr/>
        </p:nvSpPr>
        <p:spPr>
          <a:xfrm>
            <a:off x="6897960" y="6672240"/>
            <a:ext cx="875520" cy="1890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Confidential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4128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0452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t">
            <a:normAutofit/>
          </a:bodyPr>
          <a:p>
            <a:pPr marL="343080" indent="0">
              <a:lnSpc>
                <a:spcPct val="89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10680" y="2263320"/>
            <a:ext cx="3854520" cy="14814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pter 2: Introduction to Switched Net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311040" y="4672080"/>
            <a:ext cx="6788160" cy="658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uting And Switc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3"/>
          <p:cNvSpPr/>
          <p:nvPr/>
        </p:nvSpPr>
        <p:spPr>
          <a:xfrm>
            <a:off x="352440" y="6242040"/>
            <a:ext cx="787320" cy="303120"/>
          </a:xfrm>
          <a:prstGeom prst="pie">
            <a:avLst/>
          </a:prstGeom>
          <a:solidFill>
            <a:srgbClr val="6891ba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89080" y="52236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708ca1"/>
                </a:solidFill>
                <a:latin typeface="Arial"/>
                <a:ea typeface="ＭＳ Ｐゴシック"/>
              </a:rPr>
              <a:t>Basic Switch Configuration</a:t>
            </a:r>
            <a:br>
              <a:rPr sz="1800"/>
            </a:br>
            <a:r>
              <a:rPr b="1" lang="en-US" sz="3200" spc="-1" strike="noStrike">
                <a:solidFill>
                  <a:srgbClr val="708ca1"/>
                </a:solidFill>
                <a:latin typeface="Arial"/>
                <a:ea typeface="ＭＳ Ｐゴシック"/>
              </a:rPr>
              <a:t>Preparing for Basic Switch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2" descr=""/>
          <p:cNvPicPr/>
          <p:nvPr/>
        </p:nvPicPr>
        <p:blipFill>
          <a:blip r:embed="rId1"/>
          <a:stretch/>
        </p:blipFill>
        <p:spPr>
          <a:xfrm>
            <a:off x="2019240" y="3949560"/>
            <a:ext cx="6710400" cy="21528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3" descr=""/>
          <p:cNvPicPr/>
          <p:nvPr/>
        </p:nvPicPr>
        <p:blipFill>
          <a:blip r:embed="rId2"/>
          <a:stretch/>
        </p:blipFill>
        <p:spPr>
          <a:xfrm>
            <a:off x="365040" y="1365120"/>
            <a:ext cx="6836040" cy="2916360"/>
          </a:xfrm>
          <a:prstGeom prst="rect">
            <a:avLst/>
          </a:prstGeom>
          <a:ln w="0">
            <a:noFill/>
          </a:ln>
        </p:spPr>
      </p:pic>
      <p:sp>
        <p:nvSpPr>
          <p:cNvPr id="174" name="AutoShape 4"/>
          <p:cNvSpPr/>
          <p:nvPr/>
        </p:nvSpPr>
        <p:spPr>
          <a:xfrm>
            <a:off x="352440" y="6242040"/>
            <a:ext cx="787320" cy="303120"/>
          </a:xfrm>
          <a:prstGeom prst="pie">
            <a:avLst/>
          </a:prstGeom>
          <a:solidFill>
            <a:srgbClr val="6891ba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1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5"/>
          <p:cNvSpPr/>
          <p:nvPr/>
        </p:nvSpPr>
        <p:spPr>
          <a:xfrm>
            <a:off x="5008680" y="6176880"/>
            <a:ext cx="3668760" cy="363960"/>
          </a:xfrm>
          <a:prstGeom prst="pie">
            <a:avLst/>
          </a:prstGeom>
          <a:solidFill>
            <a:srgbClr val="aac1d8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the Buttons on 2.1.1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89080" y="52236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708ca1"/>
                </a:solidFill>
                <a:latin typeface="Arial"/>
              </a:rPr>
              <a:t>Configure Switch Ports</a:t>
            </a:r>
            <a:br>
              <a:rPr sz="1800"/>
            </a:br>
            <a:r>
              <a:rPr b="1" lang="en-US" sz="3200" spc="-1" strike="noStrike">
                <a:solidFill>
                  <a:srgbClr val="708ca1"/>
                </a:solidFill>
                <a:latin typeface="Arial"/>
                <a:ea typeface="ＭＳ Ｐゴシック"/>
              </a:rPr>
              <a:t>Duplex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1030320" y="1670040"/>
            <a:ext cx="6719760" cy="4378320"/>
          </a:xfrm>
          <a:prstGeom prst="rect">
            <a:avLst/>
          </a:prstGeom>
          <a:ln w="0">
            <a:noFill/>
          </a:ln>
        </p:spPr>
      </p:pic>
      <p:sp>
        <p:nvSpPr>
          <p:cNvPr id="178" name="AutoShape 3"/>
          <p:cNvSpPr/>
          <p:nvPr/>
        </p:nvSpPr>
        <p:spPr>
          <a:xfrm>
            <a:off x="352440" y="6242040"/>
            <a:ext cx="787320" cy="303120"/>
          </a:xfrm>
          <a:prstGeom prst="pie">
            <a:avLst/>
          </a:prstGeom>
          <a:solidFill>
            <a:srgbClr val="6891ba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1.2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52440" y="38592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708ca1"/>
                </a:solidFill>
                <a:latin typeface="Arial"/>
              </a:rPr>
              <a:t>Configure Switch Ports</a:t>
            </a:r>
            <a:br>
              <a:rPr sz="1800"/>
            </a:br>
            <a:r>
              <a:rPr b="1" lang="en-US" sz="2800" spc="-1" strike="noStrike">
                <a:solidFill>
                  <a:srgbClr val="708ca1"/>
                </a:solidFill>
                <a:latin typeface="Arial"/>
                <a:ea typeface="ＭＳ Ｐゴシック"/>
              </a:rPr>
              <a:t>Configure Switch Ports at the Physical 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2" descr=""/>
          <p:cNvPicPr/>
          <p:nvPr/>
        </p:nvPicPr>
        <p:blipFill>
          <a:blip r:embed="rId1"/>
          <a:stretch/>
        </p:blipFill>
        <p:spPr>
          <a:xfrm>
            <a:off x="914400" y="1246320"/>
            <a:ext cx="6700680" cy="5025960"/>
          </a:xfrm>
          <a:prstGeom prst="rect">
            <a:avLst/>
          </a:prstGeom>
          <a:ln w="0">
            <a:noFill/>
          </a:ln>
        </p:spPr>
      </p:pic>
      <p:sp>
        <p:nvSpPr>
          <p:cNvPr id="181" name="AutoShape 3"/>
          <p:cNvSpPr/>
          <p:nvPr/>
        </p:nvSpPr>
        <p:spPr>
          <a:xfrm>
            <a:off x="352440" y="6242040"/>
            <a:ext cx="787320" cy="303120"/>
          </a:xfrm>
          <a:prstGeom prst="pie">
            <a:avLst/>
          </a:prstGeom>
          <a:solidFill>
            <a:srgbClr val="6891ba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1.2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4"/>
          <p:cNvSpPr/>
          <p:nvPr/>
        </p:nvSpPr>
        <p:spPr>
          <a:xfrm>
            <a:off x="5008680" y="5969160"/>
            <a:ext cx="3668760" cy="638280"/>
          </a:xfrm>
          <a:prstGeom prst="pie">
            <a:avLst/>
          </a:prstGeom>
          <a:solidFill>
            <a:srgbClr val="aac1d8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the Buttons on 2.1.2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dents do butt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89080" y="52236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708ca1"/>
                </a:solidFill>
                <a:latin typeface="Arial"/>
              </a:rPr>
              <a:t>Configure Switch Ports</a:t>
            </a:r>
            <a:br>
              <a:rPr sz="1800"/>
            </a:br>
            <a:r>
              <a:rPr b="1" lang="en-US" sz="3200" spc="-1" strike="noStrike">
                <a:solidFill>
                  <a:srgbClr val="708ca1"/>
                </a:solidFill>
                <a:latin typeface="Arial"/>
                <a:ea typeface="ＭＳ Ｐゴシック"/>
              </a:rPr>
              <a:t>MDIX Auto Fe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2"/>
          <p:cNvSpPr/>
          <p:nvPr/>
        </p:nvSpPr>
        <p:spPr>
          <a:xfrm>
            <a:off x="511200" y="1405080"/>
            <a:ext cx="7940520" cy="48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marL="235080" indent="-235080">
              <a:lnSpc>
                <a:spcPct val="95000"/>
              </a:lnSpc>
              <a:spcBef>
                <a:spcPts val="1199"/>
              </a:spcBef>
              <a:buClr>
                <a:srgbClr val="708ca1"/>
              </a:buClr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rtain cable types (straight-through or crossover) were required when connecting de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5000"/>
              </a:lnSpc>
              <a:spcBef>
                <a:spcPts val="1199"/>
              </a:spcBef>
              <a:buClr>
                <a:srgbClr val="708ca1"/>
              </a:buClr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utomatic medium-dependent interface crossover (auto-MDIX) feature eliminates this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5000"/>
              </a:lnSpc>
              <a:spcBef>
                <a:spcPts val="1199"/>
              </a:spcBef>
              <a:buClr>
                <a:srgbClr val="708ca1"/>
              </a:buClr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auto-MDIX is enabled, the interface automatically detects and configures the connection appropriat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5000"/>
              </a:lnSpc>
              <a:spcBef>
                <a:spcPts val="1199"/>
              </a:spcBef>
              <a:buClr>
                <a:srgbClr val="708ca1"/>
              </a:buClr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using auto-MDIX on an interface, the interface speed and duplex must be set t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3"/>
          <p:cNvSpPr/>
          <p:nvPr/>
        </p:nvSpPr>
        <p:spPr>
          <a:xfrm>
            <a:off x="352440" y="6242040"/>
            <a:ext cx="787320" cy="303120"/>
          </a:xfrm>
          <a:prstGeom prst="pie">
            <a:avLst/>
          </a:prstGeom>
          <a:solidFill>
            <a:srgbClr val="6891ba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1.2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4"/>
          <p:cNvSpPr/>
          <p:nvPr/>
        </p:nvSpPr>
        <p:spPr>
          <a:xfrm>
            <a:off x="5008680" y="6091200"/>
            <a:ext cx="3668760" cy="638280"/>
          </a:xfrm>
          <a:prstGeom prst="pie">
            <a:avLst/>
          </a:prstGeom>
          <a:solidFill>
            <a:srgbClr val="aac1d8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the Buttons on 2.1.2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dents do button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1" descr=""/>
          <p:cNvPicPr/>
          <p:nvPr/>
        </p:nvPicPr>
        <p:blipFill>
          <a:blip r:embed="rId1"/>
          <a:stretch/>
        </p:blipFill>
        <p:spPr>
          <a:xfrm>
            <a:off x="581040" y="1309680"/>
            <a:ext cx="7826400" cy="493236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89080" y="52236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708ca1"/>
                </a:solidFill>
                <a:latin typeface="Arial"/>
              </a:rPr>
              <a:t>Configure Switch Ports</a:t>
            </a:r>
            <a:br>
              <a:rPr sz="1800"/>
            </a:br>
            <a:r>
              <a:rPr b="1" lang="en-US" sz="3200" spc="-1" strike="noStrike">
                <a:solidFill>
                  <a:srgbClr val="708ca1"/>
                </a:solidFill>
                <a:latin typeface="Arial"/>
                <a:ea typeface="ＭＳ Ｐゴシック"/>
              </a:rPr>
              <a:t>MDIX Auto Fe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3"/>
          <p:cNvSpPr/>
          <p:nvPr/>
        </p:nvSpPr>
        <p:spPr>
          <a:xfrm>
            <a:off x="352440" y="6242040"/>
            <a:ext cx="787320" cy="303120"/>
          </a:xfrm>
          <a:prstGeom prst="pie">
            <a:avLst/>
          </a:prstGeom>
          <a:solidFill>
            <a:srgbClr val="6891ba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1.2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89080" y="52236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708ca1"/>
                </a:solidFill>
                <a:latin typeface="Arial"/>
              </a:rPr>
              <a:t>Configure Switch Ports</a:t>
            </a:r>
            <a:br>
              <a:rPr sz="1800"/>
            </a:br>
            <a:r>
              <a:rPr b="1" lang="en-US" sz="3200" spc="-1" strike="noStrike">
                <a:solidFill>
                  <a:srgbClr val="708ca1"/>
                </a:solidFill>
                <a:latin typeface="Arial"/>
                <a:ea typeface="ＭＳ Ｐゴシック"/>
              </a:rPr>
              <a:t>MDIX Auto Fe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568440" y="2467080"/>
            <a:ext cx="7826400" cy="2755800"/>
          </a:xfrm>
          <a:prstGeom prst="rect">
            <a:avLst/>
          </a:prstGeom>
          <a:ln w="0">
            <a:noFill/>
          </a:ln>
        </p:spPr>
      </p:pic>
      <p:sp>
        <p:nvSpPr>
          <p:cNvPr id="192" name="AutoShape 3"/>
          <p:cNvSpPr/>
          <p:nvPr/>
        </p:nvSpPr>
        <p:spPr>
          <a:xfrm>
            <a:off x="352440" y="6242040"/>
            <a:ext cx="787320" cy="303120"/>
          </a:xfrm>
          <a:prstGeom prst="pie">
            <a:avLst/>
          </a:prstGeom>
          <a:solidFill>
            <a:srgbClr val="6891ba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1.2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1" descr=""/>
          <p:cNvPicPr/>
          <p:nvPr/>
        </p:nvPicPr>
        <p:blipFill>
          <a:blip r:embed="rId1"/>
          <a:stretch/>
        </p:blipFill>
        <p:spPr>
          <a:xfrm>
            <a:off x="0" y="1239840"/>
            <a:ext cx="8935920" cy="488160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89080" y="52236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708ca1"/>
                </a:solidFill>
                <a:latin typeface="Arial"/>
              </a:rPr>
              <a:t>Configure Switch Ports</a:t>
            </a:r>
            <a:br>
              <a:rPr sz="1800"/>
            </a:br>
            <a:r>
              <a:rPr b="1" lang="en-US" sz="3200" spc="-1" strike="noStrike">
                <a:solidFill>
                  <a:srgbClr val="708ca1"/>
                </a:solidFill>
                <a:latin typeface="Arial"/>
                <a:ea typeface="ＭＳ Ｐゴシック"/>
              </a:rPr>
              <a:t>Verifying Switch Port Configu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3"/>
          <p:cNvSpPr/>
          <p:nvPr/>
        </p:nvSpPr>
        <p:spPr>
          <a:xfrm>
            <a:off x="352440" y="6242040"/>
            <a:ext cx="787320" cy="303120"/>
          </a:xfrm>
          <a:prstGeom prst="pie">
            <a:avLst/>
          </a:prstGeom>
          <a:solidFill>
            <a:srgbClr val="6891ba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1.2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4"/>
          <p:cNvSpPr/>
          <p:nvPr/>
        </p:nvSpPr>
        <p:spPr>
          <a:xfrm>
            <a:off x="5008680" y="6176880"/>
            <a:ext cx="3668760" cy="363960"/>
          </a:xfrm>
          <a:prstGeom prst="pie">
            <a:avLst/>
          </a:prstGeom>
          <a:solidFill>
            <a:srgbClr val="aac1d8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the Buttons on 2.1.2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1" descr=""/>
          <p:cNvPicPr/>
          <p:nvPr/>
        </p:nvPicPr>
        <p:blipFill>
          <a:blip r:embed="rId1"/>
          <a:stretch/>
        </p:blipFill>
        <p:spPr>
          <a:xfrm>
            <a:off x="600120" y="1209600"/>
            <a:ext cx="7624800" cy="487044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52440" y="399600"/>
            <a:ext cx="814536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708ca1"/>
                </a:solidFill>
                <a:latin typeface="Arial"/>
              </a:rPr>
              <a:t>Configure Switch Ports</a:t>
            </a:r>
            <a:br>
              <a:rPr sz="1800"/>
            </a:br>
            <a:r>
              <a:rPr b="1" lang="en-US" sz="3200" spc="-1" strike="noStrike">
                <a:solidFill>
                  <a:srgbClr val="708ca1"/>
                </a:solidFill>
                <a:latin typeface="Arial"/>
                <a:ea typeface="ＭＳ Ｐゴシック"/>
              </a:rPr>
              <a:t>Network Access Layer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3"/>
          <p:cNvSpPr/>
          <p:nvPr/>
        </p:nvSpPr>
        <p:spPr>
          <a:xfrm>
            <a:off x="352440" y="6242040"/>
            <a:ext cx="787320" cy="303120"/>
          </a:xfrm>
          <a:prstGeom prst="pie">
            <a:avLst/>
          </a:prstGeom>
          <a:solidFill>
            <a:srgbClr val="6891ba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1.2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1" descr=""/>
          <p:cNvPicPr/>
          <p:nvPr/>
        </p:nvPicPr>
        <p:blipFill>
          <a:blip r:embed="rId1"/>
          <a:stretch/>
        </p:blipFill>
        <p:spPr>
          <a:xfrm>
            <a:off x="668160" y="1614600"/>
            <a:ext cx="7624800" cy="4605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89080" y="52236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708ca1"/>
                </a:solidFill>
                <a:latin typeface="Arial"/>
              </a:rPr>
              <a:t>Configure Switch Ports</a:t>
            </a:r>
            <a:br>
              <a:rPr sz="1800"/>
            </a:br>
            <a:r>
              <a:rPr b="1" lang="en-US" sz="3200" spc="-1" strike="noStrike">
                <a:solidFill>
                  <a:srgbClr val="708ca1"/>
                </a:solidFill>
                <a:latin typeface="Arial"/>
                <a:ea typeface="ＭＳ Ｐゴシック"/>
              </a:rPr>
              <a:t>Network Access Layer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3"/>
          <p:cNvSpPr/>
          <p:nvPr/>
        </p:nvSpPr>
        <p:spPr>
          <a:xfrm>
            <a:off x="352440" y="6242040"/>
            <a:ext cx="787320" cy="303120"/>
          </a:xfrm>
          <a:prstGeom prst="pie">
            <a:avLst/>
          </a:prstGeom>
          <a:solidFill>
            <a:srgbClr val="6891ba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1.2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4"/>
          <p:cNvSpPr/>
          <p:nvPr/>
        </p:nvSpPr>
        <p:spPr>
          <a:xfrm>
            <a:off x="5008680" y="6176880"/>
            <a:ext cx="3668760" cy="363960"/>
          </a:xfrm>
          <a:prstGeom prst="pie">
            <a:avLst/>
          </a:prstGeom>
          <a:solidFill>
            <a:srgbClr val="aac1d8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the Buttons on 2.1.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1" descr=""/>
          <p:cNvPicPr/>
          <p:nvPr/>
        </p:nvPicPr>
        <p:blipFill>
          <a:blip r:embed="rId1"/>
          <a:stretch/>
        </p:blipFill>
        <p:spPr>
          <a:xfrm>
            <a:off x="82440" y="2281320"/>
            <a:ext cx="8982360" cy="381312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89080" y="52236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708ca1"/>
                </a:solidFill>
                <a:latin typeface="Arial"/>
              </a:rPr>
              <a:t>Configure Switch Ports</a:t>
            </a:r>
            <a:br>
              <a:rPr sz="1800"/>
            </a:br>
            <a:r>
              <a:rPr b="1" lang="en-US" sz="3200" spc="-1" strike="noStrike">
                <a:solidFill>
                  <a:srgbClr val="708ca1"/>
                </a:solidFill>
                <a:latin typeface="Arial"/>
                <a:ea typeface="ＭＳ Ｐゴシック"/>
              </a:rPr>
              <a:t>Network Access Layer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3"/>
          <p:cNvSpPr/>
          <p:nvPr/>
        </p:nvSpPr>
        <p:spPr>
          <a:xfrm>
            <a:off x="480960" y="1433520"/>
            <a:ext cx="7940880" cy="11206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marL="235080" indent="-235080" algn="ctr">
              <a:lnSpc>
                <a:spcPct val="90000"/>
              </a:lnSpc>
              <a:spcBef>
                <a:spcPts val="1199"/>
              </a:spcBef>
              <a:buClr>
                <a:srgbClr val="708ca1"/>
              </a:buClr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oubleshooting Switch Media (connection)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4"/>
          <p:cNvSpPr/>
          <p:nvPr/>
        </p:nvSpPr>
        <p:spPr>
          <a:xfrm>
            <a:off x="352440" y="6242040"/>
            <a:ext cx="787320" cy="303120"/>
          </a:xfrm>
          <a:prstGeom prst="pie">
            <a:avLst/>
          </a:prstGeom>
          <a:solidFill>
            <a:srgbClr val="6891ba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1.2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74680" y="493200"/>
            <a:ext cx="814536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  <a:ea typeface="ＭＳ Ｐゴシック"/>
              </a:rPr>
              <a:t>Chapter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2"/>
          <p:cNvSpPr/>
          <p:nvPr/>
        </p:nvSpPr>
        <p:spPr>
          <a:xfrm>
            <a:off x="747720" y="1601640"/>
            <a:ext cx="8131320" cy="44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0  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1 Basic Switch Config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2 Switch Security: Management and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3"/>
          <p:cNvSpPr/>
          <p:nvPr/>
        </p:nvSpPr>
        <p:spPr>
          <a:xfrm>
            <a:off x="352440" y="6242040"/>
            <a:ext cx="787320" cy="303120"/>
          </a:xfrm>
          <a:prstGeom prst="pie">
            <a:avLst/>
          </a:prstGeom>
          <a:solidFill>
            <a:srgbClr val="6891ba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1" descr=""/>
          <p:cNvPicPr/>
          <p:nvPr/>
        </p:nvPicPr>
        <p:blipFill>
          <a:blip r:embed="rId1"/>
          <a:stretch/>
        </p:blipFill>
        <p:spPr>
          <a:xfrm>
            <a:off x="82440" y="2689200"/>
            <a:ext cx="8982360" cy="299880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89080" y="52236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708ca1"/>
                </a:solidFill>
                <a:latin typeface="Arial"/>
              </a:rPr>
              <a:t>Configure Switch Ports</a:t>
            </a:r>
            <a:br>
              <a:rPr sz="1800"/>
            </a:br>
            <a:r>
              <a:rPr b="1" lang="en-US" sz="3200" spc="-1" strike="noStrike">
                <a:solidFill>
                  <a:srgbClr val="708ca1"/>
                </a:solidFill>
                <a:latin typeface="Arial"/>
                <a:ea typeface="ＭＳ Ｐゴシック"/>
              </a:rPr>
              <a:t>Network Access Layer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3"/>
          <p:cNvSpPr/>
          <p:nvPr/>
        </p:nvSpPr>
        <p:spPr>
          <a:xfrm>
            <a:off x="480960" y="1433520"/>
            <a:ext cx="7940880" cy="11206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marL="235080" indent="-235080" algn="ctr">
              <a:lnSpc>
                <a:spcPct val="90000"/>
              </a:lnSpc>
              <a:spcBef>
                <a:spcPts val="1199"/>
              </a:spcBef>
              <a:buClr>
                <a:srgbClr val="708ca1"/>
              </a:buClr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oubleshooting Interface-related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4"/>
          <p:cNvSpPr/>
          <p:nvPr/>
        </p:nvSpPr>
        <p:spPr>
          <a:xfrm>
            <a:off x="352440" y="6242040"/>
            <a:ext cx="787320" cy="303120"/>
          </a:xfrm>
          <a:prstGeom prst="pie">
            <a:avLst/>
          </a:prstGeom>
          <a:solidFill>
            <a:srgbClr val="6891ba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1.2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AutoShape 1"/>
          <p:cNvSpPr/>
          <p:nvPr/>
        </p:nvSpPr>
        <p:spPr>
          <a:xfrm>
            <a:off x="0" y="0"/>
            <a:ext cx="9144000" cy="6858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9144000" h="685800">
                <a:moveTo>
                  <a:pt x="0" y="0"/>
                </a:moveTo>
                <a:lnTo>
                  <a:pt x="25400" y="0"/>
                </a:lnTo>
                <a:lnTo>
                  <a:pt x="25400" y="1905"/>
                </a:lnTo>
                <a:lnTo>
                  <a:pt x="0" y="190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2" descr=""/>
          <p:cNvPicPr/>
          <p:nvPr/>
        </p:nvPicPr>
        <p:blipFill>
          <a:blip r:embed="rId1"/>
          <a:stretch/>
        </p:blipFill>
        <p:spPr>
          <a:xfrm>
            <a:off x="1508040" y="2741760"/>
            <a:ext cx="6097680" cy="892080"/>
          </a:xfrm>
          <a:prstGeom prst="rect">
            <a:avLst/>
          </a:prstGeom>
          <a:ln w="0">
            <a:noFill/>
          </a:ln>
        </p:spPr>
      </p:pic>
      <p:sp>
        <p:nvSpPr>
          <p:cNvPr id="214" name="AutoShape 3"/>
          <p:cNvSpPr/>
          <p:nvPr/>
        </p:nvSpPr>
        <p:spPr>
          <a:xfrm>
            <a:off x="352440" y="6242040"/>
            <a:ext cx="787320" cy="303120"/>
          </a:xfrm>
          <a:prstGeom prst="pie">
            <a:avLst/>
          </a:prstGeom>
          <a:solidFill>
            <a:srgbClr val="6891ba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da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74680" y="493200"/>
            <a:ext cx="814536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  <a:ea typeface="ＭＳ Ｐゴシック"/>
              </a:rPr>
              <a:t>Chapter 2: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2"/>
          <p:cNvSpPr/>
          <p:nvPr/>
        </p:nvSpPr>
        <p:spPr>
          <a:xfrm>
            <a:off x="719280" y="1471680"/>
            <a:ext cx="8130960" cy="44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marL="235080" indent="-235080">
              <a:lnSpc>
                <a:spcPct val="95000"/>
              </a:lnSpc>
              <a:spcBef>
                <a:spcPts val="1001"/>
              </a:spcBef>
              <a:buClr>
                <a:srgbClr val="708ca1"/>
              </a:buClr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ain the advantages and disadvantages of static ro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5000"/>
              </a:lnSpc>
              <a:spcBef>
                <a:spcPts val="1001"/>
              </a:spcBef>
              <a:buClr>
                <a:srgbClr val="708ca1"/>
              </a:buClr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igure initial settings on a Cisco swi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5000"/>
              </a:lnSpc>
              <a:spcBef>
                <a:spcPts val="1001"/>
              </a:spcBef>
              <a:buClr>
                <a:srgbClr val="708ca1"/>
              </a:buClr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igure switch ports to meet network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5000"/>
              </a:lnSpc>
              <a:spcBef>
                <a:spcPts val="1001"/>
              </a:spcBef>
              <a:buClr>
                <a:srgbClr val="708ca1"/>
              </a:buClr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igure the management switch virtual inte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5000"/>
              </a:lnSpc>
              <a:spcBef>
                <a:spcPts val="1001"/>
              </a:spcBef>
              <a:buClr>
                <a:srgbClr val="708ca1"/>
              </a:buClr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basic security attacks in a switched enviro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5000"/>
              </a:lnSpc>
              <a:spcBef>
                <a:spcPts val="1001"/>
              </a:spcBef>
              <a:buClr>
                <a:srgbClr val="708ca1"/>
              </a:buClr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security best practices in a switched enviro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5000"/>
              </a:lnSpc>
              <a:spcBef>
                <a:spcPts val="1001"/>
              </a:spcBef>
              <a:buClr>
                <a:srgbClr val="708ca1"/>
              </a:buClr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igure the port security feature to restrict network a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"/>
          <p:cNvSpPr/>
          <p:nvPr/>
        </p:nvSpPr>
        <p:spPr>
          <a:xfrm>
            <a:off x="352440" y="6242040"/>
            <a:ext cx="787320" cy="303120"/>
          </a:xfrm>
          <a:prstGeom prst="pie">
            <a:avLst/>
          </a:prstGeom>
          <a:solidFill>
            <a:srgbClr val="6891ba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0.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89080" y="52236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708ca1"/>
                </a:solidFill>
                <a:latin typeface="Arial"/>
                <a:ea typeface="ＭＳ Ｐゴシック"/>
              </a:rPr>
              <a:t>Basic Switch Configuration</a:t>
            </a:r>
            <a:br>
              <a:rPr sz="1800"/>
            </a:br>
            <a:r>
              <a:rPr b="1" lang="en-US" sz="3200" spc="-1" strike="noStrike">
                <a:solidFill>
                  <a:srgbClr val="708ca1"/>
                </a:solidFill>
                <a:latin typeface="Arial"/>
                <a:ea typeface="ＭＳ Ｐゴシック"/>
              </a:rPr>
              <a:t>Switch Boot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2"/>
          <p:cNvSpPr/>
          <p:nvPr/>
        </p:nvSpPr>
        <p:spPr>
          <a:xfrm>
            <a:off x="655560" y="1650960"/>
            <a:ext cx="7940880" cy="35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marL="457200" indent="-455760">
              <a:lnSpc>
                <a:spcPct val="100000"/>
              </a:lnSpc>
              <a:spcBef>
                <a:spcPts val="1199"/>
              </a:spcBef>
              <a:buClr>
                <a:srgbClr val="708ca1"/>
              </a:buClr>
              <a:buFont typeface="Arial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1199"/>
              </a:spcBef>
              <a:buClr>
                <a:srgbClr val="708ca1"/>
              </a:buClr>
              <a:buFont typeface="Arial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 boot loader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1199"/>
              </a:spcBef>
              <a:buClr>
                <a:srgbClr val="708ca1"/>
              </a:buClr>
              <a:buFont typeface="Arial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t loader does low-level CPU 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1199"/>
              </a:spcBef>
              <a:buClr>
                <a:srgbClr val="708ca1"/>
              </a:buClr>
              <a:buFont typeface="Arial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t loader initializes the flash file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1199"/>
              </a:spcBef>
              <a:buClr>
                <a:srgbClr val="708ca1"/>
              </a:buClr>
              <a:buFont typeface="Arial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t loader locates and loads a default IOS operating system software image into memory and hands control of the switch over to the 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3"/>
          <p:cNvSpPr/>
          <p:nvPr/>
        </p:nvSpPr>
        <p:spPr>
          <a:xfrm>
            <a:off x="352440" y="6242040"/>
            <a:ext cx="787320" cy="303120"/>
          </a:xfrm>
          <a:prstGeom prst="pie">
            <a:avLst/>
          </a:prstGeom>
          <a:solidFill>
            <a:srgbClr val="6891ba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0.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89080" y="52236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708ca1"/>
                </a:solidFill>
                <a:latin typeface="Arial"/>
                <a:ea typeface="ＭＳ Ｐゴシック"/>
              </a:rPr>
              <a:t>Basic Switch Configuration</a:t>
            </a:r>
            <a:br>
              <a:rPr sz="1800"/>
            </a:br>
            <a:r>
              <a:rPr b="1" lang="en-US" sz="3200" spc="-1" strike="noStrike">
                <a:solidFill>
                  <a:srgbClr val="708ca1"/>
                </a:solidFill>
                <a:latin typeface="Arial"/>
                <a:ea typeface="ＭＳ Ｐゴシック"/>
              </a:rPr>
              <a:t>Switch Boot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2"/>
          <p:cNvSpPr/>
          <p:nvPr/>
        </p:nvSpPr>
        <p:spPr>
          <a:xfrm>
            <a:off x="655560" y="1419120"/>
            <a:ext cx="7940880" cy="469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marL="457200" indent="-45576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order to find a suitable IOS image, the switch goes through the following ste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1199"/>
              </a:spcBef>
              <a:buClr>
                <a:srgbClr val="708ca1"/>
              </a:buClr>
              <a:buFont typeface="Arial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attempts to automatically boot by using information in the BOOT environment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1199"/>
              </a:spcBef>
              <a:buClr>
                <a:srgbClr val="708ca1"/>
              </a:buClr>
              <a:buFont typeface="Arial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variable is not set, the switch performs a top-to-bottom search through the flash file system. It will load and execute the first executable file, if it c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1199"/>
              </a:spcBef>
              <a:buClr>
                <a:srgbClr val="708ca1"/>
              </a:buClr>
              <a:buFont typeface="Arial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OS operating system then initializes the interfaces using the Cisco IOS commands found in the configuration file, startup configuration, which is stored in NVRA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comm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ot syste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n be used to set the BOOT environment vari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3"/>
          <p:cNvSpPr/>
          <p:nvPr/>
        </p:nvSpPr>
        <p:spPr>
          <a:xfrm>
            <a:off x="352440" y="6242040"/>
            <a:ext cx="787320" cy="303120"/>
          </a:xfrm>
          <a:prstGeom prst="pie">
            <a:avLst/>
          </a:prstGeom>
          <a:solidFill>
            <a:srgbClr val="6891ba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1.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89080" y="52236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708ca1"/>
                </a:solidFill>
                <a:latin typeface="Arial"/>
                <a:ea typeface="ＭＳ Ｐゴシック"/>
              </a:rPr>
              <a:t>Basic Switch Configuration</a:t>
            </a:r>
            <a:br>
              <a:rPr sz="1800"/>
            </a:br>
            <a:r>
              <a:rPr b="1" lang="en-US" sz="3200" spc="-1" strike="noStrike">
                <a:solidFill>
                  <a:srgbClr val="708ca1"/>
                </a:solidFill>
                <a:latin typeface="Arial"/>
                <a:ea typeface="ＭＳ Ｐゴシック"/>
              </a:rPr>
              <a:t>Recovering From a System Cra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2"/>
          <p:cNvSpPr/>
          <p:nvPr/>
        </p:nvSpPr>
        <p:spPr>
          <a:xfrm>
            <a:off x="655560" y="1419120"/>
            <a:ext cx="7940880" cy="35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marL="235080" indent="-235080">
              <a:lnSpc>
                <a:spcPct val="95000"/>
              </a:lnSpc>
              <a:spcBef>
                <a:spcPts val="1199"/>
              </a:spcBef>
              <a:buClr>
                <a:srgbClr val="708ca1"/>
              </a:buClr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oot loader can also be used to manage the switch if the IOS can’t be loa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5000"/>
              </a:lnSpc>
              <a:spcBef>
                <a:spcPts val="1199"/>
              </a:spcBef>
              <a:buClr>
                <a:srgbClr val="708ca1"/>
              </a:buClr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oot loader can be accessed through a console connection b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455760">
              <a:lnSpc>
                <a:spcPct val="100000"/>
              </a:lnSpc>
              <a:spcBef>
                <a:spcPts val="700"/>
              </a:spcBef>
              <a:buClr>
                <a:srgbClr val="708ca1"/>
              </a:buClr>
              <a:buFont typeface="Arial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文泉驛正黑"/>
              </a:rPr>
              <a:t>Connect a PC by console cable to the switch console port. Unplug the switch power cor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455760">
              <a:lnSpc>
                <a:spcPct val="100000"/>
              </a:lnSpc>
              <a:spcBef>
                <a:spcPts val="700"/>
              </a:spcBef>
              <a:buClr>
                <a:srgbClr val="708ca1"/>
              </a:buClr>
              <a:buFont typeface="Arial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文泉驛正黑"/>
              </a:rPr>
              <a:t>Reconnect the power cord to the switch and press and hold down the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文泉驛正黑"/>
              </a:rPr>
              <a:t>Mod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文泉驛正黑"/>
              </a:rPr>
              <a:t> butt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455760">
              <a:lnSpc>
                <a:spcPct val="100000"/>
              </a:lnSpc>
              <a:spcBef>
                <a:spcPts val="700"/>
              </a:spcBef>
              <a:buClr>
                <a:srgbClr val="708ca1"/>
              </a:buClr>
              <a:buFont typeface="Arial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文泉驛正黑"/>
              </a:rPr>
              <a:t>The System LED turns briefly amber and then solid green. Releas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文泉驛正黑"/>
              </a:rPr>
              <a:t>Mod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文泉驛正黑"/>
              </a:rPr>
              <a:t> butt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5000"/>
              </a:lnSpc>
              <a:spcBef>
                <a:spcPts val="1199"/>
              </a:spcBef>
              <a:buClr>
                <a:srgbClr val="708ca1"/>
              </a:buClr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oot loa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witch:promp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ppears in the terminal emulation software on the P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5000"/>
              </a:lnSpc>
              <a:spcBef>
                <a:spcPts val="11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3"/>
          <p:cNvSpPr/>
          <p:nvPr/>
        </p:nvSpPr>
        <p:spPr>
          <a:xfrm>
            <a:off x="352440" y="6242040"/>
            <a:ext cx="787320" cy="303120"/>
          </a:xfrm>
          <a:prstGeom prst="pie">
            <a:avLst/>
          </a:prstGeom>
          <a:solidFill>
            <a:srgbClr val="6891ba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1.1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89080" y="52236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708ca1"/>
                </a:solidFill>
                <a:latin typeface="Arial"/>
                <a:ea typeface="ＭＳ Ｐゴシック"/>
              </a:rPr>
              <a:t>Basic Switch Configuration</a:t>
            </a:r>
            <a:br>
              <a:rPr sz="1800"/>
            </a:br>
            <a:r>
              <a:rPr b="1" lang="en-US" sz="3200" spc="-1" strike="noStrike">
                <a:solidFill>
                  <a:srgbClr val="708ca1"/>
                </a:solidFill>
                <a:latin typeface="Arial"/>
                <a:ea typeface="ＭＳ Ｐゴシック"/>
              </a:rPr>
              <a:t>Switch LED Indic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2"/>
          <p:cNvSpPr/>
          <p:nvPr/>
        </p:nvSpPr>
        <p:spPr>
          <a:xfrm>
            <a:off x="655560" y="1419120"/>
            <a:ext cx="7940880" cy="46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marL="235080" indent="-235080">
              <a:lnSpc>
                <a:spcPct val="95000"/>
              </a:lnSpc>
              <a:spcBef>
                <a:spcPts val="1199"/>
              </a:spcBef>
              <a:buClr>
                <a:srgbClr val="708ca1"/>
              </a:buClr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port on Cisco Catalyst switches have status LED indicator ligh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5000"/>
              </a:lnSpc>
              <a:spcBef>
                <a:spcPts val="1199"/>
              </a:spcBef>
              <a:buClr>
                <a:srgbClr val="708ca1"/>
              </a:buClr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default these LED lights reflect port activity but they can also provide other information about the switch through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5000"/>
              </a:lnSpc>
              <a:spcBef>
                <a:spcPts val="1199"/>
              </a:spcBef>
              <a:buClr>
                <a:srgbClr val="708ca1"/>
              </a:buClr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ollowing modes are available on Cisco Catalyst 2960 switch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undant Power System (RPS) 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rt Status 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rt Duplex 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rt Speed 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wer over Ethernet (PoE) Mode 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3"/>
          <p:cNvSpPr/>
          <p:nvPr/>
        </p:nvSpPr>
        <p:spPr>
          <a:xfrm>
            <a:off x="352440" y="6242040"/>
            <a:ext cx="787320" cy="303120"/>
          </a:xfrm>
          <a:prstGeom prst="pie">
            <a:avLst/>
          </a:prstGeom>
          <a:solidFill>
            <a:srgbClr val="6891ba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1.1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89080" y="52236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708ca1"/>
                </a:solidFill>
                <a:latin typeface="Arial"/>
                <a:ea typeface="ＭＳ Ｐゴシック"/>
              </a:rPr>
              <a:t>Basic Switch Configuration</a:t>
            </a:r>
            <a:br>
              <a:rPr sz="1800"/>
            </a:br>
            <a:r>
              <a:rPr b="1" lang="en-US" sz="3200" spc="-1" strike="noStrike">
                <a:solidFill>
                  <a:srgbClr val="708ca1"/>
                </a:solidFill>
                <a:latin typeface="Arial"/>
                <a:ea typeface="ＭＳ Ｐゴシック"/>
              </a:rPr>
              <a:t>Switch LED Indic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655560" y="1419120"/>
            <a:ext cx="7940880" cy="35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marL="235080" indent="-235080">
              <a:lnSpc>
                <a:spcPct val="95000"/>
              </a:lnSpc>
              <a:spcBef>
                <a:spcPts val="1199"/>
              </a:spcBef>
              <a:buClr>
                <a:srgbClr val="708ca1"/>
              </a:buClr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sco Catalyst 2960 switch m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3" descr=""/>
          <p:cNvPicPr/>
          <p:nvPr/>
        </p:nvPicPr>
        <p:blipFill>
          <a:blip r:embed="rId1"/>
          <a:stretch/>
        </p:blipFill>
        <p:spPr>
          <a:xfrm>
            <a:off x="957240" y="2027160"/>
            <a:ext cx="6288120" cy="4549680"/>
          </a:xfrm>
          <a:prstGeom prst="rect">
            <a:avLst/>
          </a:prstGeom>
          <a:ln w="0">
            <a:noFill/>
          </a:ln>
        </p:spPr>
      </p:pic>
      <p:sp>
        <p:nvSpPr>
          <p:cNvPr id="167" name="AutoShape 4"/>
          <p:cNvSpPr/>
          <p:nvPr/>
        </p:nvSpPr>
        <p:spPr>
          <a:xfrm>
            <a:off x="352440" y="6242040"/>
            <a:ext cx="787320" cy="303120"/>
          </a:xfrm>
          <a:prstGeom prst="pie">
            <a:avLst/>
          </a:prstGeom>
          <a:solidFill>
            <a:srgbClr val="6891ba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1.1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89080" y="52236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708ca1"/>
                </a:solidFill>
                <a:latin typeface="Arial"/>
                <a:ea typeface="ＭＳ Ｐゴシック"/>
              </a:rPr>
              <a:t>Basic Switch Configuration</a:t>
            </a:r>
            <a:br>
              <a:rPr sz="1800"/>
            </a:br>
            <a:r>
              <a:rPr b="1" lang="en-US" sz="3200" spc="-1" strike="noStrike">
                <a:solidFill>
                  <a:srgbClr val="708ca1"/>
                </a:solidFill>
                <a:latin typeface="Arial"/>
                <a:ea typeface="ＭＳ Ｐゴシック"/>
              </a:rPr>
              <a:t>Preparing for Basic Switch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2"/>
          <p:cNvSpPr/>
          <p:nvPr/>
        </p:nvSpPr>
        <p:spPr>
          <a:xfrm>
            <a:off x="655560" y="1419120"/>
            <a:ext cx="7940880" cy="51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marL="235080" indent="-235080">
              <a:lnSpc>
                <a:spcPct val="95000"/>
              </a:lnSpc>
              <a:spcBef>
                <a:spcPts val="1199"/>
              </a:spcBef>
              <a:buClr>
                <a:srgbClr val="708ca1"/>
              </a:buClr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order to remotely manage a Cisco switch, it needs to be configured to access the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5000"/>
              </a:lnSpc>
              <a:spcBef>
                <a:spcPts val="1199"/>
              </a:spcBef>
              <a:buClr>
                <a:srgbClr val="708ca1"/>
              </a:buClr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IP address and a subnet mask must be configu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5000"/>
              </a:lnSpc>
              <a:spcBef>
                <a:spcPts val="1199"/>
              </a:spcBef>
              <a:buClr>
                <a:srgbClr val="708ca1"/>
              </a:buClr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managing the switch from a remote network, a default gateway must also be configu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5000"/>
              </a:lnSpc>
              <a:spcBef>
                <a:spcPts val="1199"/>
              </a:spcBef>
              <a:buClr>
                <a:srgbClr val="708ca1"/>
              </a:buClr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P information (address, subnet mask, gateway) is to be assigned to a switch SVI (switch virtual interfa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5000"/>
              </a:lnSpc>
              <a:spcBef>
                <a:spcPts val="1199"/>
              </a:spcBef>
              <a:buClr>
                <a:srgbClr val="708ca1"/>
              </a:buClr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hough these IP settings allow remote management and remote access to the switch, they do not allow the switch to route Layer 3 pack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3"/>
          <p:cNvSpPr/>
          <p:nvPr/>
        </p:nvSpPr>
        <p:spPr>
          <a:xfrm>
            <a:off x="352440" y="6242040"/>
            <a:ext cx="787320" cy="303120"/>
          </a:xfrm>
          <a:prstGeom prst="pie">
            <a:avLst/>
          </a:prstGeom>
          <a:solidFill>
            <a:srgbClr val="6891ba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1.1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ehab</cp:lastModifiedBy>
  <dcterms:modified xsi:type="dcterms:W3CDTF">2015-02-25T16:55:28Z</dcterms:modified>
  <cp:revision>28</cp:revision>
  <dc:subject/>
  <dc:title>Chapter 2: Introduction to Switched Networks</dc:title>
</cp:coreProperties>
</file>