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gif" ContentType="image/gif"/>
  <Override PartName="/ppt/media/image53.png" ContentType="image/png"/>
  <Override PartName="/ppt/media/image16.png" ContentType="image/png"/>
  <Override PartName="/ppt/media/image49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32.jpeg" ContentType="image/jpeg"/>
  <Override PartName="/ppt/media/image55.png" ContentType="image/png"/>
  <Override PartName="/ppt/media/image15.gif" ContentType="image/gif"/>
  <Override PartName="/ppt/media/image34.jpeg" ContentType="image/jpeg"/>
  <Override PartName="/ppt/media/image37.png" ContentType="image/png"/>
  <Override PartName="/ppt/media/image48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jpeg" ContentType="image/jpeg"/>
  <Override PartName="/ppt/media/image12.jpeg" ContentType="image/jpeg"/>
  <Override PartName="/ppt/media/image43.png" ContentType="image/png"/>
  <Override PartName="/ppt/media/image47.jpeg" ContentType="image/jpeg"/>
  <Override PartName="/ppt/media/image52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EE67-2F12-43E5-BC8C-7674339E48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091E-37A4-475D-8712-6B2C36894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1DE4-D10F-48D6-93D0-124E9B246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0AE3-BD88-4FC7-88CF-0D47BED91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E097-51DD-4B25-830D-4896DBBB4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41F2-28C4-40DE-AF6C-CC55AD8BF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D457-630B-49AB-A63C-EFD916CED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D3A1-453F-4D38-B83B-A4F6A8869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DC6-E2EB-49AD-84C3-274ADFD7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38E-4737-44DE-A911-677F94E9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DBF-8CB7-4C05-9D3E-DC1723BA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099-4E9B-4BB4-8E43-08F74812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26E-A9FF-4FE2-A0D5-AF673DCB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FD7-7341-4131-A511-9B2A13D7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D96-D72C-4175-B093-C8999AE8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6AF-49B5-40EC-B758-BE1827A7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5EA-42CA-480A-AB50-90B911FA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5C0-1A7D-41C5-8E09-FE2E7940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318-0039-4776-9115-6635DDA5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51F-F808-424D-B4D4-AB3851E7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BEA5-48B5-4B77-883C-E88D250654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jpeg"/><Relationship Id="rId11" Type="http://schemas.openxmlformats.org/officeDocument/2006/relationships/image" Target="../media/image48.jpeg"/><Relationship Id="rId12" Type="http://schemas.openxmlformats.org/officeDocument/2006/relationships/image" Target="../media/image49.jpeg"/><Relationship Id="rId13" Type="http://schemas.openxmlformats.org/officeDocument/2006/relationships/image" Target="../media/image50.jpeg"/><Relationship Id="rId14" Type="http://schemas.openxmlformats.org/officeDocument/2006/relationships/image" Target="../media/image51.jpeg"/><Relationship Id="rId15" Type="http://schemas.openxmlformats.org/officeDocument/2006/relationships/image" Target="../media/image52.jpeg"/><Relationship Id="rId16" Type="http://schemas.openxmlformats.org/officeDocument/2006/relationships/image" Target="../media/image53.png"/><Relationship Id="rId17" Type="http://schemas.openxmlformats.org/officeDocument/2006/relationships/image" Target="../media/image54.jpeg"/><Relationship Id="rId18" Type="http://schemas.openxmlformats.org/officeDocument/2006/relationships/image" Target="../media/image55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c011_animal-photography-insect-butterfly.png"/>
          <p:cNvPicPr/>
          <p:nvPr/>
        </p:nvPicPr>
        <p:blipFill>
          <a:blip r:embed="rId1"/>
          <a:stretch/>
        </p:blipFill>
        <p:spPr>
          <a:xfrm>
            <a:off x="152280" y="109440"/>
            <a:ext cx="8763120" cy="667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00"/>
                </a:solidFill>
                <a:latin typeface="Times New Roman"/>
              </a:rPr>
              <a:t>علم الحشرات العام</a:t>
            </a:r>
            <a:br>
              <a:rPr sz="5400"/>
            </a:br>
            <a:r>
              <a:rPr b="0" lang="ar-SA" sz="5400" spc="-1" strike="noStrike">
                <a:solidFill>
                  <a:srgbClr val="ffff00"/>
                </a:solidFill>
                <a:latin typeface="Times New Roman"/>
              </a:rPr>
              <a:t>311</a:t>
            </a:r>
            <a:r>
              <a:rPr b="0" lang="ar-SA" sz="5400" spc="-1" strike="noStrike">
                <a:solidFill>
                  <a:srgbClr val="ffff00"/>
                </a:solidFill>
                <a:latin typeface="Times New Roman"/>
              </a:rPr>
              <a:t> حي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ntomolog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457200" y="38088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عين المركبة والبسيط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und Eyes and ocell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0" descr="eyes3a"/>
          <p:cNvPicPr/>
          <p:nvPr/>
        </p:nvPicPr>
        <p:blipFill>
          <a:blip r:embed="rId1"/>
          <a:srcRect l="4608" t="0" r="0" b="0"/>
          <a:stretch/>
        </p:blipFill>
        <p:spPr>
          <a:xfrm>
            <a:off x="3930480" y="2006640"/>
            <a:ext cx="5061240" cy="4013280"/>
          </a:xfrm>
          <a:prstGeom prst="rect">
            <a:avLst/>
          </a:prstGeom>
          <a:ln w="0">
            <a:noFill/>
          </a:ln>
        </p:spPr>
      </p:pic>
      <p:sp>
        <p:nvSpPr>
          <p:cNvPr id="108" name="مستطيل 4"/>
          <p:cNvSpPr/>
          <p:nvPr/>
        </p:nvSpPr>
        <p:spPr>
          <a:xfrm>
            <a:off x="457200" y="309096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أعين المركبة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ستخدم لتمييز الحركة واللون وكثافة الضو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أعين البسيطة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عددها من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وتقوم بتمييز كثافة الضو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مستطيل 1"/>
          <p:cNvSpPr/>
          <p:nvPr/>
        </p:nvSpPr>
        <p:spPr>
          <a:xfrm>
            <a:off x="609480" y="4591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وحدة الأساسية للعيون المركبة تختلف في الحجم والعدد. نحل العسل لديه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490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في الملكة،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630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في الشغالات و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1300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في الجنود. تختلف أحجامها من حوالي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ميكرون في القط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waspan2.gif"/>
          <p:cNvPicPr/>
          <p:nvPr/>
        </p:nvPicPr>
        <p:blipFill>
          <a:blip r:embed="rId1"/>
          <a:stretch/>
        </p:blipFill>
        <p:spPr>
          <a:xfrm>
            <a:off x="5562720" y="2065320"/>
            <a:ext cx="1866960" cy="1668600"/>
          </a:xfrm>
          <a:prstGeom prst="rect">
            <a:avLst/>
          </a:prstGeom>
          <a:ln w="0">
            <a:noFill/>
          </a:ln>
        </p:spPr>
      </p:pic>
      <p:sp>
        <p:nvSpPr>
          <p:cNvPr id="111" name="مستطيل 3"/>
          <p:cNvSpPr/>
          <p:nvPr/>
        </p:nvSpPr>
        <p:spPr>
          <a:xfrm>
            <a:off x="3592080" y="53352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mmati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https://encrypted-tbn0.gstatic.com/images?q=tbn:ANd9GcRR9XLdtMh6NlR9RtCXAsRKJZVdSR-2A1GVEbd2aOD5VYvrQRo7"/>
          <p:cNvPicPr/>
          <p:nvPr/>
        </p:nvPicPr>
        <p:blipFill>
          <a:blip r:embed="rId2"/>
          <a:stretch/>
        </p:blipFill>
        <p:spPr>
          <a:xfrm>
            <a:off x="1143000" y="1362240"/>
            <a:ext cx="38098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مستطيل 1"/>
          <p:cNvSpPr/>
          <p:nvPr/>
        </p:nvSpPr>
        <p:spPr>
          <a:xfrm>
            <a:off x="1219320" y="392904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رؤية الألوان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    بعض الحشرات قادرة على تمييز الألوان. الحشرات التي تزور الزهور لها القدرة على تمييز اللون الأزرق والأصفر. هذا التمييز مهم في سلوك التغذية والغز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Sweat_bees"/>
          <p:cNvPicPr/>
          <p:nvPr/>
        </p:nvPicPr>
        <p:blipFill>
          <a:blip r:embed="rId1"/>
          <a:srcRect l="0" t="0" r="7463" b="0"/>
          <a:stretch/>
        </p:blipFill>
        <p:spPr>
          <a:xfrm>
            <a:off x="609480" y="609480"/>
            <a:ext cx="51339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828880" y="152280"/>
            <a:ext cx="3486240" cy="4534200"/>
          </a:xfrm>
          <a:prstGeom prst="rect">
            <a:avLst/>
          </a:prstGeom>
          <a:ln w="0">
            <a:noFill/>
          </a:ln>
        </p:spPr>
      </p:pic>
      <p:sp>
        <p:nvSpPr>
          <p:cNvPr id="116" name="مستطيل 2"/>
          <p:cNvSpPr/>
          <p:nvPr/>
        </p:nvSpPr>
        <p:spPr>
          <a:xfrm>
            <a:off x="380880" y="4896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حشرات لها مستقبلات كيميائية في أجزاء الفم وقرون الاستشعار والأرجل. بها يمكن للحشرات أن تتذوق الطعام وتشم الروائ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gheadlateral"/>
          <p:cNvPicPr/>
          <p:nvPr/>
        </p:nvPicPr>
        <p:blipFill>
          <a:blip r:embed="rId1"/>
          <a:stretch/>
        </p:blipFill>
        <p:spPr>
          <a:xfrm>
            <a:off x="5486400" y="1600200"/>
            <a:ext cx="2122560" cy="3962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headfrontal"/>
          <p:cNvPicPr/>
          <p:nvPr/>
        </p:nvPicPr>
        <p:blipFill>
          <a:blip r:embed="rId2"/>
          <a:stretch/>
        </p:blipFill>
        <p:spPr>
          <a:xfrm>
            <a:off x="1447920" y="1600200"/>
            <a:ext cx="2247840" cy="384804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4"/>
          <p:cNvSpPr/>
          <p:nvPr/>
        </p:nvSpPr>
        <p:spPr>
          <a:xfrm>
            <a:off x="1781280" y="3352680"/>
            <a:ext cx="1571400" cy="569880"/>
          </a:xfrm>
          <a:custGeom>
            <a:avLst/>
            <a:gdLst>
              <a:gd name="textAreaLeft" fmla="*/ 0 w 1571400"/>
              <a:gd name="textAreaRight" fmla="*/ 1571760 w 1571400"/>
              <a:gd name="textAreaTop" fmla="*/ 0 h 569880"/>
              <a:gd name="textAreaBottom" fmla="*/ 569880 h 569880"/>
            </a:gdLst>
            <a:ahLst/>
            <a:rect l="textAreaLeft" t="textAreaTop" r="textAreaRight" b="textAreaBottom"/>
            <a:pathLst>
              <a:path w="983" h="385">
                <a:moveTo>
                  <a:pt x="610" y="314"/>
                </a:moveTo>
                <a:cubicBezTo>
                  <a:pt x="581" y="323"/>
                  <a:pt x="568" y="343"/>
                  <a:pt x="540" y="353"/>
                </a:cubicBezTo>
                <a:cubicBezTo>
                  <a:pt x="439" y="343"/>
                  <a:pt x="475" y="342"/>
                  <a:pt x="408" y="322"/>
                </a:cubicBezTo>
                <a:cubicBezTo>
                  <a:pt x="370" y="330"/>
                  <a:pt x="342" y="349"/>
                  <a:pt x="307" y="360"/>
                </a:cubicBezTo>
                <a:cubicBezTo>
                  <a:pt x="297" y="366"/>
                  <a:pt x="274" y="385"/>
                  <a:pt x="260" y="384"/>
                </a:cubicBezTo>
                <a:cubicBezTo>
                  <a:pt x="211" y="378"/>
                  <a:pt x="224" y="369"/>
                  <a:pt x="191" y="353"/>
                </a:cubicBezTo>
                <a:cubicBezTo>
                  <a:pt x="161" y="338"/>
                  <a:pt x="127" y="339"/>
                  <a:pt x="97" y="329"/>
                </a:cubicBezTo>
                <a:cubicBezTo>
                  <a:pt x="80" y="303"/>
                  <a:pt x="59" y="284"/>
                  <a:pt x="43" y="259"/>
                </a:cubicBezTo>
                <a:cubicBezTo>
                  <a:pt x="34" y="187"/>
                  <a:pt x="0" y="144"/>
                  <a:pt x="82" y="120"/>
                </a:cubicBezTo>
                <a:cubicBezTo>
                  <a:pt x="188" y="46"/>
                  <a:pt x="213" y="63"/>
                  <a:pt x="377" y="57"/>
                </a:cubicBezTo>
                <a:cubicBezTo>
                  <a:pt x="413" y="57"/>
                  <a:pt x="797" y="0"/>
                  <a:pt x="944" y="96"/>
                </a:cubicBezTo>
                <a:cubicBezTo>
                  <a:pt x="958" y="119"/>
                  <a:pt x="973" y="139"/>
                  <a:pt x="983" y="166"/>
                </a:cubicBezTo>
                <a:cubicBezTo>
                  <a:pt x="980" y="176"/>
                  <a:pt x="980" y="188"/>
                  <a:pt x="975" y="197"/>
                </a:cubicBezTo>
                <a:cubicBezTo>
                  <a:pt x="969" y="204"/>
                  <a:pt x="955" y="204"/>
                  <a:pt x="952" y="213"/>
                </a:cubicBezTo>
                <a:cubicBezTo>
                  <a:pt x="934" y="251"/>
                  <a:pt x="951" y="344"/>
                  <a:pt x="890" y="353"/>
                </a:cubicBezTo>
                <a:cubicBezTo>
                  <a:pt x="861" y="356"/>
                  <a:pt x="832" y="357"/>
                  <a:pt x="804" y="360"/>
                </a:cubicBezTo>
                <a:cubicBezTo>
                  <a:pt x="754" y="377"/>
                  <a:pt x="751" y="376"/>
                  <a:pt x="703" y="360"/>
                </a:cubicBezTo>
                <a:cubicBezTo>
                  <a:pt x="698" y="352"/>
                  <a:pt x="695" y="341"/>
                  <a:pt x="688" y="337"/>
                </a:cubicBezTo>
                <a:cubicBezTo>
                  <a:pt x="682" y="333"/>
                  <a:pt x="624" y="314"/>
                  <a:pt x="610" y="314"/>
                </a:cubicBez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6"/>
          <p:cNvSpPr/>
          <p:nvPr/>
        </p:nvSpPr>
        <p:spPr>
          <a:xfrm>
            <a:off x="5861160" y="3645000"/>
            <a:ext cx="512640" cy="496800"/>
          </a:xfrm>
          <a:custGeom>
            <a:avLst/>
            <a:gdLst>
              <a:gd name="textAreaLeft" fmla="*/ 0 w 512640"/>
              <a:gd name="textAreaRight" fmla="*/ 513000 w 51264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323" h="313">
                <a:moveTo>
                  <a:pt x="277" y="18"/>
                </a:moveTo>
                <a:cubicBezTo>
                  <a:pt x="212" y="15"/>
                  <a:pt x="147" y="11"/>
                  <a:pt x="83" y="11"/>
                </a:cubicBezTo>
                <a:cubicBezTo>
                  <a:pt x="59" y="11"/>
                  <a:pt x="28" y="0"/>
                  <a:pt x="13" y="18"/>
                </a:cubicBezTo>
                <a:cubicBezTo>
                  <a:pt x="0" y="32"/>
                  <a:pt x="30" y="111"/>
                  <a:pt x="36" y="127"/>
                </a:cubicBezTo>
                <a:cubicBezTo>
                  <a:pt x="61" y="201"/>
                  <a:pt x="56" y="256"/>
                  <a:pt x="145" y="282"/>
                </a:cubicBezTo>
                <a:cubicBezTo>
                  <a:pt x="168" y="298"/>
                  <a:pt x="187" y="305"/>
                  <a:pt x="215" y="313"/>
                </a:cubicBezTo>
                <a:cubicBezTo>
                  <a:pt x="230" y="310"/>
                  <a:pt x="247" y="313"/>
                  <a:pt x="261" y="306"/>
                </a:cubicBezTo>
                <a:cubicBezTo>
                  <a:pt x="268" y="301"/>
                  <a:pt x="264" y="289"/>
                  <a:pt x="269" y="282"/>
                </a:cubicBezTo>
                <a:cubicBezTo>
                  <a:pt x="291" y="241"/>
                  <a:pt x="295" y="240"/>
                  <a:pt x="323" y="213"/>
                </a:cubicBezTo>
                <a:cubicBezTo>
                  <a:pt x="314" y="138"/>
                  <a:pt x="307" y="154"/>
                  <a:pt x="292" y="96"/>
                </a:cubicBezTo>
                <a:cubicBezTo>
                  <a:pt x="284" y="28"/>
                  <a:pt x="294" y="52"/>
                  <a:pt x="277" y="18"/>
                </a:cubicBez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7"/>
          <p:cNvSpPr/>
          <p:nvPr/>
        </p:nvSpPr>
        <p:spPr>
          <a:xfrm>
            <a:off x="1846440" y="3828960"/>
            <a:ext cx="1487160" cy="698760"/>
          </a:xfrm>
          <a:custGeom>
            <a:avLst/>
            <a:gdLst>
              <a:gd name="textAreaLeft" fmla="*/ 0 w 1487160"/>
              <a:gd name="textAreaRight" fmla="*/ 1487520 w 148716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937" h="440">
                <a:moveTo>
                  <a:pt x="213" y="64"/>
                </a:moveTo>
                <a:cubicBezTo>
                  <a:pt x="183" y="54"/>
                  <a:pt x="197" y="58"/>
                  <a:pt x="173" y="52"/>
                </a:cubicBezTo>
                <a:cubicBezTo>
                  <a:pt x="152" y="20"/>
                  <a:pt x="126" y="26"/>
                  <a:pt x="89" y="24"/>
                </a:cubicBezTo>
                <a:cubicBezTo>
                  <a:pt x="68" y="19"/>
                  <a:pt x="61" y="12"/>
                  <a:pt x="45" y="24"/>
                </a:cubicBezTo>
                <a:cubicBezTo>
                  <a:pt x="43" y="28"/>
                  <a:pt x="41" y="31"/>
                  <a:pt x="41" y="36"/>
                </a:cubicBezTo>
                <a:cubicBezTo>
                  <a:pt x="38" y="50"/>
                  <a:pt x="40" y="65"/>
                  <a:pt x="37" y="80"/>
                </a:cubicBezTo>
                <a:cubicBezTo>
                  <a:pt x="35" y="88"/>
                  <a:pt x="27" y="95"/>
                  <a:pt x="25" y="104"/>
                </a:cubicBezTo>
                <a:cubicBezTo>
                  <a:pt x="20" y="152"/>
                  <a:pt x="0" y="224"/>
                  <a:pt x="29" y="268"/>
                </a:cubicBezTo>
                <a:cubicBezTo>
                  <a:pt x="41" y="286"/>
                  <a:pt x="41" y="310"/>
                  <a:pt x="53" y="328"/>
                </a:cubicBezTo>
                <a:cubicBezTo>
                  <a:pt x="60" y="339"/>
                  <a:pt x="85" y="356"/>
                  <a:pt x="85" y="356"/>
                </a:cubicBezTo>
                <a:cubicBezTo>
                  <a:pt x="135" y="432"/>
                  <a:pt x="241" y="424"/>
                  <a:pt x="321" y="440"/>
                </a:cubicBezTo>
                <a:cubicBezTo>
                  <a:pt x="341" y="438"/>
                  <a:pt x="361" y="438"/>
                  <a:pt x="381" y="436"/>
                </a:cubicBezTo>
                <a:cubicBezTo>
                  <a:pt x="416" y="430"/>
                  <a:pt x="444" y="406"/>
                  <a:pt x="477" y="396"/>
                </a:cubicBezTo>
                <a:cubicBezTo>
                  <a:pt x="497" y="400"/>
                  <a:pt x="513" y="411"/>
                  <a:pt x="533" y="416"/>
                </a:cubicBezTo>
                <a:cubicBezTo>
                  <a:pt x="550" y="419"/>
                  <a:pt x="567" y="422"/>
                  <a:pt x="585" y="428"/>
                </a:cubicBezTo>
                <a:cubicBezTo>
                  <a:pt x="650" y="426"/>
                  <a:pt x="715" y="426"/>
                  <a:pt x="781" y="424"/>
                </a:cubicBezTo>
                <a:cubicBezTo>
                  <a:pt x="801" y="423"/>
                  <a:pt x="837" y="396"/>
                  <a:pt x="837" y="396"/>
                </a:cubicBezTo>
                <a:cubicBezTo>
                  <a:pt x="846" y="382"/>
                  <a:pt x="857" y="375"/>
                  <a:pt x="869" y="364"/>
                </a:cubicBezTo>
                <a:cubicBezTo>
                  <a:pt x="874" y="348"/>
                  <a:pt x="879" y="341"/>
                  <a:pt x="893" y="332"/>
                </a:cubicBezTo>
                <a:cubicBezTo>
                  <a:pt x="907" y="309"/>
                  <a:pt x="920" y="285"/>
                  <a:pt x="929" y="260"/>
                </a:cubicBezTo>
                <a:cubicBezTo>
                  <a:pt x="931" y="252"/>
                  <a:pt x="937" y="236"/>
                  <a:pt x="937" y="236"/>
                </a:cubicBezTo>
                <a:cubicBezTo>
                  <a:pt x="931" y="195"/>
                  <a:pt x="936" y="214"/>
                  <a:pt x="925" y="180"/>
                </a:cubicBezTo>
                <a:cubicBezTo>
                  <a:pt x="922" y="172"/>
                  <a:pt x="917" y="156"/>
                  <a:pt x="917" y="156"/>
                </a:cubicBezTo>
                <a:cubicBezTo>
                  <a:pt x="913" y="116"/>
                  <a:pt x="910" y="53"/>
                  <a:pt x="873" y="28"/>
                </a:cubicBezTo>
                <a:cubicBezTo>
                  <a:pt x="842" y="29"/>
                  <a:pt x="811" y="29"/>
                  <a:pt x="781" y="32"/>
                </a:cubicBezTo>
                <a:cubicBezTo>
                  <a:pt x="763" y="33"/>
                  <a:pt x="750" y="50"/>
                  <a:pt x="733" y="56"/>
                </a:cubicBezTo>
                <a:cubicBezTo>
                  <a:pt x="717" y="54"/>
                  <a:pt x="700" y="55"/>
                  <a:pt x="685" y="52"/>
                </a:cubicBezTo>
                <a:cubicBezTo>
                  <a:pt x="667" y="48"/>
                  <a:pt x="660" y="22"/>
                  <a:pt x="641" y="16"/>
                </a:cubicBezTo>
                <a:cubicBezTo>
                  <a:pt x="629" y="12"/>
                  <a:pt x="605" y="4"/>
                  <a:pt x="605" y="4"/>
                </a:cubicBezTo>
                <a:cubicBezTo>
                  <a:pt x="553" y="6"/>
                  <a:pt x="507" y="12"/>
                  <a:pt x="457" y="20"/>
                </a:cubicBezTo>
                <a:cubicBezTo>
                  <a:pt x="412" y="15"/>
                  <a:pt x="432" y="19"/>
                  <a:pt x="397" y="8"/>
                </a:cubicBezTo>
                <a:cubicBezTo>
                  <a:pt x="389" y="5"/>
                  <a:pt x="373" y="0"/>
                  <a:pt x="373" y="0"/>
                </a:cubicBezTo>
                <a:cubicBezTo>
                  <a:pt x="307" y="8"/>
                  <a:pt x="248" y="64"/>
                  <a:pt x="185" y="64"/>
                </a:cubicBezTo>
              </a:path>
            </a:pathLst>
          </a:custGeom>
          <a:solidFill>
            <a:srgbClr val="d11417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8"/>
          <p:cNvSpPr/>
          <p:nvPr/>
        </p:nvSpPr>
        <p:spPr>
          <a:xfrm>
            <a:off x="6253200" y="4002120"/>
            <a:ext cx="693720" cy="627120"/>
          </a:xfrm>
          <a:custGeom>
            <a:avLst/>
            <a:gdLst>
              <a:gd name="textAreaLeft" fmla="*/ 0 w 693720"/>
              <a:gd name="textAreaRight" fmla="*/ 694080 w 69372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437" h="395">
                <a:moveTo>
                  <a:pt x="437" y="251"/>
                </a:moveTo>
                <a:cubicBezTo>
                  <a:pt x="428" y="226"/>
                  <a:pt x="414" y="209"/>
                  <a:pt x="393" y="195"/>
                </a:cubicBezTo>
                <a:cubicBezTo>
                  <a:pt x="369" y="159"/>
                  <a:pt x="302" y="116"/>
                  <a:pt x="261" y="103"/>
                </a:cubicBezTo>
                <a:cubicBezTo>
                  <a:pt x="253" y="95"/>
                  <a:pt x="249" y="85"/>
                  <a:pt x="241" y="79"/>
                </a:cubicBezTo>
                <a:cubicBezTo>
                  <a:pt x="215" y="58"/>
                  <a:pt x="174" y="55"/>
                  <a:pt x="145" y="39"/>
                </a:cubicBezTo>
                <a:cubicBezTo>
                  <a:pt x="123" y="26"/>
                  <a:pt x="104" y="10"/>
                  <a:pt x="81" y="3"/>
                </a:cubicBezTo>
                <a:cubicBezTo>
                  <a:pt x="69" y="4"/>
                  <a:pt x="55" y="0"/>
                  <a:pt x="45" y="7"/>
                </a:cubicBezTo>
                <a:cubicBezTo>
                  <a:pt x="37" y="11"/>
                  <a:pt x="39" y="23"/>
                  <a:pt x="37" y="31"/>
                </a:cubicBezTo>
                <a:cubicBezTo>
                  <a:pt x="30" y="51"/>
                  <a:pt x="27" y="62"/>
                  <a:pt x="9" y="75"/>
                </a:cubicBezTo>
                <a:cubicBezTo>
                  <a:pt x="0" y="100"/>
                  <a:pt x="7" y="120"/>
                  <a:pt x="29" y="135"/>
                </a:cubicBezTo>
                <a:cubicBezTo>
                  <a:pt x="38" y="148"/>
                  <a:pt x="42" y="161"/>
                  <a:pt x="53" y="175"/>
                </a:cubicBezTo>
                <a:cubicBezTo>
                  <a:pt x="66" y="215"/>
                  <a:pt x="93" y="219"/>
                  <a:pt x="121" y="247"/>
                </a:cubicBezTo>
                <a:cubicBezTo>
                  <a:pt x="132" y="258"/>
                  <a:pt x="137" y="269"/>
                  <a:pt x="153" y="275"/>
                </a:cubicBezTo>
                <a:cubicBezTo>
                  <a:pt x="170" y="300"/>
                  <a:pt x="206" y="317"/>
                  <a:pt x="233" y="335"/>
                </a:cubicBezTo>
                <a:cubicBezTo>
                  <a:pt x="237" y="337"/>
                  <a:pt x="240" y="341"/>
                  <a:pt x="245" y="343"/>
                </a:cubicBezTo>
                <a:cubicBezTo>
                  <a:pt x="249" y="344"/>
                  <a:pt x="253" y="344"/>
                  <a:pt x="257" y="347"/>
                </a:cubicBezTo>
                <a:cubicBezTo>
                  <a:pt x="265" y="351"/>
                  <a:pt x="281" y="363"/>
                  <a:pt x="281" y="363"/>
                </a:cubicBezTo>
                <a:cubicBezTo>
                  <a:pt x="289" y="376"/>
                  <a:pt x="300" y="381"/>
                  <a:pt x="309" y="395"/>
                </a:cubicBezTo>
                <a:cubicBezTo>
                  <a:pt x="335" y="386"/>
                  <a:pt x="332" y="356"/>
                  <a:pt x="353" y="343"/>
                </a:cubicBezTo>
                <a:cubicBezTo>
                  <a:pt x="365" y="334"/>
                  <a:pt x="376" y="331"/>
                  <a:pt x="389" y="323"/>
                </a:cubicBezTo>
                <a:cubicBezTo>
                  <a:pt x="395" y="303"/>
                  <a:pt x="404" y="277"/>
                  <a:pt x="425" y="271"/>
                </a:cubicBezTo>
                <a:cubicBezTo>
                  <a:pt x="434" y="256"/>
                  <a:pt x="430" y="263"/>
                  <a:pt x="437" y="251"/>
                </a:cubicBezTo>
                <a:close/>
              </a:path>
            </a:pathLst>
          </a:custGeom>
          <a:solidFill>
            <a:srgbClr val="d11417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9"/>
          <p:cNvSpPr/>
          <p:nvPr/>
        </p:nvSpPr>
        <p:spPr>
          <a:xfrm>
            <a:off x="1785960" y="1668600"/>
            <a:ext cx="1590480" cy="1881000"/>
          </a:xfrm>
          <a:custGeom>
            <a:avLst/>
            <a:gdLst>
              <a:gd name="textAreaLeft" fmla="*/ 0 w 1590480"/>
              <a:gd name="textAreaRight" fmla="*/ 1590840 w 1590480"/>
              <a:gd name="textAreaTop" fmla="*/ 0 h 1881000"/>
              <a:gd name="textAreaBottom" fmla="*/ 1881360 h 1881000"/>
            </a:gdLst>
            <a:ahLst/>
            <a:rect l="textAreaLeft" t="textAreaTop" r="textAreaRight" b="textAreaBottom"/>
            <a:pathLst>
              <a:path w="1002" h="1185">
                <a:moveTo>
                  <a:pt x="227" y="57"/>
                </a:moveTo>
                <a:cubicBezTo>
                  <a:pt x="249" y="45"/>
                  <a:pt x="269" y="31"/>
                  <a:pt x="291" y="17"/>
                </a:cubicBezTo>
                <a:cubicBezTo>
                  <a:pt x="301" y="9"/>
                  <a:pt x="327" y="1"/>
                  <a:pt x="327" y="1"/>
                </a:cubicBezTo>
                <a:cubicBezTo>
                  <a:pt x="339" y="2"/>
                  <a:pt x="351" y="2"/>
                  <a:pt x="363" y="5"/>
                </a:cubicBezTo>
                <a:cubicBezTo>
                  <a:pt x="371" y="6"/>
                  <a:pt x="387" y="13"/>
                  <a:pt x="387" y="13"/>
                </a:cubicBezTo>
                <a:cubicBezTo>
                  <a:pt x="417" y="11"/>
                  <a:pt x="448" y="12"/>
                  <a:pt x="479" y="9"/>
                </a:cubicBezTo>
                <a:cubicBezTo>
                  <a:pt x="487" y="8"/>
                  <a:pt x="503" y="1"/>
                  <a:pt x="503" y="1"/>
                </a:cubicBezTo>
                <a:cubicBezTo>
                  <a:pt x="540" y="4"/>
                  <a:pt x="563" y="16"/>
                  <a:pt x="599" y="21"/>
                </a:cubicBezTo>
                <a:cubicBezTo>
                  <a:pt x="607" y="23"/>
                  <a:pt x="615" y="26"/>
                  <a:pt x="623" y="29"/>
                </a:cubicBezTo>
                <a:cubicBezTo>
                  <a:pt x="627" y="30"/>
                  <a:pt x="635" y="33"/>
                  <a:pt x="635" y="33"/>
                </a:cubicBezTo>
                <a:cubicBezTo>
                  <a:pt x="641" y="31"/>
                  <a:pt x="648" y="31"/>
                  <a:pt x="655" y="29"/>
                </a:cubicBezTo>
                <a:cubicBezTo>
                  <a:pt x="663" y="25"/>
                  <a:pt x="679" y="13"/>
                  <a:pt x="679" y="13"/>
                </a:cubicBezTo>
                <a:cubicBezTo>
                  <a:pt x="708" y="14"/>
                  <a:pt x="746" y="0"/>
                  <a:pt x="767" y="21"/>
                </a:cubicBezTo>
                <a:cubicBezTo>
                  <a:pt x="813" y="67"/>
                  <a:pt x="761" y="30"/>
                  <a:pt x="795" y="53"/>
                </a:cubicBezTo>
                <a:cubicBezTo>
                  <a:pt x="803" y="79"/>
                  <a:pt x="792" y="127"/>
                  <a:pt x="791" y="153"/>
                </a:cubicBezTo>
                <a:cubicBezTo>
                  <a:pt x="792" y="191"/>
                  <a:pt x="792" y="230"/>
                  <a:pt x="795" y="269"/>
                </a:cubicBezTo>
                <a:cubicBezTo>
                  <a:pt x="797" y="316"/>
                  <a:pt x="831" y="363"/>
                  <a:pt x="843" y="409"/>
                </a:cubicBezTo>
                <a:cubicBezTo>
                  <a:pt x="845" y="450"/>
                  <a:pt x="838" y="484"/>
                  <a:pt x="867" y="513"/>
                </a:cubicBezTo>
                <a:cubicBezTo>
                  <a:pt x="876" y="542"/>
                  <a:pt x="874" y="571"/>
                  <a:pt x="883" y="601"/>
                </a:cubicBezTo>
                <a:cubicBezTo>
                  <a:pt x="892" y="634"/>
                  <a:pt x="908" y="664"/>
                  <a:pt x="915" y="701"/>
                </a:cubicBezTo>
                <a:cubicBezTo>
                  <a:pt x="917" y="734"/>
                  <a:pt x="917" y="771"/>
                  <a:pt x="927" y="805"/>
                </a:cubicBezTo>
                <a:cubicBezTo>
                  <a:pt x="930" y="817"/>
                  <a:pt x="936" y="828"/>
                  <a:pt x="939" y="841"/>
                </a:cubicBezTo>
                <a:cubicBezTo>
                  <a:pt x="944" y="871"/>
                  <a:pt x="944" y="902"/>
                  <a:pt x="951" y="933"/>
                </a:cubicBezTo>
                <a:cubicBezTo>
                  <a:pt x="956" y="958"/>
                  <a:pt x="970" y="980"/>
                  <a:pt x="979" y="1005"/>
                </a:cubicBezTo>
                <a:cubicBezTo>
                  <a:pt x="983" y="1017"/>
                  <a:pt x="991" y="1041"/>
                  <a:pt x="991" y="1041"/>
                </a:cubicBezTo>
                <a:cubicBezTo>
                  <a:pt x="988" y="1076"/>
                  <a:pt x="1002" y="1161"/>
                  <a:pt x="967" y="1185"/>
                </a:cubicBezTo>
                <a:cubicBezTo>
                  <a:pt x="958" y="1158"/>
                  <a:pt x="940" y="1153"/>
                  <a:pt x="919" y="1141"/>
                </a:cubicBezTo>
                <a:cubicBezTo>
                  <a:pt x="817" y="1084"/>
                  <a:pt x="768" y="1092"/>
                  <a:pt x="639" y="1089"/>
                </a:cubicBezTo>
                <a:cubicBezTo>
                  <a:pt x="587" y="1085"/>
                  <a:pt x="558" y="1081"/>
                  <a:pt x="507" y="1085"/>
                </a:cubicBezTo>
                <a:cubicBezTo>
                  <a:pt x="403" y="1119"/>
                  <a:pt x="370" y="1098"/>
                  <a:pt x="207" y="1101"/>
                </a:cubicBezTo>
                <a:cubicBezTo>
                  <a:pt x="174" y="1111"/>
                  <a:pt x="140" y="1112"/>
                  <a:pt x="107" y="1121"/>
                </a:cubicBezTo>
                <a:cubicBezTo>
                  <a:pt x="95" y="1128"/>
                  <a:pt x="69" y="1145"/>
                  <a:pt x="59" y="1149"/>
                </a:cubicBezTo>
                <a:cubicBezTo>
                  <a:pt x="51" y="1151"/>
                  <a:pt x="35" y="1157"/>
                  <a:pt x="35" y="1157"/>
                </a:cubicBezTo>
                <a:cubicBezTo>
                  <a:pt x="0" y="1133"/>
                  <a:pt x="32" y="1038"/>
                  <a:pt x="55" y="1005"/>
                </a:cubicBezTo>
                <a:cubicBezTo>
                  <a:pt x="58" y="989"/>
                  <a:pt x="68" y="944"/>
                  <a:pt x="75" y="933"/>
                </a:cubicBezTo>
                <a:cubicBezTo>
                  <a:pt x="87" y="910"/>
                  <a:pt x="104" y="893"/>
                  <a:pt x="119" y="873"/>
                </a:cubicBezTo>
                <a:cubicBezTo>
                  <a:pt x="129" y="857"/>
                  <a:pt x="137" y="838"/>
                  <a:pt x="143" y="821"/>
                </a:cubicBezTo>
                <a:cubicBezTo>
                  <a:pt x="144" y="817"/>
                  <a:pt x="147" y="809"/>
                  <a:pt x="147" y="809"/>
                </a:cubicBezTo>
                <a:cubicBezTo>
                  <a:pt x="158" y="729"/>
                  <a:pt x="144" y="649"/>
                  <a:pt x="151" y="569"/>
                </a:cubicBezTo>
                <a:cubicBezTo>
                  <a:pt x="153" y="538"/>
                  <a:pt x="190" y="497"/>
                  <a:pt x="203" y="469"/>
                </a:cubicBezTo>
                <a:cubicBezTo>
                  <a:pt x="224" y="420"/>
                  <a:pt x="230" y="363"/>
                  <a:pt x="247" y="313"/>
                </a:cubicBezTo>
                <a:cubicBezTo>
                  <a:pt x="252" y="252"/>
                  <a:pt x="252" y="192"/>
                  <a:pt x="243" y="133"/>
                </a:cubicBezTo>
                <a:cubicBezTo>
                  <a:pt x="246" y="51"/>
                  <a:pt x="226" y="47"/>
                  <a:pt x="279" y="21"/>
                </a:cubicBezTo>
              </a:path>
            </a:pathLst>
          </a:custGeom>
          <a:solidFill>
            <a:srgbClr val="ede124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10"/>
          <p:cNvSpPr/>
          <p:nvPr/>
        </p:nvSpPr>
        <p:spPr>
          <a:xfrm>
            <a:off x="3159000" y="2495520"/>
            <a:ext cx="505080" cy="1314360"/>
          </a:xfrm>
          <a:custGeom>
            <a:avLst/>
            <a:gdLst>
              <a:gd name="textAreaLeft" fmla="*/ 0 w 505080"/>
              <a:gd name="textAreaRight" fmla="*/ 505440 w 505080"/>
              <a:gd name="textAreaTop" fmla="*/ 0 h 1314360"/>
              <a:gd name="textAreaBottom" fmla="*/ 1314720 h 1314360"/>
            </a:gdLst>
            <a:ahLst/>
            <a:rect l="textAreaLeft" t="textAreaTop" r="textAreaRight" b="textAreaBottom"/>
            <a:pathLst>
              <a:path w="318" h="724">
                <a:moveTo>
                  <a:pt x="182" y="0"/>
                </a:moveTo>
                <a:cubicBezTo>
                  <a:pt x="147" y="11"/>
                  <a:pt x="121" y="40"/>
                  <a:pt x="86" y="52"/>
                </a:cubicBezTo>
                <a:cubicBezTo>
                  <a:pt x="73" y="50"/>
                  <a:pt x="55" y="51"/>
                  <a:pt x="46" y="40"/>
                </a:cubicBezTo>
                <a:cubicBezTo>
                  <a:pt x="43" y="36"/>
                  <a:pt x="45" y="30"/>
                  <a:pt x="42" y="28"/>
                </a:cubicBezTo>
                <a:cubicBezTo>
                  <a:pt x="35" y="23"/>
                  <a:pt x="18" y="20"/>
                  <a:pt x="18" y="20"/>
                </a:cubicBezTo>
                <a:cubicBezTo>
                  <a:pt x="14" y="21"/>
                  <a:pt x="7" y="19"/>
                  <a:pt x="6" y="24"/>
                </a:cubicBezTo>
                <a:cubicBezTo>
                  <a:pt x="0" y="45"/>
                  <a:pt x="14" y="59"/>
                  <a:pt x="22" y="76"/>
                </a:cubicBezTo>
                <a:cubicBezTo>
                  <a:pt x="30" y="94"/>
                  <a:pt x="31" y="113"/>
                  <a:pt x="38" y="132"/>
                </a:cubicBezTo>
                <a:cubicBezTo>
                  <a:pt x="40" y="154"/>
                  <a:pt x="43" y="174"/>
                  <a:pt x="50" y="196"/>
                </a:cubicBezTo>
                <a:cubicBezTo>
                  <a:pt x="53" y="209"/>
                  <a:pt x="62" y="236"/>
                  <a:pt x="62" y="236"/>
                </a:cubicBezTo>
                <a:cubicBezTo>
                  <a:pt x="63" y="248"/>
                  <a:pt x="63" y="260"/>
                  <a:pt x="66" y="272"/>
                </a:cubicBezTo>
                <a:cubicBezTo>
                  <a:pt x="67" y="280"/>
                  <a:pt x="71" y="288"/>
                  <a:pt x="74" y="296"/>
                </a:cubicBezTo>
                <a:cubicBezTo>
                  <a:pt x="75" y="300"/>
                  <a:pt x="78" y="308"/>
                  <a:pt x="78" y="308"/>
                </a:cubicBezTo>
                <a:cubicBezTo>
                  <a:pt x="81" y="360"/>
                  <a:pt x="87" y="399"/>
                  <a:pt x="102" y="448"/>
                </a:cubicBezTo>
                <a:cubicBezTo>
                  <a:pt x="106" y="464"/>
                  <a:pt x="112" y="480"/>
                  <a:pt x="118" y="496"/>
                </a:cubicBezTo>
                <a:cubicBezTo>
                  <a:pt x="120" y="504"/>
                  <a:pt x="126" y="520"/>
                  <a:pt x="126" y="520"/>
                </a:cubicBezTo>
                <a:cubicBezTo>
                  <a:pt x="129" y="562"/>
                  <a:pt x="138" y="610"/>
                  <a:pt x="114" y="648"/>
                </a:cubicBezTo>
                <a:cubicBezTo>
                  <a:pt x="134" y="663"/>
                  <a:pt x="156" y="669"/>
                  <a:pt x="178" y="684"/>
                </a:cubicBezTo>
                <a:cubicBezTo>
                  <a:pt x="180" y="692"/>
                  <a:pt x="182" y="701"/>
                  <a:pt x="190" y="708"/>
                </a:cubicBezTo>
                <a:cubicBezTo>
                  <a:pt x="197" y="714"/>
                  <a:pt x="214" y="724"/>
                  <a:pt x="214" y="724"/>
                </a:cubicBezTo>
                <a:cubicBezTo>
                  <a:pt x="261" y="717"/>
                  <a:pt x="264" y="710"/>
                  <a:pt x="286" y="668"/>
                </a:cubicBezTo>
                <a:cubicBezTo>
                  <a:pt x="305" y="629"/>
                  <a:pt x="281" y="693"/>
                  <a:pt x="302" y="632"/>
                </a:cubicBezTo>
                <a:cubicBezTo>
                  <a:pt x="303" y="628"/>
                  <a:pt x="306" y="620"/>
                  <a:pt x="306" y="620"/>
                </a:cubicBezTo>
                <a:cubicBezTo>
                  <a:pt x="308" y="590"/>
                  <a:pt x="313" y="565"/>
                  <a:pt x="318" y="536"/>
                </a:cubicBezTo>
                <a:cubicBezTo>
                  <a:pt x="314" y="512"/>
                  <a:pt x="312" y="487"/>
                  <a:pt x="306" y="464"/>
                </a:cubicBezTo>
                <a:cubicBezTo>
                  <a:pt x="302" y="451"/>
                  <a:pt x="298" y="440"/>
                  <a:pt x="294" y="428"/>
                </a:cubicBezTo>
                <a:cubicBezTo>
                  <a:pt x="292" y="424"/>
                  <a:pt x="290" y="416"/>
                  <a:pt x="290" y="416"/>
                </a:cubicBezTo>
                <a:cubicBezTo>
                  <a:pt x="288" y="401"/>
                  <a:pt x="286" y="386"/>
                  <a:pt x="286" y="372"/>
                </a:cubicBezTo>
                <a:cubicBezTo>
                  <a:pt x="284" y="345"/>
                  <a:pt x="284" y="318"/>
                  <a:pt x="282" y="292"/>
                </a:cubicBezTo>
                <a:cubicBezTo>
                  <a:pt x="280" y="270"/>
                  <a:pt x="276" y="263"/>
                  <a:pt x="270" y="244"/>
                </a:cubicBezTo>
                <a:cubicBezTo>
                  <a:pt x="267" y="236"/>
                  <a:pt x="262" y="220"/>
                  <a:pt x="262" y="220"/>
                </a:cubicBezTo>
                <a:cubicBezTo>
                  <a:pt x="255" y="177"/>
                  <a:pt x="239" y="136"/>
                  <a:pt x="226" y="96"/>
                </a:cubicBezTo>
                <a:cubicBezTo>
                  <a:pt x="221" y="81"/>
                  <a:pt x="218" y="60"/>
                  <a:pt x="210" y="48"/>
                </a:cubicBezTo>
                <a:cubicBezTo>
                  <a:pt x="200" y="33"/>
                  <a:pt x="198" y="26"/>
                  <a:pt x="178" y="20"/>
                </a:cubicBezTo>
                <a:cubicBezTo>
                  <a:pt x="174" y="18"/>
                  <a:pt x="165" y="20"/>
                  <a:pt x="166" y="16"/>
                </a:cubicBezTo>
                <a:cubicBezTo>
                  <a:pt x="167" y="8"/>
                  <a:pt x="176" y="5"/>
                  <a:pt x="182" y="0"/>
                </a:cubicBezTo>
                <a:close/>
              </a:path>
            </a:pathLst>
          </a:custGeom>
          <a:solidFill>
            <a:srgbClr val="14fc22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11"/>
          <p:cNvSpPr/>
          <p:nvPr/>
        </p:nvSpPr>
        <p:spPr>
          <a:xfrm>
            <a:off x="5584680" y="1879560"/>
            <a:ext cx="792360" cy="1811520"/>
          </a:xfrm>
          <a:custGeom>
            <a:avLst/>
            <a:gdLst>
              <a:gd name="textAreaLeft" fmla="*/ 0 w 792360"/>
              <a:gd name="textAreaRight" fmla="*/ 792720 w 792360"/>
              <a:gd name="textAreaTop" fmla="*/ 0 h 1811520"/>
              <a:gd name="textAreaBottom" fmla="*/ 1811880 h 1811520"/>
            </a:gdLst>
            <a:ahLst/>
            <a:rect l="textAreaLeft" t="textAreaTop" r="textAreaRight" b="textAreaBottom"/>
            <a:pathLst>
              <a:path w="499" h="1141">
                <a:moveTo>
                  <a:pt x="454" y="1104"/>
                </a:moveTo>
                <a:cubicBezTo>
                  <a:pt x="488" y="1051"/>
                  <a:pt x="476" y="801"/>
                  <a:pt x="482" y="708"/>
                </a:cubicBezTo>
                <a:cubicBezTo>
                  <a:pt x="483" y="641"/>
                  <a:pt x="499" y="572"/>
                  <a:pt x="482" y="508"/>
                </a:cubicBezTo>
                <a:cubicBezTo>
                  <a:pt x="479" y="497"/>
                  <a:pt x="464" y="496"/>
                  <a:pt x="458" y="488"/>
                </a:cubicBezTo>
                <a:cubicBezTo>
                  <a:pt x="438" y="464"/>
                  <a:pt x="419" y="437"/>
                  <a:pt x="398" y="416"/>
                </a:cubicBezTo>
                <a:cubicBezTo>
                  <a:pt x="370" y="332"/>
                  <a:pt x="324" y="252"/>
                  <a:pt x="310" y="164"/>
                </a:cubicBezTo>
                <a:cubicBezTo>
                  <a:pt x="308" y="134"/>
                  <a:pt x="313" y="104"/>
                  <a:pt x="306" y="76"/>
                </a:cubicBezTo>
                <a:cubicBezTo>
                  <a:pt x="305" y="75"/>
                  <a:pt x="276" y="56"/>
                  <a:pt x="270" y="52"/>
                </a:cubicBezTo>
                <a:cubicBezTo>
                  <a:pt x="233" y="27"/>
                  <a:pt x="188" y="12"/>
                  <a:pt x="146" y="8"/>
                </a:cubicBezTo>
                <a:cubicBezTo>
                  <a:pt x="124" y="9"/>
                  <a:pt x="97" y="0"/>
                  <a:pt x="82" y="16"/>
                </a:cubicBezTo>
                <a:cubicBezTo>
                  <a:pt x="54" y="43"/>
                  <a:pt x="39" y="116"/>
                  <a:pt x="30" y="156"/>
                </a:cubicBezTo>
                <a:cubicBezTo>
                  <a:pt x="31" y="208"/>
                  <a:pt x="0" y="295"/>
                  <a:pt x="50" y="312"/>
                </a:cubicBezTo>
                <a:cubicBezTo>
                  <a:pt x="63" y="310"/>
                  <a:pt x="76" y="308"/>
                  <a:pt x="90" y="308"/>
                </a:cubicBezTo>
                <a:cubicBezTo>
                  <a:pt x="123" y="306"/>
                  <a:pt x="156" y="306"/>
                  <a:pt x="190" y="304"/>
                </a:cubicBezTo>
                <a:cubicBezTo>
                  <a:pt x="202" y="303"/>
                  <a:pt x="213" y="292"/>
                  <a:pt x="226" y="288"/>
                </a:cubicBezTo>
                <a:cubicBezTo>
                  <a:pt x="235" y="289"/>
                  <a:pt x="244" y="289"/>
                  <a:pt x="254" y="292"/>
                </a:cubicBezTo>
                <a:cubicBezTo>
                  <a:pt x="262" y="293"/>
                  <a:pt x="278" y="300"/>
                  <a:pt x="278" y="300"/>
                </a:cubicBezTo>
                <a:cubicBezTo>
                  <a:pt x="282" y="313"/>
                  <a:pt x="289" y="322"/>
                  <a:pt x="294" y="336"/>
                </a:cubicBezTo>
                <a:cubicBezTo>
                  <a:pt x="290" y="376"/>
                  <a:pt x="290" y="425"/>
                  <a:pt x="246" y="440"/>
                </a:cubicBezTo>
                <a:cubicBezTo>
                  <a:pt x="214" y="434"/>
                  <a:pt x="188" y="411"/>
                  <a:pt x="162" y="408"/>
                </a:cubicBezTo>
                <a:cubicBezTo>
                  <a:pt x="131" y="404"/>
                  <a:pt x="100" y="403"/>
                  <a:pt x="70" y="400"/>
                </a:cubicBezTo>
                <a:cubicBezTo>
                  <a:pt x="62" y="401"/>
                  <a:pt x="49" y="396"/>
                  <a:pt x="46" y="404"/>
                </a:cubicBezTo>
                <a:cubicBezTo>
                  <a:pt x="40" y="415"/>
                  <a:pt x="61" y="485"/>
                  <a:pt x="66" y="504"/>
                </a:cubicBezTo>
                <a:cubicBezTo>
                  <a:pt x="69" y="518"/>
                  <a:pt x="78" y="548"/>
                  <a:pt x="78" y="548"/>
                </a:cubicBezTo>
                <a:cubicBezTo>
                  <a:pt x="79" y="560"/>
                  <a:pt x="78" y="572"/>
                  <a:pt x="82" y="584"/>
                </a:cubicBezTo>
                <a:cubicBezTo>
                  <a:pt x="85" y="593"/>
                  <a:pt x="94" y="598"/>
                  <a:pt x="98" y="608"/>
                </a:cubicBezTo>
                <a:cubicBezTo>
                  <a:pt x="100" y="616"/>
                  <a:pt x="103" y="624"/>
                  <a:pt x="106" y="632"/>
                </a:cubicBezTo>
                <a:cubicBezTo>
                  <a:pt x="107" y="636"/>
                  <a:pt x="110" y="644"/>
                  <a:pt x="110" y="644"/>
                </a:cubicBezTo>
                <a:cubicBezTo>
                  <a:pt x="111" y="700"/>
                  <a:pt x="111" y="756"/>
                  <a:pt x="114" y="812"/>
                </a:cubicBezTo>
                <a:cubicBezTo>
                  <a:pt x="115" y="830"/>
                  <a:pt x="122" y="868"/>
                  <a:pt x="122" y="868"/>
                </a:cubicBezTo>
                <a:cubicBezTo>
                  <a:pt x="123" y="901"/>
                  <a:pt x="123" y="934"/>
                  <a:pt x="126" y="968"/>
                </a:cubicBezTo>
                <a:cubicBezTo>
                  <a:pt x="127" y="993"/>
                  <a:pt x="149" y="1017"/>
                  <a:pt x="154" y="1044"/>
                </a:cubicBezTo>
                <a:cubicBezTo>
                  <a:pt x="156" y="1061"/>
                  <a:pt x="158" y="1091"/>
                  <a:pt x="174" y="1104"/>
                </a:cubicBezTo>
                <a:cubicBezTo>
                  <a:pt x="184" y="1112"/>
                  <a:pt x="200" y="1110"/>
                  <a:pt x="214" y="1112"/>
                </a:cubicBezTo>
                <a:cubicBezTo>
                  <a:pt x="303" y="1141"/>
                  <a:pt x="229" y="1120"/>
                  <a:pt x="446" y="1116"/>
                </a:cubicBezTo>
                <a:cubicBezTo>
                  <a:pt x="475" y="1106"/>
                  <a:pt x="478" y="1110"/>
                  <a:pt x="454" y="1104"/>
                </a:cubicBezTo>
                <a:close/>
              </a:path>
            </a:pathLst>
          </a:custGeom>
          <a:solidFill>
            <a:srgbClr val="ede124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12"/>
          <p:cNvSpPr/>
          <p:nvPr/>
        </p:nvSpPr>
        <p:spPr>
          <a:xfrm>
            <a:off x="6294600" y="2041560"/>
            <a:ext cx="1184040" cy="1879560"/>
          </a:xfrm>
          <a:custGeom>
            <a:avLst/>
            <a:gdLst>
              <a:gd name="textAreaLeft" fmla="*/ 0 w 1184040"/>
              <a:gd name="textAreaRight" fmla="*/ 1184040 w 118404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746" h="1184">
                <a:moveTo>
                  <a:pt x="667" y="18"/>
                </a:moveTo>
                <a:cubicBezTo>
                  <a:pt x="635" y="21"/>
                  <a:pt x="609" y="28"/>
                  <a:pt x="579" y="34"/>
                </a:cubicBezTo>
                <a:cubicBezTo>
                  <a:pt x="548" y="31"/>
                  <a:pt x="520" y="29"/>
                  <a:pt x="491" y="22"/>
                </a:cubicBezTo>
                <a:cubicBezTo>
                  <a:pt x="471" y="9"/>
                  <a:pt x="486" y="17"/>
                  <a:pt x="463" y="10"/>
                </a:cubicBezTo>
                <a:cubicBezTo>
                  <a:pt x="454" y="7"/>
                  <a:pt x="439" y="2"/>
                  <a:pt x="439" y="2"/>
                </a:cubicBezTo>
                <a:cubicBezTo>
                  <a:pt x="411" y="3"/>
                  <a:pt x="382" y="0"/>
                  <a:pt x="355" y="6"/>
                </a:cubicBezTo>
                <a:cubicBezTo>
                  <a:pt x="350" y="6"/>
                  <a:pt x="351" y="13"/>
                  <a:pt x="351" y="18"/>
                </a:cubicBezTo>
                <a:cubicBezTo>
                  <a:pt x="346" y="77"/>
                  <a:pt x="361" y="102"/>
                  <a:pt x="335" y="142"/>
                </a:cubicBezTo>
                <a:cubicBezTo>
                  <a:pt x="330" y="169"/>
                  <a:pt x="322" y="190"/>
                  <a:pt x="311" y="214"/>
                </a:cubicBezTo>
                <a:cubicBezTo>
                  <a:pt x="304" y="226"/>
                  <a:pt x="291" y="250"/>
                  <a:pt x="291" y="250"/>
                </a:cubicBezTo>
                <a:cubicBezTo>
                  <a:pt x="285" y="272"/>
                  <a:pt x="267" y="283"/>
                  <a:pt x="247" y="294"/>
                </a:cubicBezTo>
                <a:cubicBezTo>
                  <a:pt x="204" y="357"/>
                  <a:pt x="118" y="374"/>
                  <a:pt x="47" y="382"/>
                </a:cubicBezTo>
                <a:cubicBezTo>
                  <a:pt x="52" y="384"/>
                  <a:pt x="57" y="387"/>
                  <a:pt x="63" y="390"/>
                </a:cubicBezTo>
                <a:cubicBezTo>
                  <a:pt x="66" y="391"/>
                  <a:pt x="79" y="394"/>
                  <a:pt x="75" y="394"/>
                </a:cubicBezTo>
                <a:cubicBezTo>
                  <a:pt x="69" y="394"/>
                  <a:pt x="52" y="387"/>
                  <a:pt x="47" y="386"/>
                </a:cubicBezTo>
                <a:cubicBezTo>
                  <a:pt x="21" y="463"/>
                  <a:pt x="53" y="551"/>
                  <a:pt x="27" y="630"/>
                </a:cubicBezTo>
                <a:cubicBezTo>
                  <a:pt x="23" y="709"/>
                  <a:pt x="23" y="790"/>
                  <a:pt x="19" y="870"/>
                </a:cubicBezTo>
                <a:cubicBezTo>
                  <a:pt x="17" y="903"/>
                  <a:pt x="11" y="970"/>
                  <a:pt x="11" y="970"/>
                </a:cubicBezTo>
                <a:cubicBezTo>
                  <a:pt x="12" y="986"/>
                  <a:pt x="0" y="1011"/>
                  <a:pt x="15" y="1018"/>
                </a:cubicBezTo>
                <a:cubicBezTo>
                  <a:pt x="47" y="1033"/>
                  <a:pt x="87" y="1019"/>
                  <a:pt x="123" y="1022"/>
                </a:cubicBezTo>
                <a:cubicBezTo>
                  <a:pt x="175" y="1025"/>
                  <a:pt x="223" y="1061"/>
                  <a:pt x="275" y="1066"/>
                </a:cubicBezTo>
                <a:cubicBezTo>
                  <a:pt x="332" y="1071"/>
                  <a:pt x="304" y="1068"/>
                  <a:pt x="359" y="1074"/>
                </a:cubicBezTo>
                <a:cubicBezTo>
                  <a:pt x="378" y="1078"/>
                  <a:pt x="385" y="1086"/>
                  <a:pt x="403" y="1094"/>
                </a:cubicBezTo>
                <a:cubicBezTo>
                  <a:pt x="417" y="1099"/>
                  <a:pt x="433" y="1099"/>
                  <a:pt x="447" y="1106"/>
                </a:cubicBezTo>
                <a:cubicBezTo>
                  <a:pt x="463" y="1114"/>
                  <a:pt x="477" y="1124"/>
                  <a:pt x="495" y="1130"/>
                </a:cubicBezTo>
                <a:cubicBezTo>
                  <a:pt x="516" y="1151"/>
                  <a:pt x="550" y="1168"/>
                  <a:pt x="579" y="1178"/>
                </a:cubicBezTo>
                <a:cubicBezTo>
                  <a:pt x="599" y="1176"/>
                  <a:pt x="624" y="1184"/>
                  <a:pt x="639" y="1170"/>
                </a:cubicBezTo>
                <a:cubicBezTo>
                  <a:pt x="646" y="1162"/>
                  <a:pt x="644" y="1148"/>
                  <a:pt x="647" y="1138"/>
                </a:cubicBezTo>
                <a:cubicBezTo>
                  <a:pt x="651" y="1118"/>
                  <a:pt x="661" y="1104"/>
                  <a:pt x="667" y="1086"/>
                </a:cubicBezTo>
                <a:cubicBezTo>
                  <a:pt x="670" y="1072"/>
                  <a:pt x="679" y="1046"/>
                  <a:pt x="679" y="1046"/>
                </a:cubicBezTo>
                <a:cubicBezTo>
                  <a:pt x="689" y="885"/>
                  <a:pt x="676" y="723"/>
                  <a:pt x="683" y="562"/>
                </a:cubicBezTo>
                <a:cubicBezTo>
                  <a:pt x="684" y="526"/>
                  <a:pt x="712" y="501"/>
                  <a:pt x="723" y="470"/>
                </a:cubicBezTo>
                <a:cubicBezTo>
                  <a:pt x="732" y="402"/>
                  <a:pt x="732" y="333"/>
                  <a:pt x="735" y="266"/>
                </a:cubicBezTo>
                <a:cubicBezTo>
                  <a:pt x="733" y="226"/>
                  <a:pt x="746" y="109"/>
                  <a:pt x="699" y="78"/>
                </a:cubicBezTo>
                <a:cubicBezTo>
                  <a:pt x="680" y="49"/>
                  <a:pt x="691" y="59"/>
                  <a:pt x="671" y="46"/>
                </a:cubicBezTo>
                <a:cubicBezTo>
                  <a:pt x="659" y="29"/>
                  <a:pt x="661" y="38"/>
                  <a:pt x="667" y="18"/>
                </a:cubicBezTo>
                <a:close/>
              </a:path>
            </a:pathLst>
          </a:custGeom>
          <a:solidFill>
            <a:srgbClr val="14fc22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3"/>
          <p:cNvSpPr/>
          <p:nvPr/>
        </p:nvSpPr>
        <p:spPr>
          <a:xfrm>
            <a:off x="5753160" y="1638360"/>
            <a:ext cx="1609560" cy="438120"/>
          </a:xfrm>
          <a:custGeom>
            <a:avLst/>
            <a:gdLst>
              <a:gd name="textAreaLeft" fmla="*/ 0 w 1609560"/>
              <a:gd name="textAreaRight" fmla="*/ 1609920 w 16095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1014" h="276">
                <a:moveTo>
                  <a:pt x="1004" y="264"/>
                </a:moveTo>
                <a:cubicBezTo>
                  <a:pt x="996" y="235"/>
                  <a:pt x="992" y="208"/>
                  <a:pt x="968" y="192"/>
                </a:cubicBezTo>
                <a:cubicBezTo>
                  <a:pt x="951" y="166"/>
                  <a:pt x="901" y="109"/>
                  <a:pt x="872" y="100"/>
                </a:cubicBezTo>
                <a:cubicBezTo>
                  <a:pt x="852" y="93"/>
                  <a:pt x="848" y="93"/>
                  <a:pt x="832" y="84"/>
                </a:cubicBezTo>
                <a:cubicBezTo>
                  <a:pt x="709" y="13"/>
                  <a:pt x="576" y="5"/>
                  <a:pt x="436" y="0"/>
                </a:cubicBezTo>
                <a:cubicBezTo>
                  <a:pt x="398" y="1"/>
                  <a:pt x="361" y="1"/>
                  <a:pt x="324" y="4"/>
                </a:cubicBezTo>
                <a:cubicBezTo>
                  <a:pt x="294" y="5"/>
                  <a:pt x="272" y="24"/>
                  <a:pt x="248" y="36"/>
                </a:cubicBezTo>
                <a:cubicBezTo>
                  <a:pt x="228" y="44"/>
                  <a:pt x="205" y="50"/>
                  <a:pt x="184" y="56"/>
                </a:cubicBezTo>
                <a:cubicBezTo>
                  <a:pt x="174" y="62"/>
                  <a:pt x="125" y="90"/>
                  <a:pt x="120" y="92"/>
                </a:cubicBezTo>
                <a:cubicBezTo>
                  <a:pt x="104" y="97"/>
                  <a:pt x="74" y="102"/>
                  <a:pt x="60" y="112"/>
                </a:cubicBezTo>
                <a:cubicBezTo>
                  <a:pt x="52" y="117"/>
                  <a:pt x="45" y="124"/>
                  <a:pt x="36" y="128"/>
                </a:cubicBezTo>
                <a:cubicBezTo>
                  <a:pt x="32" y="129"/>
                  <a:pt x="27" y="129"/>
                  <a:pt x="24" y="132"/>
                </a:cubicBezTo>
                <a:cubicBezTo>
                  <a:pt x="15" y="136"/>
                  <a:pt x="0" y="148"/>
                  <a:pt x="0" y="148"/>
                </a:cubicBezTo>
                <a:cubicBezTo>
                  <a:pt x="37" y="160"/>
                  <a:pt x="92" y="156"/>
                  <a:pt x="128" y="180"/>
                </a:cubicBezTo>
                <a:cubicBezTo>
                  <a:pt x="143" y="190"/>
                  <a:pt x="169" y="213"/>
                  <a:pt x="188" y="220"/>
                </a:cubicBezTo>
                <a:cubicBezTo>
                  <a:pt x="196" y="222"/>
                  <a:pt x="212" y="228"/>
                  <a:pt x="212" y="228"/>
                </a:cubicBezTo>
                <a:cubicBezTo>
                  <a:pt x="223" y="194"/>
                  <a:pt x="238" y="143"/>
                  <a:pt x="268" y="124"/>
                </a:cubicBezTo>
                <a:cubicBezTo>
                  <a:pt x="289" y="91"/>
                  <a:pt x="336" y="71"/>
                  <a:pt x="372" y="56"/>
                </a:cubicBezTo>
                <a:cubicBezTo>
                  <a:pt x="383" y="50"/>
                  <a:pt x="396" y="48"/>
                  <a:pt x="408" y="44"/>
                </a:cubicBezTo>
                <a:cubicBezTo>
                  <a:pt x="412" y="42"/>
                  <a:pt x="420" y="40"/>
                  <a:pt x="420" y="40"/>
                </a:cubicBezTo>
                <a:cubicBezTo>
                  <a:pt x="454" y="41"/>
                  <a:pt x="489" y="40"/>
                  <a:pt x="524" y="44"/>
                </a:cubicBezTo>
                <a:cubicBezTo>
                  <a:pt x="536" y="45"/>
                  <a:pt x="560" y="56"/>
                  <a:pt x="560" y="56"/>
                </a:cubicBezTo>
                <a:cubicBezTo>
                  <a:pt x="593" y="80"/>
                  <a:pt x="648" y="89"/>
                  <a:pt x="664" y="136"/>
                </a:cubicBezTo>
                <a:cubicBezTo>
                  <a:pt x="672" y="160"/>
                  <a:pt x="681" y="186"/>
                  <a:pt x="688" y="212"/>
                </a:cubicBezTo>
                <a:cubicBezTo>
                  <a:pt x="693" y="232"/>
                  <a:pt x="691" y="249"/>
                  <a:pt x="712" y="256"/>
                </a:cubicBezTo>
                <a:cubicBezTo>
                  <a:pt x="735" y="253"/>
                  <a:pt x="767" y="244"/>
                  <a:pt x="792" y="252"/>
                </a:cubicBezTo>
                <a:cubicBezTo>
                  <a:pt x="800" y="254"/>
                  <a:pt x="808" y="255"/>
                  <a:pt x="816" y="260"/>
                </a:cubicBezTo>
                <a:cubicBezTo>
                  <a:pt x="820" y="262"/>
                  <a:pt x="823" y="266"/>
                  <a:pt x="828" y="268"/>
                </a:cubicBezTo>
                <a:cubicBezTo>
                  <a:pt x="835" y="271"/>
                  <a:pt x="852" y="276"/>
                  <a:pt x="852" y="276"/>
                </a:cubicBezTo>
                <a:cubicBezTo>
                  <a:pt x="903" y="273"/>
                  <a:pt x="949" y="268"/>
                  <a:pt x="1000" y="264"/>
                </a:cubicBezTo>
                <a:cubicBezTo>
                  <a:pt x="1014" y="242"/>
                  <a:pt x="998" y="224"/>
                  <a:pt x="980" y="212"/>
                </a:cubicBezTo>
                <a:cubicBezTo>
                  <a:pt x="969" y="196"/>
                  <a:pt x="975" y="203"/>
                  <a:pt x="964" y="192"/>
                </a:cubicBezTo>
              </a:path>
            </a:pathLst>
          </a:custGeom>
          <a:solidFill>
            <a:srgbClr val="fe34f4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4"/>
          <p:cNvSpPr/>
          <p:nvPr/>
        </p:nvSpPr>
        <p:spPr>
          <a:xfrm>
            <a:off x="6299280" y="3656160"/>
            <a:ext cx="1038240" cy="61092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610920"/>
              <a:gd name="textAreaBottom" fmla="*/ 611280 h 610920"/>
            </a:gdLst>
            <a:ahLst/>
            <a:rect l="textAreaLeft" t="textAreaTop" r="textAreaRight" b="textAreaBottom"/>
            <a:pathLst>
              <a:path w="654" h="385">
                <a:moveTo>
                  <a:pt x="652" y="245"/>
                </a:moveTo>
                <a:cubicBezTo>
                  <a:pt x="638" y="227"/>
                  <a:pt x="582" y="163"/>
                  <a:pt x="564" y="157"/>
                </a:cubicBezTo>
                <a:cubicBezTo>
                  <a:pt x="547" y="151"/>
                  <a:pt x="531" y="145"/>
                  <a:pt x="516" y="137"/>
                </a:cubicBezTo>
                <a:cubicBezTo>
                  <a:pt x="492" y="124"/>
                  <a:pt x="476" y="110"/>
                  <a:pt x="452" y="101"/>
                </a:cubicBezTo>
                <a:cubicBezTo>
                  <a:pt x="424" y="90"/>
                  <a:pt x="388" y="89"/>
                  <a:pt x="364" y="73"/>
                </a:cubicBezTo>
                <a:cubicBezTo>
                  <a:pt x="305" y="33"/>
                  <a:pt x="191" y="21"/>
                  <a:pt x="124" y="17"/>
                </a:cubicBezTo>
                <a:cubicBezTo>
                  <a:pt x="73" y="0"/>
                  <a:pt x="108" y="8"/>
                  <a:pt x="16" y="13"/>
                </a:cubicBezTo>
                <a:cubicBezTo>
                  <a:pt x="0" y="60"/>
                  <a:pt x="27" y="104"/>
                  <a:pt x="48" y="145"/>
                </a:cubicBezTo>
                <a:cubicBezTo>
                  <a:pt x="59" y="168"/>
                  <a:pt x="68" y="197"/>
                  <a:pt x="88" y="217"/>
                </a:cubicBezTo>
                <a:cubicBezTo>
                  <a:pt x="116" y="245"/>
                  <a:pt x="172" y="275"/>
                  <a:pt x="208" y="293"/>
                </a:cubicBezTo>
                <a:cubicBezTo>
                  <a:pt x="227" y="302"/>
                  <a:pt x="248" y="322"/>
                  <a:pt x="268" y="329"/>
                </a:cubicBezTo>
                <a:cubicBezTo>
                  <a:pt x="326" y="348"/>
                  <a:pt x="382" y="372"/>
                  <a:pt x="444" y="385"/>
                </a:cubicBezTo>
                <a:cubicBezTo>
                  <a:pt x="474" y="383"/>
                  <a:pt x="505" y="384"/>
                  <a:pt x="536" y="381"/>
                </a:cubicBezTo>
                <a:cubicBezTo>
                  <a:pt x="544" y="380"/>
                  <a:pt x="560" y="373"/>
                  <a:pt x="560" y="373"/>
                </a:cubicBezTo>
                <a:cubicBezTo>
                  <a:pt x="565" y="365"/>
                  <a:pt x="570" y="357"/>
                  <a:pt x="576" y="349"/>
                </a:cubicBezTo>
                <a:cubicBezTo>
                  <a:pt x="578" y="345"/>
                  <a:pt x="584" y="337"/>
                  <a:pt x="584" y="337"/>
                </a:cubicBezTo>
                <a:cubicBezTo>
                  <a:pt x="585" y="326"/>
                  <a:pt x="585" y="315"/>
                  <a:pt x="588" y="305"/>
                </a:cubicBezTo>
                <a:cubicBezTo>
                  <a:pt x="593" y="286"/>
                  <a:pt x="629" y="278"/>
                  <a:pt x="644" y="269"/>
                </a:cubicBezTo>
                <a:cubicBezTo>
                  <a:pt x="654" y="253"/>
                  <a:pt x="652" y="261"/>
                  <a:pt x="652" y="245"/>
                </a:cubicBezTo>
                <a:close/>
              </a:path>
            </a:pathLst>
          </a:custGeom>
          <a:solidFill>
            <a:srgbClr val="3333cc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5"/>
          <p:cNvSpPr/>
          <p:nvPr/>
        </p:nvSpPr>
        <p:spPr>
          <a:xfrm>
            <a:off x="1763640" y="3603600"/>
            <a:ext cx="169920" cy="460440"/>
          </a:xfrm>
          <a:custGeom>
            <a:avLst/>
            <a:gdLst>
              <a:gd name="textAreaLeft" fmla="*/ 0 w 169920"/>
              <a:gd name="textAreaRight" fmla="*/ 170280 w 16992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07" h="290">
                <a:moveTo>
                  <a:pt x="101" y="162"/>
                </a:moveTo>
                <a:cubicBezTo>
                  <a:pt x="79" y="130"/>
                  <a:pt x="107" y="168"/>
                  <a:pt x="81" y="142"/>
                </a:cubicBezTo>
                <a:cubicBezTo>
                  <a:pt x="66" y="127"/>
                  <a:pt x="48" y="79"/>
                  <a:pt x="41" y="58"/>
                </a:cubicBezTo>
                <a:cubicBezTo>
                  <a:pt x="39" y="42"/>
                  <a:pt x="36" y="0"/>
                  <a:pt x="17" y="30"/>
                </a:cubicBezTo>
                <a:cubicBezTo>
                  <a:pt x="14" y="84"/>
                  <a:pt x="0" y="175"/>
                  <a:pt x="21" y="230"/>
                </a:cubicBezTo>
                <a:cubicBezTo>
                  <a:pt x="28" y="251"/>
                  <a:pt x="45" y="268"/>
                  <a:pt x="53" y="290"/>
                </a:cubicBezTo>
                <a:cubicBezTo>
                  <a:pt x="79" y="283"/>
                  <a:pt x="75" y="268"/>
                  <a:pt x="81" y="246"/>
                </a:cubicBezTo>
                <a:cubicBezTo>
                  <a:pt x="82" y="216"/>
                  <a:pt x="70" y="177"/>
                  <a:pt x="101" y="162"/>
                </a:cubicBez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6"/>
          <p:cNvSpPr/>
          <p:nvPr/>
        </p:nvSpPr>
        <p:spPr>
          <a:xfrm>
            <a:off x="3251160" y="3676680"/>
            <a:ext cx="120600" cy="450720"/>
          </a:xfrm>
          <a:custGeom>
            <a:avLst/>
            <a:gdLst>
              <a:gd name="textAreaLeft" fmla="*/ 0 w 120600"/>
              <a:gd name="textAreaRight" fmla="*/ 120960 w 1206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76" h="284">
                <a:moveTo>
                  <a:pt x="48" y="284"/>
                </a:moveTo>
                <a:cubicBezTo>
                  <a:pt x="55" y="262"/>
                  <a:pt x="61" y="241"/>
                  <a:pt x="68" y="220"/>
                </a:cubicBezTo>
                <a:cubicBezTo>
                  <a:pt x="70" y="211"/>
                  <a:pt x="76" y="196"/>
                  <a:pt x="76" y="196"/>
                </a:cubicBezTo>
                <a:cubicBezTo>
                  <a:pt x="73" y="150"/>
                  <a:pt x="67" y="119"/>
                  <a:pt x="64" y="76"/>
                </a:cubicBezTo>
                <a:cubicBezTo>
                  <a:pt x="60" y="32"/>
                  <a:pt x="70" y="20"/>
                  <a:pt x="40" y="0"/>
                </a:cubicBezTo>
                <a:cubicBezTo>
                  <a:pt x="1" y="9"/>
                  <a:pt x="16" y="34"/>
                  <a:pt x="12" y="76"/>
                </a:cubicBezTo>
                <a:cubicBezTo>
                  <a:pt x="10" y="91"/>
                  <a:pt x="3" y="108"/>
                  <a:pt x="0" y="124"/>
                </a:cubicBezTo>
                <a:cubicBezTo>
                  <a:pt x="4" y="158"/>
                  <a:pt x="13" y="186"/>
                  <a:pt x="28" y="216"/>
                </a:cubicBezTo>
                <a:cubicBezTo>
                  <a:pt x="33" y="227"/>
                  <a:pt x="44" y="252"/>
                  <a:pt x="44" y="252"/>
                </a:cubicBezTo>
                <a:cubicBezTo>
                  <a:pt x="40" y="256"/>
                  <a:pt x="32" y="264"/>
                  <a:pt x="32" y="264"/>
                </a:cubicBezTo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7"/>
          <p:cNvSpPr/>
          <p:nvPr/>
        </p:nvSpPr>
        <p:spPr>
          <a:xfrm>
            <a:off x="2023920" y="4483080"/>
            <a:ext cx="846360" cy="533520"/>
          </a:xfrm>
          <a:custGeom>
            <a:avLst/>
            <a:gdLst>
              <a:gd name="textAreaLeft" fmla="*/ 0 w 846360"/>
              <a:gd name="textAreaRight" fmla="*/ 846720 w 846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533" h="336">
                <a:moveTo>
                  <a:pt x="21" y="0"/>
                </a:moveTo>
                <a:cubicBezTo>
                  <a:pt x="15" y="17"/>
                  <a:pt x="6" y="30"/>
                  <a:pt x="1" y="48"/>
                </a:cubicBezTo>
                <a:cubicBezTo>
                  <a:pt x="2" y="66"/>
                  <a:pt x="0" y="85"/>
                  <a:pt x="5" y="104"/>
                </a:cubicBezTo>
                <a:cubicBezTo>
                  <a:pt x="6" y="108"/>
                  <a:pt x="16" y="107"/>
                  <a:pt x="17" y="112"/>
                </a:cubicBezTo>
                <a:cubicBezTo>
                  <a:pt x="21" y="134"/>
                  <a:pt x="17" y="157"/>
                  <a:pt x="21" y="180"/>
                </a:cubicBezTo>
                <a:cubicBezTo>
                  <a:pt x="24" y="202"/>
                  <a:pt x="72" y="206"/>
                  <a:pt x="85" y="208"/>
                </a:cubicBezTo>
                <a:cubicBezTo>
                  <a:pt x="94" y="222"/>
                  <a:pt x="94" y="230"/>
                  <a:pt x="109" y="240"/>
                </a:cubicBezTo>
                <a:cubicBezTo>
                  <a:pt x="123" y="262"/>
                  <a:pt x="131" y="262"/>
                  <a:pt x="153" y="248"/>
                </a:cubicBezTo>
                <a:cubicBezTo>
                  <a:pt x="186" y="254"/>
                  <a:pt x="194" y="271"/>
                  <a:pt x="221" y="280"/>
                </a:cubicBezTo>
                <a:cubicBezTo>
                  <a:pt x="257" y="292"/>
                  <a:pt x="236" y="287"/>
                  <a:pt x="285" y="292"/>
                </a:cubicBezTo>
                <a:cubicBezTo>
                  <a:pt x="303" y="290"/>
                  <a:pt x="322" y="288"/>
                  <a:pt x="341" y="288"/>
                </a:cubicBezTo>
                <a:cubicBezTo>
                  <a:pt x="369" y="288"/>
                  <a:pt x="389" y="314"/>
                  <a:pt x="417" y="320"/>
                </a:cubicBezTo>
                <a:cubicBezTo>
                  <a:pt x="445" y="325"/>
                  <a:pt x="430" y="321"/>
                  <a:pt x="461" y="332"/>
                </a:cubicBezTo>
                <a:cubicBezTo>
                  <a:pt x="465" y="333"/>
                  <a:pt x="473" y="336"/>
                  <a:pt x="473" y="336"/>
                </a:cubicBezTo>
                <a:cubicBezTo>
                  <a:pt x="532" y="330"/>
                  <a:pt x="507" y="333"/>
                  <a:pt x="533" y="296"/>
                </a:cubicBezTo>
                <a:cubicBezTo>
                  <a:pt x="530" y="283"/>
                  <a:pt x="533" y="268"/>
                  <a:pt x="525" y="260"/>
                </a:cubicBezTo>
                <a:cubicBezTo>
                  <a:pt x="523" y="258"/>
                  <a:pt x="497" y="252"/>
                  <a:pt x="497" y="252"/>
                </a:cubicBezTo>
                <a:cubicBezTo>
                  <a:pt x="445" y="236"/>
                  <a:pt x="395" y="236"/>
                  <a:pt x="341" y="232"/>
                </a:cubicBezTo>
                <a:cubicBezTo>
                  <a:pt x="338" y="224"/>
                  <a:pt x="340" y="211"/>
                  <a:pt x="333" y="208"/>
                </a:cubicBezTo>
                <a:cubicBezTo>
                  <a:pt x="282" y="182"/>
                  <a:pt x="224" y="179"/>
                  <a:pt x="169" y="176"/>
                </a:cubicBezTo>
                <a:cubicBezTo>
                  <a:pt x="165" y="174"/>
                  <a:pt x="160" y="173"/>
                  <a:pt x="157" y="172"/>
                </a:cubicBezTo>
                <a:cubicBezTo>
                  <a:pt x="152" y="169"/>
                  <a:pt x="149" y="165"/>
                  <a:pt x="145" y="164"/>
                </a:cubicBezTo>
                <a:cubicBezTo>
                  <a:pt x="137" y="160"/>
                  <a:pt x="121" y="156"/>
                  <a:pt x="121" y="156"/>
                </a:cubicBezTo>
                <a:cubicBezTo>
                  <a:pt x="105" y="133"/>
                  <a:pt x="83" y="118"/>
                  <a:pt x="69" y="96"/>
                </a:cubicBezTo>
                <a:cubicBezTo>
                  <a:pt x="71" y="88"/>
                  <a:pt x="72" y="79"/>
                  <a:pt x="77" y="72"/>
                </a:cubicBezTo>
                <a:cubicBezTo>
                  <a:pt x="79" y="68"/>
                  <a:pt x="83" y="64"/>
                  <a:pt x="85" y="60"/>
                </a:cubicBezTo>
                <a:cubicBezTo>
                  <a:pt x="88" y="52"/>
                  <a:pt x="93" y="36"/>
                  <a:pt x="93" y="36"/>
                </a:cubicBezTo>
                <a:cubicBezTo>
                  <a:pt x="91" y="32"/>
                  <a:pt x="92" y="26"/>
                  <a:pt x="89" y="24"/>
                </a:cubicBezTo>
                <a:cubicBezTo>
                  <a:pt x="77" y="15"/>
                  <a:pt x="35" y="2"/>
                  <a:pt x="21" y="0"/>
                </a:cubicBezTo>
                <a:close/>
              </a:path>
            </a:pathLst>
          </a:custGeom>
          <a:solidFill>
            <a:srgbClr val="b2b2b2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8"/>
          <p:cNvSpPr/>
          <p:nvPr/>
        </p:nvSpPr>
        <p:spPr>
          <a:xfrm>
            <a:off x="2286000" y="4495680"/>
            <a:ext cx="849240" cy="336600"/>
          </a:xfrm>
          <a:custGeom>
            <a:avLst/>
            <a:gdLst>
              <a:gd name="textAreaLeft" fmla="*/ 0 w 849240"/>
              <a:gd name="textAreaRight" fmla="*/ 849600 w 84924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535" h="212">
                <a:moveTo>
                  <a:pt x="532" y="0"/>
                </a:moveTo>
                <a:cubicBezTo>
                  <a:pt x="529" y="43"/>
                  <a:pt x="535" y="58"/>
                  <a:pt x="516" y="88"/>
                </a:cubicBezTo>
                <a:cubicBezTo>
                  <a:pt x="514" y="105"/>
                  <a:pt x="522" y="157"/>
                  <a:pt x="496" y="172"/>
                </a:cubicBezTo>
                <a:cubicBezTo>
                  <a:pt x="480" y="180"/>
                  <a:pt x="468" y="179"/>
                  <a:pt x="452" y="184"/>
                </a:cubicBezTo>
                <a:cubicBezTo>
                  <a:pt x="443" y="186"/>
                  <a:pt x="428" y="192"/>
                  <a:pt x="428" y="192"/>
                </a:cubicBezTo>
                <a:cubicBezTo>
                  <a:pt x="380" y="189"/>
                  <a:pt x="340" y="182"/>
                  <a:pt x="296" y="188"/>
                </a:cubicBezTo>
                <a:cubicBezTo>
                  <a:pt x="272" y="203"/>
                  <a:pt x="267" y="206"/>
                  <a:pt x="240" y="212"/>
                </a:cubicBezTo>
                <a:cubicBezTo>
                  <a:pt x="204" y="209"/>
                  <a:pt x="193" y="212"/>
                  <a:pt x="168" y="196"/>
                </a:cubicBezTo>
                <a:cubicBezTo>
                  <a:pt x="149" y="167"/>
                  <a:pt x="48" y="152"/>
                  <a:pt x="16" y="148"/>
                </a:cubicBezTo>
                <a:cubicBezTo>
                  <a:pt x="0" y="124"/>
                  <a:pt x="18" y="123"/>
                  <a:pt x="36" y="112"/>
                </a:cubicBezTo>
                <a:cubicBezTo>
                  <a:pt x="62" y="113"/>
                  <a:pt x="89" y="113"/>
                  <a:pt x="116" y="116"/>
                </a:cubicBezTo>
                <a:cubicBezTo>
                  <a:pt x="139" y="118"/>
                  <a:pt x="117" y="120"/>
                  <a:pt x="136" y="132"/>
                </a:cubicBezTo>
                <a:cubicBezTo>
                  <a:pt x="143" y="136"/>
                  <a:pt x="160" y="140"/>
                  <a:pt x="160" y="140"/>
                </a:cubicBezTo>
                <a:cubicBezTo>
                  <a:pt x="173" y="138"/>
                  <a:pt x="186" y="138"/>
                  <a:pt x="200" y="136"/>
                </a:cubicBezTo>
                <a:cubicBezTo>
                  <a:pt x="208" y="134"/>
                  <a:pt x="224" y="128"/>
                  <a:pt x="224" y="128"/>
                </a:cubicBezTo>
                <a:cubicBezTo>
                  <a:pt x="257" y="130"/>
                  <a:pt x="280" y="137"/>
                  <a:pt x="312" y="132"/>
                </a:cubicBezTo>
                <a:cubicBezTo>
                  <a:pt x="353" y="104"/>
                  <a:pt x="350" y="111"/>
                  <a:pt x="416" y="108"/>
                </a:cubicBezTo>
                <a:cubicBezTo>
                  <a:pt x="435" y="79"/>
                  <a:pt x="423" y="88"/>
                  <a:pt x="448" y="76"/>
                </a:cubicBezTo>
                <a:cubicBezTo>
                  <a:pt x="458" y="60"/>
                  <a:pt x="464" y="55"/>
                  <a:pt x="468" y="40"/>
                </a:cubicBezTo>
                <a:cubicBezTo>
                  <a:pt x="469" y="32"/>
                  <a:pt x="467" y="23"/>
                  <a:pt x="472" y="16"/>
                </a:cubicBezTo>
                <a:cubicBezTo>
                  <a:pt x="474" y="12"/>
                  <a:pt x="479" y="13"/>
                  <a:pt x="484" y="12"/>
                </a:cubicBezTo>
                <a:cubicBezTo>
                  <a:pt x="499" y="7"/>
                  <a:pt x="516" y="4"/>
                  <a:pt x="532" y="0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9"/>
          <p:cNvSpPr/>
          <p:nvPr/>
        </p:nvSpPr>
        <p:spPr>
          <a:xfrm>
            <a:off x="2120760" y="4468680"/>
            <a:ext cx="895320" cy="211320"/>
          </a:xfrm>
          <a:custGeom>
            <a:avLst/>
            <a:gdLst>
              <a:gd name="textAreaLeft" fmla="*/ 0 w 895320"/>
              <a:gd name="textAreaRight" fmla="*/ 895680 w 8953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564" h="133">
                <a:moveTo>
                  <a:pt x="288" y="1"/>
                </a:moveTo>
                <a:cubicBezTo>
                  <a:pt x="270" y="6"/>
                  <a:pt x="267" y="21"/>
                  <a:pt x="248" y="29"/>
                </a:cubicBezTo>
                <a:cubicBezTo>
                  <a:pt x="216" y="40"/>
                  <a:pt x="181" y="35"/>
                  <a:pt x="148" y="37"/>
                </a:cubicBezTo>
                <a:cubicBezTo>
                  <a:pt x="118" y="35"/>
                  <a:pt x="89" y="36"/>
                  <a:pt x="60" y="33"/>
                </a:cubicBezTo>
                <a:cubicBezTo>
                  <a:pt x="51" y="32"/>
                  <a:pt x="36" y="25"/>
                  <a:pt x="36" y="25"/>
                </a:cubicBezTo>
                <a:cubicBezTo>
                  <a:pt x="15" y="31"/>
                  <a:pt x="14" y="60"/>
                  <a:pt x="8" y="81"/>
                </a:cubicBezTo>
                <a:cubicBezTo>
                  <a:pt x="5" y="89"/>
                  <a:pt x="0" y="105"/>
                  <a:pt x="0" y="105"/>
                </a:cubicBezTo>
                <a:cubicBezTo>
                  <a:pt x="6" y="125"/>
                  <a:pt x="0" y="115"/>
                  <a:pt x="28" y="125"/>
                </a:cubicBezTo>
                <a:cubicBezTo>
                  <a:pt x="36" y="127"/>
                  <a:pt x="52" y="133"/>
                  <a:pt x="52" y="133"/>
                </a:cubicBezTo>
                <a:cubicBezTo>
                  <a:pt x="60" y="130"/>
                  <a:pt x="73" y="133"/>
                  <a:pt x="76" y="125"/>
                </a:cubicBezTo>
                <a:cubicBezTo>
                  <a:pt x="78" y="117"/>
                  <a:pt x="84" y="101"/>
                  <a:pt x="84" y="101"/>
                </a:cubicBezTo>
                <a:cubicBezTo>
                  <a:pt x="89" y="55"/>
                  <a:pt x="86" y="59"/>
                  <a:pt x="128" y="65"/>
                </a:cubicBezTo>
                <a:cubicBezTo>
                  <a:pt x="178" y="58"/>
                  <a:pt x="229" y="63"/>
                  <a:pt x="280" y="53"/>
                </a:cubicBezTo>
                <a:cubicBezTo>
                  <a:pt x="304" y="36"/>
                  <a:pt x="371" y="58"/>
                  <a:pt x="400" y="61"/>
                </a:cubicBezTo>
                <a:cubicBezTo>
                  <a:pt x="406" y="62"/>
                  <a:pt x="413" y="63"/>
                  <a:pt x="420" y="65"/>
                </a:cubicBezTo>
                <a:cubicBezTo>
                  <a:pt x="428" y="67"/>
                  <a:pt x="444" y="73"/>
                  <a:pt x="444" y="73"/>
                </a:cubicBezTo>
                <a:cubicBezTo>
                  <a:pt x="454" y="71"/>
                  <a:pt x="465" y="71"/>
                  <a:pt x="476" y="69"/>
                </a:cubicBezTo>
                <a:cubicBezTo>
                  <a:pt x="484" y="67"/>
                  <a:pt x="500" y="61"/>
                  <a:pt x="500" y="61"/>
                </a:cubicBezTo>
                <a:cubicBezTo>
                  <a:pt x="523" y="68"/>
                  <a:pt x="509" y="89"/>
                  <a:pt x="532" y="97"/>
                </a:cubicBezTo>
                <a:cubicBezTo>
                  <a:pt x="551" y="90"/>
                  <a:pt x="558" y="74"/>
                  <a:pt x="564" y="57"/>
                </a:cubicBezTo>
                <a:cubicBezTo>
                  <a:pt x="549" y="0"/>
                  <a:pt x="439" y="25"/>
                  <a:pt x="412" y="25"/>
                </a:cubicBezTo>
                <a:cubicBezTo>
                  <a:pt x="382" y="15"/>
                  <a:pt x="354" y="8"/>
                  <a:pt x="324" y="1"/>
                </a:cubicBezTo>
                <a:cubicBezTo>
                  <a:pt x="277" y="5"/>
                  <a:pt x="266" y="11"/>
                  <a:pt x="288" y="1"/>
                </a:cubicBezTo>
                <a:close/>
              </a:path>
            </a:pathLst>
          </a:custGeom>
          <a:solidFill>
            <a:srgbClr val="808080">
              <a:alpha val="8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20"/>
          <p:cNvSpPr/>
          <p:nvPr/>
        </p:nvSpPr>
        <p:spPr>
          <a:xfrm>
            <a:off x="1917720" y="4737240"/>
            <a:ext cx="311040" cy="603000"/>
          </a:xfrm>
          <a:custGeom>
            <a:avLst/>
            <a:gdLst>
              <a:gd name="textAreaLeft" fmla="*/ 0 w 311040"/>
              <a:gd name="textAreaRight" fmla="*/ 311400 w 311040"/>
              <a:gd name="textAreaTop" fmla="*/ 0 h 603000"/>
              <a:gd name="textAreaBottom" fmla="*/ 603360 h 603000"/>
            </a:gdLst>
            <a:ahLst/>
            <a:rect l="textAreaLeft" t="textAreaTop" r="textAreaRight" b="textAreaBottom"/>
            <a:pathLst>
              <a:path w="196" h="380">
                <a:moveTo>
                  <a:pt x="76" y="0"/>
                </a:moveTo>
                <a:cubicBezTo>
                  <a:pt x="57" y="12"/>
                  <a:pt x="54" y="36"/>
                  <a:pt x="44" y="56"/>
                </a:cubicBezTo>
                <a:cubicBezTo>
                  <a:pt x="31" y="79"/>
                  <a:pt x="14" y="105"/>
                  <a:pt x="0" y="128"/>
                </a:cubicBezTo>
                <a:cubicBezTo>
                  <a:pt x="1" y="133"/>
                  <a:pt x="0" y="140"/>
                  <a:pt x="4" y="144"/>
                </a:cubicBezTo>
                <a:cubicBezTo>
                  <a:pt x="7" y="147"/>
                  <a:pt x="18" y="142"/>
                  <a:pt x="20" y="148"/>
                </a:cubicBezTo>
                <a:cubicBezTo>
                  <a:pt x="25" y="164"/>
                  <a:pt x="22" y="182"/>
                  <a:pt x="24" y="200"/>
                </a:cubicBezTo>
                <a:cubicBezTo>
                  <a:pt x="26" y="224"/>
                  <a:pt x="29" y="217"/>
                  <a:pt x="36" y="244"/>
                </a:cubicBezTo>
                <a:cubicBezTo>
                  <a:pt x="47" y="290"/>
                  <a:pt x="65" y="363"/>
                  <a:pt x="116" y="380"/>
                </a:cubicBezTo>
                <a:cubicBezTo>
                  <a:pt x="145" y="374"/>
                  <a:pt x="171" y="364"/>
                  <a:pt x="196" y="348"/>
                </a:cubicBezTo>
                <a:cubicBezTo>
                  <a:pt x="192" y="318"/>
                  <a:pt x="188" y="283"/>
                  <a:pt x="168" y="260"/>
                </a:cubicBezTo>
                <a:cubicBezTo>
                  <a:pt x="163" y="254"/>
                  <a:pt x="156" y="252"/>
                  <a:pt x="152" y="248"/>
                </a:cubicBezTo>
                <a:cubicBezTo>
                  <a:pt x="136" y="230"/>
                  <a:pt x="134" y="216"/>
                  <a:pt x="116" y="204"/>
                </a:cubicBezTo>
                <a:cubicBezTo>
                  <a:pt x="108" y="180"/>
                  <a:pt x="87" y="167"/>
                  <a:pt x="80" y="144"/>
                </a:cubicBezTo>
                <a:cubicBezTo>
                  <a:pt x="82" y="136"/>
                  <a:pt x="83" y="127"/>
                  <a:pt x="88" y="120"/>
                </a:cubicBezTo>
                <a:cubicBezTo>
                  <a:pt x="90" y="116"/>
                  <a:pt x="94" y="112"/>
                  <a:pt x="96" y="108"/>
                </a:cubicBezTo>
                <a:cubicBezTo>
                  <a:pt x="99" y="100"/>
                  <a:pt x="104" y="84"/>
                  <a:pt x="104" y="84"/>
                </a:cubicBezTo>
                <a:cubicBezTo>
                  <a:pt x="102" y="70"/>
                  <a:pt x="105" y="56"/>
                  <a:pt x="100" y="44"/>
                </a:cubicBezTo>
                <a:cubicBezTo>
                  <a:pt x="97" y="38"/>
                  <a:pt x="88" y="39"/>
                  <a:pt x="84" y="36"/>
                </a:cubicBezTo>
                <a:cubicBezTo>
                  <a:pt x="71" y="25"/>
                  <a:pt x="76" y="15"/>
                  <a:pt x="76" y="0"/>
                </a:cubicBezTo>
                <a:close/>
              </a:path>
            </a:pathLst>
          </a:custGeom>
          <a:solidFill>
            <a:srgbClr val="808080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21"/>
          <p:cNvSpPr/>
          <p:nvPr/>
        </p:nvSpPr>
        <p:spPr>
          <a:xfrm>
            <a:off x="2965320" y="4724280"/>
            <a:ext cx="273240" cy="619200"/>
          </a:xfrm>
          <a:custGeom>
            <a:avLst/>
            <a:gdLst>
              <a:gd name="textAreaLeft" fmla="*/ 0 w 273240"/>
              <a:gd name="textAreaRight" fmla="*/ 273600 w 27324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172" h="390">
                <a:moveTo>
                  <a:pt x="128" y="36"/>
                </a:moveTo>
                <a:cubicBezTo>
                  <a:pt x="125" y="29"/>
                  <a:pt x="122" y="16"/>
                  <a:pt x="116" y="12"/>
                </a:cubicBezTo>
                <a:cubicBezTo>
                  <a:pt x="108" y="7"/>
                  <a:pt x="100" y="6"/>
                  <a:pt x="92" y="4"/>
                </a:cubicBezTo>
                <a:cubicBezTo>
                  <a:pt x="88" y="2"/>
                  <a:pt x="80" y="0"/>
                  <a:pt x="80" y="0"/>
                </a:cubicBezTo>
                <a:cubicBezTo>
                  <a:pt x="69" y="30"/>
                  <a:pt x="73" y="15"/>
                  <a:pt x="68" y="44"/>
                </a:cubicBezTo>
                <a:cubicBezTo>
                  <a:pt x="70" y="73"/>
                  <a:pt x="74" y="151"/>
                  <a:pt x="112" y="164"/>
                </a:cubicBezTo>
                <a:cubicBezTo>
                  <a:pt x="106" y="187"/>
                  <a:pt x="93" y="198"/>
                  <a:pt x="80" y="216"/>
                </a:cubicBezTo>
                <a:cubicBezTo>
                  <a:pt x="67" y="232"/>
                  <a:pt x="64" y="249"/>
                  <a:pt x="48" y="260"/>
                </a:cubicBezTo>
                <a:cubicBezTo>
                  <a:pt x="45" y="264"/>
                  <a:pt x="43" y="268"/>
                  <a:pt x="40" y="272"/>
                </a:cubicBezTo>
                <a:cubicBezTo>
                  <a:pt x="36" y="275"/>
                  <a:pt x="31" y="276"/>
                  <a:pt x="28" y="280"/>
                </a:cubicBezTo>
                <a:cubicBezTo>
                  <a:pt x="12" y="299"/>
                  <a:pt x="3" y="332"/>
                  <a:pt x="0" y="356"/>
                </a:cubicBezTo>
                <a:cubicBezTo>
                  <a:pt x="6" y="387"/>
                  <a:pt x="15" y="379"/>
                  <a:pt x="48" y="384"/>
                </a:cubicBezTo>
                <a:cubicBezTo>
                  <a:pt x="68" y="390"/>
                  <a:pt x="86" y="387"/>
                  <a:pt x="104" y="376"/>
                </a:cubicBezTo>
                <a:cubicBezTo>
                  <a:pt x="119" y="328"/>
                  <a:pt x="144" y="286"/>
                  <a:pt x="160" y="240"/>
                </a:cubicBezTo>
                <a:cubicBezTo>
                  <a:pt x="168" y="147"/>
                  <a:pt x="158" y="179"/>
                  <a:pt x="172" y="140"/>
                </a:cubicBezTo>
                <a:cubicBezTo>
                  <a:pt x="171" y="129"/>
                  <a:pt x="172" y="96"/>
                  <a:pt x="164" y="80"/>
                </a:cubicBezTo>
                <a:cubicBezTo>
                  <a:pt x="157" y="67"/>
                  <a:pt x="132" y="52"/>
                  <a:pt x="132" y="52"/>
                </a:cubicBezTo>
                <a:cubicBezTo>
                  <a:pt x="129" y="48"/>
                  <a:pt x="106" y="14"/>
                  <a:pt x="128" y="36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22"/>
          <p:cNvSpPr/>
          <p:nvPr/>
        </p:nvSpPr>
        <p:spPr>
          <a:xfrm>
            <a:off x="1562040" y="2489040"/>
            <a:ext cx="457200" cy="1346400"/>
          </a:xfrm>
          <a:custGeom>
            <a:avLst/>
            <a:gdLst>
              <a:gd name="textAreaLeft" fmla="*/ 0 w 457200"/>
              <a:gd name="textAreaRight" fmla="*/ 457560 w 4572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w="288" h="848">
                <a:moveTo>
                  <a:pt x="132" y="0"/>
                </a:moveTo>
                <a:cubicBezTo>
                  <a:pt x="141" y="29"/>
                  <a:pt x="168" y="42"/>
                  <a:pt x="196" y="52"/>
                </a:cubicBezTo>
                <a:cubicBezTo>
                  <a:pt x="217" y="50"/>
                  <a:pt x="238" y="50"/>
                  <a:pt x="260" y="48"/>
                </a:cubicBezTo>
                <a:cubicBezTo>
                  <a:pt x="268" y="46"/>
                  <a:pt x="284" y="40"/>
                  <a:pt x="284" y="40"/>
                </a:cubicBezTo>
                <a:cubicBezTo>
                  <a:pt x="275" y="93"/>
                  <a:pt x="282" y="146"/>
                  <a:pt x="288" y="200"/>
                </a:cubicBezTo>
                <a:cubicBezTo>
                  <a:pt x="282" y="289"/>
                  <a:pt x="261" y="329"/>
                  <a:pt x="220" y="404"/>
                </a:cubicBezTo>
                <a:cubicBezTo>
                  <a:pt x="208" y="424"/>
                  <a:pt x="198" y="444"/>
                  <a:pt x="188" y="464"/>
                </a:cubicBezTo>
                <a:cubicBezTo>
                  <a:pt x="183" y="472"/>
                  <a:pt x="175" y="478"/>
                  <a:pt x="172" y="488"/>
                </a:cubicBezTo>
                <a:cubicBezTo>
                  <a:pt x="169" y="496"/>
                  <a:pt x="164" y="512"/>
                  <a:pt x="164" y="512"/>
                </a:cubicBezTo>
                <a:cubicBezTo>
                  <a:pt x="155" y="589"/>
                  <a:pt x="168" y="523"/>
                  <a:pt x="152" y="560"/>
                </a:cubicBezTo>
                <a:cubicBezTo>
                  <a:pt x="148" y="567"/>
                  <a:pt x="144" y="584"/>
                  <a:pt x="144" y="584"/>
                </a:cubicBezTo>
                <a:cubicBezTo>
                  <a:pt x="147" y="611"/>
                  <a:pt x="148" y="633"/>
                  <a:pt x="164" y="656"/>
                </a:cubicBezTo>
                <a:cubicBezTo>
                  <a:pt x="160" y="685"/>
                  <a:pt x="162" y="692"/>
                  <a:pt x="140" y="708"/>
                </a:cubicBezTo>
                <a:cubicBezTo>
                  <a:pt x="128" y="741"/>
                  <a:pt x="123" y="774"/>
                  <a:pt x="112" y="808"/>
                </a:cubicBezTo>
                <a:cubicBezTo>
                  <a:pt x="105" y="826"/>
                  <a:pt x="107" y="841"/>
                  <a:pt x="88" y="848"/>
                </a:cubicBezTo>
                <a:cubicBezTo>
                  <a:pt x="63" y="839"/>
                  <a:pt x="59" y="817"/>
                  <a:pt x="52" y="796"/>
                </a:cubicBezTo>
                <a:cubicBezTo>
                  <a:pt x="49" y="788"/>
                  <a:pt x="44" y="772"/>
                  <a:pt x="44" y="772"/>
                </a:cubicBezTo>
                <a:cubicBezTo>
                  <a:pt x="39" y="717"/>
                  <a:pt x="36" y="662"/>
                  <a:pt x="32" y="608"/>
                </a:cubicBezTo>
                <a:cubicBezTo>
                  <a:pt x="30" y="587"/>
                  <a:pt x="18" y="563"/>
                  <a:pt x="12" y="544"/>
                </a:cubicBezTo>
                <a:cubicBezTo>
                  <a:pt x="9" y="536"/>
                  <a:pt x="4" y="520"/>
                  <a:pt x="4" y="520"/>
                </a:cubicBezTo>
                <a:cubicBezTo>
                  <a:pt x="6" y="438"/>
                  <a:pt x="0" y="379"/>
                  <a:pt x="24" y="308"/>
                </a:cubicBezTo>
                <a:cubicBezTo>
                  <a:pt x="28" y="273"/>
                  <a:pt x="39" y="194"/>
                  <a:pt x="60" y="164"/>
                </a:cubicBezTo>
                <a:cubicBezTo>
                  <a:pt x="69" y="149"/>
                  <a:pt x="75" y="133"/>
                  <a:pt x="80" y="116"/>
                </a:cubicBezTo>
                <a:cubicBezTo>
                  <a:pt x="89" y="79"/>
                  <a:pt x="95" y="49"/>
                  <a:pt x="128" y="28"/>
                </a:cubicBezTo>
                <a:cubicBezTo>
                  <a:pt x="133" y="10"/>
                  <a:pt x="132" y="20"/>
                  <a:pt x="132" y="0"/>
                </a:cubicBezTo>
                <a:close/>
              </a:path>
            </a:pathLst>
          </a:custGeom>
          <a:solidFill>
            <a:srgbClr val="14fc22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23"/>
          <p:cNvSpPr/>
          <p:nvPr/>
        </p:nvSpPr>
        <p:spPr>
          <a:xfrm>
            <a:off x="6630840" y="3941640"/>
            <a:ext cx="912960" cy="1359000"/>
          </a:xfrm>
          <a:custGeom>
            <a:avLst/>
            <a:gdLst>
              <a:gd name="textAreaLeft" fmla="*/ 0 w 912960"/>
              <a:gd name="textAreaRight" fmla="*/ 913320 w 912960"/>
              <a:gd name="textAreaTop" fmla="*/ 0 h 1359000"/>
              <a:gd name="textAreaBottom" fmla="*/ 1359000 h 1359000"/>
            </a:gdLst>
            <a:ahLst/>
            <a:rect l="textAreaLeft" t="textAreaTop" r="textAreaRight" b="textAreaBottom"/>
            <a:pathLst>
              <a:path w="575" h="856">
                <a:moveTo>
                  <a:pt x="503" y="1"/>
                </a:moveTo>
                <a:cubicBezTo>
                  <a:pt x="470" y="22"/>
                  <a:pt x="480" y="47"/>
                  <a:pt x="459" y="69"/>
                </a:cubicBezTo>
                <a:cubicBezTo>
                  <a:pt x="435" y="92"/>
                  <a:pt x="413" y="103"/>
                  <a:pt x="387" y="121"/>
                </a:cubicBezTo>
                <a:cubicBezTo>
                  <a:pt x="375" y="138"/>
                  <a:pt x="368" y="199"/>
                  <a:pt x="351" y="205"/>
                </a:cubicBezTo>
                <a:cubicBezTo>
                  <a:pt x="298" y="222"/>
                  <a:pt x="258" y="267"/>
                  <a:pt x="207" y="285"/>
                </a:cubicBezTo>
                <a:cubicBezTo>
                  <a:pt x="196" y="295"/>
                  <a:pt x="171" y="313"/>
                  <a:pt x="171" y="313"/>
                </a:cubicBezTo>
                <a:cubicBezTo>
                  <a:pt x="167" y="322"/>
                  <a:pt x="158" y="357"/>
                  <a:pt x="147" y="361"/>
                </a:cubicBezTo>
                <a:cubicBezTo>
                  <a:pt x="133" y="365"/>
                  <a:pt x="111" y="381"/>
                  <a:pt x="111" y="381"/>
                </a:cubicBezTo>
                <a:cubicBezTo>
                  <a:pt x="99" y="397"/>
                  <a:pt x="87" y="410"/>
                  <a:pt x="79" y="429"/>
                </a:cubicBezTo>
                <a:cubicBezTo>
                  <a:pt x="73" y="440"/>
                  <a:pt x="74" y="454"/>
                  <a:pt x="67" y="465"/>
                </a:cubicBezTo>
                <a:cubicBezTo>
                  <a:pt x="61" y="473"/>
                  <a:pt x="56" y="481"/>
                  <a:pt x="51" y="489"/>
                </a:cubicBezTo>
                <a:cubicBezTo>
                  <a:pt x="48" y="493"/>
                  <a:pt x="43" y="501"/>
                  <a:pt x="43" y="501"/>
                </a:cubicBezTo>
                <a:cubicBezTo>
                  <a:pt x="32" y="541"/>
                  <a:pt x="38" y="522"/>
                  <a:pt x="27" y="557"/>
                </a:cubicBezTo>
                <a:cubicBezTo>
                  <a:pt x="24" y="565"/>
                  <a:pt x="19" y="581"/>
                  <a:pt x="19" y="581"/>
                </a:cubicBezTo>
                <a:cubicBezTo>
                  <a:pt x="21" y="591"/>
                  <a:pt x="26" y="602"/>
                  <a:pt x="27" y="613"/>
                </a:cubicBezTo>
                <a:cubicBezTo>
                  <a:pt x="32" y="712"/>
                  <a:pt x="0" y="764"/>
                  <a:pt x="95" y="773"/>
                </a:cubicBezTo>
                <a:cubicBezTo>
                  <a:pt x="112" y="774"/>
                  <a:pt x="129" y="775"/>
                  <a:pt x="147" y="777"/>
                </a:cubicBezTo>
                <a:cubicBezTo>
                  <a:pt x="160" y="781"/>
                  <a:pt x="169" y="793"/>
                  <a:pt x="183" y="797"/>
                </a:cubicBezTo>
                <a:cubicBezTo>
                  <a:pt x="217" y="805"/>
                  <a:pt x="251" y="811"/>
                  <a:pt x="287" y="817"/>
                </a:cubicBezTo>
                <a:cubicBezTo>
                  <a:pt x="332" y="832"/>
                  <a:pt x="409" y="856"/>
                  <a:pt x="427" y="805"/>
                </a:cubicBezTo>
                <a:cubicBezTo>
                  <a:pt x="425" y="794"/>
                  <a:pt x="424" y="783"/>
                  <a:pt x="423" y="773"/>
                </a:cubicBezTo>
                <a:cubicBezTo>
                  <a:pt x="414" y="711"/>
                  <a:pt x="407" y="715"/>
                  <a:pt x="347" y="709"/>
                </a:cubicBezTo>
                <a:cubicBezTo>
                  <a:pt x="292" y="710"/>
                  <a:pt x="237" y="713"/>
                  <a:pt x="183" y="713"/>
                </a:cubicBezTo>
                <a:cubicBezTo>
                  <a:pt x="177" y="713"/>
                  <a:pt x="170" y="713"/>
                  <a:pt x="167" y="709"/>
                </a:cubicBezTo>
                <a:cubicBezTo>
                  <a:pt x="149" y="688"/>
                  <a:pt x="163" y="681"/>
                  <a:pt x="139" y="665"/>
                </a:cubicBezTo>
                <a:cubicBezTo>
                  <a:pt x="133" y="648"/>
                  <a:pt x="124" y="631"/>
                  <a:pt x="115" y="617"/>
                </a:cubicBezTo>
                <a:cubicBezTo>
                  <a:pt x="128" y="575"/>
                  <a:pt x="106" y="631"/>
                  <a:pt x="131" y="601"/>
                </a:cubicBezTo>
                <a:cubicBezTo>
                  <a:pt x="134" y="596"/>
                  <a:pt x="132" y="589"/>
                  <a:pt x="135" y="585"/>
                </a:cubicBezTo>
                <a:cubicBezTo>
                  <a:pt x="144" y="565"/>
                  <a:pt x="159" y="536"/>
                  <a:pt x="175" y="521"/>
                </a:cubicBezTo>
                <a:cubicBezTo>
                  <a:pt x="183" y="494"/>
                  <a:pt x="198" y="475"/>
                  <a:pt x="207" y="449"/>
                </a:cubicBezTo>
                <a:cubicBezTo>
                  <a:pt x="209" y="441"/>
                  <a:pt x="216" y="405"/>
                  <a:pt x="219" y="401"/>
                </a:cubicBezTo>
                <a:cubicBezTo>
                  <a:pt x="219" y="400"/>
                  <a:pt x="248" y="381"/>
                  <a:pt x="255" y="377"/>
                </a:cubicBezTo>
                <a:cubicBezTo>
                  <a:pt x="259" y="374"/>
                  <a:pt x="267" y="369"/>
                  <a:pt x="267" y="369"/>
                </a:cubicBezTo>
                <a:cubicBezTo>
                  <a:pt x="282" y="345"/>
                  <a:pt x="300" y="332"/>
                  <a:pt x="323" y="317"/>
                </a:cubicBezTo>
                <a:cubicBezTo>
                  <a:pt x="331" y="311"/>
                  <a:pt x="347" y="301"/>
                  <a:pt x="347" y="301"/>
                </a:cubicBezTo>
                <a:cubicBezTo>
                  <a:pt x="354" y="278"/>
                  <a:pt x="378" y="246"/>
                  <a:pt x="399" y="233"/>
                </a:cubicBezTo>
                <a:cubicBezTo>
                  <a:pt x="419" y="202"/>
                  <a:pt x="457" y="184"/>
                  <a:pt x="491" y="173"/>
                </a:cubicBezTo>
                <a:cubicBezTo>
                  <a:pt x="500" y="163"/>
                  <a:pt x="523" y="144"/>
                  <a:pt x="535" y="141"/>
                </a:cubicBezTo>
                <a:cubicBezTo>
                  <a:pt x="553" y="122"/>
                  <a:pt x="560" y="109"/>
                  <a:pt x="567" y="85"/>
                </a:cubicBezTo>
                <a:cubicBezTo>
                  <a:pt x="562" y="31"/>
                  <a:pt x="575" y="49"/>
                  <a:pt x="539" y="25"/>
                </a:cubicBezTo>
                <a:cubicBezTo>
                  <a:pt x="531" y="19"/>
                  <a:pt x="523" y="14"/>
                  <a:pt x="515" y="9"/>
                </a:cubicBezTo>
                <a:cubicBezTo>
                  <a:pt x="511" y="6"/>
                  <a:pt x="503" y="1"/>
                  <a:pt x="503" y="1"/>
                </a:cubicBezTo>
                <a:cubicBezTo>
                  <a:pt x="481" y="5"/>
                  <a:pt x="487" y="0"/>
                  <a:pt x="479" y="9"/>
                </a:cubicBezTo>
              </a:path>
            </a:pathLst>
          </a:cu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25"/>
          <p:cNvSpPr/>
          <p:nvPr/>
        </p:nvSpPr>
        <p:spPr>
          <a:xfrm>
            <a:off x="6902280" y="4179960"/>
            <a:ext cx="562320" cy="885600"/>
          </a:xfrm>
          <a:custGeom>
            <a:avLst/>
            <a:gdLst>
              <a:gd name="textAreaLeft" fmla="*/ 0 w 562320"/>
              <a:gd name="textAreaRight" fmla="*/ 562680 w 56232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354" h="558">
                <a:moveTo>
                  <a:pt x="292" y="95"/>
                </a:moveTo>
                <a:cubicBezTo>
                  <a:pt x="270" y="116"/>
                  <a:pt x="263" y="153"/>
                  <a:pt x="256" y="183"/>
                </a:cubicBezTo>
                <a:cubicBezTo>
                  <a:pt x="253" y="219"/>
                  <a:pt x="261" y="268"/>
                  <a:pt x="228" y="291"/>
                </a:cubicBezTo>
                <a:cubicBezTo>
                  <a:pt x="222" y="299"/>
                  <a:pt x="214" y="305"/>
                  <a:pt x="212" y="315"/>
                </a:cubicBezTo>
                <a:cubicBezTo>
                  <a:pt x="210" y="320"/>
                  <a:pt x="210" y="326"/>
                  <a:pt x="208" y="331"/>
                </a:cubicBezTo>
                <a:cubicBezTo>
                  <a:pt x="201" y="343"/>
                  <a:pt x="188" y="353"/>
                  <a:pt x="184" y="367"/>
                </a:cubicBezTo>
                <a:cubicBezTo>
                  <a:pt x="177" y="387"/>
                  <a:pt x="172" y="422"/>
                  <a:pt x="156" y="439"/>
                </a:cubicBezTo>
                <a:cubicBezTo>
                  <a:pt x="144" y="450"/>
                  <a:pt x="122" y="455"/>
                  <a:pt x="108" y="463"/>
                </a:cubicBezTo>
                <a:cubicBezTo>
                  <a:pt x="80" y="476"/>
                  <a:pt x="49" y="489"/>
                  <a:pt x="24" y="507"/>
                </a:cubicBezTo>
                <a:cubicBezTo>
                  <a:pt x="19" y="526"/>
                  <a:pt x="0" y="545"/>
                  <a:pt x="28" y="555"/>
                </a:cubicBezTo>
                <a:cubicBezTo>
                  <a:pt x="57" y="553"/>
                  <a:pt x="87" y="558"/>
                  <a:pt x="116" y="551"/>
                </a:cubicBezTo>
                <a:cubicBezTo>
                  <a:pt x="125" y="548"/>
                  <a:pt x="124" y="532"/>
                  <a:pt x="132" y="527"/>
                </a:cubicBezTo>
                <a:cubicBezTo>
                  <a:pt x="158" y="509"/>
                  <a:pt x="186" y="488"/>
                  <a:pt x="216" y="479"/>
                </a:cubicBezTo>
                <a:cubicBezTo>
                  <a:pt x="228" y="459"/>
                  <a:pt x="252" y="446"/>
                  <a:pt x="260" y="423"/>
                </a:cubicBezTo>
                <a:cubicBezTo>
                  <a:pt x="272" y="385"/>
                  <a:pt x="282" y="348"/>
                  <a:pt x="292" y="311"/>
                </a:cubicBezTo>
                <a:cubicBezTo>
                  <a:pt x="293" y="291"/>
                  <a:pt x="288" y="269"/>
                  <a:pt x="296" y="251"/>
                </a:cubicBezTo>
                <a:cubicBezTo>
                  <a:pt x="299" y="243"/>
                  <a:pt x="320" y="243"/>
                  <a:pt x="320" y="243"/>
                </a:cubicBezTo>
                <a:cubicBezTo>
                  <a:pt x="349" y="198"/>
                  <a:pt x="328" y="117"/>
                  <a:pt x="348" y="59"/>
                </a:cubicBezTo>
                <a:cubicBezTo>
                  <a:pt x="343" y="0"/>
                  <a:pt x="354" y="0"/>
                  <a:pt x="312" y="15"/>
                </a:cubicBezTo>
                <a:cubicBezTo>
                  <a:pt x="309" y="19"/>
                  <a:pt x="307" y="23"/>
                  <a:pt x="304" y="27"/>
                </a:cubicBezTo>
                <a:cubicBezTo>
                  <a:pt x="300" y="29"/>
                  <a:pt x="294" y="28"/>
                  <a:pt x="292" y="31"/>
                </a:cubicBezTo>
                <a:cubicBezTo>
                  <a:pt x="278" y="44"/>
                  <a:pt x="277" y="51"/>
                  <a:pt x="272" y="67"/>
                </a:cubicBezTo>
                <a:cubicBezTo>
                  <a:pt x="275" y="85"/>
                  <a:pt x="271" y="101"/>
                  <a:pt x="292" y="95"/>
                </a:cubicBezTo>
                <a:close/>
              </a:path>
            </a:pathLst>
          </a:custGeom>
          <a:solidFill>
            <a:srgbClr val="80808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26"/>
          <p:cNvSpPr/>
          <p:nvPr/>
        </p:nvSpPr>
        <p:spPr>
          <a:xfrm>
            <a:off x="2514600" y="2438280"/>
            <a:ext cx="152280" cy="152640"/>
          </a:xfrm>
          <a:prstGeom prst="ellipse">
            <a:avLst/>
          </a:prstGeom>
          <a:solidFill>
            <a:srgbClr val="1ce3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7"/>
          <p:cNvSpPr/>
          <p:nvPr/>
        </p:nvSpPr>
        <p:spPr>
          <a:xfrm>
            <a:off x="2209680" y="1905120"/>
            <a:ext cx="152640" cy="152280"/>
          </a:xfrm>
          <a:prstGeom prst="ellipse">
            <a:avLst/>
          </a:prstGeom>
          <a:solidFill>
            <a:srgbClr val="1ce3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28"/>
          <p:cNvSpPr/>
          <p:nvPr/>
        </p:nvSpPr>
        <p:spPr>
          <a:xfrm>
            <a:off x="2895480" y="1905120"/>
            <a:ext cx="152640" cy="152280"/>
          </a:xfrm>
          <a:prstGeom prst="ellipse">
            <a:avLst/>
          </a:prstGeom>
          <a:solidFill>
            <a:srgbClr val="1ce3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9"/>
          <p:cNvSpPr/>
          <p:nvPr/>
        </p:nvSpPr>
        <p:spPr>
          <a:xfrm>
            <a:off x="3735000" y="1111320"/>
            <a:ext cx="160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ound E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0"/>
          <p:cNvSpPr/>
          <p:nvPr/>
        </p:nvSpPr>
        <p:spPr>
          <a:xfrm flipH="1">
            <a:off x="3276360" y="1295280"/>
            <a:ext cx="5331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1"/>
          <p:cNvSpPr/>
          <p:nvPr/>
        </p:nvSpPr>
        <p:spPr>
          <a:xfrm>
            <a:off x="5181480" y="1295280"/>
            <a:ext cx="12193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2"/>
          <p:cNvSpPr/>
          <p:nvPr/>
        </p:nvSpPr>
        <p:spPr>
          <a:xfrm>
            <a:off x="5943600" y="2057400"/>
            <a:ext cx="152280" cy="152280"/>
          </a:xfrm>
          <a:prstGeom prst="ellipse">
            <a:avLst/>
          </a:prstGeom>
          <a:solidFill>
            <a:srgbClr val="1ce3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4"/>
          <p:cNvSpPr/>
          <p:nvPr/>
        </p:nvSpPr>
        <p:spPr>
          <a:xfrm>
            <a:off x="4195440" y="190512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cel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5"/>
          <p:cNvSpPr/>
          <p:nvPr/>
        </p:nvSpPr>
        <p:spPr>
          <a:xfrm>
            <a:off x="4192920" y="25146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4193640" y="29718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7"/>
          <p:cNvSpPr/>
          <p:nvPr/>
        </p:nvSpPr>
        <p:spPr>
          <a:xfrm>
            <a:off x="4192920" y="3505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yp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4116240" y="43434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9"/>
          <p:cNvSpPr/>
          <p:nvPr/>
        </p:nvSpPr>
        <p:spPr>
          <a:xfrm>
            <a:off x="4035960" y="4800600"/>
            <a:ext cx="11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axi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0"/>
          <p:cNvSpPr/>
          <p:nvPr/>
        </p:nvSpPr>
        <p:spPr>
          <a:xfrm>
            <a:off x="3730680" y="51814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ium 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axill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4041000" y="38862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d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42"/>
          <p:cNvSpPr/>
          <p:nvPr/>
        </p:nvSpPr>
        <p:spPr>
          <a:xfrm flipH="1" flipV="1">
            <a:off x="2971440" y="1981080"/>
            <a:ext cx="11430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43"/>
          <p:cNvSpPr/>
          <p:nvPr/>
        </p:nvSpPr>
        <p:spPr>
          <a:xfrm flipH="1">
            <a:off x="2666880" y="2133720"/>
            <a:ext cx="152424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4"/>
          <p:cNvSpPr/>
          <p:nvPr/>
        </p:nvSpPr>
        <p:spPr>
          <a:xfrm flipH="1" flipV="1">
            <a:off x="2286000" y="1981080"/>
            <a:ext cx="19051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45"/>
          <p:cNvSpPr/>
          <p:nvPr/>
        </p:nvSpPr>
        <p:spPr>
          <a:xfrm>
            <a:off x="4800600" y="2057400"/>
            <a:ext cx="11430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46"/>
          <p:cNvSpPr/>
          <p:nvPr/>
        </p:nvSpPr>
        <p:spPr>
          <a:xfrm flipH="1">
            <a:off x="2819160" y="2666880"/>
            <a:ext cx="14475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47"/>
          <p:cNvSpPr/>
          <p:nvPr/>
        </p:nvSpPr>
        <p:spPr>
          <a:xfrm>
            <a:off x="4800600" y="2666880"/>
            <a:ext cx="129528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48"/>
          <p:cNvSpPr/>
          <p:nvPr/>
        </p:nvSpPr>
        <p:spPr>
          <a:xfrm flipH="1">
            <a:off x="3505320" y="3124080"/>
            <a:ext cx="76176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49"/>
          <p:cNvSpPr/>
          <p:nvPr/>
        </p:nvSpPr>
        <p:spPr>
          <a:xfrm flipH="1" flipV="1">
            <a:off x="1752120" y="2895120"/>
            <a:ext cx="2514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50"/>
          <p:cNvSpPr/>
          <p:nvPr/>
        </p:nvSpPr>
        <p:spPr>
          <a:xfrm>
            <a:off x="4800600" y="3124080"/>
            <a:ext cx="20574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51"/>
          <p:cNvSpPr/>
          <p:nvPr/>
        </p:nvSpPr>
        <p:spPr>
          <a:xfrm flipH="1">
            <a:off x="2971440" y="3657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2"/>
          <p:cNvSpPr/>
          <p:nvPr/>
        </p:nvSpPr>
        <p:spPr>
          <a:xfrm>
            <a:off x="5105520" y="3657600"/>
            <a:ext cx="9144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3"/>
          <p:cNvSpPr/>
          <p:nvPr/>
        </p:nvSpPr>
        <p:spPr>
          <a:xfrm flipH="1" flipV="1">
            <a:off x="2971440" y="4191120"/>
            <a:ext cx="11430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4"/>
          <p:cNvSpPr/>
          <p:nvPr/>
        </p:nvSpPr>
        <p:spPr>
          <a:xfrm flipV="1">
            <a:off x="5029200" y="4266720"/>
            <a:ext cx="14479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55"/>
          <p:cNvSpPr/>
          <p:nvPr/>
        </p:nvSpPr>
        <p:spPr>
          <a:xfrm flipH="1" flipV="1">
            <a:off x="3276720" y="3809520"/>
            <a:ext cx="838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56"/>
          <p:cNvSpPr/>
          <p:nvPr/>
        </p:nvSpPr>
        <p:spPr>
          <a:xfrm flipH="1" flipV="1">
            <a:off x="1828800" y="3885840"/>
            <a:ext cx="22860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7"/>
          <p:cNvSpPr/>
          <p:nvPr/>
        </p:nvSpPr>
        <p:spPr>
          <a:xfrm flipV="1">
            <a:off x="5029200" y="3962160"/>
            <a:ext cx="175248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8"/>
          <p:cNvSpPr/>
          <p:nvPr/>
        </p:nvSpPr>
        <p:spPr>
          <a:xfrm flipH="1" flipV="1">
            <a:off x="2971440" y="472392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59"/>
          <p:cNvSpPr/>
          <p:nvPr/>
        </p:nvSpPr>
        <p:spPr>
          <a:xfrm flipH="1">
            <a:off x="2743200" y="49528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0"/>
          <p:cNvSpPr/>
          <p:nvPr/>
        </p:nvSpPr>
        <p:spPr>
          <a:xfrm>
            <a:off x="5105520" y="495288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61"/>
          <p:cNvSpPr/>
          <p:nvPr/>
        </p:nvSpPr>
        <p:spPr>
          <a:xfrm flipH="1" flipV="1">
            <a:off x="3124080" y="5257800"/>
            <a:ext cx="60984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2"/>
          <p:cNvSpPr/>
          <p:nvPr/>
        </p:nvSpPr>
        <p:spPr>
          <a:xfrm flipV="1">
            <a:off x="5715000" y="4952520"/>
            <a:ext cx="13716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3"/>
          <p:cNvSpPr/>
          <p:nvPr/>
        </p:nvSpPr>
        <p:spPr>
          <a:xfrm>
            <a:off x="6440040" y="83664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ccip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64"/>
          <p:cNvSpPr/>
          <p:nvPr/>
        </p:nvSpPr>
        <p:spPr>
          <a:xfrm flipH="1">
            <a:off x="7010280" y="1143000"/>
            <a:ext cx="763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600200" y="1522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رأس الحشرات مع توضيح لأجزاء الف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6"/>
          <p:cNvSpPr/>
          <p:nvPr/>
        </p:nvSpPr>
        <p:spPr>
          <a:xfrm>
            <a:off x="-428040" y="9360"/>
            <a:ext cx="36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جزاء الفم الأسا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67" descr="_x000f_mps-diagram.jpg                                                00027735_x000c_Macintosh HD                   BA4B07B5:"/>
          <p:cNvPicPr/>
          <p:nvPr/>
        </p:nvPicPr>
        <p:blipFill>
          <a:blip r:embed="rId1"/>
          <a:stretch/>
        </p:blipFill>
        <p:spPr>
          <a:xfrm>
            <a:off x="1295280" y="609480"/>
            <a:ext cx="6934320" cy="55054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7"/>
          <p:cNvSpPr/>
          <p:nvPr/>
        </p:nvSpPr>
        <p:spPr>
          <a:xfrm>
            <a:off x="3120840" y="5335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1720"/>
                </a:solidFill>
                <a:latin typeface="Times New Roman"/>
              </a:rPr>
              <a:t>Lab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8"/>
          <p:cNvSpPr/>
          <p:nvPr/>
        </p:nvSpPr>
        <p:spPr>
          <a:xfrm>
            <a:off x="4114800" y="1143000"/>
            <a:ext cx="1295280" cy="762120"/>
          </a:xfrm>
          <a:prstGeom prst="rect">
            <a:avLst/>
          </a:prstGeom>
          <a:solidFill>
            <a:srgbClr val="f3172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89"/>
          <p:cNvSpPr/>
          <p:nvPr/>
        </p:nvSpPr>
        <p:spPr>
          <a:xfrm>
            <a:off x="1121760" y="16002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d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0"/>
          <p:cNvSpPr/>
          <p:nvPr/>
        </p:nvSpPr>
        <p:spPr>
          <a:xfrm>
            <a:off x="2590920" y="1371600"/>
            <a:ext cx="1066680" cy="1371600"/>
          </a:xfrm>
          <a:prstGeom prst="rect">
            <a:avLst/>
          </a:prstGeom>
          <a:solidFill>
            <a:srgbClr val="3333cc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1"/>
          <p:cNvSpPr/>
          <p:nvPr/>
        </p:nvSpPr>
        <p:spPr>
          <a:xfrm>
            <a:off x="5943600" y="1371600"/>
            <a:ext cx="1066680" cy="1371600"/>
          </a:xfrm>
          <a:prstGeom prst="rect">
            <a:avLst/>
          </a:prstGeom>
          <a:solidFill>
            <a:srgbClr val="3333cc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2"/>
          <p:cNvSpPr/>
          <p:nvPr/>
        </p:nvSpPr>
        <p:spPr>
          <a:xfrm>
            <a:off x="6019920" y="2819520"/>
            <a:ext cx="1676160" cy="2666880"/>
          </a:xfrm>
          <a:prstGeom prst="rect">
            <a:avLst/>
          </a:prstGeom>
          <a:solidFill>
            <a:srgbClr val="b2b2b2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3"/>
          <p:cNvSpPr/>
          <p:nvPr/>
        </p:nvSpPr>
        <p:spPr>
          <a:xfrm>
            <a:off x="1600200" y="2819520"/>
            <a:ext cx="1676520" cy="2666880"/>
          </a:xfrm>
          <a:prstGeom prst="rect">
            <a:avLst/>
          </a:prstGeom>
          <a:solidFill>
            <a:srgbClr val="b2b2b2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94"/>
          <p:cNvSpPr/>
          <p:nvPr/>
        </p:nvSpPr>
        <p:spPr>
          <a:xfrm>
            <a:off x="111600" y="32004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b800"/>
                </a:solidFill>
                <a:latin typeface="Times New Roman"/>
              </a:rPr>
              <a:t>1st Max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5"/>
          <p:cNvSpPr/>
          <p:nvPr/>
        </p:nvSpPr>
        <p:spPr>
          <a:xfrm>
            <a:off x="3431160" y="601992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Labium (2nd maxil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3581280" y="3352680"/>
            <a:ext cx="2286000" cy="2438640"/>
          </a:xfrm>
          <a:prstGeom prst="rect">
            <a:avLst/>
          </a:prstGeom>
          <a:solidFill>
            <a:srgbClr val="80808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7"/>
          <p:cNvSpPr/>
          <p:nvPr/>
        </p:nvSpPr>
        <p:spPr>
          <a:xfrm>
            <a:off x="4267080" y="2057400"/>
            <a:ext cx="914400" cy="1219320"/>
          </a:xfrm>
          <a:prstGeom prst="rect">
            <a:avLst/>
          </a:prstGeom>
          <a:solidFill>
            <a:srgbClr val="d6d012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8"/>
          <p:cNvSpPr/>
          <p:nvPr/>
        </p:nvSpPr>
        <p:spPr>
          <a:xfrm>
            <a:off x="7025040" y="17524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a10"/>
                </a:solidFill>
                <a:latin typeface="Times New Roman"/>
              </a:rPr>
              <a:t>Hypopharyn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mps"/>
          <p:cNvPicPr/>
          <p:nvPr/>
        </p:nvPicPr>
        <p:blipFill>
          <a:blip r:embed="rId1"/>
          <a:srcRect l="55835" t="0" r="0" b="0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mps"/>
          <p:cNvPicPr/>
          <p:nvPr/>
        </p:nvPicPr>
        <p:blipFill>
          <a:blip r:embed="rId2"/>
          <a:srcRect l="0" t="44446" r="44169" b="0"/>
          <a:stretch/>
        </p:blipFill>
        <p:spPr>
          <a:xfrm>
            <a:off x="0" y="3048120"/>
            <a:ext cx="5105520" cy="3809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348480" y="14479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جزاء الفم القارض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SHEWING2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721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0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6424920" y="22860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حورات أجزاء الف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_x0014_piercing sucking.JPG                                           004681E3_x000c_Macintosh HD                   BA4B07B5:"/>
          <p:cNvPicPr/>
          <p:nvPr/>
        </p:nvPicPr>
        <p:blipFill>
          <a:blip r:embed="rId1"/>
          <a:stretch/>
        </p:blipFill>
        <p:spPr>
          <a:xfrm>
            <a:off x="152280" y="1295280"/>
            <a:ext cx="2946600" cy="4800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_x000c_bug_head.jpg                                                   00027735_x000c_Macintosh HD                   BA4B07B5:"/>
          <p:cNvPicPr/>
          <p:nvPr/>
        </p:nvPicPr>
        <p:blipFill>
          <a:blip r:embed="rId2"/>
          <a:stretch/>
        </p:blipFill>
        <p:spPr>
          <a:xfrm>
            <a:off x="4114800" y="1295280"/>
            <a:ext cx="3429000" cy="2235240"/>
          </a:xfrm>
          <a:prstGeom prst="rect">
            <a:avLst/>
          </a:prstGeom>
          <a:ln w="0">
            <a:noFill/>
          </a:ln>
        </p:spPr>
      </p:pic>
      <p:sp>
        <p:nvSpPr>
          <p:cNvPr id="199" name="Freeform 8"/>
          <p:cNvSpPr/>
          <p:nvPr/>
        </p:nvSpPr>
        <p:spPr>
          <a:xfrm>
            <a:off x="4619520" y="4635360"/>
            <a:ext cx="542880" cy="1352520"/>
          </a:xfrm>
          <a:custGeom>
            <a:avLst/>
            <a:gdLst>
              <a:gd name="textAreaLeft" fmla="*/ 0 w 542880"/>
              <a:gd name="textAreaRight" fmla="*/ 543240 w 542880"/>
              <a:gd name="textAreaTop" fmla="*/ 0 h 1352520"/>
              <a:gd name="textAreaBottom" fmla="*/ 1352880 h 1352520"/>
            </a:gdLst>
            <a:ahLst/>
            <a:rect l="textAreaLeft" t="textAreaTop" r="textAreaRight" b="textAreaBottom"/>
            <a:pathLst>
              <a:path w="342" h="852">
                <a:moveTo>
                  <a:pt x="342" y="0"/>
                </a:moveTo>
                <a:cubicBezTo>
                  <a:pt x="331" y="32"/>
                  <a:pt x="316" y="63"/>
                  <a:pt x="306" y="96"/>
                </a:cubicBezTo>
                <a:cubicBezTo>
                  <a:pt x="303" y="104"/>
                  <a:pt x="295" y="127"/>
                  <a:pt x="290" y="132"/>
                </a:cubicBezTo>
                <a:cubicBezTo>
                  <a:pt x="273" y="143"/>
                  <a:pt x="224" y="143"/>
                  <a:pt x="214" y="144"/>
                </a:cubicBezTo>
                <a:cubicBezTo>
                  <a:pt x="199" y="188"/>
                  <a:pt x="173" y="227"/>
                  <a:pt x="150" y="268"/>
                </a:cubicBezTo>
                <a:cubicBezTo>
                  <a:pt x="144" y="277"/>
                  <a:pt x="138" y="296"/>
                  <a:pt x="130" y="304"/>
                </a:cubicBezTo>
                <a:cubicBezTo>
                  <a:pt x="122" y="310"/>
                  <a:pt x="106" y="320"/>
                  <a:pt x="106" y="320"/>
                </a:cubicBezTo>
                <a:cubicBezTo>
                  <a:pt x="109" y="344"/>
                  <a:pt x="106" y="354"/>
                  <a:pt x="126" y="368"/>
                </a:cubicBezTo>
                <a:cubicBezTo>
                  <a:pt x="127" y="372"/>
                  <a:pt x="127" y="377"/>
                  <a:pt x="130" y="380"/>
                </a:cubicBezTo>
                <a:cubicBezTo>
                  <a:pt x="132" y="382"/>
                  <a:pt x="139" y="380"/>
                  <a:pt x="142" y="384"/>
                </a:cubicBezTo>
                <a:cubicBezTo>
                  <a:pt x="154" y="401"/>
                  <a:pt x="157" y="429"/>
                  <a:pt x="170" y="448"/>
                </a:cubicBezTo>
                <a:cubicBezTo>
                  <a:pt x="184" y="552"/>
                  <a:pt x="179" y="590"/>
                  <a:pt x="186" y="732"/>
                </a:cubicBezTo>
                <a:cubicBezTo>
                  <a:pt x="186" y="749"/>
                  <a:pt x="194" y="779"/>
                  <a:pt x="198" y="800"/>
                </a:cubicBezTo>
                <a:cubicBezTo>
                  <a:pt x="199" y="807"/>
                  <a:pt x="200" y="816"/>
                  <a:pt x="202" y="824"/>
                </a:cubicBezTo>
                <a:cubicBezTo>
                  <a:pt x="204" y="832"/>
                  <a:pt x="217" y="852"/>
                  <a:pt x="210" y="848"/>
                </a:cubicBezTo>
                <a:cubicBezTo>
                  <a:pt x="197" y="839"/>
                  <a:pt x="186" y="836"/>
                  <a:pt x="174" y="828"/>
                </a:cubicBezTo>
                <a:cubicBezTo>
                  <a:pt x="169" y="809"/>
                  <a:pt x="162" y="790"/>
                  <a:pt x="146" y="780"/>
                </a:cubicBezTo>
                <a:cubicBezTo>
                  <a:pt x="131" y="757"/>
                  <a:pt x="146" y="775"/>
                  <a:pt x="126" y="764"/>
                </a:cubicBezTo>
                <a:cubicBezTo>
                  <a:pt x="117" y="759"/>
                  <a:pt x="102" y="748"/>
                  <a:pt x="102" y="748"/>
                </a:cubicBezTo>
                <a:cubicBezTo>
                  <a:pt x="88" y="727"/>
                  <a:pt x="72" y="715"/>
                  <a:pt x="62" y="692"/>
                </a:cubicBezTo>
                <a:cubicBezTo>
                  <a:pt x="49" y="664"/>
                  <a:pt x="34" y="625"/>
                  <a:pt x="30" y="596"/>
                </a:cubicBezTo>
                <a:cubicBezTo>
                  <a:pt x="26" y="575"/>
                  <a:pt x="25" y="564"/>
                  <a:pt x="14" y="548"/>
                </a:cubicBezTo>
                <a:cubicBezTo>
                  <a:pt x="0" y="465"/>
                  <a:pt x="14" y="302"/>
                  <a:pt x="74" y="224"/>
                </a:cubicBezTo>
                <a:cubicBezTo>
                  <a:pt x="75" y="220"/>
                  <a:pt x="75" y="214"/>
                  <a:pt x="78" y="212"/>
                </a:cubicBezTo>
                <a:cubicBezTo>
                  <a:pt x="80" y="209"/>
                  <a:pt x="87" y="211"/>
                  <a:pt x="90" y="208"/>
                </a:cubicBezTo>
                <a:cubicBezTo>
                  <a:pt x="104" y="187"/>
                  <a:pt x="91" y="176"/>
                  <a:pt x="118" y="168"/>
                </a:cubicBezTo>
                <a:cubicBezTo>
                  <a:pt x="136" y="139"/>
                  <a:pt x="125" y="149"/>
                  <a:pt x="146" y="136"/>
                </a:cubicBezTo>
                <a:cubicBezTo>
                  <a:pt x="148" y="132"/>
                  <a:pt x="150" y="127"/>
                  <a:pt x="154" y="124"/>
                </a:cubicBezTo>
                <a:cubicBezTo>
                  <a:pt x="157" y="121"/>
                  <a:pt x="163" y="122"/>
                  <a:pt x="166" y="120"/>
                </a:cubicBezTo>
                <a:cubicBezTo>
                  <a:pt x="190" y="95"/>
                  <a:pt x="191" y="76"/>
                  <a:pt x="230" y="64"/>
                </a:cubicBezTo>
                <a:cubicBezTo>
                  <a:pt x="237" y="42"/>
                  <a:pt x="227" y="59"/>
                  <a:pt x="250" y="48"/>
                </a:cubicBezTo>
                <a:cubicBezTo>
                  <a:pt x="266" y="39"/>
                  <a:pt x="281" y="28"/>
                  <a:pt x="298" y="20"/>
                </a:cubicBezTo>
                <a:cubicBezTo>
                  <a:pt x="315" y="11"/>
                  <a:pt x="327" y="14"/>
                  <a:pt x="342" y="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9"/>
          <p:cNvSpPr/>
          <p:nvPr/>
        </p:nvSpPr>
        <p:spPr>
          <a:xfrm>
            <a:off x="5721480" y="4680000"/>
            <a:ext cx="477720" cy="1325520"/>
          </a:xfrm>
          <a:custGeom>
            <a:avLst/>
            <a:gdLst>
              <a:gd name="textAreaLeft" fmla="*/ 0 w 477720"/>
              <a:gd name="textAreaRight" fmla="*/ 477720 w 477720"/>
              <a:gd name="textAreaTop" fmla="*/ 0 h 1325520"/>
              <a:gd name="textAreaBottom" fmla="*/ 1325880 h 1325520"/>
            </a:gdLst>
            <a:ahLst/>
            <a:rect l="textAreaLeft" t="textAreaTop" r="textAreaRight" b="textAreaBottom"/>
            <a:pathLst>
              <a:path w="301" h="835">
                <a:moveTo>
                  <a:pt x="20" y="4"/>
                </a:moveTo>
                <a:cubicBezTo>
                  <a:pt x="18" y="9"/>
                  <a:pt x="16" y="14"/>
                  <a:pt x="16" y="20"/>
                </a:cubicBezTo>
                <a:cubicBezTo>
                  <a:pt x="16" y="133"/>
                  <a:pt x="0" y="108"/>
                  <a:pt x="72" y="132"/>
                </a:cubicBezTo>
                <a:cubicBezTo>
                  <a:pt x="89" y="149"/>
                  <a:pt x="100" y="181"/>
                  <a:pt x="112" y="204"/>
                </a:cubicBezTo>
                <a:cubicBezTo>
                  <a:pt x="121" y="223"/>
                  <a:pt x="141" y="243"/>
                  <a:pt x="148" y="264"/>
                </a:cubicBezTo>
                <a:cubicBezTo>
                  <a:pt x="156" y="288"/>
                  <a:pt x="164" y="305"/>
                  <a:pt x="176" y="328"/>
                </a:cubicBezTo>
                <a:cubicBezTo>
                  <a:pt x="154" y="335"/>
                  <a:pt x="167" y="329"/>
                  <a:pt x="140" y="348"/>
                </a:cubicBezTo>
                <a:cubicBezTo>
                  <a:pt x="136" y="350"/>
                  <a:pt x="128" y="356"/>
                  <a:pt x="128" y="356"/>
                </a:cubicBezTo>
                <a:cubicBezTo>
                  <a:pt x="118" y="370"/>
                  <a:pt x="110" y="370"/>
                  <a:pt x="96" y="380"/>
                </a:cubicBezTo>
                <a:cubicBezTo>
                  <a:pt x="79" y="405"/>
                  <a:pt x="87" y="424"/>
                  <a:pt x="96" y="452"/>
                </a:cubicBezTo>
                <a:cubicBezTo>
                  <a:pt x="98" y="460"/>
                  <a:pt x="104" y="476"/>
                  <a:pt x="104" y="476"/>
                </a:cubicBezTo>
                <a:cubicBezTo>
                  <a:pt x="109" y="541"/>
                  <a:pt x="98" y="590"/>
                  <a:pt x="92" y="652"/>
                </a:cubicBezTo>
                <a:cubicBezTo>
                  <a:pt x="89" y="676"/>
                  <a:pt x="91" y="701"/>
                  <a:pt x="84" y="724"/>
                </a:cubicBezTo>
                <a:cubicBezTo>
                  <a:pt x="81" y="732"/>
                  <a:pt x="78" y="739"/>
                  <a:pt x="76" y="748"/>
                </a:cubicBezTo>
                <a:cubicBezTo>
                  <a:pt x="72" y="761"/>
                  <a:pt x="64" y="788"/>
                  <a:pt x="64" y="788"/>
                </a:cubicBezTo>
                <a:cubicBezTo>
                  <a:pt x="67" y="810"/>
                  <a:pt x="60" y="835"/>
                  <a:pt x="84" y="820"/>
                </a:cubicBezTo>
                <a:cubicBezTo>
                  <a:pt x="107" y="784"/>
                  <a:pt x="109" y="793"/>
                  <a:pt x="140" y="768"/>
                </a:cubicBezTo>
                <a:cubicBezTo>
                  <a:pt x="152" y="757"/>
                  <a:pt x="160" y="743"/>
                  <a:pt x="172" y="732"/>
                </a:cubicBezTo>
                <a:cubicBezTo>
                  <a:pt x="177" y="715"/>
                  <a:pt x="185" y="709"/>
                  <a:pt x="200" y="700"/>
                </a:cubicBezTo>
                <a:cubicBezTo>
                  <a:pt x="205" y="682"/>
                  <a:pt x="213" y="665"/>
                  <a:pt x="228" y="656"/>
                </a:cubicBezTo>
                <a:cubicBezTo>
                  <a:pt x="232" y="642"/>
                  <a:pt x="243" y="633"/>
                  <a:pt x="248" y="620"/>
                </a:cubicBezTo>
                <a:cubicBezTo>
                  <a:pt x="255" y="596"/>
                  <a:pt x="261" y="565"/>
                  <a:pt x="276" y="544"/>
                </a:cubicBezTo>
                <a:cubicBezTo>
                  <a:pt x="285" y="435"/>
                  <a:pt x="301" y="342"/>
                  <a:pt x="252" y="244"/>
                </a:cubicBezTo>
                <a:cubicBezTo>
                  <a:pt x="241" y="223"/>
                  <a:pt x="236" y="204"/>
                  <a:pt x="220" y="188"/>
                </a:cubicBezTo>
                <a:cubicBezTo>
                  <a:pt x="212" y="164"/>
                  <a:pt x="194" y="116"/>
                  <a:pt x="176" y="100"/>
                </a:cubicBezTo>
                <a:cubicBezTo>
                  <a:pt x="168" y="93"/>
                  <a:pt x="160" y="89"/>
                  <a:pt x="152" y="84"/>
                </a:cubicBezTo>
                <a:cubicBezTo>
                  <a:pt x="148" y="81"/>
                  <a:pt x="140" y="76"/>
                  <a:pt x="140" y="76"/>
                </a:cubicBezTo>
                <a:cubicBezTo>
                  <a:pt x="130" y="62"/>
                  <a:pt x="123" y="57"/>
                  <a:pt x="108" y="52"/>
                </a:cubicBezTo>
                <a:cubicBezTo>
                  <a:pt x="98" y="38"/>
                  <a:pt x="91" y="33"/>
                  <a:pt x="76" y="28"/>
                </a:cubicBezTo>
                <a:cubicBezTo>
                  <a:pt x="57" y="0"/>
                  <a:pt x="39" y="23"/>
                  <a:pt x="20" y="4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14"/>
          <p:cNvSpPr/>
          <p:nvPr/>
        </p:nvSpPr>
        <p:spPr>
          <a:xfrm>
            <a:off x="4800600" y="4572000"/>
            <a:ext cx="853920" cy="1546200"/>
          </a:xfrm>
          <a:custGeom>
            <a:avLst/>
            <a:gdLst>
              <a:gd name="textAreaLeft" fmla="*/ 0 w 853920"/>
              <a:gd name="textAreaRight" fmla="*/ 854280 w 853920"/>
              <a:gd name="textAreaTop" fmla="*/ 0 h 1546200"/>
              <a:gd name="textAreaBottom" fmla="*/ 1546560 h 1546200"/>
            </a:gdLst>
            <a:ahLst/>
            <a:rect l="textAreaLeft" t="textAreaTop" r="textAreaRight" b="textAreaBottom"/>
            <a:pathLst>
              <a:path w="490" h="974">
                <a:moveTo>
                  <a:pt x="368" y="18"/>
                </a:moveTo>
                <a:cubicBezTo>
                  <a:pt x="337" y="38"/>
                  <a:pt x="366" y="98"/>
                  <a:pt x="332" y="110"/>
                </a:cubicBezTo>
                <a:cubicBezTo>
                  <a:pt x="311" y="140"/>
                  <a:pt x="328" y="143"/>
                  <a:pt x="284" y="150"/>
                </a:cubicBezTo>
                <a:cubicBezTo>
                  <a:pt x="265" y="156"/>
                  <a:pt x="251" y="159"/>
                  <a:pt x="236" y="170"/>
                </a:cubicBezTo>
                <a:cubicBezTo>
                  <a:pt x="214" y="201"/>
                  <a:pt x="201" y="245"/>
                  <a:pt x="192" y="282"/>
                </a:cubicBezTo>
                <a:cubicBezTo>
                  <a:pt x="197" y="320"/>
                  <a:pt x="208" y="374"/>
                  <a:pt x="244" y="398"/>
                </a:cubicBezTo>
                <a:cubicBezTo>
                  <a:pt x="266" y="465"/>
                  <a:pt x="369" y="458"/>
                  <a:pt x="424" y="462"/>
                </a:cubicBezTo>
                <a:cubicBezTo>
                  <a:pt x="451" y="489"/>
                  <a:pt x="438" y="479"/>
                  <a:pt x="460" y="494"/>
                </a:cubicBezTo>
                <a:cubicBezTo>
                  <a:pt x="465" y="509"/>
                  <a:pt x="490" y="516"/>
                  <a:pt x="472" y="538"/>
                </a:cubicBezTo>
                <a:cubicBezTo>
                  <a:pt x="466" y="544"/>
                  <a:pt x="448" y="546"/>
                  <a:pt x="448" y="546"/>
                </a:cubicBezTo>
                <a:cubicBezTo>
                  <a:pt x="409" y="536"/>
                  <a:pt x="395" y="533"/>
                  <a:pt x="352" y="530"/>
                </a:cubicBezTo>
                <a:cubicBezTo>
                  <a:pt x="295" y="534"/>
                  <a:pt x="291" y="535"/>
                  <a:pt x="252" y="562"/>
                </a:cubicBezTo>
                <a:cubicBezTo>
                  <a:pt x="248" y="573"/>
                  <a:pt x="242" y="587"/>
                  <a:pt x="236" y="598"/>
                </a:cubicBezTo>
                <a:cubicBezTo>
                  <a:pt x="231" y="606"/>
                  <a:pt x="220" y="622"/>
                  <a:pt x="220" y="622"/>
                </a:cubicBezTo>
                <a:cubicBezTo>
                  <a:pt x="221" y="666"/>
                  <a:pt x="207" y="717"/>
                  <a:pt x="232" y="754"/>
                </a:cubicBezTo>
                <a:cubicBezTo>
                  <a:pt x="240" y="766"/>
                  <a:pt x="245" y="783"/>
                  <a:pt x="256" y="794"/>
                </a:cubicBezTo>
                <a:cubicBezTo>
                  <a:pt x="262" y="800"/>
                  <a:pt x="280" y="810"/>
                  <a:pt x="280" y="810"/>
                </a:cubicBezTo>
                <a:cubicBezTo>
                  <a:pt x="292" y="847"/>
                  <a:pt x="365" y="857"/>
                  <a:pt x="400" y="866"/>
                </a:cubicBezTo>
                <a:cubicBezTo>
                  <a:pt x="428" y="908"/>
                  <a:pt x="354" y="906"/>
                  <a:pt x="332" y="922"/>
                </a:cubicBezTo>
                <a:cubicBezTo>
                  <a:pt x="320" y="939"/>
                  <a:pt x="311" y="967"/>
                  <a:pt x="292" y="974"/>
                </a:cubicBezTo>
                <a:cubicBezTo>
                  <a:pt x="268" y="968"/>
                  <a:pt x="251" y="955"/>
                  <a:pt x="228" y="950"/>
                </a:cubicBezTo>
                <a:cubicBezTo>
                  <a:pt x="196" y="942"/>
                  <a:pt x="162" y="931"/>
                  <a:pt x="136" y="914"/>
                </a:cubicBezTo>
                <a:cubicBezTo>
                  <a:pt x="111" y="877"/>
                  <a:pt x="108" y="834"/>
                  <a:pt x="76" y="802"/>
                </a:cubicBezTo>
                <a:cubicBezTo>
                  <a:pt x="68" y="750"/>
                  <a:pt x="62" y="702"/>
                  <a:pt x="76" y="650"/>
                </a:cubicBezTo>
                <a:cubicBezTo>
                  <a:pt x="73" y="607"/>
                  <a:pt x="80" y="559"/>
                  <a:pt x="56" y="522"/>
                </a:cubicBezTo>
                <a:cubicBezTo>
                  <a:pt x="44" y="476"/>
                  <a:pt x="43" y="410"/>
                  <a:pt x="0" y="382"/>
                </a:cubicBezTo>
                <a:cubicBezTo>
                  <a:pt x="4" y="361"/>
                  <a:pt x="2" y="353"/>
                  <a:pt x="20" y="342"/>
                </a:cubicBezTo>
                <a:cubicBezTo>
                  <a:pt x="28" y="315"/>
                  <a:pt x="48" y="289"/>
                  <a:pt x="68" y="270"/>
                </a:cubicBezTo>
                <a:cubicBezTo>
                  <a:pt x="72" y="252"/>
                  <a:pt x="79" y="235"/>
                  <a:pt x="84" y="218"/>
                </a:cubicBezTo>
                <a:cubicBezTo>
                  <a:pt x="85" y="212"/>
                  <a:pt x="82" y="203"/>
                  <a:pt x="88" y="202"/>
                </a:cubicBezTo>
                <a:cubicBezTo>
                  <a:pt x="109" y="195"/>
                  <a:pt x="133" y="199"/>
                  <a:pt x="156" y="198"/>
                </a:cubicBezTo>
                <a:cubicBezTo>
                  <a:pt x="162" y="178"/>
                  <a:pt x="171" y="165"/>
                  <a:pt x="188" y="154"/>
                </a:cubicBezTo>
                <a:cubicBezTo>
                  <a:pt x="195" y="131"/>
                  <a:pt x="214" y="102"/>
                  <a:pt x="228" y="82"/>
                </a:cubicBezTo>
                <a:cubicBezTo>
                  <a:pt x="248" y="0"/>
                  <a:pt x="252" y="25"/>
                  <a:pt x="368" y="18"/>
                </a:cubicBezTo>
                <a:close/>
              </a:path>
            </a:pathLst>
          </a:custGeom>
          <a:solidFill>
            <a:srgbClr val="f317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15"/>
          <p:cNvSpPr/>
          <p:nvPr/>
        </p:nvSpPr>
        <p:spPr>
          <a:xfrm>
            <a:off x="5372280" y="4583160"/>
            <a:ext cx="591840" cy="1558800"/>
          </a:xfrm>
          <a:custGeom>
            <a:avLst/>
            <a:gdLst>
              <a:gd name="textAreaLeft" fmla="*/ 0 w 591840"/>
              <a:gd name="textAreaRight" fmla="*/ 591840 w 591840"/>
              <a:gd name="textAreaTop" fmla="*/ 0 h 1558800"/>
              <a:gd name="textAreaBottom" fmla="*/ 1559160 h 1558800"/>
            </a:gdLst>
            <a:ahLst/>
            <a:rect l="textAreaLeft" t="textAreaTop" r="textAreaRight" b="textAreaBottom"/>
            <a:pathLst>
              <a:path w="373" h="982">
                <a:moveTo>
                  <a:pt x="88" y="5"/>
                </a:moveTo>
                <a:cubicBezTo>
                  <a:pt x="63" y="21"/>
                  <a:pt x="59" y="49"/>
                  <a:pt x="44" y="73"/>
                </a:cubicBezTo>
                <a:cubicBezTo>
                  <a:pt x="36" y="117"/>
                  <a:pt x="25" y="137"/>
                  <a:pt x="72" y="149"/>
                </a:cubicBezTo>
                <a:cubicBezTo>
                  <a:pt x="93" y="163"/>
                  <a:pt x="115" y="167"/>
                  <a:pt x="136" y="181"/>
                </a:cubicBezTo>
                <a:cubicBezTo>
                  <a:pt x="137" y="185"/>
                  <a:pt x="137" y="190"/>
                  <a:pt x="140" y="193"/>
                </a:cubicBezTo>
                <a:cubicBezTo>
                  <a:pt x="142" y="195"/>
                  <a:pt x="149" y="193"/>
                  <a:pt x="152" y="197"/>
                </a:cubicBezTo>
                <a:cubicBezTo>
                  <a:pt x="160" y="208"/>
                  <a:pt x="161" y="224"/>
                  <a:pt x="168" y="237"/>
                </a:cubicBezTo>
                <a:cubicBezTo>
                  <a:pt x="166" y="262"/>
                  <a:pt x="167" y="287"/>
                  <a:pt x="164" y="313"/>
                </a:cubicBezTo>
                <a:cubicBezTo>
                  <a:pt x="161" y="335"/>
                  <a:pt x="148" y="353"/>
                  <a:pt x="140" y="373"/>
                </a:cubicBezTo>
                <a:cubicBezTo>
                  <a:pt x="129" y="397"/>
                  <a:pt x="126" y="422"/>
                  <a:pt x="112" y="445"/>
                </a:cubicBezTo>
                <a:cubicBezTo>
                  <a:pt x="113" y="449"/>
                  <a:pt x="112" y="454"/>
                  <a:pt x="116" y="457"/>
                </a:cubicBezTo>
                <a:cubicBezTo>
                  <a:pt x="122" y="461"/>
                  <a:pt x="140" y="465"/>
                  <a:pt x="140" y="465"/>
                </a:cubicBezTo>
                <a:cubicBezTo>
                  <a:pt x="148" y="477"/>
                  <a:pt x="159" y="487"/>
                  <a:pt x="164" y="501"/>
                </a:cubicBezTo>
                <a:cubicBezTo>
                  <a:pt x="166" y="509"/>
                  <a:pt x="172" y="525"/>
                  <a:pt x="172" y="525"/>
                </a:cubicBezTo>
                <a:cubicBezTo>
                  <a:pt x="161" y="555"/>
                  <a:pt x="153" y="557"/>
                  <a:pt x="124" y="565"/>
                </a:cubicBezTo>
                <a:cubicBezTo>
                  <a:pt x="141" y="616"/>
                  <a:pt x="160" y="700"/>
                  <a:pt x="112" y="733"/>
                </a:cubicBezTo>
                <a:cubicBezTo>
                  <a:pt x="94" y="758"/>
                  <a:pt x="51" y="755"/>
                  <a:pt x="24" y="765"/>
                </a:cubicBezTo>
                <a:cubicBezTo>
                  <a:pt x="18" y="773"/>
                  <a:pt x="13" y="781"/>
                  <a:pt x="8" y="789"/>
                </a:cubicBezTo>
                <a:cubicBezTo>
                  <a:pt x="5" y="793"/>
                  <a:pt x="0" y="801"/>
                  <a:pt x="0" y="801"/>
                </a:cubicBezTo>
                <a:cubicBezTo>
                  <a:pt x="19" y="814"/>
                  <a:pt x="41" y="818"/>
                  <a:pt x="64" y="825"/>
                </a:cubicBezTo>
                <a:cubicBezTo>
                  <a:pt x="72" y="827"/>
                  <a:pt x="80" y="830"/>
                  <a:pt x="88" y="833"/>
                </a:cubicBezTo>
                <a:cubicBezTo>
                  <a:pt x="92" y="834"/>
                  <a:pt x="100" y="837"/>
                  <a:pt x="100" y="837"/>
                </a:cubicBezTo>
                <a:cubicBezTo>
                  <a:pt x="104" y="843"/>
                  <a:pt x="112" y="852"/>
                  <a:pt x="112" y="861"/>
                </a:cubicBezTo>
                <a:cubicBezTo>
                  <a:pt x="112" y="874"/>
                  <a:pt x="110" y="887"/>
                  <a:pt x="108" y="901"/>
                </a:cubicBezTo>
                <a:cubicBezTo>
                  <a:pt x="102" y="928"/>
                  <a:pt x="57" y="926"/>
                  <a:pt x="36" y="941"/>
                </a:cubicBezTo>
                <a:cubicBezTo>
                  <a:pt x="27" y="954"/>
                  <a:pt x="17" y="957"/>
                  <a:pt x="12" y="973"/>
                </a:cubicBezTo>
                <a:cubicBezTo>
                  <a:pt x="40" y="982"/>
                  <a:pt x="57" y="965"/>
                  <a:pt x="84" y="961"/>
                </a:cubicBezTo>
                <a:cubicBezTo>
                  <a:pt x="98" y="958"/>
                  <a:pt x="124" y="956"/>
                  <a:pt x="140" y="953"/>
                </a:cubicBezTo>
                <a:cubicBezTo>
                  <a:pt x="166" y="946"/>
                  <a:pt x="187" y="933"/>
                  <a:pt x="212" y="925"/>
                </a:cubicBezTo>
                <a:cubicBezTo>
                  <a:pt x="222" y="909"/>
                  <a:pt x="231" y="910"/>
                  <a:pt x="248" y="905"/>
                </a:cubicBezTo>
                <a:cubicBezTo>
                  <a:pt x="262" y="861"/>
                  <a:pt x="274" y="811"/>
                  <a:pt x="300" y="773"/>
                </a:cubicBezTo>
                <a:cubicBezTo>
                  <a:pt x="319" y="694"/>
                  <a:pt x="306" y="751"/>
                  <a:pt x="296" y="561"/>
                </a:cubicBezTo>
                <a:cubicBezTo>
                  <a:pt x="295" y="547"/>
                  <a:pt x="276" y="525"/>
                  <a:pt x="276" y="525"/>
                </a:cubicBezTo>
                <a:cubicBezTo>
                  <a:pt x="281" y="492"/>
                  <a:pt x="269" y="417"/>
                  <a:pt x="308" y="405"/>
                </a:cubicBezTo>
                <a:cubicBezTo>
                  <a:pt x="315" y="381"/>
                  <a:pt x="346" y="385"/>
                  <a:pt x="368" y="381"/>
                </a:cubicBezTo>
                <a:cubicBezTo>
                  <a:pt x="373" y="363"/>
                  <a:pt x="368" y="358"/>
                  <a:pt x="352" y="353"/>
                </a:cubicBezTo>
                <a:cubicBezTo>
                  <a:pt x="330" y="320"/>
                  <a:pt x="320" y="290"/>
                  <a:pt x="308" y="253"/>
                </a:cubicBezTo>
                <a:cubicBezTo>
                  <a:pt x="303" y="240"/>
                  <a:pt x="280" y="225"/>
                  <a:pt x="280" y="225"/>
                </a:cubicBezTo>
                <a:cubicBezTo>
                  <a:pt x="249" y="235"/>
                  <a:pt x="264" y="234"/>
                  <a:pt x="236" y="229"/>
                </a:cubicBezTo>
                <a:cubicBezTo>
                  <a:pt x="231" y="214"/>
                  <a:pt x="230" y="198"/>
                  <a:pt x="224" y="185"/>
                </a:cubicBezTo>
                <a:cubicBezTo>
                  <a:pt x="220" y="176"/>
                  <a:pt x="211" y="170"/>
                  <a:pt x="208" y="161"/>
                </a:cubicBezTo>
                <a:cubicBezTo>
                  <a:pt x="206" y="157"/>
                  <a:pt x="205" y="153"/>
                  <a:pt x="204" y="149"/>
                </a:cubicBezTo>
                <a:cubicBezTo>
                  <a:pt x="201" y="99"/>
                  <a:pt x="220" y="61"/>
                  <a:pt x="180" y="41"/>
                </a:cubicBezTo>
                <a:cubicBezTo>
                  <a:pt x="177" y="37"/>
                  <a:pt x="176" y="31"/>
                  <a:pt x="172" y="29"/>
                </a:cubicBezTo>
                <a:cubicBezTo>
                  <a:pt x="154" y="18"/>
                  <a:pt x="128" y="20"/>
                  <a:pt x="112" y="9"/>
                </a:cubicBezTo>
                <a:cubicBezTo>
                  <a:pt x="108" y="6"/>
                  <a:pt x="104" y="1"/>
                  <a:pt x="100" y="1"/>
                </a:cubicBezTo>
                <a:cubicBezTo>
                  <a:pt x="95" y="0"/>
                  <a:pt x="92" y="3"/>
                  <a:pt x="88" y="5"/>
                </a:cubicBezTo>
                <a:close/>
              </a:path>
            </a:pathLst>
          </a:custGeom>
          <a:solidFill>
            <a:srgbClr val="f317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6"/>
          <p:cNvSpPr/>
          <p:nvPr/>
        </p:nvSpPr>
        <p:spPr>
          <a:xfrm>
            <a:off x="1295280" y="4191120"/>
            <a:ext cx="1447920" cy="0"/>
          </a:xfrm>
          <a:prstGeom prst="line">
            <a:avLst/>
          </a:prstGeom>
          <a:ln w="38160">
            <a:solidFill>
              <a:srgbClr val="f31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18"/>
          <p:cNvSpPr/>
          <p:nvPr/>
        </p:nvSpPr>
        <p:spPr>
          <a:xfrm>
            <a:off x="2514600" y="3797280"/>
            <a:ext cx="2438280" cy="85104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1008" h="536">
                <a:moveTo>
                  <a:pt x="0" y="200"/>
                </a:moveTo>
                <a:cubicBezTo>
                  <a:pt x="36" y="100"/>
                  <a:pt x="72" y="0"/>
                  <a:pt x="192" y="8"/>
                </a:cubicBezTo>
                <a:cubicBezTo>
                  <a:pt x="312" y="16"/>
                  <a:pt x="584" y="160"/>
                  <a:pt x="720" y="248"/>
                </a:cubicBezTo>
                <a:cubicBezTo>
                  <a:pt x="856" y="336"/>
                  <a:pt x="932" y="436"/>
                  <a:pt x="1008" y="536"/>
                </a:cubicBezTo>
              </a:path>
            </a:pathLst>
          </a:custGeom>
          <a:noFill/>
          <a:ln w="28440">
            <a:solidFill>
              <a:srgbClr val="f3172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6353280" y="425916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d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6382440" y="54021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1219"/>
                </a:solidFill>
                <a:latin typeface="Times New Roman"/>
              </a:rPr>
              <a:t>Maxill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4905360" y="395460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م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4964040" y="609588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خل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162000" y="609480"/>
            <a:ext cx="58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ercing and Sucking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جزاء الفم الثاقبة الماص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5"/>
          <p:cNvSpPr/>
          <p:nvPr/>
        </p:nvSpPr>
        <p:spPr>
          <a:xfrm flipV="1">
            <a:off x="4038480" y="502920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6"/>
          <p:cNvSpPr/>
          <p:nvPr/>
        </p:nvSpPr>
        <p:spPr>
          <a:xfrm flipV="1">
            <a:off x="4038480" y="563868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7"/>
          <p:cNvSpPr/>
          <p:nvPr/>
        </p:nvSpPr>
        <p:spPr>
          <a:xfrm>
            <a:off x="2209320" y="617220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 for sal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2438280" y="556272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 for 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76320" y="6243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Mosq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erciSucking.WMV" descr=""/>
          <p:cNvPicPr/>
          <p:nvPr/>
        </p:nvPicPr>
        <p:blipFill>
          <a:blip r:embed="rId1"/>
          <a:stretch/>
        </p:blipFill>
        <p:spPr>
          <a:xfrm>
            <a:off x="660240" y="533520"/>
            <a:ext cx="77216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6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4800600" cy="3913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685800" y="44197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تكون جسم الحشرة من ثلاث أجزاء. الرأس وبه أعضاء الحس والصدر وبه أعضاء الحركة والبطن وبه الجهاز الهضمي والإخراجي والتناسلي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_x0010_houseflyhead.jpg                                               004681E3_x000c_Macintosh HD                   BA4B07B5:"/>
          <p:cNvPicPr/>
          <p:nvPr/>
        </p:nvPicPr>
        <p:blipFill>
          <a:blip r:embed="rId1"/>
          <a:stretch/>
        </p:blipFill>
        <p:spPr>
          <a:xfrm>
            <a:off x="1295280" y="1295280"/>
            <a:ext cx="2975040" cy="43070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-10440" y="228600"/>
            <a:ext cx="46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onging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جزاء الفم الاسفنجي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377360" y="612612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house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Sponging.WMV" descr=""/>
          <p:cNvPicPr/>
          <p:nvPr/>
        </p:nvPicPr>
        <p:blipFill>
          <a:blip r:embed="rId2"/>
          <a:stretch/>
        </p:blipFill>
        <p:spPr>
          <a:xfrm>
            <a:off x="4521240" y="2743200"/>
            <a:ext cx="4470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2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_x0011_butterflyhead.jpg                                              004681E3_x000c_Macintosh HD                   BA4B07B5:"/>
          <p:cNvPicPr/>
          <p:nvPr/>
        </p:nvPicPr>
        <p:blipFill>
          <a:blip r:embed="rId1"/>
          <a:stretch/>
        </p:blipFill>
        <p:spPr>
          <a:xfrm>
            <a:off x="914400" y="1066680"/>
            <a:ext cx="3828960" cy="46483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5"/>
          <p:cNvSpPr/>
          <p:nvPr/>
        </p:nvSpPr>
        <p:spPr>
          <a:xfrm>
            <a:off x="-104760" y="38088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phoning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جزاء الفم الماص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172880" y="610092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butter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Sucking.WMV" descr=""/>
          <p:cNvPicPr/>
          <p:nvPr/>
        </p:nvPicPr>
        <p:blipFill>
          <a:blip r:embed="rId2"/>
          <a:stretch/>
        </p:blipFill>
        <p:spPr>
          <a:xfrm>
            <a:off x="4978440" y="3276720"/>
            <a:ext cx="3860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8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Copy (2) of Im 6"/>
          <p:cNvPicPr/>
          <p:nvPr/>
        </p:nvPicPr>
        <p:blipFill>
          <a:blip r:embed="rId1"/>
          <a:stretch/>
        </p:blipFill>
        <p:spPr>
          <a:xfrm>
            <a:off x="76320" y="39600"/>
            <a:ext cx="4952880" cy="31608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380880" y="6019920"/>
            <a:ext cx="3276720" cy="68580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نحل العـســ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791320" y="0"/>
            <a:ext cx="3124080" cy="119124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القارض اللاعـ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4941720" y="2514600"/>
            <a:ext cx="4125960" cy="4267080"/>
          </a:xfrm>
          <a:prstGeom prst="rect">
            <a:avLst/>
          </a:prstGeom>
          <a:ln w="0">
            <a:noFill/>
          </a:ln>
        </p:spPr>
      </p:pic>
      <p:pic>
        <p:nvPicPr>
          <p:cNvPr id="228" name="BeeMouth.WMV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18519E-006 L 0.17326 0.19955 E">
                                      <p:cBhvr>
                                        <p:cTn id="411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2000" fill="hold"/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8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9" descr="_x000b_antenna.jpg                                                    00027735_x000c_Macintosh HD                   BA4B07B5:"/>
          <p:cNvPicPr/>
          <p:nvPr/>
        </p:nvPicPr>
        <p:blipFill>
          <a:blip r:embed="rId1"/>
          <a:stretch/>
        </p:blipFill>
        <p:spPr>
          <a:xfrm>
            <a:off x="906480" y="1930320"/>
            <a:ext cx="7329600" cy="2997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0"/>
          <p:cNvSpPr/>
          <p:nvPr/>
        </p:nvSpPr>
        <p:spPr>
          <a:xfrm>
            <a:off x="2057400" y="44956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al s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645480" y="44956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if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2"/>
          <p:cNvSpPr/>
          <p:nvPr/>
        </p:nvSpPr>
        <p:spPr>
          <a:xfrm>
            <a:off x="3506400" y="21337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i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335268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4"/>
          <p:cNvSpPr/>
          <p:nvPr/>
        </p:nvSpPr>
        <p:spPr>
          <a:xfrm>
            <a:off x="5458320" y="25909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el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5"/>
          <p:cNvSpPr/>
          <p:nvPr/>
        </p:nvSpPr>
        <p:spPr>
          <a:xfrm>
            <a:off x="533520" y="1905120"/>
            <a:ext cx="13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al so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1981080" y="17524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al scle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1676520" y="528480"/>
            <a:ext cx="52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ct Antenn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رون الاستشعار في الحشر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6"/>
          <p:cNvSpPr/>
          <p:nvPr/>
        </p:nvSpPr>
        <p:spPr>
          <a:xfrm>
            <a:off x="3146400" y="-2620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72" descr="_x000c_aristate.jpg                                                   00027735_x000c_Macintosh HD                   BA4B07B5:"/>
          <p:cNvPicPr/>
          <p:nvPr/>
        </p:nvPicPr>
        <p:blipFill>
          <a:blip r:embed="rId1"/>
          <a:stretch/>
        </p:blipFill>
        <p:spPr>
          <a:xfrm>
            <a:off x="1219320" y="762120"/>
            <a:ext cx="1096920" cy="880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3"/>
          <p:cNvSpPr/>
          <p:nvPr/>
        </p:nvSpPr>
        <p:spPr>
          <a:xfrm>
            <a:off x="68400" y="9414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i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75" descr="_x0014_antenna_capitate.gif                                           00027735_x000c_Macintosh HD                   BA4B07B5:"/>
          <p:cNvPicPr/>
          <p:nvPr/>
        </p:nvPicPr>
        <p:blipFill>
          <a:blip r:embed="rId2"/>
          <a:stretch/>
        </p:blipFill>
        <p:spPr>
          <a:xfrm>
            <a:off x="1143000" y="1828800"/>
            <a:ext cx="1523880" cy="9604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76"/>
          <p:cNvSpPr/>
          <p:nvPr/>
        </p:nvSpPr>
        <p:spPr>
          <a:xfrm>
            <a:off x="115560" y="216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pi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77" descr="_x0013_antenna_clavate.gif                                            00027735_x000c_Macintosh HD                   BA4B07B5:"/>
          <p:cNvPicPr/>
          <p:nvPr/>
        </p:nvPicPr>
        <p:blipFill>
          <a:blip r:embed="rId3"/>
          <a:stretch/>
        </p:blipFill>
        <p:spPr>
          <a:xfrm>
            <a:off x="1143000" y="2971800"/>
            <a:ext cx="1792440" cy="1128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78"/>
          <p:cNvSpPr/>
          <p:nvPr/>
        </p:nvSpPr>
        <p:spPr>
          <a:xfrm>
            <a:off x="174960" y="332100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9" descr="_x0016_antenna_filiformis.gif                                         00027735_x000c_Macintosh HD                   BA4B07B5:"/>
          <p:cNvPicPr/>
          <p:nvPr/>
        </p:nvPicPr>
        <p:blipFill>
          <a:blip r:embed="rId4"/>
          <a:stretch/>
        </p:blipFill>
        <p:spPr>
          <a:xfrm>
            <a:off x="1143000" y="4297320"/>
            <a:ext cx="1523880" cy="9604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80"/>
          <p:cNvSpPr/>
          <p:nvPr/>
        </p:nvSpPr>
        <p:spPr>
          <a:xfrm>
            <a:off x="192960" y="44956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li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81" descr="_x0016_antenna_geniculate.gif                                         00027735_x000c_Macintosh HD                   BA4B07B5:"/>
          <p:cNvPicPr/>
          <p:nvPr/>
        </p:nvPicPr>
        <p:blipFill>
          <a:blip r:embed="rId5"/>
          <a:stretch/>
        </p:blipFill>
        <p:spPr>
          <a:xfrm>
            <a:off x="1143000" y="5410080"/>
            <a:ext cx="1523880" cy="9604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82"/>
          <p:cNvSpPr/>
          <p:nvPr/>
        </p:nvSpPr>
        <p:spPr>
          <a:xfrm>
            <a:off x="37800" y="541656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ic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83" descr="_x0016_antenna_monoliform.gif                                         00027735_x000c_Macintosh HD                   BA4B07B5:"/>
          <p:cNvPicPr/>
          <p:nvPr/>
        </p:nvPicPr>
        <p:blipFill>
          <a:blip r:embed="rId6"/>
          <a:stretch/>
        </p:blipFill>
        <p:spPr>
          <a:xfrm>
            <a:off x="7391520" y="533520"/>
            <a:ext cx="1447560" cy="91116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84"/>
          <p:cNvSpPr/>
          <p:nvPr/>
        </p:nvSpPr>
        <p:spPr>
          <a:xfrm>
            <a:off x="4651560" y="84600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nolifo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85" descr="_x0015_antenna_pectinate.gif                                          00027735_x000c_Macintosh HD                   BA4B07B5:"/>
          <p:cNvPicPr/>
          <p:nvPr/>
        </p:nvPicPr>
        <p:blipFill>
          <a:blip r:embed="rId7"/>
          <a:stretch/>
        </p:blipFill>
        <p:spPr>
          <a:xfrm>
            <a:off x="7275600" y="1600200"/>
            <a:ext cx="1792080" cy="11286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6"/>
          <p:cNvSpPr/>
          <p:nvPr/>
        </p:nvSpPr>
        <p:spPr>
          <a:xfrm>
            <a:off x="4728240" y="20257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ctin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87" descr="_x0013_antenna_plumose.gif                                            00027735_x000c_Macintosh HD                   BA4B07B5:"/>
          <p:cNvPicPr/>
          <p:nvPr/>
        </p:nvPicPr>
        <p:blipFill>
          <a:blip r:embed="rId8"/>
          <a:stretch/>
        </p:blipFill>
        <p:spPr>
          <a:xfrm>
            <a:off x="7315200" y="3062160"/>
            <a:ext cx="1792440" cy="11289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8"/>
          <p:cNvSpPr/>
          <p:nvPr/>
        </p:nvSpPr>
        <p:spPr>
          <a:xfrm>
            <a:off x="4646160" y="33973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um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89" descr="_x0013_antenna_serrate.gif                                            00027735_x000c_Macintosh HD                   BA4B07B5:"/>
          <p:cNvPicPr/>
          <p:nvPr/>
        </p:nvPicPr>
        <p:blipFill>
          <a:blip r:embed="rId9"/>
          <a:stretch/>
        </p:blipFill>
        <p:spPr>
          <a:xfrm>
            <a:off x="7504200" y="4575240"/>
            <a:ext cx="1447560" cy="911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91"/>
          <p:cNvSpPr/>
          <p:nvPr/>
        </p:nvSpPr>
        <p:spPr>
          <a:xfrm>
            <a:off x="4803840" y="4876920"/>
            <a:ext cx="87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22" descr="&#13;aristate2.jpg                                                  00027735_x000c_Macintosh HD                   BA4B07B5:"/>
          <p:cNvPicPr/>
          <p:nvPr/>
        </p:nvPicPr>
        <p:blipFill>
          <a:blip r:embed="rId10"/>
          <a:stretch/>
        </p:blipFill>
        <p:spPr>
          <a:xfrm>
            <a:off x="2590920" y="762120"/>
            <a:ext cx="1523880" cy="920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5" descr="_x0016_antenn - butterfly.jpg                                         00027735_x000c_Macintosh HD                   BA4B07B5:"/>
          <p:cNvPicPr/>
          <p:nvPr/>
        </p:nvPicPr>
        <p:blipFill>
          <a:blip r:embed="rId11"/>
          <a:stretch/>
        </p:blipFill>
        <p:spPr>
          <a:xfrm>
            <a:off x="2743200" y="1828800"/>
            <a:ext cx="1398600" cy="912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3" descr="_x0014_antenn - carrion.jpg                                           00027735_x000c_Macintosh HD                   BA4B07B5:"/>
          <p:cNvPicPr/>
          <p:nvPr/>
        </p:nvPicPr>
        <p:blipFill>
          <a:blip r:embed="rId12"/>
          <a:stretch/>
        </p:blipFill>
        <p:spPr>
          <a:xfrm>
            <a:off x="3087720" y="2971800"/>
            <a:ext cx="927000" cy="1219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7" descr="_x0013_antenn -carabic.jpg                                            00027735_x000c_Macintosh HD                   BA4B07B5:"/>
          <p:cNvPicPr/>
          <p:nvPr/>
        </p:nvPicPr>
        <p:blipFill>
          <a:blip r:embed="rId13"/>
          <a:stretch/>
        </p:blipFill>
        <p:spPr>
          <a:xfrm>
            <a:off x="2859120" y="4378320"/>
            <a:ext cx="1173240" cy="879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6" descr="_x0010_antenn -wasp.jpg                                               00027735_x000c_Macintosh HD                   BA4B07B5:"/>
          <p:cNvPicPr/>
          <p:nvPr/>
        </p:nvPicPr>
        <p:blipFill>
          <a:blip r:embed="rId14"/>
          <a:stretch/>
        </p:blipFill>
        <p:spPr>
          <a:xfrm>
            <a:off x="2819520" y="5410080"/>
            <a:ext cx="1346040" cy="1009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8" descr="_x0014_antenn -termite.jpeg                                           00027735_x000c_Macintosh HD                   BA4B07B5:"/>
          <p:cNvPicPr/>
          <p:nvPr/>
        </p:nvPicPr>
        <p:blipFill>
          <a:blip r:embed="rId15"/>
          <a:stretch/>
        </p:blipFill>
        <p:spPr>
          <a:xfrm>
            <a:off x="5943600" y="609480"/>
            <a:ext cx="1019160" cy="789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5" descr="_x0013_antenn - pectin.jpg                                            00027735_x000c_Macintosh HD                   BA4B07B5:"/>
          <p:cNvPicPr/>
          <p:nvPr/>
        </p:nvPicPr>
        <p:blipFill>
          <a:blip r:embed="rId16"/>
          <a:stretch/>
        </p:blipFill>
        <p:spPr>
          <a:xfrm>
            <a:off x="5791320" y="160020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4" descr="_x0010_antenn -moth.jpg                                               00027735_x000c_Macintosh HD                   BA4B07B5:"/>
          <p:cNvPicPr/>
          <p:nvPr/>
        </p:nvPicPr>
        <p:blipFill>
          <a:blip r:embed="rId17"/>
          <a:stretch/>
        </p:blipFill>
        <p:spPr>
          <a:xfrm>
            <a:off x="5638680" y="3048120"/>
            <a:ext cx="1562400" cy="1206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9" descr="_x0010_antenn -serr.jpg                                               00027735_x000c_Macintosh HD                   BA4B07B5:"/>
          <p:cNvPicPr/>
          <p:nvPr/>
        </p:nvPicPr>
        <p:blipFill>
          <a:blip r:embed="rId18"/>
          <a:srcRect l="0" t="0" r="0" b="57292"/>
          <a:stretch/>
        </p:blipFill>
        <p:spPr>
          <a:xfrm>
            <a:off x="5715000" y="4648320"/>
            <a:ext cx="159228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7"/>
          <p:cNvSpPr/>
          <p:nvPr/>
        </p:nvSpPr>
        <p:spPr>
          <a:xfrm>
            <a:off x="4876920" y="11430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سـبح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0"/>
          <p:cNvSpPr/>
          <p:nvPr/>
        </p:nvSpPr>
        <p:spPr>
          <a:xfrm>
            <a:off x="4800600" y="22860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شط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1"/>
          <p:cNvSpPr/>
          <p:nvPr/>
        </p:nvSpPr>
        <p:spPr>
          <a:xfrm>
            <a:off x="152280" y="5715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ركب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6"/>
          <p:cNvSpPr/>
          <p:nvPr/>
        </p:nvSpPr>
        <p:spPr>
          <a:xfrm>
            <a:off x="76320" y="472428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خيط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3"/>
          <p:cNvSpPr/>
          <p:nvPr/>
        </p:nvSpPr>
        <p:spPr>
          <a:xfrm>
            <a:off x="76320" y="1219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أرسـت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9"/>
          <p:cNvSpPr/>
          <p:nvPr/>
        </p:nvSpPr>
        <p:spPr>
          <a:xfrm>
            <a:off x="4800600" y="51055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نشار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152280" y="358128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صولجان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76320" y="2438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رأس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4"/>
          <p:cNvSpPr/>
          <p:nvPr/>
        </p:nvSpPr>
        <p:spPr>
          <a:xfrm>
            <a:off x="4648320" y="36576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ورق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_x000f_l-fly-larva.jpg                                                00018369_x000c_Macintosh HD                   B75E31B5:"/>
          <p:cNvPicPr/>
          <p:nvPr/>
        </p:nvPicPr>
        <p:blipFill>
          <a:blip r:embed="rId1"/>
          <a:stretch/>
        </p:blipFill>
        <p:spPr>
          <a:xfrm>
            <a:off x="123840" y="584280"/>
            <a:ext cx="4981680" cy="5664240"/>
          </a:xfrm>
          <a:prstGeom prst="rect">
            <a:avLst/>
          </a:prstGeom>
          <a:ln w="0">
            <a:noFill/>
          </a:ln>
        </p:spPr>
      </p:pic>
      <p:sp>
        <p:nvSpPr>
          <p:cNvPr id="54" name="مستطيل 2"/>
          <p:cNvSpPr/>
          <p:nvPr/>
        </p:nvSpPr>
        <p:spPr>
          <a:xfrm>
            <a:off x="5181480" y="1712880"/>
            <a:ext cx="381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حشرات البالغة تنمو كمجموعة من الحلقات المندمجة تشكل كل مجموعة جزء من أجزاء جسم الحش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693040" cy="4267080"/>
          </a:xfrm>
          <a:prstGeom prst="rect">
            <a:avLst/>
          </a:prstGeom>
          <a:ln w="0">
            <a:noFill/>
          </a:ln>
        </p:spPr>
      </p:pic>
      <p:sp>
        <p:nvSpPr>
          <p:cNvPr id="56" name="مستطيل 2"/>
          <p:cNvSpPr/>
          <p:nvPr/>
        </p:nvSpPr>
        <p:spPr>
          <a:xfrm>
            <a:off x="762120" y="5265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رأس الحشرة يحتوي على العديد من الحواس مثل العيون، والعيون البسيطة، قرون الاستشعار و أجزاء الفم. ويتكون الرأس بواسطة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حلقات مندمج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838080" y="198360"/>
          <a:ext cx="6553440" cy="647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360"/>
                    <a:ext cx="6553440" cy="647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3"/>
          <p:cNvSpPr/>
          <p:nvPr/>
        </p:nvSpPr>
        <p:spPr>
          <a:xfrm>
            <a:off x="2438280" y="838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عوي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590920" y="304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عين مرك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52280" y="1066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قرن اسـتـشـ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0" y="2666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ـجـبــه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495680" y="2438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ـخـــ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8"/>
          <p:cNvSpPr/>
          <p:nvPr/>
        </p:nvSpPr>
        <p:spPr>
          <a:xfrm rot="19807200">
            <a:off x="3995280" y="3641760"/>
            <a:ext cx="381240" cy="3114720"/>
          </a:xfrm>
          <a:custGeom>
            <a:avLst/>
            <a:gdLst>
              <a:gd name="textAreaLeft" fmla="*/ 243720 w 381240"/>
              <a:gd name="textAreaRight" fmla="*/ 381600 w 381240"/>
              <a:gd name="textAreaTop" fmla="*/ 81000 h 3114720"/>
              <a:gd name="textAreaBottom" fmla="*/ 3033720 h 311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5400" y="11250"/>
                  <a:pt x="0" y="11250"/>
                </a:cubicBezTo>
                <a:cubicBezTo>
                  <a:pt x="54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514600" y="5181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أجزاء الف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3809880" y="685800"/>
            <a:ext cx="68580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3352680" y="1219320"/>
            <a:ext cx="53352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990720" y="7621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3429000" y="289548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6705720" y="15238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رقـب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62720" y="60948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حفظة الرأ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7"/>
          <p:cNvSpPr/>
          <p:nvPr/>
        </p:nvSpPr>
        <p:spPr>
          <a:xfrm>
            <a:off x="4724280" y="2057400"/>
            <a:ext cx="1435320" cy="1828800"/>
          </a:xfrm>
          <a:custGeom>
            <a:avLst/>
            <a:gdLst>
              <a:gd name="textAreaLeft" fmla="*/ 0 w 1435320"/>
              <a:gd name="textAreaRight" fmla="*/ 1435680 w 14353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904" h="1104">
                <a:moveTo>
                  <a:pt x="856" y="960"/>
                </a:moveTo>
                <a:cubicBezTo>
                  <a:pt x="880" y="748"/>
                  <a:pt x="904" y="536"/>
                  <a:pt x="856" y="384"/>
                </a:cubicBezTo>
                <a:cubicBezTo>
                  <a:pt x="808" y="232"/>
                  <a:pt x="664" y="96"/>
                  <a:pt x="568" y="48"/>
                </a:cubicBezTo>
                <a:cubicBezTo>
                  <a:pt x="472" y="0"/>
                  <a:pt x="368" y="32"/>
                  <a:pt x="280" y="96"/>
                </a:cubicBezTo>
                <a:cubicBezTo>
                  <a:pt x="192" y="160"/>
                  <a:pt x="80" y="304"/>
                  <a:pt x="40" y="432"/>
                </a:cubicBezTo>
                <a:cubicBezTo>
                  <a:pt x="0" y="560"/>
                  <a:pt x="40" y="752"/>
                  <a:pt x="40" y="864"/>
                </a:cubicBezTo>
                <a:cubicBezTo>
                  <a:pt x="40" y="976"/>
                  <a:pt x="40" y="1040"/>
                  <a:pt x="40" y="1104"/>
                </a:cubicBezTo>
              </a:path>
            </a:pathLst>
          </a:cu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8"/>
          <p:cNvSpPr/>
          <p:nvPr/>
        </p:nvSpPr>
        <p:spPr>
          <a:xfrm>
            <a:off x="571680" y="2057400"/>
            <a:ext cx="4914720" cy="2019240"/>
          </a:xfrm>
          <a:custGeom>
            <a:avLst/>
            <a:gdLst>
              <a:gd name="textAreaLeft" fmla="*/ 0 w 4914720"/>
              <a:gd name="textAreaRight" fmla="*/ 4915080 w 4914720"/>
              <a:gd name="textAreaTop" fmla="*/ 0 h 2019240"/>
              <a:gd name="textAreaBottom" fmla="*/ 2019600 h 2019240"/>
            </a:gdLst>
            <a:ahLst/>
            <a:rect l="textAreaLeft" t="textAreaTop" r="textAreaRight" b="textAreaBottom"/>
            <a:pathLst>
              <a:path w="3048" h="1248">
                <a:moveTo>
                  <a:pt x="3048" y="24"/>
                </a:moveTo>
                <a:cubicBezTo>
                  <a:pt x="2984" y="12"/>
                  <a:pt x="2920" y="0"/>
                  <a:pt x="2712" y="24"/>
                </a:cubicBezTo>
                <a:cubicBezTo>
                  <a:pt x="2504" y="48"/>
                  <a:pt x="2088" y="80"/>
                  <a:pt x="1800" y="168"/>
                </a:cubicBezTo>
                <a:cubicBezTo>
                  <a:pt x="1512" y="256"/>
                  <a:pt x="1200" y="416"/>
                  <a:pt x="984" y="552"/>
                </a:cubicBezTo>
                <a:cubicBezTo>
                  <a:pt x="768" y="688"/>
                  <a:pt x="608" y="872"/>
                  <a:pt x="504" y="984"/>
                </a:cubicBezTo>
                <a:cubicBezTo>
                  <a:pt x="400" y="1096"/>
                  <a:pt x="0" y="1200"/>
                  <a:pt x="360" y="1224"/>
                </a:cubicBezTo>
                <a:cubicBezTo>
                  <a:pt x="720" y="1248"/>
                  <a:pt x="1692" y="1188"/>
                  <a:pt x="2664" y="1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9"/>
          <p:cNvSpPr/>
          <p:nvPr/>
        </p:nvSpPr>
        <p:spPr>
          <a:xfrm rot="20866200">
            <a:off x="3581280" y="2742840"/>
            <a:ext cx="762120" cy="380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2819520" y="411480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5562720" y="320040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2202840" y="487692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جزاء الف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7157880" y="320040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عن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hypognathous"/>
          <p:cNvPicPr/>
          <p:nvPr/>
        </p:nvPicPr>
        <p:blipFill>
          <a:blip r:embed="rId1"/>
          <a:stretch/>
        </p:blipFill>
        <p:spPr>
          <a:xfrm>
            <a:off x="2171880" y="2133720"/>
            <a:ext cx="2233440" cy="243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prognathous"/>
          <p:cNvPicPr/>
          <p:nvPr/>
        </p:nvPicPr>
        <p:blipFill>
          <a:blip r:embed="rId2"/>
          <a:stretch/>
        </p:blipFill>
        <p:spPr>
          <a:xfrm>
            <a:off x="6286680" y="1752480"/>
            <a:ext cx="2406600" cy="199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opisthognathous"/>
          <p:cNvPicPr/>
          <p:nvPr/>
        </p:nvPicPr>
        <p:blipFill>
          <a:blip r:embed="rId3"/>
          <a:stretch/>
        </p:blipFill>
        <p:spPr>
          <a:xfrm>
            <a:off x="6134040" y="4343400"/>
            <a:ext cx="2933640" cy="1690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 rot="1374600">
            <a:off x="7794720" y="5407200"/>
            <a:ext cx="1233360" cy="304560"/>
          </a:xfrm>
          <a:prstGeom prst="rect">
            <a:avLst/>
          </a:prstGeom>
          <a:solidFill>
            <a:srgbClr val="f3172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9"/>
          <p:cNvSpPr/>
          <p:nvPr/>
        </p:nvSpPr>
        <p:spPr>
          <a:xfrm rot="21268200">
            <a:off x="4381560" y="274320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0"/>
          <p:cNvSpPr/>
          <p:nvPr/>
        </p:nvSpPr>
        <p:spPr>
          <a:xfrm rot="1411800">
            <a:off x="4533480" y="3885840"/>
            <a:ext cx="1524240" cy="152280"/>
          </a:xfrm>
          <a:prstGeom prst="rightArrow">
            <a:avLst>
              <a:gd name="adj1" fmla="val 50000"/>
              <a:gd name="adj2" fmla="val 2502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1"/>
          <p:cNvSpPr/>
          <p:nvPr/>
        </p:nvSpPr>
        <p:spPr>
          <a:xfrm rot="5367000">
            <a:off x="6781320" y="377172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1377000" y="50896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gnath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600200" y="76320"/>
            <a:ext cx="579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اتجاهات المختلفة لرأس الحشر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مجموعة 27"/>
          <p:cNvGrpSpPr/>
          <p:nvPr/>
        </p:nvGrpSpPr>
        <p:grpSpPr>
          <a:xfrm>
            <a:off x="228600" y="2743200"/>
            <a:ext cx="1905120" cy="1152360"/>
            <a:chOff x="228600" y="2743200"/>
            <a:chExt cx="1905120" cy="1152360"/>
          </a:xfrm>
        </p:grpSpPr>
        <p:pic>
          <p:nvPicPr>
            <p:cNvPr id="89" name="Picture 4" descr="I4"/>
            <p:cNvPicPr/>
            <p:nvPr/>
          </p:nvPicPr>
          <p:blipFill>
            <a:blip r:embed="rId4"/>
            <a:stretch/>
          </p:blipFill>
          <p:spPr>
            <a:xfrm>
              <a:off x="228600" y="2743200"/>
              <a:ext cx="19051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Line 13"/>
            <p:cNvSpPr/>
            <p:nvPr/>
          </p:nvSpPr>
          <p:spPr>
            <a:xfrm>
              <a:off x="360000" y="3146760"/>
              <a:ext cx="0" cy="40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مجموعة 28"/>
          <p:cNvGrpSpPr/>
          <p:nvPr/>
        </p:nvGrpSpPr>
        <p:grpSpPr>
          <a:xfrm>
            <a:off x="4648320" y="1447920"/>
            <a:ext cx="1600200" cy="990360"/>
            <a:chOff x="4648320" y="1447920"/>
            <a:chExt cx="1600200" cy="990360"/>
          </a:xfrm>
        </p:grpSpPr>
        <p:pic>
          <p:nvPicPr>
            <p:cNvPr id="92" name="Picture 2" descr="I5"/>
            <p:cNvPicPr/>
            <p:nvPr/>
          </p:nvPicPr>
          <p:blipFill>
            <a:blip r:embed="rId5"/>
            <a:stretch/>
          </p:blipFill>
          <p:spPr>
            <a:xfrm>
              <a:off x="4648320" y="1447920"/>
              <a:ext cx="16002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Line 14"/>
            <p:cNvSpPr/>
            <p:nvPr/>
          </p:nvSpPr>
          <p:spPr>
            <a:xfrm flipH="1">
              <a:off x="4771080" y="1835640"/>
              <a:ext cx="36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مجموعة 26"/>
          <p:cNvGrpSpPr/>
          <p:nvPr/>
        </p:nvGrpSpPr>
        <p:grpSpPr>
          <a:xfrm>
            <a:off x="4648320" y="4724280"/>
            <a:ext cx="1341360" cy="1455840"/>
            <a:chOff x="4648320" y="4724280"/>
            <a:chExt cx="1341360" cy="1455840"/>
          </a:xfrm>
        </p:grpSpPr>
        <p:graphicFrame>
          <p:nvGraphicFramePr>
            <p:cNvPr id="95" name="Object 15"/>
            <p:cNvGraphicFramePr/>
            <p:nvPr/>
          </p:nvGraphicFramePr>
          <p:xfrm>
            <a:off x="4648320" y="4724280"/>
            <a:ext cx="1341360" cy="1455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6" name="Object 1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8320" y="4724280"/>
                      <a:ext cx="134136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Line 16"/>
            <p:cNvSpPr/>
            <p:nvPr/>
          </p:nvSpPr>
          <p:spPr>
            <a:xfrm>
              <a:off x="4682880" y="5442840"/>
              <a:ext cx="388080" cy="24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3"/>
          <p:cNvSpPr/>
          <p:nvPr/>
        </p:nvSpPr>
        <p:spPr>
          <a:xfrm>
            <a:off x="3352680" y="8478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الرأس أمامية الفكوك (السوس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nath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57200" y="45864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الرأس السفلية الفكوك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(الجرا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4080" y="626256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الرأس مائلة الفكوك (المن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sthorhynch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ound Eyes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أعين المركبة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http://www.technovelgy.com/graphics/content08/fly-eye.jpg"/>
          <p:cNvPicPr/>
          <p:nvPr/>
        </p:nvPicPr>
        <p:blipFill>
          <a:blip r:embed="rId1"/>
          <a:stretch/>
        </p:blipFill>
        <p:spPr>
          <a:xfrm>
            <a:off x="2438280" y="1981080"/>
            <a:ext cx="2343240" cy="2343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alienbug"/>
          <p:cNvPicPr/>
          <p:nvPr/>
        </p:nvPicPr>
        <p:blipFill>
          <a:blip r:embed="rId2"/>
          <a:stretch/>
        </p:blipFill>
        <p:spPr>
          <a:xfrm>
            <a:off x="5486400" y="1981080"/>
            <a:ext cx="1851120" cy="2248200"/>
          </a:xfrm>
          <a:prstGeom prst="rect">
            <a:avLst/>
          </a:prstGeom>
          <a:ln w="0">
            <a:noFill/>
          </a:ln>
        </p:spPr>
      </p:pic>
      <p:sp>
        <p:nvSpPr>
          <p:cNvPr id="104" name="مستطيل 4"/>
          <p:cNvSpPr/>
          <p:nvPr/>
        </p:nvSpPr>
        <p:spPr>
          <a:xfrm>
            <a:off x="457200" y="4591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عظم الحشرات البالغة لديها زوج واحد من العيون المركبة. تغيب في الحشرات الطفيلية، والعديد من حشرات التربة، وفي بعض الأنواع التي تعيش في الأماكن المظلمة جد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mpEye.WMV" descr=""/>
          <p:cNvPicPr/>
          <p:nvPr/>
        </p:nvPicPr>
        <p:blipFill>
          <a:blip r:embed="rId1"/>
          <a:stretch/>
        </p:blipFill>
        <p:spPr>
          <a:xfrm>
            <a:off x="838080" y="62856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21:54:05Z</dcterms:created>
  <dc:creator>user</dc:creator>
  <dc:description/>
  <dc:language>en-US</dc:language>
  <cp:lastModifiedBy>المستخدم</cp:lastModifiedBy>
  <dcterms:modified xsi:type="dcterms:W3CDTF">2013-12-25T05:30:58Z</dcterms:modified>
  <cp:revision>143</cp:revision>
  <dc:subject/>
  <dc:title>PowerPoint Presentation</dc:title>
</cp:coreProperties>
</file>