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82677-C8DC-4D93-89E9-99289294DA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3A031-8218-4E9D-A102-683511AFB6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F4284-B15D-4BF5-9ADD-56B963C12F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BE82D-E942-4863-B6EA-CE43841AB2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3FA1E-7529-405E-8685-2CC6C4C7D2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E6A77-3B2E-4E0A-A672-5AFE2B144A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4BB15-62B3-4B8F-80E7-48B4666A5C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D5D6B-EC3B-4F68-8C46-CC25AFB035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1C49D-3D9E-4562-A870-B7E4F0095D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E6A2F-31DA-47E4-A99F-776A828311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73426-3352-45DE-A0A3-0CC9EF49F6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D4D40-DD95-44F8-A4B5-F370EC86A6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845AE-F762-4BCE-8769-85BB387960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1025B-D6F6-4B23-A40E-19CCE20258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56678-038B-4580-91E8-24E30CE19D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88EB9-BFD0-4CA3-8574-7386501E2C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11A5E-9CB7-4E44-951B-333C5EEC00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0B4B0-DF6D-459A-A789-1E7B48E6D8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BD27D-AC55-4FE4-BEF6-3FE459C28E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BE388-D69A-4415-857B-7BB359EB7E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CC154-CD90-419C-92DF-A03E605FE7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BF069-5CC5-4972-8874-9CF2E78055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51321-7367-4934-A8EA-879183FF27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BC06B-92D7-4FEE-9C8B-AF929913C9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3980-1E86-4181-9ECF-B4C57A662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A557-A087-4A66-A244-A70032C70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F0B8-61EC-4898-85E3-004BF5676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E243-8818-433B-80CC-8DA4D4ECD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E4A88-B660-4213-B5DC-9C9BF289A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AE884-504A-4837-BE15-06AFFC35A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DDB5C-C78F-4FEC-86FE-E73946494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955DE-40C4-41F1-97E9-4CBBA9BBE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912D0-BD0A-46ED-8DBA-9BFBCA707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87A24-AFF6-47CA-9F77-5C8CFEF44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EB9B8-E94D-478D-9CF1-CE2B66A74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7BED-4E9A-4192-80CD-CFBA32895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EDB88-FD39-4E7A-B1CA-2FE74BC23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B0CAF-475D-4863-97A6-7999362A9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A758F-006F-4EFA-B8CB-686218CF9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8235A-4665-4CC8-9771-36C05BFC4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41404-20F7-4E6E-956E-32AE3DBFC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4494-1285-4CDC-BD6A-F15FCEA13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5B77-C413-467F-9703-4A41C7D40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9D43-E22A-4CEB-9769-0B46C0890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4BFE-0CD0-4EC9-9397-55B7A485D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BC21-7D60-4494-B3B6-578B3F7B7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F3F4-A6A2-4642-A072-712CF3D34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65CE-B12A-4905-A25F-173BBC349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897B7-A8B9-4D6E-A2A2-798C81D45C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8000" cy="474840"/>
              <a:chOff x="414360" y="2968560"/>
              <a:chExt cx="7380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4440" y="2968560"/>
                <a:ext cx="36792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E9BE0-3A81-4BB0-8D46-7EC32B97C16B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Labor and delivery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trapartum Care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roductive Health Nursing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UR 32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cture 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ahoma"/>
              </a:rPr>
              <a:t>Signs and symptoms of impeding labor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-lightening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scent of the fetus and uterus into the pelvis cavity 2  to 3 weeks before the onset of labo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7" name="Picture 4" descr="921les10_img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ahoma"/>
              </a:rPr>
              <a:t>Signs and symptoms of impeding labor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-Braxton Hicks contraction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rregular ,intermittent contractions that have occurred throughout the pregnancy ,become uncomfortable and produce a drawing pain in the abdome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ahoma"/>
              </a:rPr>
              <a:t>Signs and symptoms of impeding labor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-Cervical changes: include softe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-Rupture of the amniotic membran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-Burst of energy or increased tension and fatigu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- weight loss: about 1 to 3 pounds may occurs 2 to 3 days before the onset of labo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1143000"/>
            <a:ext cx="779292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True and false labo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403884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False lab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contractions may be irregul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decrease in frequency and intensit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longer interval between contractio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activity has no effect or decrease contra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140440" y="2017440"/>
            <a:ext cx="3814560" cy="43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True la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regular contra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progressive frequency and intensit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shorter interval between contractio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activity increase contractio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182240" y="609480"/>
            <a:ext cx="38149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False Contra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disappear while sleeping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sedation decrease or stop contractio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bloody show usually not pres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no appreciable changes in the cervix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140440" y="609480"/>
            <a:ext cx="38145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rue contra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continue while sleeping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sedation does not stop contractio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bloody show usually pres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progressive thinning and opening of the cervix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Stages of labor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-First stage. begins with the onset of regular contractio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t phase: dilation of cervix to3 to 4 cm. contraction become increa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tive phase: dilation continues from 3 to 4 cm to 7 cm. Contraction become stronger and pain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phase: cervix dilates from 8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tages of labo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- Second stage. (expulsive stage)-begins with complete dilatation of the cervix and ends with delivery of the newbor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it should be complete within one hour after complete dilat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Cont, second stage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Rectangle 2"/>
          <p:cNvSpPr/>
          <p:nvPr/>
        </p:nvSpPr>
        <p:spPr>
          <a:xfrm>
            <a:off x="1371600" y="2133720"/>
            <a:ext cx="4572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Movements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cen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lex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nal rotation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rnal rota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uls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Cont, second stage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”crowning” occurs when the newborns head or presenting part appears at the vaginal openin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”Episiotomy” surgical incision in the perineum-may be done to facilitate delivery and avoid laceration of the perineum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trapartum car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partum period extends from the beginning of contractions that cause cervical dilatation to the first  1 to 4 hours after delivery of the newborn and placent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6" name="Picture 4" descr="Stages of labor and deliver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3-Third stage (placental stage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This stage begins with delivery of the newborn and ends with delivery of placent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It occurs in two phases –placental separation and placental expuls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4-Fourth stage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It lasts from 1 to 4 hours after birth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the mother and the newborn recover from physical process of lab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systems readjust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born body systems begins to adjust to extrauterine lif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-</a:t>
            </a:r>
            <a:r>
              <a:rPr b="1" lang="en-US" sz="2400" spc="-1" strike="noStrike" u="sng">
                <a:solidFill>
                  <a:srgbClr val="333399"/>
                </a:solidFill>
                <a:uFillTx/>
                <a:latin typeface="Tahoma"/>
              </a:rPr>
              <a:t>Intrapartum pain experience.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-overview of pai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-factors affecting perception of intrapartum pai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-physiologic causes of intrapartum pai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-uterine anoxia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-compression of the nerve ganglia in the cervix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-stretching of the cervix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-traction on, stretching  of the perineum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-pressure on the urethra, bladder and rectum during    fetal descent.</a:t>
            </a:r>
            <a:r>
              <a:rPr b="0" lang="ar-SA" sz="22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ahoma"/>
              </a:rPr>
              <a:t>-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istension of the lower uterine segmen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- </a:t>
            </a:r>
            <a:r>
              <a:rPr b="1" lang="en-US" sz="2400" spc="-1" strike="noStrike" u="sng">
                <a:solidFill>
                  <a:srgbClr val="333399"/>
                </a:solidFill>
                <a:uFillTx/>
                <a:latin typeface="Tahoma"/>
              </a:rPr>
              <a:t>Intrauterine pain management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overview of goal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none pharmacologic pain manag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pharmacological pain manag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narcotic analgesic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barbiturat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tranquilizer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regional anesthesi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general anesthesi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actors affecting the intrapartum experienc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l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pregnant health &amp; biophysical preparedness for childbea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tivation for childbea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cioeconomic readi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e of m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femal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Phenomena and process of labor and deliver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set of labor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or is the process by which the fetus and products of conception are expelled as the result of regular ,progressive frequent and strong uterine contractio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oretically ,labor is thought to result from: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- progesterone deprivia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- oxytocin stimula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- fetal endocrine contro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- Uterine decidua  activ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actors affecting labo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40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-passageway: The adequacy of the pelvis and birth canal allowing fetal desc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-passenger: refer to the fet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of fetal hea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tal present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tal posi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tal attitude-the relationship of fetal parts to one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Rectangle 6"/>
          <p:cNvSpPr/>
          <p:nvPr/>
        </p:nvSpPr>
        <p:spPr>
          <a:xfrm>
            <a:off x="685800" y="403848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5" descr="921les10_img_0"/>
          <p:cNvPicPr/>
          <p:nvPr/>
        </p:nvPicPr>
        <p:blipFill>
          <a:blip r:embed="rId1"/>
          <a:stretch/>
        </p:blipFill>
        <p:spPr>
          <a:xfrm>
            <a:off x="0" y="1905120"/>
            <a:ext cx="9144000" cy="495288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6"/>
          <p:cNvSpPr/>
          <p:nvPr/>
        </p:nvSpPr>
        <p:spPr>
          <a:xfrm>
            <a:off x="264240" y="533520"/>
            <a:ext cx="858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Fetal presentation-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part of the fetus that e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maternal pelvis firs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76720" y="228240"/>
            <a:ext cx="2590560" cy="606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etal posi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1" name="Picture 4" descr="921les10_img_4.jpg (60935 bytes)"/>
          <p:cNvPicPr/>
          <p:nvPr/>
        </p:nvPicPr>
        <p:blipFill>
          <a:blip r:embed="rId1"/>
          <a:stretch/>
        </p:blipFill>
        <p:spPr>
          <a:xfrm>
            <a:off x="1371600" y="914400"/>
            <a:ext cx="6553080" cy="59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Factors affecting labor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- power: Frequency, duration and strength of the uterine contractions to cause complete cervical effacement and dilat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-placental factors.-site of placent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-Psyche: client’s psychological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9T12:15:22Z</dcterms:created>
  <dc:creator>ALI</dc:creator>
  <dc:description/>
  <dc:language>en-US</dc:language>
  <cp:lastModifiedBy>User-PC</cp:lastModifiedBy>
  <cp:lastPrinted>2012-09-19T10:01:25Z</cp:lastPrinted>
  <dcterms:modified xsi:type="dcterms:W3CDTF">2017-03-08T07:29:18Z</dcterms:modified>
  <cp:revision>29</cp:revision>
  <dc:subject/>
  <dc:title>Maternal and Child Nursing</dc:title>
</cp:coreProperties>
</file>