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1C81-856F-4294-AA2E-FDCB81BF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0DFC-24D2-4FF9-AF67-C9D51CC69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C76D-E2F6-47C2-8462-45EA5BAA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00D-3633-4AE2-9B37-990B132E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60E8-7031-48D0-BD48-116AEB213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A615-76C7-496F-A710-25CEDE46F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DACB-C2CC-4558-8AED-C49C14E7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540C-107B-408C-8640-58EEA2388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9FCF-A23C-45F1-9AF4-BA3F83BE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C478-ED86-4BC1-9810-28433D38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6B30-D7E5-4AB3-AA3A-057766554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E791-7FA3-46E3-9EAD-4D3A56A4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AF7-3911-4C2B-AE88-A795E527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4036-7028-4ABA-BE30-70BE9F39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52E0-880F-4B87-87C4-47EC1D5E6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E61A-B2F7-43E9-ADCF-3F1BAA53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795E-2085-43A1-B5F3-25517E5CD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4C4E-0194-4F81-8039-E874D8CD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3E73-A605-42BD-87C2-EF7B0186B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C41C-711D-4EBF-B9E5-70C21468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1F6B-4EB1-4B9B-9C54-3EC26CB0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DD9B-6192-49BA-BA02-ECA1D437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60B2-0EE4-4BFA-B730-137993EFC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04C4-A76B-48E9-B025-CB7FCC4E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968-6189-4935-9BF4-205A4826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B14-D236-4A96-9C6C-E3ED2745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9F7-24C5-497A-A514-2751610F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4BA-A303-4B8D-BD75-27D35ABE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E961-EE5C-44AE-A583-429B3E08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27D6-D658-47FE-9A14-C3E10F5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ED21-4F00-4D1B-AD98-D28E039C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6F74-771C-4187-8866-FFE7FE5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7297-1626-4403-A452-C643C66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8196-E93A-49D8-A628-80EB1104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1FDC-745A-48F3-A457-E2A06095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D6F-7E17-426E-99EA-213D3922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2476-028F-4D47-93A1-354B119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25CB-7E0C-492B-B3D9-ED2BDF6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7E6B-ABDA-431F-A1AC-F42EE3D3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9158-003D-4545-887F-BA111D1E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CB3A-A812-423E-BD37-C6DE28DC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29E-379A-4513-8DD5-BFDDAF53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33F-FE9F-49AF-9C6F-2EB3C6F7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B2E-6EE2-425F-80F2-CDA2745F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B92-61D1-4D5F-9A01-04086F82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95E-89FF-490C-B93C-ADEFF6FA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487-77BE-44D4-B303-30283615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952-1B23-4487-8016-FAA3B098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4686-3A23-4292-82D7-374F2A048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3077-D3ED-48D0-A590-6F48468E32C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bor and delivery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apartum Ca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oductive Health Nur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3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igns and symptoms of impeding labor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-lighte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scent of the fetus and uterus into the pelvis cavity 2  to 3 weeks before the onset of lab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4" descr="921les10_im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igns and symptoms of impeding labor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-Braxton Hicks contra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regular ,intermittent contractions that have occurred throughout the pregnancy ,become uncomfortable and produce a drawing pain in the abdo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Signs and symptoms of impeding labor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Cervical changes: include soft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-Rupture of the amniotic membra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Burst of energy or increased tension and fatig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- weight loss: about 1 to 3 pounds may occurs 2 to 3 days before the onset of lab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rue and false lab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alse la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ontractions may be irregu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ecrease in frequency and intens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onger interval between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activity has no effect or decrease cont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440"/>
            <a:ext cx="38145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rue la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egular cont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rogressive frequency and intens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shorter interval between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activity increase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82240" y="609480"/>
            <a:ext cx="3814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lse Cont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isappear while sleep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sedation decrease or stop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bloody show usually not pres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no appreciable changes in the cervix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0440" y="609480"/>
            <a:ext cx="3814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ue contr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ontinue while sleep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sedation does not stop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bloody show usually pres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rogressive thinning and opening of the cervi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ges of labo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First stage. begins with the onset of regular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t phase: dilation of cervix to3 to 4 cm. contraction become incre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phase: dilation continues from 3 to 4 cm to 7 cm. Contraction become stronger and pain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phase: cervix dilates from 8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ges of lab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- Second stage. (expulsive stage)-begins with complete dilatation of the cervix and ends with delivery of the newbor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it should be complete within one hour after complete dila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t, second st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371600" y="213372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Movements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rot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 ro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ul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t, second st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”crowning” occurs when the newborns head or presenting part appears at the vaginal ope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”Episiotomy” surgical incision in the perineum-may be done to facilitate delivery and avoid laceration of the perineu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trapartum ca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partum period extends from the beginning of contractions that cause cervical dilatation to the first  1 to 4 hours after delivery of the newborn and plac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4" descr="Stages of labor and deliv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3-Third stage (placental stag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is stage begins with delivery of the newborn and ends with delivery of plac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It occurs in two phases –placental separation and placental expul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4-Fourth st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It lasts from 1 to 4 hours after bir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he mother and the newborn recover from physical process of lab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systems readjust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born body systems begins to adjust to extrauterine lif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Intrapartum pain experience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overview of pa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factors affecting perception of intrapartum pa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physiologic causes of intrapartum pa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uterine anoxi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compression of the nerve ganglia in the cerv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stretching of the cerv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raction on, stretching  of the perine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pressure on the urethra, bladder and rectum during    fetal descent.</a:t>
            </a:r>
            <a:r>
              <a:rPr b="0" lang="ar-SA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ahoma"/>
              </a:rPr>
              <a:t>-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ension of the lower uterine seg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Intrauterine pain managemen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overview of go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none pharmacologic pain manag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harmacological pain manag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narcotic analges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barbitur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ranquiliz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regional anesthe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general anesthe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actors affecting the intrapartum 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regnant health &amp; biophysical preparedness for childbe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vation for childbe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oeconomic read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 of m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ema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henomena and process of labor and deliv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set of labor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or is the process by which the fetus and products of conception are expelled as the result of regular ,progressive frequent and strong uterine contra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ly ,labor is thought to result from: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- progesterone depriv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- oxytocin stim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- fetal endocrine contr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- Uterine decidua  ac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actors affecting lab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passageway: The adequacy of the pelvis and birth canal allowing fetal desc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-passenger: refer to the fe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of fetal he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al pres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al pos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al attitude-the relationship of fetal parts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85800" y="4038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921les10_img_0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264240" y="533520"/>
            <a:ext cx="858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etal presentation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t of the fetus that e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aternal pelvis fir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259056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etal posi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921les10_img_4.jpg (60935 bytes)"/>
          <p:cNvPicPr/>
          <p:nvPr/>
        </p:nvPicPr>
        <p:blipFill>
          <a:blip r:embed="rId1"/>
          <a:stretch/>
        </p:blipFill>
        <p:spPr>
          <a:xfrm>
            <a:off x="1371600" y="914400"/>
            <a:ext cx="6553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s affecting labo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- power: Frequency, duration and strength of the uterine contractions to cause complete cervical effacement and dila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-placental factors.-site of plac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Psyche: client’s psychological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2:15:22Z</dcterms:created>
  <dc:creator>ALI</dc:creator>
  <dc:description/>
  <dc:language>en-US</dc:language>
  <cp:lastModifiedBy>User-PC</cp:lastModifiedBy>
  <cp:lastPrinted>2012-09-19T10:01:25Z</cp:lastPrinted>
  <dcterms:modified xsi:type="dcterms:W3CDTF">2017-03-08T07:29:18Z</dcterms:modified>
  <cp:revision>29</cp:revision>
  <dc:subject/>
  <dc:title>Maternal and Child Nursing</dc:title>
</cp:coreProperties>
</file>