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407-F7CA-4A80-896C-4C6ABA83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F1E-9FD7-4A07-A0E4-0F40DC6D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A1EC5-EF00-44E0-9563-D4A02A5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E477A-476A-413F-BC50-41C7DE15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A10DB-9845-4344-AD53-8F4B8944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2E66F-11A2-4049-BAF1-7F1F2EDB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6D849-6D09-4CAD-801C-A873C70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4E658-08D3-42CD-A167-40E33FF2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2E4E0-D91C-4F7F-98AF-E91A5881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BF122-CA7B-48E7-AA8F-03C4E56E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1FA37-146E-478D-A684-F06A3525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E31E8-6E09-497B-8EB8-41EA945A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E14-9511-48E8-8E2C-526BE180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BDE61-13EB-4405-8D88-8176CCDE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9AA6E-CEBA-4CDA-938E-06680E1A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FA5F4-A8EE-457F-B47C-6550E8F4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7CD3F-BAF4-4B60-9BD4-BA2DD7FF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FE07F-2C1B-4D0B-B3FE-05D49CE9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97CA3-67F3-4B71-A9D5-F27462E9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E93F4-CA46-4788-99C0-A84467B3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BE2BB-477F-4423-B24A-30D76CD4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113A2-728D-4AF0-9B7E-47AD2673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D69DE-09CE-4215-88E7-C3DD603B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816-75B5-44C2-A3D4-64087FCF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2157E-B9EC-43CE-BFE6-06D657BC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29365-C13E-40D3-A546-D4244B2C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2FF1D-A507-4F7A-9145-0CE586E0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5F886-7653-4E0C-AF9F-DC324A09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2FD93-9289-449C-B00F-0D72435F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0430E-9946-4F39-92BD-76078552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6D0EE-AB1B-484F-8F57-6B18B57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B205-A114-44A1-9CAD-9DF1575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C8987-7DFB-41DC-B743-E483C708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32D06-6E9E-4501-BE4E-0E5FE44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47DC-B2C3-4EB4-B10D-0508E438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A51D3-0E50-4AB5-B1E1-D75BD699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48238-D972-4AAA-A6F7-27ADF9A3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A1EED-9B7D-4DC0-A00E-6F9A8D99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965A2-2FDB-43CF-B290-21B13A0A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9D89D-2F98-492B-8574-212E5890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DC94B-75C4-42A4-8E17-770F84AD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B60B9-4792-4092-BA3B-49336BDA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778FE-DDEC-452F-B6B8-48D538D7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370E5-CC78-4CF3-A2AE-1E499B41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9DDCA-AC22-4262-9F87-8E4C440C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C5B6-D782-46AE-8B52-EA9484A9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51B15-311E-41CF-A96D-017058B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91FB2-98F7-4BDC-9CE8-489FEA5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50E6B-6F83-430F-A9EB-681E1C0F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D1723-3FA9-483A-B582-7C741AED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0FA1A-1D2C-4C23-AAAC-5D4BC442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C1CFD-018D-40A2-9B87-2E396319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AAFFC-46B7-41DB-8BFB-6F20F81D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1167A-FAB7-4A8F-BF34-BBBC97FC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BDDB6-C010-4702-B4EF-0F6E77E9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8B9C8-8C05-4AF7-B143-F3253E76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4031-ECAA-4C82-BEA4-C6BD311A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266A9-80F7-478A-879D-A44C5E72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0D694-6A14-43FD-A435-86E4B8FB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A2FE5-411D-4327-9BD6-C14D320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BAC3B-DEED-4980-A34E-E87E99D1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C13BE-E57E-4D6B-98F8-3D2D008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4A523-5514-4275-9A93-11E1DC0C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2915A-4EE3-4423-9A08-2B1E866C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D0DA-EB2F-4358-A388-67202185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A535-FF80-49F3-BF05-58A677F8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EA04-889C-47C8-B749-F47132D9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F651-EEA4-4CE3-8FE4-55876ED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5F0-009C-4CAA-AEE4-92958B42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39C7-2619-493B-B4C1-5BD23E75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B07F-9796-415F-8BBD-76E434B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8F20-C53B-45F8-A9AB-FCD59242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2FAF-D67B-4581-A585-F918AEDF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690B-D41B-4E45-96CF-46BE4C32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A79F-0071-4B8A-A11A-C250A38A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7666-18CB-4842-8830-386322C5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8E9E4-FD60-47F0-A94A-4DF63481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AD61-C843-41E2-99DF-4D657E3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5201-93AF-4DF8-9A47-F78BC2AE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F9B-1F54-44B6-977A-5D19016E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3160-4E5B-462C-983F-1A593713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C36A-033B-4AAD-8948-DAAF0D28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6453-A6E2-4E1B-807B-D8429E73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8C80-86A3-402E-B047-8DE15941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F9EE-408C-4B5F-B833-9FD37C8E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B879-9BC5-42AC-9F97-82782DC7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AC16-9D46-4687-B32F-B296B5A4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66B4-FCD8-4873-A5E1-78CF9309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EDFD-3794-4E9B-8A94-242E34FD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2BC2-3CFE-4E16-BFC3-B96C1AA6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14E-C360-4106-8988-634FF681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D785-DA22-49E2-A9C2-D1BE2F19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96244-E27C-4C25-9E8C-7FB5F40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ED77-1FC0-44F4-BB4C-C2387D69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D022-FFA3-4517-A33F-BF449705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4242-5CB0-44FA-807F-114791FE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0A5F-ECD9-4F14-B87D-53DB29B3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7EA96-5694-45B8-AE77-23429016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476D-E419-4915-ACC3-A1B0C14B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43F8-615A-4630-9732-3D23BF46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0376C-8180-471E-B2B2-859B9122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6BC-ADE9-4656-9BE7-9D242828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292E-0A5A-49CB-9978-106EF317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82869-98A5-4440-A747-43EB6DB8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502E4-AF05-4850-84A2-FA318E6E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84F2-6970-4678-B971-E392EEEB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95AE-6013-4BA9-9B30-3E371022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0CD8-50C4-4248-89A7-F850F62F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DBAD4-6156-402E-B3B3-E3EAE88F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7A5FD-713A-48C9-B26F-45387C2A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6C642-867B-4688-895C-4ED20DDF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BB9F-F20F-4AB4-8A19-4FDD0CFA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A61-737B-47B3-AEDC-2AE616AF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C977A-0740-469B-B5EB-D87C1860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5CDE9-51AB-433D-9B86-B434AA11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D451D-8F3E-4BC2-AF3D-E93A99F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77771-5AC3-48BC-B75F-C46F76E6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A9F8-ECD7-4BE3-91D8-A0C059A9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69B58-815B-43BA-A67F-1DF549C5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91369-6C3C-44C6-8117-F698E189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2C6B4-0BC8-433F-8CE1-8D7ABA7D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B409-7CB6-4FD1-90B5-E10680F1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4A3D-B7D3-4C94-A0BE-3142C23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901-89D9-45E6-B09D-DC8A1830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65A55-6623-4874-8624-CC6ED1AD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34667-0862-444D-A316-C4843D79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860D1-15D6-4605-9C2C-20CAEBD9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59F55-58BD-41BB-9971-41B6048B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86B83-9BEE-44A9-90D5-F5F70D9B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936D7-BE33-480D-8349-0F534FDD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12164-2EE7-4D2B-8419-1B1D5BCF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C9FD3-3C37-4BA3-974E-04FD7C7E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F64E9-2425-448B-8AEB-DC3DE47D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D68F8-3B2B-4D9B-860B-73C97D61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024-810A-423D-8924-5885B77C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088E4-B309-4063-BE7C-8CA1920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92BD1-9725-443E-AE47-4B6F6D06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64148-0A65-42B4-90D2-67EB6FA3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FE146-129E-453A-9953-231A7133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6B0F0-04B4-4C4D-B852-A9121315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5DEA2-C1A0-4D85-8239-72B4EE03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34C3-7517-488A-9B1C-68E608D5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35E08-DC83-4F0D-83F8-5194555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C1D2D-2E97-42F0-94EB-341AEF43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A7D78-6DBF-46BC-9540-859E65AD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A6C-52DF-40DF-B4F2-C9AAF4AA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EA19D-C512-443A-83FA-35DD0A13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82197-04EA-4880-B90C-C9740AED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13A08-DA41-4954-9898-1A7CE5D4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58404-9A9E-4A42-B3B5-CEA248A2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83F15-14C6-415A-A64A-E46BB63C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B114D-7AB1-402A-ABA4-547390A2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9C25B-9FD2-472E-BA90-528EE511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B765-C2BC-4BB9-AA72-BF6359E9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9B03D-4835-468D-AFD2-24E58F00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2B474-F8F5-4369-A98D-F62EF73B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3B35-18F2-4D0F-AE5D-CDD933D8B2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B13F-5AEE-4EB9-BB74-50F4DC7C0F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7617-5C6D-4677-ABA8-726C3C22DD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9FF-969C-4C3E-A3A7-AC12D995E8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ED00-131F-46E7-874D-DA13C2D6E3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5A1-DE0F-4C85-9556-6E09363910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66E2-C6A5-4BA7-B577-114982270D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6FB7-258E-4802-9315-AAA7709962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7B30-6400-4043-99CD-4FC567FDAF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84F7-84D1-41A5-A62B-5E8494A669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10B7-274F-45D1-8EAD-E4ADB396D9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1FBA-F8A8-414F-BDEB-E4583D8054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A97D-112E-4FDE-A64A-E99E7108F5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ysoso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 membrane-bounded sac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zymes that digests macromolecu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sosomal enzym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rk best a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 = 5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idic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ysosomal enzy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ynthesiz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g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transferred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lg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s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)- Lys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e digestiv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00016766"/>
          <p:cNvPicPr/>
          <p:nvPr/>
        </p:nvPicPr>
        <p:blipFill>
          <a:blip r:embed="rId1"/>
          <a:stretch/>
        </p:blipFill>
        <p:spPr>
          <a:xfrm>
            <a:off x="152280" y="4049640"/>
            <a:ext cx="4038840" cy="2654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2"/>
          <a:stretch/>
        </p:blipFill>
        <p:spPr>
          <a:xfrm>
            <a:off x="4114800" y="4724280"/>
            <a:ext cx="4724280" cy="1916280"/>
          </a:xfrm>
          <a:prstGeom prst="rect">
            <a:avLst/>
          </a:prstGeom>
          <a:ln w="0">
            <a:noFill/>
          </a:ln>
        </p:spPr>
      </p:pic>
      <p:sp>
        <p:nvSpPr>
          <p:cNvPr id="57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673200" y="154080"/>
            <a:ext cx="7404120" cy="63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76320" y="1298160"/>
            <a:ext cx="86868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)-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itochondria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rod-shaped organelles that convert oxygen and nutrients into ATP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nosine triphosphat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erobic respi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Impac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Impact"/>
              </a:rPr>
              <a:t>Mitochondria are the sites of cellular respi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t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rom the catabolism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sugars,                  fats, and other fuels in the presence of oxy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Almost all eukaryotic cells have mitochondr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ochondria and chloroplasts are mobile                                               and move around the cell along tracks in                                          the cytoskeleton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1828800" y="228600"/>
            <a:ext cx="5791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mitochondriafigure1"/>
          <p:cNvPicPr/>
          <p:nvPr/>
        </p:nvPicPr>
        <p:blipFill>
          <a:blip r:embed="rId1"/>
          <a:srcRect l="2171" t="8698" r="4354" b="6990"/>
          <a:stretch/>
        </p:blipFill>
        <p:spPr>
          <a:xfrm>
            <a:off x="6907320" y="3581280"/>
            <a:ext cx="2236680" cy="3025800"/>
          </a:xfrm>
          <a:prstGeom prst="rect">
            <a:avLst/>
          </a:prstGeom>
          <a:ln w="0">
            <a:noFill/>
          </a:ln>
        </p:spPr>
      </p:pic>
      <p:sp>
        <p:nvSpPr>
          <p:cNvPr id="58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7379-4F1F-4E6D-B2A8-F3B64DAE76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rcRect l="20834" t="23336" r="21667" b="88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EA13-13BC-4DFF-861D-AF902F48CD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he endoplasmic reticulum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R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cellular high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601956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internal membrane, Composed of Lipid bi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a system of channels from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in storage and 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ose are different  in structure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oks smooth 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cks ( does not have )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oks rough 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3"/>
          <p:cNvGrpSpPr/>
          <p:nvPr/>
        </p:nvGrpSpPr>
        <p:grpSpPr>
          <a:xfrm>
            <a:off x="6095880" y="1295280"/>
            <a:ext cx="2895840" cy="5486040"/>
            <a:chOff x="6095880" y="1295280"/>
            <a:chExt cx="2895840" cy="5486040"/>
          </a:xfrm>
        </p:grpSpPr>
        <p:pic>
          <p:nvPicPr>
            <p:cNvPr id="557" name="Picture 3" descr=""/>
            <p:cNvPicPr/>
            <p:nvPr/>
          </p:nvPicPr>
          <p:blipFill>
            <a:blip r:embed="rId1"/>
            <a:srcRect l="7892" t="0" r="6821" b="33987"/>
            <a:stretch/>
          </p:blipFill>
          <p:spPr>
            <a:xfrm>
              <a:off x="6095880" y="1295280"/>
              <a:ext cx="2838960" cy="344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10" descr=""/>
            <p:cNvPicPr/>
            <p:nvPr/>
          </p:nvPicPr>
          <p:blipFill>
            <a:blip r:embed="rId2"/>
            <a:stretch/>
          </p:blipFill>
          <p:spPr>
            <a:xfrm rot="5400000">
              <a:off x="6480000" y="4269600"/>
              <a:ext cx="21272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1"/>
            <p:cNvSpPr/>
            <p:nvPr/>
          </p:nvSpPr>
          <p:spPr>
            <a:xfrm>
              <a:off x="8001360" y="6342480"/>
              <a:ext cx="99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Smoo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6323040" y="6283080"/>
              <a:ext cx="90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oug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6"/>
          <p:cNvSpPr/>
          <p:nvPr/>
        </p:nvSpPr>
        <p:spPr>
          <a:xfrm>
            <a:off x="343080" y="1143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15400" cy="69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Smooth as it lacks the associated ribosome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rich in enzymes and plays a role in metabolic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s enzymes synthesiz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p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ils, phospholipids and steroids) including the sex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ve 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l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t helps in detoxifying drugs and po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rough 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“rough” because of the associated ribosomes (sit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ynth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especially abundant in those cells that secrete protei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 a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igestiv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tibody-produc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secretory proteins are packaged in transport vesicles that carry them to their next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8"/>
          <p:cNvGrpSpPr/>
          <p:nvPr/>
        </p:nvGrpSpPr>
        <p:grpSpPr>
          <a:xfrm>
            <a:off x="3962520" y="3962520"/>
            <a:ext cx="2438280" cy="2895120"/>
            <a:chOff x="3962520" y="3962520"/>
            <a:chExt cx="2438280" cy="2895120"/>
          </a:xfrm>
        </p:grpSpPr>
        <p:sp>
          <p:nvSpPr>
            <p:cNvPr id="565" name="Rectangle 9"/>
            <p:cNvSpPr/>
            <p:nvPr/>
          </p:nvSpPr>
          <p:spPr>
            <a:xfrm>
              <a:off x="3962520" y="3962520"/>
              <a:ext cx="2438280" cy="28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0" descr=""/>
            <p:cNvPicPr/>
            <p:nvPr/>
          </p:nvPicPr>
          <p:blipFill>
            <a:blip r:embed="rId1"/>
            <a:stretch/>
          </p:blipFill>
          <p:spPr>
            <a:xfrm>
              <a:off x="4052520" y="3962520"/>
              <a:ext cx="2347920" cy="289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-360" y="1023480"/>
            <a:ext cx="883908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on of Golgi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, package, and distribute molecules synthesized at one location in the cell and utilized at another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ack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ternae – stacked membrane f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transport vesicles from the ER travel to the Golgi apparatus for modification of their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lgi body’s  function is manufacturing, warehousing, sor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cka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shipp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s to outside the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Golgi apparatus is more abundant in secretory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Golgi apparatus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finishes, sorts, packages and ships cell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52280" y="3921120"/>
            <a:ext cx="381024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lgi also manufactures pectin and polysacchar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correctly send proteins to their respectiv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Golgi makes a mistake in shipping the proteins to the right address, certain functions in the cell may stop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1" descr="05_15a"/>
          <p:cNvPicPr/>
          <p:nvPr/>
        </p:nvPicPr>
        <p:blipFill>
          <a:blip r:embed="rId2"/>
          <a:srcRect l="0" t="10000" r="0" b="18339"/>
          <a:stretch/>
        </p:blipFill>
        <p:spPr>
          <a:xfrm>
            <a:off x="6400800" y="388620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571" name="Line 6"/>
          <p:cNvSpPr/>
          <p:nvPr/>
        </p:nvSpPr>
        <p:spPr>
          <a:xfrm>
            <a:off x="34308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المستخدم</cp:lastModifiedBy>
  <dcterms:modified xsi:type="dcterms:W3CDTF">2017-09-18T06:49:24Z</dcterms:modified>
  <cp:revision>294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