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005-013F-4209-9385-B90EFFB7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3AB-EF0C-473E-8FB5-840A755C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41BDA-950C-485B-9523-510E4D37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2F091-8E93-4998-AA28-309877F5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31C99-B7A6-4A71-9B16-E448AC08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5858-D844-41B3-9DF7-726B4AE8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5828C-E5F3-439B-8519-32D51BD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D5675-093C-4560-9E91-B198F5FD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4A005-9402-4925-A9F0-6EB7834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F7B4C-4FCA-4192-AF3A-36F4BC05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EA750-B041-4CE3-813A-4F58A461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160FB-2C41-45C5-A254-4B5FB34D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FD0-5F2C-456E-BBC5-EC651A01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1127B-DA4E-48E6-BA56-22C5C38A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43E74-DD79-4334-B6FF-5E27063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B6E34-0CCE-4613-B230-C87A5E47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691B4-8119-42C2-9819-6D330F1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1D06C-95A3-4B57-BCAB-DC01582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48158-69FF-4B29-B2CB-B85EB69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D46AF-BC1C-421A-A3CC-90F7167C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33482-452F-43AF-B768-58AD8D6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3E737-0EA3-4BF1-9FFE-374382A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D92B2-06F4-4FBA-B821-F901C05B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3F4-8DA9-4257-95BD-30A2FE97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D6AC1-24CA-481E-89F8-23DD3D29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E6E31-1F5B-40E7-9A8A-02E37BA5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3AC69-B33D-459C-80DA-94BD248A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0F7AE-7A14-451A-9649-2C51DE6E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6AEBC-C369-48D9-92AC-9AEEDBF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8853C-6548-4B94-A068-5715E458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DA431-0169-49B7-8044-4DA419D6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0CF8B-C7B8-41DF-BF55-C4933181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44152-A4BD-44EC-8A17-7E84260D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B353-6D8F-40D3-BF5E-7DAB1BB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EDD8-C49A-44AD-B645-3706FAB1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56F95-06A2-4EF4-AB66-35339062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92123-4C56-435F-8AE5-D22E2C2C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93836-26AB-450B-809C-FFDF5EE9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8E697-E065-4610-B7B2-D0290666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D9348-1A22-4A21-BE4D-267D9AD0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4C5F3-B620-4B1A-B221-70727509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2B294-A50C-4F92-85F5-CD3CC3F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1AB53-6D92-4FEB-B819-DDE0E6F2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FE99E-9692-4F5C-9B29-BEED7CDD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30B14-4902-45D3-8CB9-215EC33F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9B56-42A6-422B-88D9-E217A4F0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DFA85-94C1-4B3A-8BB0-E7EA20A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22FBE-39A3-4D9E-ACD3-8DFCB08C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15804-9275-4A53-8C77-4F8A0487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6AA80-5D29-4017-A6FD-4631C10B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6310-1108-4761-A22B-D39E660D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D664A-1CB6-4508-991A-60E578F3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AF042D-EE16-4852-8FFF-E88CC59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23B2F-E0DF-49E9-B202-E379346B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ECC926-06BC-4942-8053-19C7372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427A2-B6B7-4C17-BB37-5ABAD906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5DE0-3658-4232-85EF-079F5608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2678B-013C-4FFF-BFA9-6FF62656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97119-0D20-409B-934E-7133C2B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0D8EC-E2CC-4D8A-8B4F-EEC2452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9DD8E-48B7-45AF-8975-6004D40A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B8CA6-9D5D-46AF-87B7-1E60AAF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4269C-42F5-49C0-9230-EDDB12FC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30FE6-5456-42D0-B7D4-D84F3306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3F04-EE26-4E23-99AE-F0CE078D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EBB5-43FE-4CA1-A3E3-C8B9EF9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E4B8-F16E-4393-AE6F-C6F6BE62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A619-DC81-4089-AB1B-1D9B847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9C6-A240-4391-98EE-37FBDE78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67C7-BC08-4985-AC5B-4975413B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57CF-AA65-4C9B-A7C8-359E70C8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D1FF-F538-4D63-9F44-F6D77388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97DB-4BE4-4D2F-8715-F80FD4F8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A463-7841-4214-A09A-119123D4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DD46-4C96-48C6-9529-670F7DC5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C6B1-31A9-4EE9-AD86-28D85651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0018-22BF-44BD-8290-BA8734E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2F80-D445-46DE-8E5B-091F9D4F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2E80-28A2-47EC-819A-8E4CDD64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418-60C3-4CC9-B448-4CAC5B7E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0EEC-80B6-47ED-9ACB-88BD9B1F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3D980-8468-404F-881C-2DE63497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288C-BA39-4B65-BE96-97FE56F6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5EAC-3C6A-48B2-A0E4-14A2ADDA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7B3F0-983B-431D-A003-9019740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8F7F5-F046-465D-B67B-94983690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A6C9-8E94-49CD-8067-5DDA080FC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8B8A-F92B-4CED-AEC7-8FB92092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A4F1-F6B0-464E-A110-E239D8F7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EE2B-CE62-4750-959E-8E5E6CA1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E4B-CEB7-43D5-A4C6-148ABA2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59864-0CBB-4F4F-8E7C-7CF62B57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CC2B7-308A-44CB-A992-24E0A20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8906-0357-49FE-8629-013A6E2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BFC05-FCDB-4BE5-9286-1DB2286E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BD4D5-1F84-4482-9A19-12042025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412A3-5EA4-4B98-A54F-33F54529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C7104-942B-48C5-80C5-D8A842F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8C4D2-8380-47D1-99C1-EF9F9D3E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BB6DB-9391-44AC-9998-14CECDCA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A719-50C6-497A-A1B3-C14C108B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810-3D3B-4857-BEA4-23D87092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1420-5205-4A37-93A0-42C88C40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A7478-600B-4D63-8CDD-5C92CBC8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9EAE7-2BB3-427D-BEB0-65EF58A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D4723-F0B7-4965-8620-2D6AD7B4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B934-E8B9-48EB-875B-7C13EDF5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BAC9-E76B-49CE-8745-8E1FF2B5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51642-22BD-4A68-8981-1ECBE1C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5B672-76D4-4FC1-B177-A14C6C3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183C5-8CE1-4B94-962C-4DE69CD5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442B5-6E83-4756-B2F5-6A347718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67F-963F-42C8-ACDE-468C6F6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F8B5E-AFAD-4FA1-903A-C98E5ADC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FBF3-1F19-4F03-A625-B0530CA1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C11C4-58C1-47FC-A2DD-1120A5FF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ACEC-1D00-4514-B3B0-843DD34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230D-EE92-47CC-A1A0-2F6757E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6AB0E-3FCC-4629-BF96-4CAA22D4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A9BD7-932C-47CD-86E0-3D21EB33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B51A8-B3CE-46A3-9C0F-3BB2C218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FDBFD-EBBF-4B7A-94CA-EC0D4E8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12F79-88A3-4286-9E28-B198E10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BA7-3D37-47C7-B6CD-843E90D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3690-0604-47FE-80F0-60C9826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16C3-0CFB-4676-A257-06257702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FE1E6-E4E6-45A1-B317-A1D12B42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C6877-F31F-47F6-BF54-D208C80D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8ABE0-DD67-460C-A8A3-A813C9C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0929-055F-43B8-854C-9B3B764D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E5CE4-1C03-4794-8B11-A017C5BA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C461F-E631-4705-BB10-013C5E0D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CDF13-816E-4D40-A625-EE59B6EE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6CA9-7E3E-400B-933F-7F174073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C29-4C03-47E7-839B-5859AFEF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6F99-9FEA-41A6-A432-1586A636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B5EDC-71C4-426D-ADF9-A2A97937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765A-F438-43C4-B6B3-A37809DD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A979D-9717-44EE-9B12-971D48EC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31C2-15F5-4044-866B-EFE1410E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C85AD-3881-4F1F-836E-5B100D14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76D7D-230D-446E-BEF2-FF602C09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DF5FA-5123-496F-8AFC-3828DF21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B0287-4629-4EB4-850A-619B0F7E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3816C-FCFE-4A29-857C-BEDB9252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F10-4196-43CA-B0BC-B28F88F1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7E7C3-D299-4246-AD9D-165E5BEE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27347-DDD7-4813-A6E6-47F87F1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15AD8-9709-42DE-AB50-F3E6F1B5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FA35-4D52-458A-AD6C-F95CCAC7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7F14D-0219-4BDA-8B2A-BB7F6CA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D885A-7563-409A-BE25-58FB28F9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C379C-38F3-4533-9C08-4BC1433C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571C9-4AD6-4CCD-A0C5-0A452B3D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9E9B6-5FAE-425B-AF79-6561FAF6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0A95A-E458-47B0-BAAE-3E6E936D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C9B5-B0AA-45A9-8990-D13F344FC4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B6B-7096-44B8-93B6-F993762D14F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3E4C-ADC0-400C-9DD5-4D01B98DBE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884-37CE-4A4E-8BE2-8499BAA493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EB95-1E71-4FA5-8899-7199A00482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C990-BB73-4F5E-918A-3BAE994CDB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F148-0B78-48BC-9A3D-36306B8405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28DD-3299-4F82-B0B7-712F897993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6DE1-627D-4130-AD7B-B4BF233263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051F-C9AB-4789-9F02-641C000AB8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F411-CC0E-4EE7-BE76-289A95940D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9E56-F963-437E-9278-CBB550F5A3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B091-14FC-4A1F-B8F4-2AFB0C651E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868680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ysosom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 membrane-bounded sac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zymes that digests macromolecul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sosomal enzym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rk best a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 = 5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idic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ysosomal enzy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ynthes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g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transferred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l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s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)- Lys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e digestiv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00016766"/>
          <p:cNvPicPr/>
          <p:nvPr/>
        </p:nvPicPr>
        <p:blipFill>
          <a:blip r:embed="rId1"/>
          <a:stretch/>
        </p:blipFill>
        <p:spPr>
          <a:xfrm>
            <a:off x="152280" y="4049640"/>
            <a:ext cx="4038840" cy="2654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9" descr=""/>
          <p:cNvPicPr/>
          <p:nvPr/>
        </p:nvPicPr>
        <p:blipFill>
          <a:blip r:embed="rId2"/>
          <a:stretch/>
        </p:blipFill>
        <p:spPr>
          <a:xfrm>
            <a:off x="4114800" y="4724280"/>
            <a:ext cx="4724280" cy="1916280"/>
          </a:xfrm>
          <a:prstGeom prst="rect">
            <a:avLst/>
          </a:prstGeom>
          <a:ln w="0">
            <a:noFill/>
          </a:ln>
        </p:spPr>
      </p:pic>
      <p:sp>
        <p:nvSpPr>
          <p:cNvPr id="57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673200" y="154080"/>
            <a:ext cx="7404120" cy="63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76320" y="1298160"/>
            <a:ext cx="86868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)-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itochondria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rod-shaped organelles that convert oxygen and nutrients into ATP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nosine triphosphate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erobic respi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Impac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Impact"/>
              </a:rPr>
              <a:t>Mitochondria are the sites of cellular respi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ting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P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from the catabolism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sugars,                  fats, and other fuels in the presence of oxy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Almost all eukaryotic cells have mitochondri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tochondria and chloroplasts are mobile                                               and move around the cell along tracks in                                          the cytoskeleton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1828800" y="228600"/>
            <a:ext cx="5791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mitochondriafigure1"/>
          <p:cNvPicPr/>
          <p:nvPr/>
        </p:nvPicPr>
        <p:blipFill>
          <a:blip r:embed="rId1"/>
          <a:srcRect l="2171" t="8698" r="4354" b="6990"/>
          <a:stretch/>
        </p:blipFill>
        <p:spPr>
          <a:xfrm>
            <a:off x="6907320" y="3581280"/>
            <a:ext cx="2236680" cy="3025800"/>
          </a:xfrm>
          <a:prstGeom prst="rect">
            <a:avLst/>
          </a:prstGeom>
          <a:ln w="0">
            <a:noFill/>
          </a:ln>
        </p:spPr>
      </p:pic>
      <p:sp>
        <p:nvSpPr>
          <p:cNvPr id="58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51BB-D71B-4231-BD8D-4E2AC61D24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rcRect l="20834" t="23336" r="21667" b="888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291C-698D-430D-9994-6C6FE81C5A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he endoplasmic reticulum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R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cellular high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5960" y="1295280"/>
            <a:ext cx="601956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internal membrane, Composed of Lipid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a system of channels from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in storage and 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ose are different 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smooth 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cks ( does not have )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rough because ribosom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attached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13"/>
          <p:cNvGrpSpPr/>
          <p:nvPr/>
        </p:nvGrpSpPr>
        <p:grpSpPr>
          <a:xfrm>
            <a:off x="6095880" y="1295280"/>
            <a:ext cx="2895840" cy="5486040"/>
            <a:chOff x="6095880" y="1295280"/>
            <a:chExt cx="2895840" cy="5486040"/>
          </a:xfrm>
        </p:grpSpPr>
        <p:pic>
          <p:nvPicPr>
            <p:cNvPr id="557" name="Picture 3" descr=""/>
            <p:cNvPicPr/>
            <p:nvPr/>
          </p:nvPicPr>
          <p:blipFill>
            <a:blip r:embed="rId1"/>
            <a:srcRect l="7892" t="0" r="6821" b="33987"/>
            <a:stretch/>
          </p:blipFill>
          <p:spPr>
            <a:xfrm>
              <a:off x="6095880" y="1295280"/>
              <a:ext cx="2838960" cy="344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10" descr=""/>
            <p:cNvPicPr/>
            <p:nvPr/>
          </p:nvPicPr>
          <p:blipFill>
            <a:blip r:embed="rId2"/>
            <a:stretch/>
          </p:blipFill>
          <p:spPr>
            <a:xfrm rot="5400000">
              <a:off x="6480000" y="4269600"/>
              <a:ext cx="212724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1"/>
            <p:cNvSpPr/>
            <p:nvPr/>
          </p:nvSpPr>
          <p:spPr>
            <a:xfrm>
              <a:off x="8001360" y="6342480"/>
              <a:ext cx="99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moo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6323040" y="6283080"/>
              <a:ext cx="90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ug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Line 6"/>
          <p:cNvSpPr/>
          <p:nvPr/>
        </p:nvSpPr>
        <p:spPr>
          <a:xfrm>
            <a:off x="343080" y="114300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51920" y="304560"/>
            <a:ext cx="8915400" cy="69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Smooth as it lacks the associated ribosome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rich in enzymes and plays a role in metabolic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s enzymes synthesiz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ip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ils, phospholipids and steroids) including the sex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ve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li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helps in detoxifying drugs and po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rough 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“rough” because of the associated ribosomes (sit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ynth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especially abundant in those cells that secrete protei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igestiv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tibody-produc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secretory proteins are packaged in transport vesicles that carry them to their next st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8"/>
          <p:cNvGrpSpPr/>
          <p:nvPr/>
        </p:nvGrpSpPr>
        <p:grpSpPr>
          <a:xfrm>
            <a:off x="3962520" y="3962520"/>
            <a:ext cx="2438280" cy="2895120"/>
            <a:chOff x="3962520" y="3962520"/>
            <a:chExt cx="2438280" cy="2895120"/>
          </a:xfrm>
        </p:grpSpPr>
        <p:sp>
          <p:nvSpPr>
            <p:cNvPr id="565" name="Rectangle 9"/>
            <p:cNvSpPr/>
            <p:nvPr/>
          </p:nvSpPr>
          <p:spPr>
            <a:xfrm>
              <a:off x="3962520" y="3962520"/>
              <a:ext cx="2438280" cy="289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10" descr=""/>
            <p:cNvPicPr/>
            <p:nvPr/>
          </p:nvPicPr>
          <p:blipFill>
            <a:blip r:embed="rId1"/>
            <a:stretch/>
          </p:blipFill>
          <p:spPr>
            <a:xfrm>
              <a:off x="4052520" y="3962520"/>
              <a:ext cx="2347920" cy="289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-360" y="1023480"/>
            <a:ext cx="883908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on of Golgi bo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, package, and distribute molecules synthesized at one location in the cell and utilized at another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ack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ternae – stacked membrane f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transport vesicles from the ER travel to the Golgi apparatus for modification of their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lgi body’s  function is manufacturing, warehousing, sor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ck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shipp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 to outside the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Golgi apparatus is more abundant in secretory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Golgi apparatu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finishes, sorts, packages and ships cell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52280" y="3921120"/>
            <a:ext cx="381024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lgi also manufactures pectin and polysacchar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orrectly send proteins to their respectiv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Golgi makes a mistake in shipping the proteins to the right address, certain functions in the cell may stop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1" descr="05_15a"/>
          <p:cNvPicPr/>
          <p:nvPr/>
        </p:nvPicPr>
        <p:blipFill>
          <a:blip r:embed="rId2"/>
          <a:srcRect l="0" t="10000" r="0" b="18339"/>
          <a:stretch/>
        </p:blipFill>
        <p:spPr>
          <a:xfrm>
            <a:off x="6400800" y="3886200"/>
            <a:ext cx="2743200" cy="2971800"/>
          </a:xfrm>
          <a:prstGeom prst="rect">
            <a:avLst/>
          </a:prstGeom>
          <a:ln w="0">
            <a:noFill/>
          </a:ln>
        </p:spPr>
      </p:pic>
      <p:sp>
        <p:nvSpPr>
          <p:cNvPr id="571" name="Line 6"/>
          <p:cNvSpPr/>
          <p:nvPr/>
        </p:nvSpPr>
        <p:spPr>
          <a:xfrm>
            <a:off x="34308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المستخدم</cp:lastModifiedBy>
  <dcterms:modified xsi:type="dcterms:W3CDTF">2017-09-18T06:49:24Z</dcterms:modified>
  <cp:revision>294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