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585A-3B54-4E1E-B918-80DD7BFCB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7413-BAFB-4722-A04D-D4EE2A414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295F-7E41-4744-9971-AFDE286B9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E889-3C75-4C1F-9EAD-BE2626EE5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E550-DE5E-4F88-B9B2-88B9383DA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99CF-EBC8-43C9-860A-C44E567B0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1492-7DB8-4231-855E-960345268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EBAA-34DB-4118-8E13-5AE904C52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0931-1F40-4E1A-9CAF-94CE06579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38B1-2AD3-4092-AA59-9FAD58537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B779-3CA2-4F68-A6C5-578D2AB04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0216-7AA9-45CE-BF87-87EE657B5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E8AC-0421-40C1-9DA1-4B7557092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1CF8-4302-491C-AD7F-2A3C9B8A9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84DD-5E97-4130-9EC7-8EC8DCFA7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C698-CA19-44BD-B641-A7DF6BAC0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EBF2-8071-48D4-9D6C-511889B0E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DA38-EC93-4086-B2F2-F20645130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0401-2B36-4CB0-8E53-80373BF7C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629BC-244F-49D5-A744-845376B8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FEBAB-4A93-4DD4-9457-DB40AF3F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D929A-DDD4-4B68-AFCD-480B0B8F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88BA3-970B-455C-9882-DA2A8ECD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12F28-BC7D-4537-B95A-629C0B37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1A39B-392D-432C-A2DF-547FDDC4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DDCD6-F068-4E36-AA76-C3D03720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F4246-0E2C-40C4-AFE8-DB5BE324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AADD1-00DA-49FC-ADBF-37FCF66A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63CAF-29EF-4B47-B095-C9B7C5F1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9BB0A-6833-4EAA-AD44-31AF0B74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7C05D-623A-4411-A2A2-B7E42F06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CE7A3-A716-49CA-A162-B1C8439B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D7051-EF71-4148-9D00-3D9DD973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AA3A1-93A1-45E7-BE78-ABB55C97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B62C0-3AEA-46A0-B71F-D331CEB5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63438-9163-4CED-B21F-F863999B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D7818-3061-48BC-BC4E-8CC5326C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A0D1C-CC04-4F6C-8E6E-11C748D0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84992-DD89-4F90-AD66-7F61ABB0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11E16-5D9C-451A-9D45-F247D776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D59-3C1E-46A6-974B-D24874FF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19629-60AF-44A4-AB4A-55064D5B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1320A-E589-40F0-B401-A5B3E2AC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65DB1-5756-4017-B814-226F221B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90C20-6AAC-4529-92EB-DE5810EE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B0AA4-8F32-4777-A302-102DFDC2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52DBE-13A0-4F68-A189-DCA97477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051FA-7780-44A6-B64E-AB90F6BA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C6238-5BC4-4D0B-B17B-D96DB5EF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C37F1-5A70-48A8-A60E-5E9ADC8A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FA718-8016-4E07-AF46-A78A3B5D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C63-9CFB-42C5-A0E8-7F3EFE2B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462AD-77EC-4AB8-8708-51F08FB9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32A38-598F-49E4-8500-22CBE9DC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FE43B-5595-498B-94EE-18AFAEA8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6EB6C-80EC-4BE6-869B-871A2D25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2B012-AC7B-49C7-90C2-C049C30D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F662C-63CF-461E-9A73-2BBD2BFA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44A94-86DC-4F1D-BDB7-7E71BEF6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26DC3-4F5C-4AE6-B93C-B2F5E94E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2AB93-2F8E-4A73-A352-A0FF6F2C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B5E84-430B-43D4-A2F1-39A1DB65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C09-2E4F-4457-ACCB-00E05079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ED83B-92C4-4397-B2D4-50C0F574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79C97-E218-4496-8AF8-0B4A8F38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73B90-9CA8-4206-932A-1916BCE9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F9D06-6090-43C8-BC75-CF79CA6E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0958B-0E3B-4C56-B7AA-E42E201D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201A9-E1DC-4D0F-8CE0-F4F5AA3E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30512-6626-419C-A48F-BB5A483C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CA930-FAF8-45EE-A233-CA28DAC4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81D1D-DBA4-495D-990A-5A51FE3F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66699-4695-44F1-9B10-6CB63E93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D67-55FB-4C3C-A509-324C8D6B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3E957-D74C-48B7-8D7D-FDBFCEA2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46DE4-8CCA-49EE-8231-823DC93D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BD9D8-54DD-4ED6-BCC8-4D9150E5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230A4-0048-4421-9A30-C41B08AB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3D9A4-9D15-448C-A10C-2BF46689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2DD39-9791-4634-B7AC-A151486B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C0E0F-6DC2-41C7-832A-504CD7D4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11EFF-A80E-47E6-907D-035D3D2A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53869-742F-4C90-ABEC-608FE971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52482-C326-438B-A17F-A8757B92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24A-D0CE-4452-B80A-ED1E864E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FC923-1BC4-4F51-A48C-58FBC440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9B31A-FFBB-4815-9AD8-966E2B1E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1BE04-D0E1-4D69-AEAE-D721D413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D8910-FF14-4FF7-B625-C7923247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B37AC-8E72-4D65-929C-CCCA7068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9C7A4-B6C4-41AF-8A77-8CA83F40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9FCCD-2496-437B-A23F-1ADCD8D6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BB84E-8188-4F6E-87E4-B5B8717E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CE72C-5A2E-4FEB-A479-82526A3E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B55CA-D419-43B8-AFAA-0014500D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18E-DAD3-4402-B4F2-502D7F7A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C2329-A428-4D79-B2E5-D633C188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0BDF5-F070-406C-8B2A-73CA1DE2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D4009-6366-44C3-9067-27615566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CED1C-A8C3-4C58-A6FA-FC648668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F7F2F-57BC-4682-839D-4F101717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D6236-0900-40C0-937B-8771C9A9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77F7F-15D0-48A2-A7B1-083F9303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A766A-D893-4047-B4B5-8B264151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FA488-7C5D-439B-8352-CE5C5704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9466F-0727-4497-9919-554F23E6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C1C-63E3-477C-BE2E-6E5D2379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D3D63-98A8-4028-9AE9-9E2A986E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1FF86-E99A-4CC8-9610-7D0C6AF5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9DD8B-403B-4E18-9301-EED73DE5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F8876-B75B-4F1F-BAF1-E06F9FD4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63431-6F98-44E7-8601-1BEB9983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A06B0-FDEA-43CF-A916-F3ED2C4F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D1A4A-0E9B-4EC8-9480-920FB6C6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B6584-0182-48A0-9618-9F822444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C15C0-FBF5-4D76-928C-0A1A744A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36EE0-B2BD-4E0A-B949-13DC2E06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975-BF46-460A-888F-2E78B938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845AB-CC7A-40CF-9188-066E80CE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EE26D-3931-4D1B-8F47-35DB60EC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B2567-C1DB-47BF-AF1F-0E354727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0AE61-EC37-47F9-AA76-C064466F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25061-068E-46A6-8119-52C8667E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90EEA-B9E3-4944-B6AE-E87B27C7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D8DE5-1FCE-4566-AEA7-5937EE0E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56FE1-73D6-454D-9484-F0836916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68DDC-709C-4906-9EF8-2EA2A757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E5164-C960-4E3D-80C4-221EAFA3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85B-062B-48A1-8043-10D9FD19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B23CD-4540-4131-B55D-BAB94DD4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612BB-2F11-4B36-A43D-3C54AC15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5F75E-BC4A-41B5-AEE2-39A03954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752BD-8CE2-4B02-9996-9FF2DD0B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4442E-DC2E-4E97-9CFE-B0C3606C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FB490-B32E-4F13-BADD-3CF90109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ACEA8-28C8-4766-83BD-936FFB79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1EDD0-CFA5-4B74-988D-6F5984C3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4BDB5-9565-493E-B5EC-02B06BCF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0F738-6DEE-495B-95AC-BF898AA0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797-B164-4DFA-917E-073E84AB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B2CCD9-12E1-48A0-BFA4-F4D6A640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7509A8-35D1-441A-A85D-49727ED1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1A7858-B0E2-4A81-929E-AC82E47A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70B46-29BF-4EC4-8295-BA179C90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383DA3-7350-448B-8598-55A43E72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3D657-C00C-46BF-85AC-25968DF5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7FB1A-1F66-45B8-A286-E6B7D925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66725-2248-4F54-9999-B64477DD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C966D-BAA4-4E3D-8C48-40EFE8FB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5DA7E-0C3F-461D-9353-4AF631A5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A6A-281C-49E6-88E3-325D4318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B2B158-DF7F-4B2E-A11C-92F9A6CA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FAD17-A82C-4205-8032-2F14C5F6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02C2C4-2823-414A-8128-E04664D0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3405FF-6CF5-49C8-9B53-B4C30333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6C50CE-6BC5-4EAB-A278-91BFF596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4391DC-BF44-4758-B212-2DA9C860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B65385-25B6-4271-BFF2-5977B974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C6FB13-7E93-4A51-BAC8-58460076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209BB-25F3-4C3F-8D64-BB366F3A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FDD146-09D9-41B8-BD0A-3CE512D0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8BA-C204-478F-ACCA-21F1FFDC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0A1D11-1555-4439-BF16-D38B6C68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94A0BB-F57E-4011-9D62-9066FAAE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3FC189-C678-4038-AF09-43AE4F7B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53AF3-0083-4BB7-A4F6-DE27F98E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886346-E6D6-404D-9E2A-615EA7B5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C6607C-3230-4551-B3D2-2C50C0FE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8BB729-0051-447F-BDB0-D3E9EB60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672F9C-5D46-4A42-BFD0-CBED984B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BA0660-5FED-4F5D-876D-922948F2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489CD6-1C0B-41CA-A190-5EC419C1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F9C2-5AD2-4F42-BA53-644B8DCD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92E91-3DCE-455E-8D34-B67208BC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7430CE-801F-40AA-8290-F3EBC5F4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9368CB-1687-417E-A6D9-D43B5B8E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ADD4A-6001-4274-BF56-741D50EA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D1399D-D5B1-42B6-B9C9-E492F0A4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5873A-D0A6-424A-94AB-95F8E365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054FC5-0BC7-4787-97D3-A254A5F3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E1493F-782E-43E0-B58B-B6FD64C2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B99DFA-F150-47FA-BC06-98B7F6CD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BF1FB9-9CE2-458C-A290-71B43925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EAB0-0A7E-41F0-BA53-2D188A79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7F4325-BDDD-43A6-99FA-559BDFFB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F1BC34-9114-4A1C-9AFC-453835EA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AAA90F-7496-44C7-9ADA-794E0ADC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55A2A-1DA4-40D3-B5CC-C6299008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59EB8E-E1B9-40E3-8B32-8EEA9494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67CFE2-9A38-4C92-8089-1BD6CF6C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885A5-026B-443C-9678-2B988388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9A9BE2-51F1-4EAE-A733-61613A1A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FF3C32-3550-4C46-B594-59F2F5CA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1D89F4-842A-47FA-87DA-597DB736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F24C-333C-4637-A027-EB7AA6CE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A4EC41-03AA-4861-9A5A-3BED99FB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4C5FFD-CA1A-40F3-93F8-5972642B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BB109-C7B4-4873-97C4-650220D6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DC33B4-331A-4731-A4DE-5E0B6A5F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422F4-D778-42D9-9EB3-90AD9C0D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0532C6-E8D7-4B0C-9FEC-1F1233ED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A17C80-043B-4126-B932-8380CEA7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89CE4F-99B0-47E5-A5E8-60EECD52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9EBCE4-E3D2-4D29-89A3-FBFD1947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B87679-DBAB-467A-B4E2-3323D4A3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7A69-74E3-450C-A4BB-912657D2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DCD597-B5BB-4B33-A921-4CBBDE19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7F13BC-CF66-4E8E-8695-A33FC8C1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657AC3-3541-473E-9F64-CD65BB86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FAD055-328C-4BA6-821C-2559800F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9DB276-C9C2-4205-B455-4FC0A1A8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FAACD3-E9CE-45AF-A701-A02130D1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151EAC-59C6-40B7-8329-88D8A942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0002F9-CB5D-47AA-85CA-F187505A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5CFDC2-225C-44EE-9811-1DFAAA56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2AC9-D308-472E-A929-6570FE4A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F497-A717-42C3-8426-821DD63B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6F5F-B517-4951-93B3-3A0BF7D7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ACAC-08BA-4828-97C9-4C5AAC00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E2F4-1064-4DF6-83F4-D3635525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820A-6323-4EA8-9833-F881C6B1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596D-F991-4219-A2BE-08497B1C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4DA5-7BFE-47E9-87F2-83553F5F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1B114-475E-4350-92DE-BC868509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130AD-F583-4AF5-92E0-536BCB9F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ACCDB-61B3-4D59-94F1-A88C83EC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D4038-29AF-493F-893B-68875076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A495D-6DA9-4258-8865-4D194DF9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DDFB0-5B24-43E6-B1C3-FAC569D2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FA999-EAD5-4F81-AE01-4DBCB18B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AD05B-6E26-4FEE-AE20-35257377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80C2F-B1F1-454F-BD4A-17F8BE09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4844D-AD75-469F-90A8-9E0B86EC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2A2CB-F3AC-4C93-ADD7-34A4223B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31ECD-B866-42A3-A09B-2E02C456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D4F41-24B4-4029-BA23-E85574AA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8125A-7AE8-48BF-951E-091C63CB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9ED6A-6DA6-4872-9BFF-A64FAD6D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C9625-8808-4A39-8CC3-DCDC9B5A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DB2E5-9C0F-4363-9FC6-53BE23D8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A9F03-3AFB-4CA6-AF31-53578810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17324-48E6-424C-B898-14343430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3A61D-D8BE-4EED-B0F0-54CA2947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855BC-F6A9-4E23-9EB2-D7D24D97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13C19-C991-4645-83A0-F63BB09C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A7CAD-1CB2-407A-ABBD-3EB7E79E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C9B27-C38C-461A-912D-14AFFBEF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92F0-D706-4215-B0B3-68E19909B91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B803-241B-4758-B74D-D2A9BB4F1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3A01-D696-4F15-95FC-CDEEC077D35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3D6F-9FF5-45A0-B9C3-7B50ACE3E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07CA-9313-4FF9-854A-C052F642791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3E94-B018-4F9C-A996-EE4445439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4F90-0E5A-45E7-9076-73D1EC74523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1B02-5217-4B7A-A2AD-A57A465DD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7684-5440-46CF-86FD-991556DFB51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38CD-9185-4481-9CB7-9357E7000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38BB-DBBA-44D4-A270-8487C0D1344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F5D9-7BD3-44BE-A315-8BFF6DAD4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6FBD-95F7-406C-B9FF-F033BA86100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8BA2-E040-47BD-9864-A8D28744F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D370-5F88-4879-9322-08EF581B14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7440-8F3D-4BCC-B0CB-740DD1956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C150-E23A-43B9-B174-443BC98661F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30BA-9D53-4AD7-9681-58B16A298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B34D-AB96-4FE4-B815-28B81B5B7F6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49AC-C484-4A2B-877F-EB1CA92C8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4FC1-840E-4719-814C-1A69D1C4304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771E-D90B-45CE-A963-2FEB94D67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5E50-CF92-4F29-8A14-46577F24FD7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6A25-A5E1-45DE-8CE1-AD4563C4D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021B-C249-4D9C-A8E5-F3738C0A155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5699-CB9B-41DE-BCCB-A2A9E4AF8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5F89-A521-4436-81C9-12BFA0E4FB0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A8A0-99DC-4C07-8908-4B169B169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7BE2-E7FF-42C5-8C17-63CB91CDBE5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CA10-902C-4AEA-9397-FD1E2F17B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55F2-C8E1-4161-915D-9596683C129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8D17-2925-4955-930B-5096B035A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3D1E-BD8A-43FF-AEE1-C08C077778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774D-A0A1-4C26-B702-3140C4FFF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4DC9-A1FB-438E-B012-2F6F8BE19B1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50E0-6358-4568-873B-612B484E3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2E20-6A94-4CF2-8142-E453B62DB91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8F1D-115E-4276-8EE2-C230353FF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1893-38C7-41B7-8564-7ED5052C4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E1E9-3275-40DB-9885-E2B5EA31E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0FA5-2CD1-4FE0-A2FD-9A08ABE22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ACE0-CA18-4502-9931-73F7A5918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365040"/>
                <a:gridCol w="274680"/>
                <a:gridCol w="366480"/>
                <a:gridCol w="27324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85D0-1CB2-444B-8442-5EA8237EB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9291-4995-4FC2-96C0-A98A0A06E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939E-AD07-44BA-9CE5-464D5DA32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0520" y="1371600"/>
                <a:ext cx="255348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91280" y="1735920"/>
                <a:ext cx="2309760" cy="7768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54000"/>
              <a:ext cx="2313360" cy="77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5888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D682-AA69-4EC5-A285-2BDCB89F3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58E8-081A-4FC4-8245-F4907BA19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>
                  <a:gd name="textAreaLeft" fmla="*/ 567000 w 4114800"/>
                  <a:gd name="textAreaRight" fmla="*/ 3255120 w 4114800"/>
                  <a:gd name="textAreaTop" fmla="*/ 517680 h 3429000"/>
                  <a:gd name="textAreaBottom" fmla="*/ 2752200 h 342900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32C0-9DA2-4C55-A214-04EEB077D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6FC3-67B1-404B-BE88-EC635ACC1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2994-0F49-4741-97E2-392A36F35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DDBA-A477-4E48-BC2E-ED58884E8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E7AC-9D7F-4EDE-95F1-BD0064CA3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4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28AD-D142-4010-A59C-E005DBB32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0D1F-9076-4B30-9C53-B7AAD4152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3093-66F3-47F3-A46D-5DC29C6E0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user</cp:lastModifiedBy>
  <dcterms:modified xsi:type="dcterms:W3CDTF">2012-02-26T11:56:57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