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AC3-BBA6-4BB8-8FCE-428E9D6A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5E9-DF98-402A-A972-3244C6DF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8D3-75C8-458A-AC08-24BBD4CF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5AC-1991-4B82-A9FD-E35D722F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7710-7458-4F8D-8034-731DBD75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A6CF-6A3C-4D43-A6EE-C0B3158C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4E6C-49F4-4867-B975-7AF10345A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A76-30FD-467B-B298-17AAAF64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2C4B-6E10-4838-9F7D-5236F183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296-1ADF-4494-B493-AEBD8330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BEB4-1044-43D1-AF59-88295A29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7F2-CA2B-48D5-9959-AD55CA3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7BDD-80A6-4AE0-B046-90516905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B9E7-FE5A-4245-AAA7-8AFD50EA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2860-AA31-4B52-B18A-FA4EF614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450D-E9FF-4B1A-9DE0-DF1ECA1A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3169-04FB-4CB6-9DAA-F0E0FF76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F27-B19E-4CF7-B679-636F7B6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E36-E3C0-4E23-9491-3D870C24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8D44-4CF5-4D5B-8A76-F80F830E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762-6DC5-411B-80B5-7465A0F3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CC7-83D1-49E2-A9E5-5E1E215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C23E-65E5-429A-94A4-1AB1F3FB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B5D-4CAB-47E2-A3BF-D019A85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5F3E-7848-4019-8D4A-DBBAAE98A2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0CF5-39F0-4052-8120-530C0987A29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8CA7-25DE-4B34-A808-08084104F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859B-F62B-473B-BC26-8E9C4A045B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7400" y="985320"/>
            <a:ext cx="833436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EARCH   PROBLEM DEFINI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earch Method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B09-4610-4215-B10B-9C535C088B1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4079-871F-4E25-A105-68FE65E58AA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c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it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sub sections if necess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bjectiv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terials &amp; Metho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dditional sub sections if necessar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tentative time tabl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budget 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E872-F144-4CBC-8757-C2BA24B5B2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0040-F7E6-4523-BDB4-71B14912F88A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fic &amp; Sh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s forms the first impression about your resear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f vague – Reader will be cynic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2507-9CDA-4DFD-9D76-1162DCCA26D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02A4-7DAC-41EA-A438-29F482A9C3C7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vince the reader that you have identified a research problem, worthy of investigating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art very general – Broad Topi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ghligh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concep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actical significan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duce it to a narrow topic b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aising questions, and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ing answers from literature for mos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tablish Rationale: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search is necessary questions for which there is no answer yet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FF2C-9F0B-4F28-9B56-A25EB66EBFB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3EC6-4D55-4BC1-BF5B-06D35BCCE00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vide a clear statement of the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overall question-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neral objecti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 it with action oriented tasks - Specific objectives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f more than one specific objective  state them sequential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5CD-F55A-444A-B2C5-5BDC5922A61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AE70-B11E-4B32-AED2-3516D782190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 it  explicitl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ough detail for the reader to follo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rst give an overall summary of your study design and methodological approach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n provide the methodology for each specific objective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escrib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specific design (what will you do and how, number of replicates, etc.),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materials and techniques that will be used, and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easibility of these techniqu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Use literature to support design, materials &amp; techniqu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ed not repeat standard procedures – but give a referenc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5D60-1A16-4E9A-B76B-4FC59F2E7BF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DCDD-6404-4F64-91DA-E8EC96C677A7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st all referen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alphabetical ord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7C23-BC79-4FF5-BE38-F90F3BD6CD5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5F7-E6B6-425D-9F52-BB8A07B97EF5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716040"/>
            <a:ext cx="73134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ANTT Chart (Time line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981080"/>
          <a:ext cx="8372520" cy="4114800"/>
        </p:xfrm>
        <a:graphic>
          <a:graphicData uri="http://schemas.openxmlformats.org/drawingml/2006/table">
            <a:tbl>
              <a:tblPr/>
              <a:tblGrid>
                <a:gridCol w="2243160"/>
                <a:gridCol w="1531800"/>
                <a:gridCol w="1533600"/>
                <a:gridCol w="1531800"/>
                <a:gridCol w="153216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sk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1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rve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GW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dat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rite Thesi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Line 41"/>
          <p:cNvSpPr/>
          <p:nvPr/>
        </p:nvSpPr>
        <p:spPr>
          <a:xfrm>
            <a:off x="2743200" y="3200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4114800" y="4038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4648320" y="4800600"/>
            <a:ext cx="3124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Line 44"/>
          <p:cNvSpPr/>
          <p:nvPr/>
        </p:nvSpPr>
        <p:spPr>
          <a:xfrm>
            <a:off x="7162920" y="5715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A47F-820F-47AA-819D-1FAB2AF2899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CDFA-9169-4B16-8F36-EEC5422E78CE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920" y="1981080"/>
          <a:ext cx="8613720" cy="3600720"/>
        </p:xfrm>
        <a:graphic>
          <a:graphicData uri="http://schemas.openxmlformats.org/drawingml/2006/table">
            <a:tbl>
              <a:tblPr/>
              <a:tblGrid>
                <a:gridCol w="2705040"/>
                <a:gridCol w="819000"/>
                <a:gridCol w="800280"/>
                <a:gridCol w="799920"/>
                <a:gridCol w="3489480"/>
              </a:tblGrid>
              <a:tr h="351000"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MARY OF FUNDS REQUESTED (RO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ar 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ital Equi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rent Item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 of University Faciliti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cal Travel Cos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blication Cos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cellaneou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B265-4BA8-4858-A41C-929F6E96D05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C468-7996-4292-BC2D-C72A11F4A0EA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y define the Research Problem?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ing your destination before beginning a journey.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t determin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you will do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l it withstand scientific scrutin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ow you will do it, an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at you may achieve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D083-3A13-476D-9895-3B1070597B1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6A5F-6113-4638-A5E5-25CB75BAE946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w is a research problem selected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earchers interest in a top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ational or agency prior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rgency of an iss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ilability of research f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vailability of supervi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96F0-9E6B-4119-BE6E-046D3978E31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CB80-EBF2-4AF9-BFB7-F49EEB550099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eps in defining research problem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 broad top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 a narrow topic within the broad top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ise question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mulate objective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action-oriented words - To demonstrate; To evaluate; To measure…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1BAA-23A1-4255-ADC3-F086A5A76777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BE31-FD42-4A4F-807B-4B54B90B187E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dentifying Broad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nk of the BIG PICTU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at is the problem you are trying to solv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nk of something you like to learn more abou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ult text books, journal or your supervis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ick one based on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terest and relev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gnitude of work involv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vel of expertis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rs and your advi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C93C-B3CA-4B7B-9827-C477E4DBF30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DDF-F0C5-4685-83E5-E753925DBBF7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xamples of Broad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timizing productivity of land and water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suring Food Safety &amp; Secur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staining Agricultural &amp; Marine Environ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90A7-063F-4D75-BABC-BB09FC5351D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5DA6-BE92-40E3-89CF-428C128BE1E8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rom Broad Topic to Narrow Topic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s of a narrow topic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ver disease in Goa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eenhouse Agricultur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lk 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eywater reuse potential in O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en selecting a narrow topic think how it can contribute towards solving the BIG PROBLEM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2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C0D7-48A7-4DDB-844E-94541D0D045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Proposal Develop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5183-6921-46DE-9543-86383CD74A3C}" type="slidenum">
              <a:rPr b="0" lang="ar-SA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3171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blem Tree – Keep asking Why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3760" y="3800520"/>
            <a:ext cx="147168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od In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865520" y="1905120"/>
            <a:ext cx="1175760" cy="520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Labo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865520" y="5257800"/>
            <a:ext cx="1175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w Lan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690360" y="1595520"/>
            <a:ext cx="1479240" cy="30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killed Lab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675960" y="3429000"/>
            <a:ext cx="137412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ater Scarc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662280" y="4351320"/>
            <a:ext cx="161784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itable Cro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681000" y="6194520"/>
            <a:ext cx="92124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Soi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476400" y="1585800"/>
            <a:ext cx="18633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efficient Irri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505920" y="3451320"/>
            <a:ext cx="198828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ck of crop varieti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apted to clim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6520680" y="2546280"/>
            <a:ext cx="251100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efficient Water harves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690000" y="2506680"/>
            <a:ext cx="1764000" cy="30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uitable Clim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6492960" y="4351320"/>
            <a:ext cx="226692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rming Patterns do no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urn nutr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6516000" y="5272200"/>
            <a:ext cx="2692440" cy="307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rmers can’t afford fertiliz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6482160" y="6156360"/>
            <a:ext cx="1913400" cy="52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rmers unaware o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prac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20"/>
          <p:cNvSpPr/>
          <p:nvPr/>
        </p:nvSpPr>
        <p:spPr>
          <a:xfrm flipV="1">
            <a:off x="1730520" y="2430000"/>
            <a:ext cx="384120" cy="1498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1730520" y="3967200"/>
            <a:ext cx="422280" cy="1266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Line 22"/>
          <p:cNvSpPr/>
          <p:nvPr/>
        </p:nvSpPr>
        <p:spPr>
          <a:xfrm flipV="1">
            <a:off x="3073320" y="1777680"/>
            <a:ext cx="576360" cy="42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23"/>
          <p:cNvSpPr/>
          <p:nvPr/>
        </p:nvSpPr>
        <p:spPr>
          <a:xfrm flipV="1">
            <a:off x="3073320" y="2738160"/>
            <a:ext cx="538200" cy="276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3073320" y="3620880"/>
            <a:ext cx="538200" cy="188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25"/>
          <p:cNvSpPr/>
          <p:nvPr/>
        </p:nvSpPr>
        <p:spPr>
          <a:xfrm flipV="1">
            <a:off x="3073320" y="4543200"/>
            <a:ext cx="538200" cy="958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27"/>
          <p:cNvSpPr/>
          <p:nvPr/>
        </p:nvSpPr>
        <p:spPr>
          <a:xfrm>
            <a:off x="3073320" y="5502240"/>
            <a:ext cx="576360" cy="8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28"/>
          <p:cNvSpPr/>
          <p:nvPr/>
        </p:nvSpPr>
        <p:spPr>
          <a:xfrm flipV="1">
            <a:off x="5110200" y="1778040"/>
            <a:ext cx="1305000" cy="180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29"/>
          <p:cNvSpPr/>
          <p:nvPr/>
        </p:nvSpPr>
        <p:spPr>
          <a:xfrm flipV="1">
            <a:off x="5148360" y="2660760"/>
            <a:ext cx="1305000" cy="92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5340240" y="3851280"/>
            <a:ext cx="1074960" cy="65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31"/>
          <p:cNvSpPr/>
          <p:nvPr/>
        </p:nvSpPr>
        <p:spPr>
          <a:xfrm flipV="1">
            <a:off x="4572000" y="4849920"/>
            <a:ext cx="1843200" cy="149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32"/>
          <p:cNvSpPr/>
          <p:nvPr/>
        </p:nvSpPr>
        <p:spPr>
          <a:xfrm flipV="1">
            <a:off x="4572000" y="5575320"/>
            <a:ext cx="1843200" cy="806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Line 33"/>
          <p:cNvSpPr/>
          <p:nvPr/>
        </p:nvSpPr>
        <p:spPr>
          <a:xfrm>
            <a:off x="4572000" y="6386400"/>
            <a:ext cx="184320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roposal Writing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1T05:07:26Z</dcterms:created>
  <dc:creator>prathapar</dc:creator>
  <dc:description/>
  <dc:language>en-US</dc:language>
  <cp:lastModifiedBy>Elham Fayad</cp:lastModifiedBy>
  <dcterms:modified xsi:type="dcterms:W3CDTF">2014-11-06T05:01:43Z</dcterms:modified>
  <cp:revision>61</cp:revision>
  <dc:subject/>
  <dc:title>Research Problem Definition</dc:title>
</cp:coreProperties>
</file>