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0DB-D03B-4CD0-9941-E3060A91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680-AF4C-456A-99EE-E2CDB0E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D28-D5AB-455F-A86C-ABDEA726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B41-51CA-4BB1-B052-3A495C76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1A6-534E-4747-9326-6060BD07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A5D4-9B74-493D-9DF1-B5367724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97D2-C3EF-462D-8F27-768EEEA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BD4E-AFF2-41AF-995F-DCAEA7FD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AA32-7B04-4BA4-8C6E-82BDE2EE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4673-0C19-4FB1-9B8D-A95FAEF5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26BE-3DCF-492F-A9D0-CECE09E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18B-74FB-43AB-AB4F-464A11D0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90EF-1A4B-49E3-A3A2-0F85303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A18-AA14-442D-9C02-570C0FB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6102-7ECC-4216-B5EB-2508CB1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0E1-38F1-43C9-98B0-FFF40C1E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82B-9AC8-4F06-8B60-C9ED88D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8F7-90F8-45D5-814B-574EEAE0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F77-10F4-4568-BFBD-BEEA4BE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C3C-EC2A-476E-AC8F-DC43EA3A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396-01AB-4B48-A087-87800FAD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9CF-ACAC-4F13-AC6A-D035E6D3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232-B0AE-4406-BE99-A7749D27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4DD-8223-49AD-9E9F-E8C9296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3336-714E-4276-B3EB-CBABFEC0F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B53F-62D5-4D6D-9053-9E0F0CC33EB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F9F-BE2F-4D41-BD27-AA9B6C2E6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155D-2280-49B5-80E8-0FAB1A86A9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7400" y="985320"/>
            <a:ext cx="83343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EARCH   PROBLEM DEFINI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earch 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468-ECBB-4FEC-ACD2-007DF15675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E87-F320-483D-8E8B-563562D02951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sub sections if necess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jectiv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erials &amp; 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sub sections if necess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tentative time tab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udget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1F4C-3102-4C53-8E35-4DF32C44DA2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CF8-9929-4C2A-A581-851DB4C3487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&amp; Sh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forms the first impression about your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vague – Reader will be cynic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3C02-D9FB-4AFE-9604-AB5AB82CD08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EC38-CC0F-44AA-A1EE-8D86C4C0A0EF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ince the reader that you have identified a research problem, worthy of investigatin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rt very general – Broad Top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ligh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concep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actical significa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duce it to a narrow topic b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aising questions, and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ing answers from literature for mos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ablish Rationale: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is necessary questions for which there is no answer ye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3069-B7C2-40A4-9767-765E9CF3B81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2B4-0A77-4252-90E3-AB49110EA7C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 a clear statement of th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overall question-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obj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 it with action oriented tasks - Specific objectives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more than one specific objective  state them sequential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0CA4-7CCA-4BDB-A88B-258D2C9C55D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C7B9-D04F-421A-B50D-3B5DB8F727A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 it  explicitl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ough detail for the reader to follo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rst give an overall summary of your study design and methodological approach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n provide the methodology for each specific objective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b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specific design (what will you do and how, number of replicates, etc.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materials and techniques that will be used, and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easibility of these techniqu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 literature to support design, materials &amp; techniq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ed not repeat standard procedures – but give a referenc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6BF-9CC8-45B4-8505-0BB62AE53DC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EA4A-D003-4EE1-835B-5096AD44207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st all re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lphabetic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FC0-A655-4195-BF9A-E88241D6FF5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00D-C40F-443F-9B0F-85FF303F992D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716040"/>
            <a:ext cx="73134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ANTT Chart (Time line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981080"/>
          <a:ext cx="8372520" cy="4114800"/>
        </p:xfrm>
        <a:graphic>
          <a:graphicData uri="http://schemas.openxmlformats.org/drawingml/2006/table">
            <a:tbl>
              <a:tblPr/>
              <a:tblGrid>
                <a:gridCol w="2243160"/>
                <a:gridCol w="1531800"/>
                <a:gridCol w="1533600"/>
                <a:gridCol w="1531800"/>
                <a:gridCol w="153216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sk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GW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da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rite Thes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Line 41"/>
          <p:cNvSpPr/>
          <p:nvPr/>
        </p:nvSpPr>
        <p:spPr>
          <a:xfrm>
            <a:off x="2743200" y="3200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4114800" y="403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4648320" y="48006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7162920" y="5715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3F74-AF77-40BB-94FA-34607745F8C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F90-2ADE-4943-8A0B-A1E523D5B510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920" y="1981080"/>
          <a:ext cx="8613720" cy="3600720"/>
        </p:xfrm>
        <a:graphic>
          <a:graphicData uri="http://schemas.openxmlformats.org/drawingml/2006/table">
            <a:tbl>
              <a:tblPr/>
              <a:tblGrid>
                <a:gridCol w="2705040"/>
                <a:gridCol w="819000"/>
                <a:gridCol w="800280"/>
                <a:gridCol w="799920"/>
                <a:gridCol w="3489480"/>
              </a:tblGrid>
              <a:tr h="351000"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OF FUNDS REQUESTED (R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Equi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rent Item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of University Facilit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Travel Cos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ation Cos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cellaneo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C0A-D26C-4789-AEFB-C6C225344F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F7C0-11A3-4B1B-A64D-5C026F0771BB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y define the Research Problem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your destination before beginning a journey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determin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you will do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it withstand scientific scrutin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you will do it, an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you may achieve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AED-DBCE-4F80-9B0B-AF71F116789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A9F-7495-4913-B1C8-C12129C44924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w is a research problem selected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earchers interest in a top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ional or agency prio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gency of an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ilability of research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ilability of super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19AD-8A23-42D1-9E41-DCE675DACE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E55F-A78B-4C0A-96EB-FA6A364858B8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eps in defining research probl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 broad top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 narrow topic within the broad top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ise question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mulate objectiv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action-oriented words - To demonstrate; To evaluate; To measure…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06A-AA80-4AA6-8696-CB9F526BD76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D912-C032-423B-AE4F-561CE9A10383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dentifying Broad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nk of the BIG PICTU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at is the problem you are trying to solv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of something you like to learn more abou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ult text books, journal or your supervis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ick one based 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est and relev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tude of work involv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l of expertis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rs and your advi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25B-ADFC-4E39-B3DC-1ADDA45E42D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D43-3D1A-40A2-9CE7-07050EB95C8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amples of Broad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timizing productivity of land and water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suring Food Safety &amp; 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staining Agricultural &amp; Marine Environ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4646-0879-42F8-96F3-36DCA94DB86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6C9-56DB-4184-896D-089DA70263C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om Broad Topic to Narrow Top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a narrow topic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ver disease in Go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eenhouse Agricultu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lk 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eywater reuse potential in O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electing a narrow topic think how it can contribute towards solving the BIG PROBLEM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E070-E2EE-4901-A078-1DD609AFF3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0F80-B1A8-456D-BA3B-C5EF53E7A4C7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lem Tree – Keep asking Wh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3760" y="3800520"/>
            <a:ext cx="147168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od In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865520" y="1905120"/>
            <a:ext cx="1175760" cy="520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Lab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65520" y="5257800"/>
            <a:ext cx="1175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Lan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690360" y="1595520"/>
            <a:ext cx="1479240" cy="30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killed Lab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675960" y="3429000"/>
            <a:ext cx="137412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ater Scarc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662280" y="4351320"/>
            <a:ext cx="161784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itable Cr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681000" y="6194520"/>
            <a:ext cx="92124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So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476400" y="1585800"/>
            <a:ext cx="1863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efficient Irri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505920" y="3451320"/>
            <a:ext cx="198828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crop varieti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to clim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520680" y="2546280"/>
            <a:ext cx="25110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efficient Water harves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690000" y="2506680"/>
            <a:ext cx="1764000" cy="30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itable Clim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492960" y="4351320"/>
            <a:ext cx="226692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rming Patterns do no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 nutr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516000" y="5272200"/>
            <a:ext cx="2692440" cy="30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rmers can’t afford fertiliz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482160" y="6156360"/>
            <a:ext cx="19134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rmers unaware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prac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1730520" y="2430000"/>
            <a:ext cx="384120" cy="1498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1730520" y="3967200"/>
            <a:ext cx="422280" cy="1266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3073320" y="1777680"/>
            <a:ext cx="576360" cy="42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23"/>
          <p:cNvSpPr/>
          <p:nvPr/>
        </p:nvSpPr>
        <p:spPr>
          <a:xfrm flipV="1">
            <a:off x="3073320" y="2738160"/>
            <a:ext cx="538200" cy="276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3073320" y="3620880"/>
            <a:ext cx="538200" cy="188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5"/>
          <p:cNvSpPr/>
          <p:nvPr/>
        </p:nvSpPr>
        <p:spPr>
          <a:xfrm flipV="1">
            <a:off x="3073320" y="4543200"/>
            <a:ext cx="538200" cy="958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073320" y="5502240"/>
            <a:ext cx="576360" cy="8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8"/>
          <p:cNvSpPr/>
          <p:nvPr/>
        </p:nvSpPr>
        <p:spPr>
          <a:xfrm flipV="1">
            <a:off x="5110200" y="1778040"/>
            <a:ext cx="1305000" cy="180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148360" y="2660760"/>
            <a:ext cx="1305000" cy="92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5340240" y="3851280"/>
            <a:ext cx="1074960" cy="65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 flipV="1">
            <a:off x="4572000" y="4849920"/>
            <a:ext cx="1843200" cy="149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32"/>
          <p:cNvSpPr/>
          <p:nvPr/>
        </p:nvSpPr>
        <p:spPr>
          <a:xfrm flipV="1">
            <a:off x="4572000" y="5575320"/>
            <a:ext cx="1843200" cy="8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4572000" y="6386400"/>
            <a:ext cx="184320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roposal Writ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5:07:26Z</dcterms:created>
  <dc:creator>prathapar</dc:creator>
  <dc:description/>
  <dc:language>en-US</dc:language>
  <cp:lastModifiedBy>Elham Fayad</cp:lastModifiedBy>
  <dcterms:modified xsi:type="dcterms:W3CDTF">2014-11-06T05:01:43Z</dcterms:modified>
  <cp:revision>61</cp:revision>
  <dc:subject/>
  <dc:title>Research Problem Definition</dc:title>
</cp:coreProperties>
</file>