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701-CE68-4F95-AEAD-77FD67BE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A0E-90E5-4210-8B83-B0CD4775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237-5E24-46EB-86CE-05B3EA4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FA8-DC97-4FBB-8E9C-4F836E66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9F0-BD0C-4E2B-AC85-CCC473A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BD7-26D6-417A-8C9C-16F8A411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884-3E1A-4342-9364-A4A5C97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655-96FD-45D0-839E-16F5295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698-EBDD-4C7E-996B-0F5EEF28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97F-D8FC-4799-ADF9-7DA7D69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7FA-F986-400E-9D4E-B816737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F6C-7684-4F9F-BDAA-AD241E5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1A4-7721-4A51-9C21-5DB7507966F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19T10:28:55Z</dcterms:modified>
  <cp:revision>207</cp:revision>
  <dc:subject/>
  <dc:title>PRESENTATION  NAME</dc:title>
</cp:coreProperties>
</file>