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9.wmf" ContentType="image/x-wmf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28.wmf" ContentType="image/x-wmf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2.png" ContentType="image/png"/>
  <Override PartName="/ppt/media/image4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A17-D034-4DC3-989D-68C9F644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6A4-6ED0-4F32-8F9E-24AD6D87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415-C8B6-49BA-9D1A-4043DD9E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B57-C7E8-4681-9AE5-151BA93B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B47-0BE1-4298-946F-117002FF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774-8741-42F4-A201-BF103BF3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823-0A32-4113-B20C-51895458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056-40D1-4950-B021-D6A06E29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D69-7158-45D3-9442-360AB1C4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453-6B29-4BD5-9911-D073348D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AA1-51CB-4002-ACAB-B2943770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D37-09D9-4A0C-B538-C132C993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2E30-5D3B-401B-8AED-8C87F28AB71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unny_0016_water_prank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309160" cy="15303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685800" y="2819520"/>
            <a:ext cx="2514600" cy="2361960"/>
            <a:chOff x="685800" y="2819520"/>
            <a:chExt cx="2514600" cy="2361960"/>
          </a:xfrm>
        </p:grpSpPr>
        <p:grpSp>
          <p:nvGrpSpPr>
            <p:cNvPr id="64" name="Freeform 6"/>
            <p:cNvGrpSpPr/>
            <p:nvPr/>
          </p:nvGrpSpPr>
          <p:grpSpPr>
            <a:xfrm>
              <a:off x="685800" y="2819520"/>
              <a:ext cx="2514600" cy="2361960"/>
              <a:chOff x="685800" y="2819520"/>
              <a:chExt cx="2514600" cy="2361960"/>
            </a:xfrm>
          </p:grpSpPr>
          <p:pic>
            <p:nvPicPr>
              <p:cNvPr id="65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2819520"/>
                <a:ext cx="2514600" cy="23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 rot="5400000">
                <a:off x="1065600" y="2749320"/>
                <a:ext cx="2025000" cy="22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Oval 7"/>
            <p:cNvGrpSpPr/>
            <p:nvPr/>
          </p:nvGrpSpPr>
          <p:grpSpPr>
            <a:xfrm>
              <a:off x="1758240" y="4000680"/>
              <a:ext cx="696960" cy="527760"/>
              <a:chOff x="1758240" y="4000680"/>
              <a:chExt cx="696960" cy="527760"/>
            </a:xfrm>
          </p:grpSpPr>
          <p:pic>
            <p:nvPicPr>
              <p:cNvPr id="68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8240" y="4000680"/>
                <a:ext cx="696960" cy="52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1869840" y="4088160"/>
                <a:ext cx="47304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32"/>
          <p:cNvGrpSpPr/>
          <p:nvPr/>
        </p:nvGrpSpPr>
        <p:grpSpPr>
          <a:xfrm>
            <a:off x="1600200" y="1752480"/>
            <a:ext cx="1143000" cy="991080"/>
            <a:chOff x="1600200" y="1752480"/>
            <a:chExt cx="1143000" cy="991080"/>
          </a:xfrm>
        </p:grpSpPr>
        <p:cxnSp>
          <p:nvCxnSpPr>
            <p:cNvPr id="71" name="Straight Arrow Connector 10"/>
            <p:cNvCxnSpPr/>
            <p:nvPr/>
          </p:nvCxnSpPr>
          <p:spPr>
            <a:xfrm flipH="1">
              <a:off x="2133360" y="220968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2" name="TextBox 13"/>
            <p:cNvSpPr/>
            <p:nvPr/>
          </p:nvSpPr>
          <p:spPr>
            <a:xfrm>
              <a:off x="1600200" y="1752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In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3"/>
          <p:cNvGrpSpPr/>
          <p:nvPr/>
        </p:nvGrpSpPr>
        <p:grpSpPr>
          <a:xfrm>
            <a:off x="4114800" y="1752480"/>
            <a:ext cx="1371600" cy="914760"/>
            <a:chOff x="4114800" y="1752480"/>
            <a:chExt cx="1371600" cy="914760"/>
          </a:xfrm>
        </p:grpSpPr>
        <p:cxnSp>
          <p:nvCxnSpPr>
            <p:cNvPr id="74" name="Straight Arrow Connector 12"/>
            <p:cNvCxnSpPr/>
            <p:nvPr/>
          </p:nvCxnSpPr>
          <p:spPr>
            <a:xfrm flipH="1">
              <a:off x="4798800" y="213336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5" name="TextBox 14"/>
            <p:cNvSpPr/>
            <p:nvPr/>
          </p:nvSpPr>
          <p:spPr>
            <a:xfrm>
              <a:off x="4114800" y="17524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Out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9"/>
          <p:cNvSpPr/>
          <p:nvPr/>
        </p:nvSpPr>
        <p:spPr>
          <a:xfrm>
            <a:off x="992160" y="350532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0"/>
          <p:cNvGrpSpPr/>
          <p:nvPr/>
        </p:nvGrpSpPr>
        <p:grpSpPr>
          <a:xfrm>
            <a:off x="3276720" y="2819520"/>
            <a:ext cx="2133360" cy="1447560"/>
            <a:chOff x="3276720" y="2819520"/>
            <a:chExt cx="2133360" cy="1447560"/>
          </a:xfrm>
        </p:grpSpPr>
        <p:grpSp>
          <p:nvGrpSpPr>
            <p:cNvPr id="78" name="Freeform 21"/>
            <p:cNvGrpSpPr/>
            <p:nvPr/>
          </p:nvGrpSpPr>
          <p:grpSpPr>
            <a:xfrm>
              <a:off x="3276720" y="2819520"/>
              <a:ext cx="2133360" cy="1447560"/>
              <a:chOff x="3276720" y="2819520"/>
              <a:chExt cx="2133360" cy="1447560"/>
            </a:xfrm>
          </p:grpSpPr>
          <p:pic>
            <p:nvPicPr>
              <p:cNvPr id="79" name="Freeform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2819520"/>
                <a:ext cx="213336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 rot="5400000">
                <a:off x="3904560" y="2496960"/>
                <a:ext cx="1138320" cy="182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Oval 22"/>
            <p:cNvGrpSpPr/>
            <p:nvPr/>
          </p:nvGrpSpPr>
          <p:grpSpPr>
            <a:xfrm>
              <a:off x="4205160" y="3485880"/>
              <a:ext cx="578880" cy="306720"/>
              <a:chOff x="4205160" y="3485880"/>
              <a:chExt cx="578880" cy="306720"/>
            </a:xfrm>
          </p:grpSpPr>
          <p:pic>
            <p:nvPicPr>
              <p:cNvPr id="82" name="Oval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5160" y="3485880"/>
                <a:ext cx="57888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301640" y="3540960"/>
                <a:ext cx="390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23"/>
          <p:cNvGrpSpPr/>
          <p:nvPr/>
        </p:nvGrpSpPr>
        <p:grpSpPr>
          <a:xfrm>
            <a:off x="2971800" y="4419720"/>
            <a:ext cx="1905120" cy="1523880"/>
            <a:chOff x="2971800" y="4419720"/>
            <a:chExt cx="1905120" cy="1523880"/>
          </a:xfrm>
        </p:grpSpPr>
        <p:grpSp>
          <p:nvGrpSpPr>
            <p:cNvPr id="85" name="Freeform 24"/>
            <p:cNvGrpSpPr/>
            <p:nvPr/>
          </p:nvGrpSpPr>
          <p:grpSpPr>
            <a:xfrm>
              <a:off x="2971800" y="4419720"/>
              <a:ext cx="1905120" cy="1523880"/>
              <a:chOff x="2971800" y="4419720"/>
              <a:chExt cx="1905120" cy="1523880"/>
            </a:xfrm>
          </p:grpSpPr>
          <p:pic>
            <p:nvPicPr>
              <p:cNvPr id="86" name="Freeform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2971800" y="4419720"/>
                <a:ext cx="19051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5400000">
                <a:off x="3451320" y="4248360"/>
                <a:ext cx="1209600" cy="16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Oval 25"/>
            <p:cNvGrpSpPr/>
            <p:nvPr/>
          </p:nvGrpSpPr>
          <p:grpSpPr>
            <a:xfrm>
              <a:off x="3821760" y="5130720"/>
              <a:ext cx="506880" cy="324000"/>
              <a:chOff x="3821760" y="5130720"/>
              <a:chExt cx="506880" cy="324000"/>
            </a:xfrm>
          </p:grpSpPr>
          <p:pic>
            <p:nvPicPr>
              <p:cNvPr id="89" name="Oval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3821760" y="5130720"/>
                <a:ext cx="506880" cy="3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904920" y="5187240"/>
                <a:ext cx="342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Can 26"/>
          <p:cNvSpPr/>
          <p:nvPr/>
        </p:nvSpPr>
        <p:spPr>
          <a:xfrm>
            <a:off x="6629400" y="1905120"/>
            <a:ext cx="1371600" cy="3962160"/>
          </a:xfrm>
          <a:prstGeom prst="can">
            <a:avLst>
              <a:gd name="adj" fmla="val 7995"/>
            </a:avLst>
          </a:prstGeom>
          <a:solidFill>
            <a:srgbClr val="ff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7"/>
          <p:cNvCxnSpPr/>
          <p:nvPr/>
        </p:nvCxnSpPr>
        <p:spPr>
          <a:xfrm>
            <a:off x="3124080" y="6172200"/>
            <a:ext cx="5106240" cy="2160"/>
          </a:xfrm>
          <a:prstGeom prst="straightConnector1">
            <a:avLst/>
          </a:prstGeom>
          <a:ln w="38160">
            <a:solidFill>
              <a:srgbClr val="feb80a"/>
            </a:solidFill>
            <a:miter/>
            <a:headEnd len="lg" type="stealth" w="lg"/>
            <a:tailEnd len="lg" type="stealth" w="lg"/>
          </a:ln>
        </p:spPr>
      </p:cxnSp>
      <p:sp>
        <p:nvSpPr>
          <p:cNvPr id="93" name="TextBox 29"/>
          <p:cNvSpPr/>
          <p:nvPr/>
        </p:nvSpPr>
        <p:spPr>
          <a:xfrm>
            <a:off x="4672440" y="61722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1"/>
          <p:cNvSpPr/>
          <p:nvPr/>
        </p:nvSpPr>
        <p:spPr>
          <a:xfrm>
            <a:off x="4807800" y="426708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erst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71280" y="2421000"/>
            <a:ext cx="896472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7240" y="328680"/>
            <a:ext cx="876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mposition of the Human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The major body fluid compartment and membranes separat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02401-025-f001"/>
          <p:cNvPicPr/>
          <p:nvPr/>
        </p:nvPicPr>
        <p:blipFill>
          <a:blip r:embed="rId2"/>
          <a:stretch/>
        </p:blipFill>
        <p:spPr>
          <a:xfrm>
            <a:off x="1403280" y="1844640"/>
            <a:ext cx="5923080" cy="475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5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Distribution of 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21"/>
          <p:cNvSpPr/>
          <p:nvPr/>
        </p:nvSpPr>
        <p:spPr>
          <a:xfrm>
            <a:off x="2362320" y="1295280"/>
            <a:ext cx="44956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2"/>
          <p:cNvSpPr/>
          <p:nvPr/>
        </p:nvSpPr>
        <p:spPr>
          <a:xfrm>
            <a:off x="1752480" y="2895480"/>
            <a:ext cx="2286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⅔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3"/>
          <p:cNvSpPr/>
          <p:nvPr/>
        </p:nvSpPr>
        <p:spPr>
          <a:xfrm>
            <a:off x="5181480" y="2895480"/>
            <a:ext cx="19814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Left-Up Arrow 24"/>
          <p:cNvGrpSpPr/>
          <p:nvPr/>
        </p:nvGrpSpPr>
        <p:grpSpPr>
          <a:xfrm>
            <a:off x="3949560" y="2041560"/>
            <a:ext cx="1341720" cy="1347840"/>
            <a:chOff x="3949560" y="2041560"/>
            <a:chExt cx="1341720" cy="1347840"/>
          </a:xfrm>
        </p:grpSpPr>
        <p:pic>
          <p:nvPicPr>
            <p:cNvPr id="104" name="Left-Up Arrow 24" descr=""/>
            <p:cNvPicPr/>
            <p:nvPr/>
          </p:nvPicPr>
          <p:blipFill>
            <a:blip r:embed="rId1"/>
            <a:stretch/>
          </p:blipFill>
          <p:spPr>
            <a:xfrm>
              <a:off x="3949560" y="2041560"/>
              <a:ext cx="13417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3494000">
              <a:off x="4522320" y="2488320"/>
              <a:ext cx="606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ounded Rectangle 25"/>
          <p:cNvSpPr/>
          <p:nvPr/>
        </p:nvSpPr>
        <p:spPr>
          <a:xfrm>
            <a:off x="4343400" y="4800600"/>
            <a:ext cx="14479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26"/>
          <p:cNvSpPr/>
          <p:nvPr/>
        </p:nvSpPr>
        <p:spPr>
          <a:xfrm>
            <a:off x="6400800" y="48006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0"/>
          <p:cNvGrpSpPr/>
          <p:nvPr/>
        </p:nvGrpSpPr>
        <p:grpSpPr>
          <a:xfrm>
            <a:off x="5562000" y="3886200"/>
            <a:ext cx="1448640" cy="838440"/>
            <a:chOff x="5562000" y="3886200"/>
            <a:chExt cx="1448640" cy="838440"/>
          </a:xfrm>
        </p:grpSpPr>
        <p:cxnSp>
          <p:nvCxnSpPr>
            <p:cNvPr id="109" name="Elbow Connector 33"/>
            <p:cNvCxnSpPr/>
            <p:nvPr/>
          </p:nvCxnSpPr>
          <p:spPr>
            <a:xfrm flipH="1" rot="16200000">
              <a:off x="6210360" y="3924000"/>
              <a:ext cx="838800" cy="76248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  <p:cxnSp>
          <p:nvCxnSpPr>
            <p:cNvPr id="110" name="Elbow Connector 38"/>
            <p:cNvCxnSpPr/>
            <p:nvPr/>
          </p:nvCxnSpPr>
          <p:spPr>
            <a:xfrm rot="5400000">
              <a:off x="5485680" y="3962160"/>
              <a:ext cx="838800" cy="68652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</p:grpSp>
      <p:cxnSp>
        <p:nvCxnSpPr>
          <p:cNvPr id="111" name="Straight Arrow Connector 52"/>
          <p:cNvCxnSpPr/>
          <p:nvPr/>
        </p:nvCxnSpPr>
        <p:spPr>
          <a:xfrm flipH="1">
            <a:off x="3504600" y="3732840"/>
            <a:ext cx="1600920" cy="991080"/>
          </a:xfrm>
          <a:prstGeom prst="straightConnector1">
            <a:avLst/>
          </a:prstGeom>
          <a:ln w="38160">
            <a:solidFill>
              <a:srgbClr val="ff9900"/>
            </a:solidFill>
            <a:prstDash val="sysDash"/>
            <a:miter/>
            <a:tailEnd len="med" type="arrow" w="med"/>
          </a:ln>
        </p:spPr>
      </p:cxnSp>
      <p:sp>
        <p:nvSpPr>
          <p:cNvPr id="112" name="Rounded Rectangle 54"/>
          <p:cNvSpPr/>
          <p:nvPr/>
        </p:nvSpPr>
        <p:spPr>
          <a:xfrm>
            <a:off x="380880" y="4800600"/>
            <a:ext cx="3429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anscellular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8"/>
          <p:cNvSpPr/>
          <p:nvPr/>
        </p:nvSpPr>
        <p:spPr>
          <a:xfrm>
            <a:off x="3566880" y="396252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alibri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9"/>
          <p:cNvSpPr/>
          <p:nvPr/>
        </p:nvSpPr>
        <p:spPr>
          <a:xfrm>
            <a:off x="309600" y="5781600"/>
            <a:ext cx="349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uid in body sp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pleural, pericard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itoneal, synovial, &amp; intrao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Down Arrow 60"/>
          <p:cNvGrpSpPr/>
          <p:nvPr/>
        </p:nvGrpSpPr>
        <p:grpSpPr>
          <a:xfrm>
            <a:off x="1773360" y="5535720"/>
            <a:ext cx="568080" cy="261720"/>
            <a:chOff x="1773360" y="5535720"/>
            <a:chExt cx="568080" cy="261720"/>
          </a:xfrm>
        </p:grpSpPr>
        <p:pic>
          <p:nvPicPr>
            <p:cNvPr id="116" name="Down Arrow 60" descr=""/>
            <p:cNvPicPr/>
            <p:nvPr/>
          </p:nvPicPr>
          <p:blipFill>
            <a:blip r:embed="rId2"/>
            <a:stretch/>
          </p:blipFill>
          <p:spPr>
            <a:xfrm>
              <a:off x="1773360" y="5535720"/>
              <a:ext cx="56808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43280" y="5562720"/>
              <a:ext cx="228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19159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plasma and interstitial fluid are separated only by highly permeable capillary membranes, their ionic composition is similar but protein is higher in the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ntracellular fluid is separated from extracellular fluid by a cell membrane that is highly permeable to water but not to most of the electrolytes in the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02401-025-f001"/>
          <p:cNvPicPr/>
          <p:nvPr/>
        </p:nvPicPr>
        <p:blipFill>
          <a:blip r:embed="rId2"/>
          <a:stretch/>
        </p:blipFill>
        <p:spPr>
          <a:xfrm>
            <a:off x="6629400" y="443700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1" descr=""/>
          <p:cNvPicPr/>
          <p:nvPr/>
        </p:nvPicPr>
        <p:blipFill>
          <a:blip r:embed="rId1"/>
          <a:stretch/>
        </p:blipFill>
        <p:spPr>
          <a:xfrm>
            <a:off x="360360" y="1146240"/>
            <a:ext cx="847872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Down Arrow 3"/>
          <p:cNvGrpSpPr/>
          <p:nvPr/>
        </p:nvGrpSpPr>
        <p:grpSpPr>
          <a:xfrm>
            <a:off x="3986280" y="2712960"/>
            <a:ext cx="871560" cy="798480"/>
            <a:chOff x="3986280" y="2712960"/>
            <a:chExt cx="871560" cy="798480"/>
          </a:xfrm>
        </p:grpSpPr>
        <p:pic>
          <p:nvPicPr>
            <p:cNvPr id="122" name="Down Arrow 3" descr=""/>
            <p:cNvPicPr/>
            <p:nvPr/>
          </p:nvPicPr>
          <p:blipFill>
            <a:blip r:embed="rId2"/>
            <a:stretch/>
          </p:blipFill>
          <p:spPr>
            <a:xfrm>
              <a:off x="3986280" y="2712960"/>
              <a:ext cx="871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29280" y="2743200"/>
              <a:ext cx="380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Rectangle 3" descr=""/>
          <p:cNvPicPr/>
          <p:nvPr/>
        </p:nvPicPr>
        <p:blipFill>
          <a:blip r:embed="rId3"/>
          <a:stretch/>
        </p:blipFill>
        <p:spPr>
          <a:xfrm>
            <a:off x="3773520" y="3346560"/>
            <a:ext cx="1279440" cy="92052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4" descr=""/>
          <p:cNvPicPr/>
          <p:nvPr/>
        </p:nvPicPr>
        <p:blipFill>
          <a:blip r:embed="rId4"/>
          <a:stretch/>
        </p:blipFill>
        <p:spPr>
          <a:xfrm>
            <a:off x="1828800" y="4194000"/>
            <a:ext cx="5157720" cy="93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ute Overview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Intracellular vs. Extra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2204640"/>
            <a:ext cx="332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S02401-025-f002"/>
          <p:cNvPicPr/>
          <p:nvPr/>
        </p:nvPicPr>
        <p:blipFill>
          <a:blip r:embed="rId2"/>
          <a:stretch/>
        </p:blipFill>
        <p:spPr>
          <a:xfrm>
            <a:off x="3635280" y="1916280"/>
            <a:ext cx="5400720" cy="451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512640" y="2517840"/>
            <a:ext cx="8174160" cy="156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3645000"/>
            <a:ext cx="84358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control systems regulate ingestion and excre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osmol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smolarity is identical in all body fluid compar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eady state condi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9280" y="206064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he process by which the body keeps the internal environment constant despite changes in the external environment is known a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Homeostasi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125440"/>
            <a:ext cx="56862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Body Flu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467440" y="3825720"/>
            <a:ext cx="39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Dr Mouaadh abdelka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bdelkarim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42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Arial"/>
              </a:rPr>
              <a:t>Physiology:  Lectur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ater Steady St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2641680" y="1630440"/>
            <a:ext cx="6610320" cy="4956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2498760"/>
            <a:ext cx="39956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   ↑↑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urine output (Diabet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S02401-025-f005"/>
          <p:cNvPicPr/>
          <p:nvPr/>
        </p:nvPicPr>
        <p:blipFill>
          <a:blip r:embed="rId2"/>
          <a:stretch/>
        </p:blipFill>
        <p:spPr>
          <a:xfrm>
            <a:off x="826920" y="1770120"/>
            <a:ext cx="693288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n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604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o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tension to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s will not gain or los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oni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low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hemoly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high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cren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7640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Volume: the general clinical terms for volume abnormalities are dehydration and overhydration. Both conditions are associated with a change in ECF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centration: Osmolarity refers to the number of solute particles per liter of solution, and Osmolality refers to the number of solute particles per kilogram of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nicity:</a:t>
            </a:r>
            <a:r>
              <a:rPr b="0" lang="fr-CA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a solution on the osmotic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ulation of fluids and electroly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06064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ostatic mechanisms respond to changes in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receptors directly monitor fluid or electrolyte ba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 to changes in plasma volume or osmotic concent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water moves passively in response to osmotic grad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content of watar or electrolytes rises if intake exceeds out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mary regulatory horm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047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diuretic hormone (ADH) (hypothalam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water conservation and the thirst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concentration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dosterone  (Adrenal corte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s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sorption and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ss along the D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volume of body fluid compar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riuretic pepti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thirst and block the release of ADH and aldoster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dium bal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204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 of sodium uptake across digestive tract directly proportional to dietary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dium losses occur through urine and per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ifts in sodium balance result in expansion or contraction of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 variations corrected by homeostatic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low, ADH / aldosterone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high, ANP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1840" y="198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Homeostatic Regulation of Normal Sodium Ion Concent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464508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98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gration of Fluid Volume Regulation and Sodium Ion Concent-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258920" y="1492200"/>
            <a:ext cx="6526080" cy="524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ody Wa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human body made mainly of water, which consistutes about 60% of body weight in the adult, however the amount of water varies with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8640720" cy="293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K concentration in the EC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K 60-100% a above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Na concentration in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Na concentration in the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 the second largest component in the human body, largest amount found in skeletal 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hird largest component in lean individual. It is found in adipose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, present in the human body in relatively small quantities with the exception of calcium. (found in bon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 and electrolytes are found in the body fluids in minute concentrations, which are closely regulated to maintain the composition of the internal enveron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0" y="2637000"/>
            <a:ext cx="9036000" cy="2714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6300720" y="2205000"/>
            <a:ext cx="2087640" cy="316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tal body water (TB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sititutes 55-60% of the body weight in young men and 45-50% in young w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fr-CA" sz="2400" spc="-1" strike="noStrike">
                <a:solidFill>
                  <a:srgbClr val="00ff00"/>
                </a:solidFill>
                <a:latin typeface="Calibri"/>
              </a:rPr>
              <a:t>Why the percentage is lower in wom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BW is distribut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uscle (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kin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ther organs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lood (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2286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alibri"/>
              </a:rPr>
              <a:t>What are the factors affecting TBW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57200" y="2041560"/>
            <a:ext cx="4038480" cy="44355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hysi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♀ &lt; ♂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% of Body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th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5" descr="Water content changes with age.gif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water content of the body is divided into two compart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1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In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cell, represent approximately 67% of the total body water, 40% of total body w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2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Ex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vessels of the cardiovascular system, is the remaining 33% of the total body water, about 20 % of total body weigh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20:53Z</dcterms:created>
  <dc:creator>Éric Vadeboncoeur</dc:creator>
  <dc:description/>
  <dc:language>en-US</dc:language>
  <cp:lastModifiedBy>mouaadh</cp:lastModifiedBy>
  <dcterms:modified xsi:type="dcterms:W3CDTF">2016-09-19T10:28:55Z</dcterms:modified>
  <cp:revision>207</cp:revision>
  <dc:subject/>
  <dc:title>PRESENTATION  NAME</dc:title>
</cp:coreProperties>
</file>