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29.wmf" ContentType="image/x-wmf"/>
  <Override PartName="/ppt/media/image6.png" ContentType="image/png"/>
  <Override PartName="/ppt/media/image5.wmf" ContentType="image/x-wmf"/>
  <Override PartName="/ppt/media/image10.png" ContentType="image/png"/>
  <Override PartName="/ppt/media/image27.jpeg" ContentType="image/jpeg"/>
  <Override PartName="/ppt/media/image28.wmf" ContentType="image/x-wmf"/>
  <Override PartName="/ppt/media/image3.jpeg" ContentType="image/jpeg"/>
  <Override PartName="/ppt/media/image26.jpeg" ContentType="image/jpeg"/>
  <Override PartName="/ppt/media/image25.png" ContentType="image/png"/>
  <Override PartName="/ppt/media/image24.png" ContentType="image/png"/>
  <Override PartName="/ppt/media/image2.jpeg" ContentType="image/jpeg"/>
  <Override PartName="/ppt/media/image23.jpeg" ContentType="image/jpeg"/>
  <Override PartName="/ppt/media/image22.png" ContentType="image/png"/>
  <Override PartName="/ppt/media/image4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7AE0-9868-46DC-9BEB-03CA4957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CA0D-DE05-408A-AC7D-BD650295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4245-AA3B-44F0-A9C9-74C95C85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3096-349D-4D2D-86CD-2DB8E436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0D45-7645-402A-A69B-B7238A2C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5BC8-2D69-48A0-8B7E-E001BFA3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5701-C635-4F36-A589-5905AF3C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652-B99F-48F5-A4F9-FFA8488C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F761-599A-4BC1-9411-3F410B0D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D2A3-2C21-4D09-991E-E51F9C8D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6AA5-43E9-4562-8B59-9682EB26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5994-F5C3-4C5F-AB3C-C556FB5E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1ECC-E6B4-4C84-8729-D040C72AE6F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unny_0016_water_prank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309160" cy="153036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8"/>
          <p:cNvGrpSpPr/>
          <p:nvPr/>
        </p:nvGrpSpPr>
        <p:grpSpPr>
          <a:xfrm>
            <a:off x="685800" y="2819520"/>
            <a:ext cx="2514600" cy="2361960"/>
            <a:chOff x="685800" y="2819520"/>
            <a:chExt cx="2514600" cy="2361960"/>
          </a:xfrm>
        </p:grpSpPr>
        <p:grpSp>
          <p:nvGrpSpPr>
            <p:cNvPr id="64" name="Freeform 6"/>
            <p:cNvGrpSpPr/>
            <p:nvPr/>
          </p:nvGrpSpPr>
          <p:grpSpPr>
            <a:xfrm>
              <a:off x="685800" y="2819520"/>
              <a:ext cx="2514600" cy="2361960"/>
              <a:chOff x="685800" y="2819520"/>
              <a:chExt cx="2514600" cy="2361960"/>
            </a:xfrm>
          </p:grpSpPr>
          <p:pic>
            <p:nvPicPr>
              <p:cNvPr id="65" name="Freeform 6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2819520"/>
                <a:ext cx="2514600" cy="23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 rot="5400000">
                <a:off x="1065600" y="2749320"/>
                <a:ext cx="2025000" cy="22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Oval 7"/>
            <p:cNvGrpSpPr/>
            <p:nvPr/>
          </p:nvGrpSpPr>
          <p:grpSpPr>
            <a:xfrm>
              <a:off x="1758240" y="4000680"/>
              <a:ext cx="696960" cy="527760"/>
              <a:chOff x="1758240" y="4000680"/>
              <a:chExt cx="696960" cy="527760"/>
            </a:xfrm>
          </p:grpSpPr>
          <p:pic>
            <p:nvPicPr>
              <p:cNvPr id="68" name="Oval 7" descr=""/>
              <p:cNvPicPr/>
              <p:nvPr/>
            </p:nvPicPr>
            <p:blipFill>
              <a:blip r:embed="rId3"/>
              <a:stretch/>
            </p:blipFill>
            <p:spPr>
              <a:xfrm>
                <a:off x="1758240" y="4000680"/>
                <a:ext cx="696960" cy="52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>
                <a:off x="1869840" y="4088160"/>
                <a:ext cx="47304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Group 32"/>
          <p:cNvGrpSpPr/>
          <p:nvPr/>
        </p:nvGrpSpPr>
        <p:grpSpPr>
          <a:xfrm>
            <a:off x="1600200" y="1752480"/>
            <a:ext cx="1143000" cy="991080"/>
            <a:chOff x="1600200" y="1752480"/>
            <a:chExt cx="1143000" cy="991080"/>
          </a:xfrm>
        </p:grpSpPr>
        <p:cxnSp>
          <p:nvCxnSpPr>
            <p:cNvPr id="71" name="Straight Arrow Connector 10"/>
            <p:cNvCxnSpPr/>
            <p:nvPr/>
          </p:nvCxnSpPr>
          <p:spPr>
            <a:xfrm flipH="1">
              <a:off x="2133360" y="2209680"/>
              <a:ext cx="2160" cy="534240"/>
            </a:xfrm>
            <a:prstGeom prst="straightConnector1">
              <a:avLst/>
            </a:prstGeom>
            <a:ln w="38160">
              <a:solidFill>
                <a:srgbClr val="feb80a"/>
              </a:solidFill>
              <a:miter/>
              <a:tailEnd len="med" type="arrow" w="med"/>
            </a:ln>
          </p:spPr>
        </p:cxnSp>
        <p:sp>
          <p:nvSpPr>
            <p:cNvPr id="72" name="TextBox 13"/>
            <p:cNvSpPr/>
            <p:nvPr/>
          </p:nvSpPr>
          <p:spPr>
            <a:xfrm>
              <a:off x="1600200" y="1752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Rounded MT Bold"/>
                </a:rPr>
                <a:t>Ins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33"/>
          <p:cNvGrpSpPr/>
          <p:nvPr/>
        </p:nvGrpSpPr>
        <p:grpSpPr>
          <a:xfrm>
            <a:off x="4114800" y="1752480"/>
            <a:ext cx="1371600" cy="914760"/>
            <a:chOff x="4114800" y="1752480"/>
            <a:chExt cx="1371600" cy="914760"/>
          </a:xfrm>
        </p:grpSpPr>
        <p:cxnSp>
          <p:nvCxnSpPr>
            <p:cNvPr id="74" name="Straight Arrow Connector 12"/>
            <p:cNvCxnSpPr/>
            <p:nvPr/>
          </p:nvCxnSpPr>
          <p:spPr>
            <a:xfrm flipH="1">
              <a:off x="4798800" y="2133360"/>
              <a:ext cx="2160" cy="534240"/>
            </a:xfrm>
            <a:prstGeom prst="straightConnector1">
              <a:avLst/>
            </a:prstGeom>
            <a:ln w="38160">
              <a:solidFill>
                <a:srgbClr val="feb80a"/>
              </a:solidFill>
              <a:miter/>
              <a:tailEnd len="med" type="arrow" w="med"/>
            </a:ln>
          </p:spPr>
        </p:cxnSp>
        <p:sp>
          <p:nvSpPr>
            <p:cNvPr id="75" name="TextBox 14"/>
            <p:cNvSpPr/>
            <p:nvPr/>
          </p:nvSpPr>
          <p:spPr>
            <a:xfrm>
              <a:off x="4114800" y="175248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Rounded MT Bold"/>
                </a:rPr>
                <a:t>Outs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Box 19"/>
          <p:cNvSpPr/>
          <p:nvPr/>
        </p:nvSpPr>
        <p:spPr>
          <a:xfrm>
            <a:off x="992160" y="3505320"/>
            <a:ext cx="19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tra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20"/>
          <p:cNvGrpSpPr/>
          <p:nvPr/>
        </p:nvGrpSpPr>
        <p:grpSpPr>
          <a:xfrm>
            <a:off x="3276720" y="2819520"/>
            <a:ext cx="2133360" cy="1447560"/>
            <a:chOff x="3276720" y="2819520"/>
            <a:chExt cx="2133360" cy="1447560"/>
          </a:xfrm>
        </p:grpSpPr>
        <p:grpSp>
          <p:nvGrpSpPr>
            <p:cNvPr id="78" name="Freeform 21"/>
            <p:cNvGrpSpPr/>
            <p:nvPr/>
          </p:nvGrpSpPr>
          <p:grpSpPr>
            <a:xfrm>
              <a:off x="3276720" y="2819520"/>
              <a:ext cx="2133360" cy="1447560"/>
              <a:chOff x="3276720" y="2819520"/>
              <a:chExt cx="2133360" cy="1447560"/>
            </a:xfrm>
          </p:grpSpPr>
          <p:pic>
            <p:nvPicPr>
              <p:cNvPr id="79" name="Freeform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3276720" y="2819520"/>
                <a:ext cx="2133360" cy="14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 rot="5400000">
                <a:off x="3904560" y="2496960"/>
                <a:ext cx="1138320" cy="182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Oval 22"/>
            <p:cNvGrpSpPr/>
            <p:nvPr/>
          </p:nvGrpSpPr>
          <p:grpSpPr>
            <a:xfrm>
              <a:off x="4205160" y="3485880"/>
              <a:ext cx="578880" cy="306720"/>
              <a:chOff x="4205160" y="3485880"/>
              <a:chExt cx="578880" cy="306720"/>
            </a:xfrm>
          </p:grpSpPr>
          <p:pic>
            <p:nvPicPr>
              <p:cNvPr id="82" name="Oval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4205160" y="3485880"/>
                <a:ext cx="578880" cy="3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4301640" y="3540960"/>
                <a:ext cx="390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" name="Group 23"/>
          <p:cNvGrpSpPr/>
          <p:nvPr/>
        </p:nvGrpSpPr>
        <p:grpSpPr>
          <a:xfrm>
            <a:off x="2971800" y="4419720"/>
            <a:ext cx="1905120" cy="1523880"/>
            <a:chOff x="2971800" y="4419720"/>
            <a:chExt cx="1905120" cy="1523880"/>
          </a:xfrm>
        </p:grpSpPr>
        <p:grpSp>
          <p:nvGrpSpPr>
            <p:cNvPr id="85" name="Freeform 24"/>
            <p:cNvGrpSpPr/>
            <p:nvPr/>
          </p:nvGrpSpPr>
          <p:grpSpPr>
            <a:xfrm>
              <a:off x="2971800" y="4419720"/>
              <a:ext cx="1905120" cy="1523880"/>
              <a:chOff x="2971800" y="4419720"/>
              <a:chExt cx="1905120" cy="1523880"/>
            </a:xfrm>
          </p:grpSpPr>
          <p:pic>
            <p:nvPicPr>
              <p:cNvPr id="86" name="Freeform 24" descr=""/>
              <p:cNvPicPr/>
              <p:nvPr/>
            </p:nvPicPr>
            <p:blipFill>
              <a:blip r:embed="rId6"/>
              <a:stretch/>
            </p:blipFill>
            <p:spPr>
              <a:xfrm>
                <a:off x="2971800" y="4419720"/>
                <a:ext cx="190512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 rot="5400000">
                <a:off x="3451320" y="4248360"/>
                <a:ext cx="1209600" cy="160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Oval 25"/>
            <p:cNvGrpSpPr/>
            <p:nvPr/>
          </p:nvGrpSpPr>
          <p:grpSpPr>
            <a:xfrm>
              <a:off x="3821760" y="5130720"/>
              <a:ext cx="506880" cy="324000"/>
              <a:chOff x="3821760" y="5130720"/>
              <a:chExt cx="506880" cy="324000"/>
            </a:xfrm>
          </p:grpSpPr>
          <p:pic>
            <p:nvPicPr>
              <p:cNvPr id="89" name="Oval 25" descr=""/>
              <p:cNvPicPr/>
              <p:nvPr/>
            </p:nvPicPr>
            <p:blipFill>
              <a:blip r:embed="rId7"/>
              <a:stretch/>
            </p:blipFill>
            <p:spPr>
              <a:xfrm>
                <a:off x="3821760" y="5130720"/>
                <a:ext cx="506880" cy="32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3904920" y="5187240"/>
                <a:ext cx="342360" cy="21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Can 26"/>
          <p:cNvSpPr/>
          <p:nvPr/>
        </p:nvSpPr>
        <p:spPr>
          <a:xfrm>
            <a:off x="6629400" y="1905120"/>
            <a:ext cx="1371600" cy="3962160"/>
          </a:xfrm>
          <a:prstGeom prst="can">
            <a:avLst>
              <a:gd name="adj" fmla="val 7995"/>
            </a:avLst>
          </a:prstGeom>
          <a:solidFill>
            <a:srgbClr val="ff33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Straight Arrow Connector 27"/>
          <p:cNvCxnSpPr/>
          <p:nvPr/>
        </p:nvCxnSpPr>
        <p:spPr>
          <a:xfrm>
            <a:off x="3124080" y="6172200"/>
            <a:ext cx="5106240" cy="2160"/>
          </a:xfrm>
          <a:prstGeom prst="straightConnector1">
            <a:avLst/>
          </a:prstGeom>
          <a:ln w="38160">
            <a:solidFill>
              <a:srgbClr val="feb80a"/>
            </a:solidFill>
            <a:miter/>
            <a:headEnd len="lg" type="stealth" w="lg"/>
            <a:tailEnd len="lg" type="stealth" w="lg"/>
          </a:ln>
        </p:spPr>
      </p:cxnSp>
      <p:sp>
        <p:nvSpPr>
          <p:cNvPr id="93" name="TextBox 29"/>
          <p:cNvSpPr/>
          <p:nvPr/>
        </p:nvSpPr>
        <p:spPr>
          <a:xfrm>
            <a:off x="4672440" y="6172200"/>
            <a:ext cx="20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xtra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1"/>
          <p:cNvSpPr/>
          <p:nvPr/>
        </p:nvSpPr>
        <p:spPr>
          <a:xfrm>
            <a:off x="4807800" y="4267080"/>
            <a:ext cx="17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tersti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71280" y="2421000"/>
            <a:ext cx="8964720" cy="3600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57240" y="328680"/>
            <a:ext cx="8762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omposition of the Human Bo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The major body fluid compartment and membranes separate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S02401-025-f001"/>
          <p:cNvPicPr/>
          <p:nvPr/>
        </p:nvPicPr>
        <p:blipFill>
          <a:blip r:embed="rId2"/>
          <a:stretch/>
        </p:blipFill>
        <p:spPr>
          <a:xfrm>
            <a:off x="1403280" y="1844640"/>
            <a:ext cx="5923080" cy="4756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le 5"/>
          <p:cNvSpPr/>
          <p:nvPr/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Distribution of Body Flu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21"/>
          <p:cNvSpPr/>
          <p:nvPr/>
        </p:nvSpPr>
        <p:spPr>
          <a:xfrm>
            <a:off x="2362320" y="1295280"/>
            <a:ext cx="44956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ody Flu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22"/>
          <p:cNvSpPr/>
          <p:nvPr/>
        </p:nvSpPr>
        <p:spPr>
          <a:xfrm>
            <a:off x="1752480" y="2895480"/>
            <a:ext cx="2286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⅔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C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23"/>
          <p:cNvSpPr/>
          <p:nvPr/>
        </p:nvSpPr>
        <p:spPr>
          <a:xfrm>
            <a:off x="5181480" y="2895480"/>
            <a:ext cx="19814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⅓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Left-Up Arrow 24"/>
          <p:cNvGrpSpPr/>
          <p:nvPr/>
        </p:nvGrpSpPr>
        <p:grpSpPr>
          <a:xfrm>
            <a:off x="3949560" y="2041560"/>
            <a:ext cx="1341720" cy="1347840"/>
            <a:chOff x="3949560" y="2041560"/>
            <a:chExt cx="1341720" cy="1347840"/>
          </a:xfrm>
        </p:grpSpPr>
        <p:pic>
          <p:nvPicPr>
            <p:cNvPr id="104" name="Left-Up Arrow 24" descr=""/>
            <p:cNvPicPr/>
            <p:nvPr/>
          </p:nvPicPr>
          <p:blipFill>
            <a:blip r:embed="rId1"/>
            <a:stretch/>
          </p:blipFill>
          <p:spPr>
            <a:xfrm>
              <a:off x="3949560" y="2041560"/>
              <a:ext cx="134172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 rot="13494000">
              <a:off x="4522320" y="2488320"/>
              <a:ext cx="6066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ounded Rectangle 25"/>
          <p:cNvSpPr/>
          <p:nvPr/>
        </p:nvSpPr>
        <p:spPr>
          <a:xfrm>
            <a:off x="4343400" y="4800600"/>
            <a:ext cx="14479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¾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26"/>
          <p:cNvSpPr/>
          <p:nvPr/>
        </p:nvSpPr>
        <p:spPr>
          <a:xfrm>
            <a:off x="6400800" y="4800600"/>
            <a:ext cx="21337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¼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50"/>
          <p:cNvGrpSpPr/>
          <p:nvPr/>
        </p:nvGrpSpPr>
        <p:grpSpPr>
          <a:xfrm>
            <a:off x="5562000" y="3886200"/>
            <a:ext cx="1448640" cy="838440"/>
            <a:chOff x="5562000" y="3886200"/>
            <a:chExt cx="1448640" cy="838440"/>
          </a:xfrm>
        </p:grpSpPr>
        <p:cxnSp>
          <p:nvCxnSpPr>
            <p:cNvPr id="109" name="Elbow Connector 33"/>
            <p:cNvCxnSpPr/>
            <p:nvPr/>
          </p:nvCxnSpPr>
          <p:spPr>
            <a:xfrm flipH="1" rot="16200000">
              <a:off x="6210360" y="3924000"/>
              <a:ext cx="838800" cy="762480"/>
            </a:xfrm>
            <a:prstGeom prst="bentConnector3">
              <a:avLst>
                <a:gd name="adj1" fmla="val 59338"/>
              </a:avLst>
            </a:prstGeom>
            <a:ln w="38160">
              <a:solidFill>
                <a:srgbClr val="9bbb59"/>
              </a:solidFill>
              <a:miter/>
              <a:tailEnd len="med" type="arrow" w="med"/>
            </a:ln>
          </p:spPr>
        </p:cxnSp>
        <p:cxnSp>
          <p:nvCxnSpPr>
            <p:cNvPr id="110" name="Elbow Connector 38"/>
            <p:cNvCxnSpPr/>
            <p:nvPr/>
          </p:nvCxnSpPr>
          <p:spPr>
            <a:xfrm rot="5400000">
              <a:off x="5485680" y="3962160"/>
              <a:ext cx="838800" cy="686520"/>
            </a:xfrm>
            <a:prstGeom prst="bentConnector3">
              <a:avLst>
                <a:gd name="adj1" fmla="val 59338"/>
              </a:avLst>
            </a:prstGeom>
            <a:ln w="38160">
              <a:solidFill>
                <a:srgbClr val="9bbb59"/>
              </a:solidFill>
              <a:miter/>
              <a:tailEnd len="med" type="arrow" w="med"/>
            </a:ln>
          </p:spPr>
        </p:cxnSp>
      </p:grpSp>
      <p:cxnSp>
        <p:nvCxnSpPr>
          <p:cNvPr id="111" name="Straight Arrow Connector 52"/>
          <p:cNvCxnSpPr/>
          <p:nvPr/>
        </p:nvCxnSpPr>
        <p:spPr>
          <a:xfrm flipH="1">
            <a:off x="3504600" y="3732840"/>
            <a:ext cx="1600920" cy="991080"/>
          </a:xfrm>
          <a:prstGeom prst="straightConnector1">
            <a:avLst/>
          </a:prstGeom>
          <a:ln w="38160">
            <a:solidFill>
              <a:srgbClr val="ff9900"/>
            </a:solidFill>
            <a:prstDash val="sysDash"/>
            <a:miter/>
            <a:tailEnd len="med" type="arrow" w="med"/>
          </a:ln>
        </p:spPr>
      </p:cxnSp>
      <p:sp>
        <p:nvSpPr>
          <p:cNvPr id="112" name="Rounded Rectangle 54"/>
          <p:cNvSpPr/>
          <p:nvPr/>
        </p:nvSpPr>
        <p:spPr>
          <a:xfrm>
            <a:off x="380880" y="4800600"/>
            <a:ext cx="342900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ranscellular Fl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8"/>
          <p:cNvSpPr/>
          <p:nvPr/>
        </p:nvSpPr>
        <p:spPr>
          <a:xfrm>
            <a:off x="3566880" y="3962520"/>
            <a:ext cx="6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Calibri"/>
              </a:rPr>
              <a:t>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9"/>
          <p:cNvSpPr/>
          <p:nvPr/>
        </p:nvSpPr>
        <p:spPr>
          <a:xfrm>
            <a:off x="309600" y="5781600"/>
            <a:ext cx="34938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luid in body spa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pleural, pericardi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itoneal, synovial, &amp; intraocul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Down Arrow 60"/>
          <p:cNvGrpSpPr/>
          <p:nvPr/>
        </p:nvGrpSpPr>
        <p:grpSpPr>
          <a:xfrm>
            <a:off x="1773360" y="5535720"/>
            <a:ext cx="568080" cy="261720"/>
            <a:chOff x="1773360" y="5535720"/>
            <a:chExt cx="568080" cy="261720"/>
          </a:xfrm>
        </p:grpSpPr>
        <p:pic>
          <p:nvPicPr>
            <p:cNvPr id="116" name="Down Arrow 60" descr=""/>
            <p:cNvPicPr/>
            <p:nvPr/>
          </p:nvPicPr>
          <p:blipFill>
            <a:blip r:embed="rId2"/>
            <a:stretch/>
          </p:blipFill>
          <p:spPr>
            <a:xfrm>
              <a:off x="1773360" y="5535720"/>
              <a:ext cx="56808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943280" y="5562720"/>
              <a:ext cx="228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95280" y="191592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plasma and interstitial fluid are separated only by highly permeable capillary membranes, their ionic composition is similar but protein is higher in the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intracellular fluid is separated from extracellular fluid by a cell membrane that is highly permeable to water but not to most of the electrolytes in the bo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S02401-025-f001"/>
          <p:cNvPicPr/>
          <p:nvPr/>
        </p:nvPicPr>
        <p:blipFill>
          <a:blip r:embed="rId2"/>
          <a:stretch/>
        </p:blipFill>
        <p:spPr>
          <a:xfrm>
            <a:off x="6629400" y="4437000"/>
            <a:ext cx="2514600" cy="2019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ectangle 1" descr=""/>
          <p:cNvPicPr/>
          <p:nvPr/>
        </p:nvPicPr>
        <p:blipFill>
          <a:blip r:embed="rId1"/>
          <a:stretch/>
        </p:blipFill>
        <p:spPr>
          <a:xfrm>
            <a:off x="360360" y="1146240"/>
            <a:ext cx="8478720" cy="1566720"/>
          </a:xfrm>
          <a:prstGeom prst="rect">
            <a:avLst/>
          </a:prstGeom>
          <a:ln w="0">
            <a:noFill/>
          </a:ln>
        </p:spPr>
      </p:pic>
      <p:grpSp>
        <p:nvGrpSpPr>
          <p:cNvPr id="121" name="Down Arrow 3"/>
          <p:cNvGrpSpPr/>
          <p:nvPr/>
        </p:nvGrpSpPr>
        <p:grpSpPr>
          <a:xfrm>
            <a:off x="3986280" y="2712960"/>
            <a:ext cx="871560" cy="798480"/>
            <a:chOff x="3986280" y="2712960"/>
            <a:chExt cx="871560" cy="798480"/>
          </a:xfrm>
        </p:grpSpPr>
        <p:pic>
          <p:nvPicPr>
            <p:cNvPr id="122" name="Down Arrow 3" descr=""/>
            <p:cNvPicPr/>
            <p:nvPr/>
          </p:nvPicPr>
          <p:blipFill>
            <a:blip r:embed="rId2"/>
            <a:stretch/>
          </p:blipFill>
          <p:spPr>
            <a:xfrm>
              <a:off x="3986280" y="2712960"/>
              <a:ext cx="8715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229280" y="2743200"/>
              <a:ext cx="3808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Rectangle 3" descr=""/>
          <p:cNvPicPr/>
          <p:nvPr/>
        </p:nvPicPr>
        <p:blipFill>
          <a:blip r:embed="rId3"/>
          <a:stretch/>
        </p:blipFill>
        <p:spPr>
          <a:xfrm>
            <a:off x="3773520" y="3346560"/>
            <a:ext cx="1279440" cy="920520"/>
          </a:xfrm>
          <a:prstGeom prst="rect">
            <a:avLst/>
          </a:prstGeom>
          <a:ln w="0">
            <a:noFill/>
          </a:ln>
        </p:spPr>
      </p:pic>
      <p:pic>
        <p:nvPicPr>
          <p:cNvPr id="125" name="Rectangle 4" descr=""/>
          <p:cNvPicPr/>
          <p:nvPr/>
        </p:nvPicPr>
        <p:blipFill>
          <a:blip r:embed="rId4"/>
          <a:stretch/>
        </p:blipFill>
        <p:spPr>
          <a:xfrm>
            <a:off x="1828800" y="4194000"/>
            <a:ext cx="5157720" cy="932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lute Overview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Intracellular vs. Extracell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5280" y="2204640"/>
            <a:ext cx="3322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composition very diffe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ionic concentration very simi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osmotic concentrations virtually iden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S02401-025-f002"/>
          <p:cNvPicPr/>
          <p:nvPr/>
        </p:nvPicPr>
        <p:blipFill>
          <a:blip r:embed="rId2"/>
          <a:stretch/>
        </p:blipFill>
        <p:spPr>
          <a:xfrm>
            <a:off x="3635280" y="1916280"/>
            <a:ext cx="5400720" cy="451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2" descr=""/>
          <p:cNvPicPr/>
          <p:nvPr/>
        </p:nvPicPr>
        <p:blipFill>
          <a:blip r:embed="rId1"/>
          <a:stretch/>
        </p:blipFill>
        <p:spPr>
          <a:xfrm>
            <a:off x="512640" y="2517840"/>
            <a:ext cx="8174160" cy="1566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000" y="3645000"/>
            <a:ext cx="843588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control systems regulate ingestion and excre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total body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total body osmola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Osmolarity is identical in all body fluid compart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teady state condi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79280" y="2060640"/>
            <a:ext cx="86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The process by which the body keeps the internal environment constant despite changes in the external environment is known a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Homeostasis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125440"/>
            <a:ext cx="568620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Body Flui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467440" y="3825720"/>
            <a:ext cx="393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Dr Mouaadh abdelkar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bdelkarim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476360" y="423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600" spc="-1" strike="noStrike">
                <a:solidFill>
                  <a:srgbClr val="000000"/>
                </a:solidFill>
                <a:latin typeface="Arial"/>
              </a:rPr>
              <a:t>Physiology:  Lectur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Water Steady St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2641680" y="1630440"/>
            <a:ext cx="6610320" cy="49561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0" y="2498760"/>
            <a:ext cx="399564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ingested = amount elimin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ological  lo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cular blee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m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rrh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Arial"/>
                <a:ea typeface="Arial"/>
              </a:rPr>
              <a:t>   ↑↑ </a:t>
            </a:r>
            <a:r>
              <a:rPr b="0" lang="en-US" sz="2600" spc="-1" strike="noStrike">
                <a:solidFill>
                  <a:srgbClr val="0d0d0d"/>
                </a:solidFill>
                <a:latin typeface="Arial"/>
                <a:ea typeface="Arial"/>
              </a:rPr>
              <a:t>urine output (Diabete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↑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w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9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S02401-025-f005"/>
          <p:cNvPicPr/>
          <p:nvPr/>
        </p:nvPicPr>
        <p:blipFill>
          <a:blip r:embed="rId2"/>
          <a:stretch/>
        </p:blipFill>
        <p:spPr>
          <a:xfrm>
            <a:off x="826920" y="1770120"/>
            <a:ext cx="6932880" cy="4971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on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760400"/>
            <a:ext cx="82296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351c"/>
              </a:buClr>
              <a:buSzPct val="12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otoni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al tension to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BCs will not gain or lose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potonic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smotically active solutes in a lower osmolality and osmotic pressure than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BC will hemoly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pertoni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smotically active solutes in a higher osmolality and osmotic pressure than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BC will cren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5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76400"/>
            <a:ext cx="822960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Volume: the general clinical terms for volume abnormalities are dehydration and overhydration. Both conditions are associated with a change in ECF volu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Concentration: Osmolarity refers to the number of solute particles per liter of solution, and Osmolality refers to the number of solute particles per kilogram of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nicity:</a:t>
            </a:r>
            <a:r>
              <a:rPr b="0" lang="fr-CA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ffect of a solution on the osmotic movement of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gulation of fluids and electrolyt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2060640"/>
            <a:ext cx="84358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meostatic mechanisms respond to changes in EC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receptors directly monitor fluid or electrolyte bal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d to changes in plasma volume or osmotic concent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water moves passively in response to osmotic grad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dy content of watar or electrolytes rises if intake exceeds out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0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imary regulatory hormo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904760"/>
            <a:ext cx="822960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idiuretic hormone (ADH) (hypothalamu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mulates water conservation and the thirst 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tes the concentration of body flu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dosterone  (Adrenal corte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s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sorption and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ss along the D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tes the volume of body fluid compart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riuretic pepti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 thirst and block the release of ADH and aldostero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2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0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5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dium bal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2040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te of sodium uptake across digestive tract directly proportional to dietary inta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dium losses occur through urine and perspi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ifts in sodium balance result in expansion or contraction of EC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 variations corrected by homeostatic mech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 low, ADH / aldosterone secre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 high, ANP secre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7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1840" y="198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Homeostatic Regulation of Normal Sodium Ion Concentrations in Body Flu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1908000" y="1413000"/>
            <a:ext cx="4645080" cy="5257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198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Integration of Fluid Volume Regulation and Sodium Ion Concent-rations in Body Flu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1258920" y="1492200"/>
            <a:ext cx="6526080" cy="5249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Composition of the human bod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ody Wat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he human body made mainly of water, which consistutes about 60% of body weight in the adult, however the amount of water varies with 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8640720" cy="2930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925640"/>
            <a:ext cx="86868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okalemia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in K concentration in the EC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2 mEq/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erkalemia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in K 60-100% a above norm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925640"/>
            <a:ext cx="86868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ernatremia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in Na concentration in EC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onatremia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in Na concentration in the EC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Composition of the human bo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te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s the second largest component in the human body, largest amount found in skeletal mus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he third largest component in lean individual. It is found in adipose t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Composition of the human bo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Minera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Minerals, present in the human body in relatively small quantities with the exception of calcium. (found in bon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Minerals and electrolytes are found in the body fluids in minute concentrations, which are closely regulated to maintain the composition of the internal enveron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0" y="2637000"/>
            <a:ext cx="9036000" cy="27144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6300720" y="2205000"/>
            <a:ext cx="2087640" cy="316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  <a:ea typeface="Arial"/>
              </a:rPr>
              <a:t>The body flui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tal body water (TBW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sititutes 55-60% of the body weight in young men and 45-50% in young wom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fr-CA" sz="2400" spc="-1" strike="noStrike">
                <a:solidFill>
                  <a:srgbClr val="00ff00"/>
                </a:solidFill>
                <a:latin typeface="Calibri"/>
              </a:rPr>
              <a:t>Why the percentage is lower in wom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he TBW is distributed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uscle (5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kin (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ther organs (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lood (1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le 1"/>
          <p:cNvSpPr/>
          <p:nvPr/>
        </p:nvSpPr>
        <p:spPr>
          <a:xfrm>
            <a:off x="228600" y="6094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00000"/>
                </a:solidFill>
                <a:latin typeface="Calibri"/>
              </a:rPr>
              <a:t>What are the factors affecting TBW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2"/>
          <p:cNvSpPr/>
          <p:nvPr/>
        </p:nvSpPr>
        <p:spPr>
          <a:xfrm>
            <a:off x="457200" y="2041560"/>
            <a:ext cx="4038480" cy="443556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hysiolog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x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♀ &lt; ♂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% of Body f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atholog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m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rrh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5" descr="Water content changes with age.gif"/>
          <p:cNvPicPr/>
          <p:nvPr/>
        </p:nvPicPr>
        <p:blipFill>
          <a:blip r:embed="rId1"/>
          <a:stretch/>
        </p:blipFill>
        <p:spPr>
          <a:xfrm>
            <a:off x="4648320" y="2057400"/>
            <a:ext cx="4267080" cy="4343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  <a:ea typeface="Arial"/>
              </a:rPr>
              <a:t>The body flui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water content of the body is divided into two compart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cc351c"/>
                </a:solidFill>
                <a:latin typeface="Arial"/>
                <a:ea typeface="Arial"/>
              </a:rPr>
              <a:t>1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CA" sz="2400" spc="-1" strike="noStrike">
                <a:solidFill>
                  <a:srgbClr val="00ff00"/>
                </a:solidFill>
                <a:latin typeface="Arial"/>
                <a:ea typeface="Arial"/>
              </a:rPr>
              <a:t>Intracellular compart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Contained within the cell, represent approximately 67% of the total body water, 40% of total body weig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cc351c"/>
                </a:solidFill>
                <a:latin typeface="Arial"/>
                <a:ea typeface="Arial"/>
              </a:rPr>
              <a:t>2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CA" sz="2400" spc="-1" strike="noStrike">
                <a:solidFill>
                  <a:srgbClr val="00ff00"/>
                </a:solidFill>
                <a:latin typeface="Arial"/>
                <a:ea typeface="Arial"/>
              </a:rPr>
              <a:t>Extracellular Compart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Contained within the vessels of the cardiovascular system, is the remaining 33% of the total body water, about 20 % of total body weigh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22:20:53Z</dcterms:created>
  <dc:creator>Éric Vadeboncoeur</dc:creator>
  <dc:description/>
  <dc:language>en-US</dc:language>
  <cp:lastModifiedBy>mouaadh</cp:lastModifiedBy>
  <dcterms:modified xsi:type="dcterms:W3CDTF">2016-09-19T10:28:55Z</dcterms:modified>
  <cp:revision>207</cp:revision>
  <dc:subject/>
  <dc:title>PRESENTATION  NAME</dc:title>
</cp:coreProperties>
</file>