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20A-674D-4A85-B3CD-640C0EA42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EA2-930B-4628-8EC7-B270279A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730-E166-45BA-8279-B4085F2E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B28E-6545-48F7-BC0C-AD7CBA8D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7B4-3954-4227-A15F-BFEA5132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ACF-5F9B-4513-B9FE-B7DB3F3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6E6-C36D-42D1-AACA-6810DE77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B15-1267-4385-804B-EE6D05D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D0D3-8EEC-43B6-8A45-B30D4271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623-A6FA-42F0-A7AC-5A3C2A55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9F0-0394-4911-A796-3530732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846-7C83-4DB8-9B03-9FE8793E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1EE7-4318-4FDC-8901-47974DC4B378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21T08:06:27Z</dcterms:modified>
  <cp:revision>208</cp:revision>
  <dc:subject/>
  <dc:title>PRESENTATION  NAME</dc:title>
</cp:coreProperties>
</file>