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9.wmf" ContentType="image/x-wmf"/>
  <Override PartName="/ppt/media/image6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wmf" ContentType="image/x-wmf"/>
  <Override PartName="/ppt/media/image3.jpeg" ContentType="image/jpeg"/>
  <Override PartName="/ppt/media/image26.jpeg" ContentType="image/jpeg"/>
  <Override PartName="/ppt/media/image25.png" ContentType="image/png"/>
  <Override PartName="/ppt/media/image24.png" ContentType="image/png"/>
  <Override PartName="/ppt/media/image2.jpeg" ContentType="image/jpeg"/>
  <Override PartName="/ppt/media/image23.jpeg" ContentType="image/jpeg"/>
  <Override PartName="/ppt/media/image22.png" ContentType="image/png"/>
  <Override PartName="/ppt/media/image4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283-930B-4EC2-823A-E7CBFFB2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81EF-EA45-4745-8209-AEBD1B07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2A8-250A-47F8-AFB7-5124C3C9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25CC-60C8-4B9E-B5F9-79EBAA52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89DE-6DDE-4F39-9262-C1A30BFE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109E-D2B2-4F8D-998C-A9B56D0F1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836-CEA5-449A-A33C-B469AB32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5E7-5436-4D76-A908-067C83BE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6790-23B8-4878-A960-24F46987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D8B-7708-4420-A581-F3F54282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261-A318-45B9-BB33-68E6C683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A83-2969-4461-A057-D6D2E538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88D2-6819-41B8-B0A7-1E13E97707B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unny_0016_water_prank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83091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8"/>
          <p:cNvGrpSpPr/>
          <p:nvPr/>
        </p:nvGrpSpPr>
        <p:grpSpPr>
          <a:xfrm>
            <a:off x="685800" y="2819520"/>
            <a:ext cx="2514600" cy="2361960"/>
            <a:chOff x="685800" y="2819520"/>
            <a:chExt cx="2514600" cy="2361960"/>
          </a:xfrm>
        </p:grpSpPr>
        <p:grpSp>
          <p:nvGrpSpPr>
            <p:cNvPr id="64" name="Freeform 6"/>
            <p:cNvGrpSpPr/>
            <p:nvPr/>
          </p:nvGrpSpPr>
          <p:grpSpPr>
            <a:xfrm>
              <a:off x="685800" y="2819520"/>
              <a:ext cx="2514600" cy="2361960"/>
              <a:chOff x="685800" y="2819520"/>
              <a:chExt cx="2514600" cy="2361960"/>
            </a:xfrm>
          </p:grpSpPr>
          <p:pic>
            <p:nvPicPr>
              <p:cNvPr id="65" name="Freeform 6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2819520"/>
                <a:ext cx="2514600" cy="23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 rot="5400000">
                <a:off x="1065600" y="2749320"/>
                <a:ext cx="2025000" cy="221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Oval 7"/>
            <p:cNvGrpSpPr/>
            <p:nvPr/>
          </p:nvGrpSpPr>
          <p:grpSpPr>
            <a:xfrm>
              <a:off x="1758240" y="4000680"/>
              <a:ext cx="696960" cy="527760"/>
              <a:chOff x="1758240" y="4000680"/>
              <a:chExt cx="696960" cy="527760"/>
            </a:xfrm>
          </p:grpSpPr>
          <p:pic>
            <p:nvPicPr>
              <p:cNvPr id="68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1758240" y="4000680"/>
                <a:ext cx="696960" cy="52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1869840" y="4088160"/>
                <a:ext cx="47304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Group 32"/>
          <p:cNvGrpSpPr/>
          <p:nvPr/>
        </p:nvGrpSpPr>
        <p:grpSpPr>
          <a:xfrm>
            <a:off x="1600200" y="1752480"/>
            <a:ext cx="1143000" cy="991080"/>
            <a:chOff x="1600200" y="1752480"/>
            <a:chExt cx="1143000" cy="991080"/>
          </a:xfrm>
        </p:grpSpPr>
        <p:cxnSp>
          <p:nvCxnSpPr>
            <p:cNvPr id="71" name="Straight Arrow Connector 10"/>
            <p:cNvCxnSpPr/>
            <p:nvPr/>
          </p:nvCxnSpPr>
          <p:spPr>
            <a:xfrm flipH="1">
              <a:off x="2133360" y="220968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2" name="TextBox 13"/>
            <p:cNvSpPr/>
            <p:nvPr/>
          </p:nvSpPr>
          <p:spPr>
            <a:xfrm>
              <a:off x="1600200" y="1752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In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33"/>
          <p:cNvGrpSpPr/>
          <p:nvPr/>
        </p:nvGrpSpPr>
        <p:grpSpPr>
          <a:xfrm>
            <a:off x="4114800" y="1752480"/>
            <a:ext cx="1371600" cy="914760"/>
            <a:chOff x="4114800" y="1752480"/>
            <a:chExt cx="1371600" cy="914760"/>
          </a:xfrm>
        </p:grpSpPr>
        <p:cxnSp>
          <p:nvCxnSpPr>
            <p:cNvPr id="74" name="Straight Arrow Connector 12"/>
            <p:cNvCxnSpPr/>
            <p:nvPr/>
          </p:nvCxnSpPr>
          <p:spPr>
            <a:xfrm flipH="1">
              <a:off x="4798800" y="2133360"/>
              <a:ext cx="2160" cy="534240"/>
            </a:xfrm>
            <a:prstGeom prst="straightConnector1">
              <a:avLst/>
            </a:prstGeom>
            <a:ln w="38160">
              <a:solidFill>
                <a:srgbClr val="feb80a"/>
              </a:solidFill>
              <a:miter/>
              <a:tailEnd len="med" type="arrow" w="med"/>
            </a:ln>
          </p:spPr>
        </p:cxnSp>
        <p:sp>
          <p:nvSpPr>
            <p:cNvPr id="75" name="TextBox 14"/>
            <p:cNvSpPr/>
            <p:nvPr/>
          </p:nvSpPr>
          <p:spPr>
            <a:xfrm>
              <a:off x="4114800" y="175248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Rounded MT Bold"/>
                </a:rPr>
                <a:t>Outs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Box 19"/>
          <p:cNvSpPr/>
          <p:nvPr/>
        </p:nvSpPr>
        <p:spPr>
          <a:xfrm>
            <a:off x="992160" y="3505320"/>
            <a:ext cx="19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20"/>
          <p:cNvGrpSpPr/>
          <p:nvPr/>
        </p:nvGrpSpPr>
        <p:grpSpPr>
          <a:xfrm>
            <a:off x="3276720" y="2819520"/>
            <a:ext cx="2133360" cy="1447560"/>
            <a:chOff x="3276720" y="2819520"/>
            <a:chExt cx="2133360" cy="1447560"/>
          </a:xfrm>
        </p:grpSpPr>
        <p:grpSp>
          <p:nvGrpSpPr>
            <p:cNvPr id="78" name="Freeform 21"/>
            <p:cNvGrpSpPr/>
            <p:nvPr/>
          </p:nvGrpSpPr>
          <p:grpSpPr>
            <a:xfrm>
              <a:off x="3276720" y="2819520"/>
              <a:ext cx="2133360" cy="1447560"/>
              <a:chOff x="3276720" y="2819520"/>
              <a:chExt cx="2133360" cy="1447560"/>
            </a:xfrm>
          </p:grpSpPr>
          <p:pic>
            <p:nvPicPr>
              <p:cNvPr id="79" name="Freeform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6720" y="2819520"/>
                <a:ext cx="2133360" cy="14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 rot="5400000">
                <a:off x="3904560" y="2496960"/>
                <a:ext cx="1138320" cy="182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Oval 22"/>
            <p:cNvGrpSpPr/>
            <p:nvPr/>
          </p:nvGrpSpPr>
          <p:grpSpPr>
            <a:xfrm>
              <a:off x="4205160" y="3485880"/>
              <a:ext cx="578880" cy="306720"/>
              <a:chOff x="4205160" y="3485880"/>
              <a:chExt cx="578880" cy="306720"/>
            </a:xfrm>
          </p:grpSpPr>
          <p:pic>
            <p:nvPicPr>
              <p:cNvPr id="82" name="Oval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4205160" y="3485880"/>
                <a:ext cx="578880" cy="3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301640" y="3540960"/>
                <a:ext cx="390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23"/>
          <p:cNvGrpSpPr/>
          <p:nvPr/>
        </p:nvGrpSpPr>
        <p:grpSpPr>
          <a:xfrm>
            <a:off x="2971800" y="4419720"/>
            <a:ext cx="1905120" cy="1523880"/>
            <a:chOff x="2971800" y="4419720"/>
            <a:chExt cx="1905120" cy="1523880"/>
          </a:xfrm>
        </p:grpSpPr>
        <p:grpSp>
          <p:nvGrpSpPr>
            <p:cNvPr id="85" name="Freeform 24"/>
            <p:cNvGrpSpPr/>
            <p:nvPr/>
          </p:nvGrpSpPr>
          <p:grpSpPr>
            <a:xfrm>
              <a:off x="2971800" y="4419720"/>
              <a:ext cx="1905120" cy="1523880"/>
              <a:chOff x="2971800" y="4419720"/>
              <a:chExt cx="1905120" cy="1523880"/>
            </a:xfrm>
          </p:grpSpPr>
          <p:pic>
            <p:nvPicPr>
              <p:cNvPr id="86" name="Freeform 24" descr=""/>
              <p:cNvPicPr/>
              <p:nvPr/>
            </p:nvPicPr>
            <p:blipFill>
              <a:blip r:embed="rId6"/>
              <a:stretch/>
            </p:blipFill>
            <p:spPr>
              <a:xfrm>
                <a:off x="2971800" y="4419720"/>
                <a:ext cx="190512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 rot="5400000">
                <a:off x="3451320" y="4248360"/>
                <a:ext cx="1209600" cy="16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Oval 25"/>
            <p:cNvGrpSpPr/>
            <p:nvPr/>
          </p:nvGrpSpPr>
          <p:grpSpPr>
            <a:xfrm>
              <a:off x="3821760" y="5130720"/>
              <a:ext cx="506880" cy="324000"/>
              <a:chOff x="3821760" y="5130720"/>
              <a:chExt cx="506880" cy="324000"/>
            </a:xfrm>
          </p:grpSpPr>
          <p:pic>
            <p:nvPicPr>
              <p:cNvPr id="89" name="Oval 25" descr=""/>
              <p:cNvPicPr/>
              <p:nvPr/>
            </p:nvPicPr>
            <p:blipFill>
              <a:blip r:embed="rId7"/>
              <a:stretch/>
            </p:blipFill>
            <p:spPr>
              <a:xfrm>
                <a:off x="3821760" y="5130720"/>
                <a:ext cx="506880" cy="32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3904920" y="5187240"/>
                <a:ext cx="342360" cy="21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Can 26"/>
          <p:cNvSpPr/>
          <p:nvPr/>
        </p:nvSpPr>
        <p:spPr>
          <a:xfrm>
            <a:off x="6629400" y="1905120"/>
            <a:ext cx="1371600" cy="3962160"/>
          </a:xfrm>
          <a:prstGeom prst="can">
            <a:avLst>
              <a:gd name="adj" fmla="val 7995"/>
            </a:avLst>
          </a:prstGeom>
          <a:solidFill>
            <a:srgbClr val="ff33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Calibri"/>
              </a:rPr>
              <a:t>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27"/>
          <p:cNvCxnSpPr/>
          <p:nvPr/>
        </p:nvCxnSpPr>
        <p:spPr>
          <a:xfrm>
            <a:off x="3124080" y="6172200"/>
            <a:ext cx="5106240" cy="2160"/>
          </a:xfrm>
          <a:prstGeom prst="straightConnector1">
            <a:avLst/>
          </a:prstGeom>
          <a:ln w="38160">
            <a:solidFill>
              <a:srgbClr val="feb80a"/>
            </a:solidFill>
            <a:miter/>
            <a:headEnd len="lg" type="stealth" w="lg"/>
            <a:tailEnd len="lg" type="stealth" w="lg"/>
          </a:ln>
        </p:spPr>
      </p:cxnSp>
      <p:sp>
        <p:nvSpPr>
          <p:cNvPr id="93" name="TextBox 29"/>
          <p:cNvSpPr/>
          <p:nvPr/>
        </p:nvSpPr>
        <p:spPr>
          <a:xfrm>
            <a:off x="4672440" y="617220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1"/>
          <p:cNvSpPr/>
          <p:nvPr/>
        </p:nvSpPr>
        <p:spPr>
          <a:xfrm>
            <a:off x="4807800" y="42670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ersti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71280" y="2421000"/>
            <a:ext cx="896472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57240" y="328680"/>
            <a:ext cx="876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omposition of the Human Bo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The major body fluid compartment and membranes separate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S02401-025-f001"/>
          <p:cNvPicPr/>
          <p:nvPr/>
        </p:nvPicPr>
        <p:blipFill>
          <a:blip r:embed="rId2"/>
          <a:stretch/>
        </p:blipFill>
        <p:spPr>
          <a:xfrm>
            <a:off x="1403280" y="1844640"/>
            <a:ext cx="5923080" cy="4756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5"/>
          <p:cNvSpPr/>
          <p:nvPr/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Distribution of 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21"/>
          <p:cNvSpPr/>
          <p:nvPr/>
        </p:nvSpPr>
        <p:spPr>
          <a:xfrm>
            <a:off x="2362320" y="1295280"/>
            <a:ext cx="44956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dy Flu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22"/>
          <p:cNvSpPr/>
          <p:nvPr/>
        </p:nvSpPr>
        <p:spPr>
          <a:xfrm>
            <a:off x="1752480" y="2895480"/>
            <a:ext cx="2286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⅔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23"/>
          <p:cNvSpPr/>
          <p:nvPr/>
        </p:nvSpPr>
        <p:spPr>
          <a:xfrm>
            <a:off x="5181480" y="2895480"/>
            <a:ext cx="19814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E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Left-Up Arrow 24"/>
          <p:cNvGrpSpPr/>
          <p:nvPr/>
        </p:nvGrpSpPr>
        <p:grpSpPr>
          <a:xfrm>
            <a:off x="3949560" y="2041560"/>
            <a:ext cx="1341720" cy="1347840"/>
            <a:chOff x="3949560" y="2041560"/>
            <a:chExt cx="1341720" cy="1347840"/>
          </a:xfrm>
        </p:grpSpPr>
        <p:pic>
          <p:nvPicPr>
            <p:cNvPr id="104" name="Left-Up Arrow 24" descr=""/>
            <p:cNvPicPr/>
            <p:nvPr/>
          </p:nvPicPr>
          <p:blipFill>
            <a:blip r:embed="rId1"/>
            <a:stretch/>
          </p:blipFill>
          <p:spPr>
            <a:xfrm>
              <a:off x="3949560" y="2041560"/>
              <a:ext cx="13417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 rot="13494000">
              <a:off x="4522320" y="2488320"/>
              <a:ext cx="6066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Rounded Rectangle 25"/>
          <p:cNvSpPr/>
          <p:nvPr/>
        </p:nvSpPr>
        <p:spPr>
          <a:xfrm>
            <a:off x="4343400" y="4800600"/>
            <a:ext cx="14479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26"/>
          <p:cNvSpPr/>
          <p:nvPr/>
        </p:nvSpPr>
        <p:spPr>
          <a:xfrm>
            <a:off x="6400800" y="48006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¼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0"/>
          <p:cNvGrpSpPr/>
          <p:nvPr/>
        </p:nvGrpSpPr>
        <p:grpSpPr>
          <a:xfrm>
            <a:off x="5562000" y="3886200"/>
            <a:ext cx="1448640" cy="838440"/>
            <a:chOff x="5562000" y="3886200"/>
            <a:chExt cx="1448640" cy="838440"/>
          </a:xfrm>
        </p:grpSpPr>
        <p:cxnSp>
          <p:nvCxnSpPr>
            <p:cNvPr id="109" name="Elbow Connector 33"/>
            <p:cNvCxnSpPr/>
            <p:nvPr/>
          </p:nvCxnSpPr>
          <p:spPr>
            <a:xfrm flipH="1" rot="16200000">
              <a:off x="6210360" y="3924000"/>
              <a:ext cx="838800" cy="76248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  <p:cxnSp>
          <p:nvCxnSpPr>
            <p:cNvPr id="110" name="Elbow Connector 38"/>
            <p:cNvCxnSpPr/>
            <p:nvPr/>
          </p:nvCxnSpPr>
          <p:spPr>
            <a:xfrm rot="5400000">
              <a:off x="5485680" y="3962160"/>
              <a:ext cx="838800" cy="686520"/>
            </a:xfrm>
            <a:prstGeom prst="bentConnector3">
              <a:avLst>
                <a:gd name="adj1" fmla="val 59338"/>
              </a:avLst>
            </a:prstGeom>
            <a:ln w="38160">
              <a:solidFill>
                <a:srgbClr val="9bbb59"/>
              </a:solidFill>
              <a:miter/>
              <a:tailEnd len="med" type="arrow" w="med"/>
            </a:ln>
          </p:spPr>
        </p:cxnSp>
      </p:grpSp>
      <p:cxnSp>
        <p:nvCxnSpPr>
          <p:cNvPr id="111" name="Straight Arrow Connector 52"/>
          <p:cNvCxnSpPr/>
          <p:nvPr/>
        </p:nvCxnSpPr>
        <p:spPr>
          <a:xfrm flipH="1">
            <a:off x="3504600" y="3732840"/>
            <a:ext cx="1600920" cy="991080"/>
          </a:xfrm>
          <a:prstGeom prst="straightConnector1">
            <a:avLst/>
          </a:prstGeom>
          <a:ln w="38160">
            <a:solidFill>
              <a:srgbClr val="ff9900"/>
            </a:solidFill>
            <a:prstDash val="sysDash"/>
            <a:miter/>
            <a:tailEnd len="med" type="arrow" w="med"/>
          </a:ln>
        </p:spPr>
      </p:cxnSp>
      <p:sp>
        <p:nvSpPr>
          <p:cNvPr id="112" name="Rounded Rectangle 54"/>
          <p:cNvSpPr/>
          <p:nvPr/>
        </p:nvSpPr>
        <p:spPr>
          <a:xfrm>
            <a:off x="380880" y="480060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ranscellular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8"/>
          <p:cNvSpPr/>
          <p:nvPr/>
        </p:nvSpPr>
        <p:spPr>
          <a:xfrm>
            <a:off x="3566880" y="3962520"/>
            <a:ext cx="6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alibri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9"/>
          <p:cNvSpPr/>
          <p:nvPr/>
        </p:nvSpPr>
        <p:spPr>
          <a:xfrm>
            <a:off x="309600" y="5781600"/>
            <a:ext cx="349380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luid in body sp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pleural, pericardi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eritoneal, synovial, &amp; intraocu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Down Arrow 60"/>
          <p:cNvGrpSpPr/>
          <p:nvPr/>
        </p:nvGrpSpPr>
        <p:grpSpPr>
          <a:xfrm>
            <a:off x="1773360" y="5535720"/>
            <a:ext cx="568080" cy="261720"/>
            <a:chOff x="1773360" y="5535720"/>
            <a:chExt cx="568080" cy="261720"/>
          </a:xfrm>
        </p:grpSpPr>
        <p:pic>
          <p:nvPicPr>
            <p:cNvPr id="116" name="Down Arrow 60" descr=""/>
            <p:cNvPicPr/>
            <p:nvPr/>
          </p:nvPicPr>
          <p:blipFill>
            <a:blip r:embed="rId2"/>
            <a:stretch/>
          </p:blipFill>
          <p:spPr>
            <a:xfrm>
              <a:off x="1773360" y="5535720"/>
              <a:ext cx="56808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43280" y="5562720"/>
              <a:ext cx="2286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95280" y="19159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plasma and interstitial fluid are separated only by highly permeable capillary membranes, their ionic composition is similar but protein is higher in the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intracellular fluid is separated from extracellular fluid by a cell membrane that is highly permeable to water but not to most of the electrolytes in the bod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S02401-025-f001"/>
          <p:cNvPicPr/>
          <p:nvPr/>
        </p:nvPicPr>
        <p:blipFill>
          <a:blip r:embed="rId2"/>
          <a:stretch/>
        </p:blipFill>
        <p:spPr>
          <a:xfrm>
            <a:off x="6629400" y="443700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1" descr=""/>
          <p:cNvPicPr/>
          <p:nvPr/>
        </p:nvPicPr>
        <p:blipFill>
          <a:blip r:embed="rId1"/>
          <a:stretch/>
        </p:blipFill>
        <p:spPr>
          <a:xfrm>
            <a:off x="360360" y="1146240"/>
            <a:ext cx="8478720" cy="1566720"/>
          </a:xfrm>
          <a:prstGeom prst="rect">
            <a:avLst/>
          </a:prstGeom>
          <a:ln w="0">
            <a:noFill/>
          </a:ln>
        </p:spPr>
      </p:pic>
      <p:grpSp>
        <p:nvGrpSpPr>
          <p:cNvPr id="121" name="Down Arrow 3"/>
          <p:cNvGrpSpPr/>
          <p:nvPr/>
        </p:nvGrpSpPr>
        <p:grpSpPr>
          <a:xfrm>
            <a:off x="3986280" y="2712960"/>
            <a:ext cx="871560" cy="798480"/>
            <a:chOff x="3986280" y="2712960"/>
            <a:chExt cx="871560" cy="798480"/>
          </a:xfrm>
        </p:grpSpPr>
        <p:pic>
          <p:nvPicPr>
            <p:cNvPr id="122" name="Down Arrow 3" descr=""/>
            <p:cNvPicPr/>
            <p:nvPr/>
          </p:nvPicPr>
          <p:blipFill>
            <a:blip r:embed="rId2"/>
            <a:stretch/>
          </p:blipFill>
          <p:spPr>
            <a:xfrm>
              <a:off x="3986280" y="2712960"/>
              <a:ext cx="87156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229280" y="2743200"/>
              <a:ext cx="38088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Rectangle 3" descr=""/>
          <p:cNvPicPr/>
          <p:nvPr/>
        </p:nvPicPr>
        <p:blipFill>
          <a:blip r:embed="rId3"/>
          <a:stretch/>
        </p:blipFill>
        <p:spPr>
          <a:xfrm>
            <a:off x="3773520" y="3346560"/>
            <a:ext cx="1279440" cy="92052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4" descr=""/>
          <p:cNvPicPr/>
          <p:nvPr/>
        </p:nvPicPr>
        <p:blipFill>
          <a:blip r:embed="rId4"/>
          <a:stretch/>
        </p:blipFill>
        <p:spPr>
          <a:xfrm>
            <a:off x="1828800" y="4194000"/>
            <a:ext cx="5157720" cy="932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ute Overview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Intracellular vs. Extra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2204640"/>
            <a:ext cx="332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composition very diffe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onic concentration very simi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osmotic concentrations virtually iden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S02401-025-f002"/>
          <p:cNvPicPr/>
          <p:nvPr/>
        </p:nvPicPr>
        <p:blipFill>
          <a:blip r:embed="rId2"/>
          <a:stretch/>
        </p:blipFill>
        <p:spPr>
          <a:xfrm>
            <a:off x="3635280" y="1916280"/>
            <a:ext cx="5400720" cy="451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Rectangle 2" descr=""/>
          <p:cNvPicPr/>
          <p:nvPr/>
        </p:nvPicPr>
        <p:blipFill>
          <a:blip r:embed="rId1"/>
          <a:stretch/>
        </p:blipFill>
        <p:spPr>
          <a:xfrm>
            <a:off x="512640" y="2517840"/>
            <a:ext cx="8174160" cy="156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3645000"/>
            <a:ext cx="843588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control systems regulate ingestion and excre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64480" indent="-217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total body osmol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0640" indent="-2606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Osmolarity is identical in all body fluid compar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eady state condi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79280" y="206064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</a:rPr>
              <a:t>The process by which the body keeps the internal environment constant despite changes in the external environment is known a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Homeostasis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4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7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125440"/>
            <a:ext cx="56862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Body Flu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2467440" y="3825720"/>
            <a:ext cx="393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Dr Mouaadh abdelka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ffffff"/>
                </a:solidFill>
                <a:latin typeface="Arial"/>
              </a:rPr>
              <a:t>mabdelkarim@ksu.edu.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476360" y="423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Arial"/>
              </a:rPr>
              <a:t>Physiology:  Lectur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Water Steady St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2641680" y="1630440"/>
            <a:ext cx="6610320" cy="4956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2498760"/>
            <a:ext cx="39956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ngested = amount elimin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ological  lo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cular bl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m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rr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   ↑↑ </a:t>
            </a:r>
            <a:r>
              <a:rPr b="0" lang="en-US" sz="2600" spc="-1" strike="noStrike">
                <a:solidFill>
                  <a:srgbClr val="0d0d0d"/>
                </a:solidFill>
                <a:latin typeface="Arial"/>
                <a:ea typeface="Arial"/>
              </a:rPr>
              <a:t>urine output (Diabete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↑↑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we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6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S02401-025-f005"/>
          <p:cNvPicPr/>
          <p:nvPr/>
        </p:nvPicPr>
        <p:blipFill>
          <a:blip r:embed="rId2"/>
          <a:stretch/>
        </p:blipFill>
        <p:spPr>
          <a:xfrm>
            <a:off x="826920" y="1770120"/>
            <a:ext cx="6932880" cy="49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Ton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60400"/>
            <a:ext cx="8229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o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al tension to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s will not gain or lose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otoni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low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hemoly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ypertoni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smotically active solutes in a higher osmolality and osmotic pressure than plas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BC will crenat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8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1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Defini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76400"/>
            <a:ext cx="822960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Volume: the general clinical terms for volume abnormalities are dehydration and overhydration. Both conditions are associated with a change in ECF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centration: Osmolarity refers to the number of solute particles per liter of solution, and Osmolality refers to the number of solute particles per kilogram of wat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nicity:</a:t>
            </a:r>
            <a:r>
              <a:rPr b="0" lang="fr-CA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ect of a solution on the osmotic movement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3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ulation of fluids and electroly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2060640"/>
            <a:ext cx="84358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meostatic mechanisms respond to changes in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receptors directly monitor fluid or electrolyte bal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 to changes in plasma volume or osmotic concentr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water moves passively in response to osmotic grad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dy content of watar or electrolytes rises if intake exceeds out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0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imary regulatory horm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904760"/>
            <a:ext cx="822960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tidiuretic hormone (ADH) (hypothalamu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imulates water conservation and the thirst 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concentration of body flu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dosterone  (Adrenal corte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s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sorption and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loss along the D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tes the volume of body fluid compar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triuretic pepti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 thirst and block the release of ADH and aldostero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2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dium bal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212040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of sodium uptake across digestive tract directly proportional to dietary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dium losses occur through urine and per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ifts in sodium balance result in expansion or contraction of EC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 variations corrected by homeostatic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high, ADH / aldosterone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o low, ANP secre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7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7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1840" y="198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Homeostatic Regulation of Normal Sodium Ion Concent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1908000" y="1413000"/>
            <a:ext cx="4645080" cy="5257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920" y="198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Integration of Fluid Volume Regulation and Sodium Ion Concent-rations in Body Flu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258920" y="1492200"/>
            <a:ext cx="6526080" cy="5249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ody Wat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human body made mainly of water, which consistutes about 60% of body weight in the adult, however the amount of water varies with 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8640720" cy="2930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K concentration in the EC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2 mEq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kal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K 60-100% a above norm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925640"/>
            <a:ext cx="86868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er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in Na concentration in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Hyponatremia: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Na concentration in the EC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rot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s the second largest component in the human body, largest amount found in skeletal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Fa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hird largest component in lean individual. It is found in adipose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</a:rPr>
              <a:t>Composition of the human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, present in the human body in relatively small quantities with the exception of calcium. (found in bon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Minerals and electrolytes are found in the body fluids in minute concentrations, which are closely regulated to maintain the composition of the internal enveron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0" y="2637000"/>
            <a:ext cx="9036000" cy="27144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6300720" y="2205000"/>
            <a:ext cx="2087640" cy="3168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otal body water (TBW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consititutes 55-60% of the body weight in young men and 45-50% in young w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fr-CA" sz="2400" spc="-1" strike="noStrike">
                <a:solidFill>
                  <a:srgbClr val="00ff00"/>
                </a:solidFill>
                <a:latin typeface="Calibri"/>
              </a:rPr>
              <a:t>Why the percentage is lower in wom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The TBW is distribut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uscle (5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kin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Other organs (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Blood (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tle 1"/>
          <p:cNvSpPr/>
          <p:nvPr/>
        </p:nvSpPr>
        <p:spPr>
          <a:xfrm>
            <a:off x="228600" y="6094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00000"/>
                </a:solidFill>
                <a:latin typeface="Calibri"/>
              </a:rPr>
              <a:t>What are the factors affecting TBW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57200" y="2041560"/>
            <a:ext cx="4038480" cy="443556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hysi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x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♀ &lt; ♂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% of Body f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thologic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m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5" descr="Water content changes with age.gif"/>
          <p:cNvPicPr/>
          <p:nvPr/>
        </p:nvPicPr>
        <p:blipFill>
          <a:blip r:embed="rId1"/>
          <a:stretch/>
        </p:blipFill>
        <p:spPr>
          <a:xfrm>
            <a:off x="4648320" y="2057400"/>
            <a:ext cx="4267080" cy="4343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e body flui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351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The water content of the body is divided into two compart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1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In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cell, represent approximately 67% of the total body water, 40% of total body w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cc351c"/>
                </a:solidFill>
                <a:latin typeface="Arial"/>
                <a:ea typeface="Arial"/>
              </a:rPr>
              <a:t>2)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CA" sz="2400" spc="-1" strike="noStrike">
                <a:solidFill>
                  <a:srgbClr val="00ff00"/>
                </a:solidFill>
                <a:latin typeface="Arial"/>
                <a:ea typeface="Arial"/>
              </a:rPr>
              <a:t>Extracellular Compart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Contained within the vessels of the cardiovascular system, is the remaining 33% of the total body water, about 20 % of total body weigh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22:20:53Z</dcterms:created>
  <dc:creator>Éric Vadeboncoeur</dc:creator>
  <dc:description/>
  <dc:language>en-US</dc:language>
  <cp:lastModifiedBy>mouaadh</cp:lastModifiedBy>
  <dcterms:modified xsi:type="dcterms:W3CDTF">2016-09-21T08:06:27Z</dcterms:modified>
  <cp:revision>208</cp:revision>
  <dc:subject/>
  <dc:title>PRESENTATION  NAME</dc:title>
</cp:coreProperties>
</file>