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F4B-288A-4224-B9AC-31A27A05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D85-3703-4F9E-ACD2-37CCB41C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7C3-4B26-498B-93C1-84D32E95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8F0-751B-40FD-AE82-A236F09E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B14-8486-4288-8B5C-B6814B91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93B-44E9-4ADB-A39E-9B9AC89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002-3D4C-4A7A-973A-E2BFD72D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930-18C0-43A5-B999-7F0E271B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CCC-7753-4CEC-8904-A5E224A4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5C6-4430-432F-A95A-BE19783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2DC-6F5C-4529-8582-CCC59075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E33-5515-43E6-8853-6E0B58A7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FBEE-908A-4CC7-8135-3EC348B2275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ny_0016_water_prank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91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685800" y="2819520"/>
            <a:ext cx="2514600" cy="2361960"/>
            <a:chOff x="685800" y="2819520"/>
            <a:chExt cx="2514600" cy="2361960"/>
          </a:xfrm>
        </p:grpSpPr>
        <p:grpSp>
          <p:nvGrpSpPr>
            <p:cNvPr id="64" name="Freeform 6"/>
            <p:cNvGrpSpPr/>
            <p:nvPr/>
          </p:nvGrpSpPr>
          <p:grpSpPr>
            <a:xfrm>
              <a:off x="685800" y="2819520"/>
              <a:ext cx="2514600" cy="2361960"/>
              <a:chOff x="685800" y="2819520"/>
              <a:chExt cx="2514600" cy="2361960"/>
            </a:xfrm>
          </p:grpSpPr>
          <p:pic>
            <p:nvPicPr>
              <p:cNvPr id="65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2819520"/>
                <a:ext cx="251460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5400000">
                <a:off x="1065600" y="2749320"/>
                <a:ext cx="202500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Oval 7"/>
            <p:cNvGrpSpPr/>
            <p:nvPr/>
          </p:nvGrpSpPr>
          <p:grpSpPr>
            <a:xfrm>
              <a:off x="1758240" y="4000680"/>
              <a:ext cx="696960" cy="527760"/>
              <a:chOff x="1758240" y="4000680"/>
              <a:chExt cx="696960" cy="527760"/>
            </a:xfrm>
          </p:grpSpPr>
          <p:pic>
            <p:nvPicPr>
              <p:cNvPr id="6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8240" y="4000680"/>
                <a:ext cx="696960" cy="52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869840" y="4088160"/>
                <a:ext cx="473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1600200" y="1752480"/>
            <a:ext cx="1143000" cy="991080"/>
            <a:chOff x="1600200" y="1752480"/>
            <a:chExt cx="1143000" cy="991080"/>
          </a:xfrm>
        </p:grpSpPr>
        <p:cxnSp>
          <p:nvCxnSpPr>
            <p:cNvPr id="71" name="Straight Arrow Connector 10"/>
            <p:cNvCxnSpPr/>
            <p:nvPr/>
          </p:nvCxnSpPr>
          <p:spPr>
            <a:xfrm flipH="1">
              <a:off x="2133360" y="220968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2" name="TextBox 13"/>
            <p:cNvSpPr/>
            <p:nvPr/>
          </p:nvSpPr>
          <p:spPr>
            <a:xfrm>
              <a:off x="160020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In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3"/>
          <p:cNvGrpSpPr/>
          <p:nvPr/>
        </p:nvGrpSpPr>
        <p:grpSpPr>
          <a:xfrm>
            <a:off x="4114800" y="1752480"/>
            <a:ext cx="1371600" cy="914760"/>
            <a:chOff x="4114800" y="1752480"/>
            <a:chExt cx="1371600" cy="914760"/>
          </a:xfrm>
        </p:grpSpPr>
        <p:cxnSp>
          <p:nvCxnSpPr>
            <p:cNvPr id="74" name="Straight Arrow Connector 12"/>
            <p:cNvCxnSpPr/>
            <p:nvPr/>
          </p:nvCxnSpPr>
          <p:spPr>
            <a:xfrm flipH="1">
              <a:off x="4798800" y="213336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5" name="TextBox 14"/>
            <p:cNvSpPr/>
            <p:nvPr/>
          </p:nvSpPr>
          <p:spPr>
            <a:xfrm>
              <a:off x="4114800" y="17524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Out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9"/>
          <p:cNvSpPr/>
          <p:nvPr/>
        </p:nvSpPr>
        <p:spPr>
          <a:xfrm>
            <a:off x="992160" y="350532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3276720" y="2819520"/>
            <a:ext cx="2133360" cy="1447560"/>
            <a:chOff x="3276720" y="2819520"/>
            <a:chExt cx="2133360" cy="1447560"/>
          </a:xfrm>
        </p:grpSpPr>
        <p:grpSp>
          <p:nvGrpSpPr>
            <p:cNvPr id="78" name="Freeform 21"/>
            <p:cNvGrpSpPr/>
            <p:nvPr/>
          </p:nvGrpSpPr>
          <p:grpSpPr>
            <a:xfrm>
              <a:off x="3276720" y="2819520"/>
              <a:ext cx="2133360" cy="1447560"/>
              <a:chOff x="3276720" y="2819520"/>
              <a:chExt cx="2133360" cy="1447560"/>
            </a:xfrm>
          </p:grpSpPr>
          <p:pic>
            <p:nvPicPr>
              <p:cNvPr id="79" name="Freeform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819520"/>
                <a:ext cx="21333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5400000">
                <a:off x="3904560" y="2496960"/>
                <a:ext cx="1138320" cy="182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Oval 22"/>
            <p:cNvGrpSpPr/>
            <p:nvPr/>
          </p:nvGrpSpPr>
          <p:grpSpPr>
            <a:xfrm>
              <a:off x="4205160" y="3485880"/>
              <a:ext cx="578880" cy="306720"/>
              <a:chOff x="4205160" y="3485880"/>
              <a:chExt cx="578880" cy="306720"/>
            </a:xfrm>
          </p:grpSpPr>
          <p:pic>
            <p:nvPicPr>
              <p:cNvPr id="82" name="Oval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5160" y="3485880"/>
                <a:ext cx="57888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301640" y="3540960"/>
                <a:ext cx="390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3"/>
          <p:cNvGrpSpPr/>
          <p:nvPr/>
        </p:nvGrpSpPr>
        <p:grpSpPr>
          <a:xfrm>
            <a:off x="2971800" y="4419720"/>
            <a:ext cx="1905120" cy="1523880"/>
            <a:chOff x="2971800" y="4419720"/>
            <a:chExt cx="1905120" cy="1523880"/>
          </a:xfrm>
        </p:grpSpPr>
        <p:grpSp>
          <p:nvGrpSpPr>
            <p:cNvPr id="85" name="Freeform 24"/>
            <p:cNvGrpSpPr/>
            <p:nvPr/>
          </p:nvGrpSpPr>
          <p:grpSpPr>
            <a:xfrm>
              <a:off x="2971800" y="4419720"/>
              <a:ext cx="1905120" cy="1523880"/>
              <a:chOff x="2971800" y="4419720"/>
              <a:chExt cx="1905120" cy="1523880"/>
            </a:xfrm>
          </p:grpSpPr>
          <p:pic>
            <p:nvPicPr>
              <p:cNvPr id="86" name="Freeform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1800" y="4419720"/>
                <a:ext cx="19051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5400000">
                <a:off x="3451320" y="4248360"/>
                <a:ext cx="120960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Oval 25"/>
            <p:cNvGrpSpPr/>
            <p:nvPr/>
          </p:nvGrpSpPr>
          <p:grpSpPr>
            <a:xfrm>
              <a:off x="3821760" y="5130720"/>
              <a:ext cx="506880" cy="324000"/>
              <a:chOff x="3821760" y="5130720"/>
              <a:chExt cx="506880" cy="324000"/>
            </a:xfrm>
          </p:grpSpPr>
          <p:pic>
            <p:nvPicPr>
              <p:cNvPr id="89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1760" y="5130720"/>
                <a:ext cx="5068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904920" y="5187240"/>
                <a:ext cx="342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Can 26"/>
          <p:cNvSpPr/>
          <p:nvPr/>
        </p:nvSpPr>
        <p:spPr>
          <a:xfrm>
            <a:off x="6629400" y="1905120"/>
            <a:ext cx="1371600" cy="3962160"/>
          </a:xfrm>
          <a:prstGeom prst="can">
            <a:avLst>
              <a:gd name="adj" fmla="val 7995"/>
            </a:avLst>
          </a:pr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7"/>
          <p:cNvCxnSpPr/>
          <p:nvPr/>
        </p:nvCxnSpPr>
        <p:spPr>
          <a:xfrm>
            <a:off x="3124080" y="6172200"/>
            <a:ext cx="5106240" cy="2160"/>
          </a:xfrm>
          <a:prstGeom prst="straightConnector1">
            <a:avLst/>
          </a:prstGeom>
          <a:ln w="38160">
            <a:solidFill>
              <a:srgbClr val="feb80a"/>
            </a:solidFill>
            <a:miter/>
            <a:headEnd len="lg" type="stealth" w="lg"/>
            <a:tailEnd len="lg" type="stealth" w="lg"/>
          </a:ln>
        </p:spPr>
      </p:cxnSp>
      <p:sp>
        <p:nvSpPr>
          <p:cNvPr id="93" name="TextBox 29"/>
          <p:cNvSpPr/>
          <p:nvPr/>
        </p:nvSpPr>
        <p:spPr>
          <a:xfrm>
            <a:off x="4672440" y="61722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4807800" y="42670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erst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5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Distribution of 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1"/>
          <p:cNvSpPr/>
          <p:nvPr/>
        </p:nvSpPr>
        <p:spPr>
          <a:xfrm>
            <a:off x="2362320" y="1295280"/>
            <a:ext cx="44956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>
            <a:off x="1752480" y="2895480"/>
            <a:ext cx="2286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⅔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5181480" y="2895480"/>
            <a:ext cx="19814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Left-Up Arrow 24"/>
          <p:cNvGrpSpPr/>
          <p:nvPr/>
        </p:nvGrpSpPr>
        <p:grpSpPr>
          <a:xfrm>
            <a:off x="3949560" y="2041560"/>
            <a:ext cx="1341720" cy="1347840"/>
            <a:chOff x="3949560" y="2041560"/>
            <a:chExt cx="1341720" cy="1347840"/>
          </a:xfrm>
        </p:grpSpPr>
        <p:pic>
          <p:nvPicPr>
            <p:cNvPr id="104" name="Left-Up Arrow 24" descr=""/>
            <p:cNvPicPr/>
            <p:nvPr/>
          </p:nvPicPr>
          <p:blipFill>
            <a:blip r:embed="rId1"/>
            <a:stretch/>
          </p:blipFill>
          <p:spPr>
            <a:xfrm>
              <a:off x="3949560" y="2041560"/>
              <a:ext cx="13417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3494000">
              <a:off x="4522320" y="2488320"/>
              <a:ext cx="606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ounded Rectangle 25"/>
          <p:cNvSpPr/>
          <p:nvPr/>
        </p:nvSpPr>
        <p:spPr>
          <a:xfrm>
            <a:off x="4343400" y="4800600"/>
            <a:ext cx="14479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6"/>
          <p:cNvSpPr/>
          <p:nvPr/>
        </p:nvSpPr>
        <p:spPr>
          <a:xfrm>
            <a:off x="6400800" y="48006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0"/>
          <p:cNvGrpSpPr/>
          <p:nvPr/>
        </p:nvGrpSpPr>
        <p:grpSpPr>
          <a:xfrm>
            <a:off x="5562000" y="3886200"/>
            <a:ext cx="1448640" cy="838440"/>
            <a:chOff x="5562000" y="3886200"/>
            <a:chExt cx="1448640" cy="838440"/>
          </a:xfrm>
        </p:grpSpPr>
        <p:cxnSp>
          <p:nvCxnSpPr>
            <p:cNvPr id="109" name="Elbow Connector 33"/>
            <p:cNvCxnSpPr/>
            <p:nvPr/>
          </p:nvCxnSpPr>
          <p:spPr>
            <a:xfrm flipH="1" rot="16200000">
              <a:off x="6210360" y="3924000"/>
              <a:ext cx="838800" cy="76248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  <p:cxnSp>
          <p:nvCxnSpPr>
            <p:cNvPr id="110" name="Elbow Connector 38"/>
            <p:cNvCxnSpPr/>
            <p:nvPr/>
          </p:nvCxnSpPr>
          <p:spPr>
            <a:xfrm rot="5400000">
              <a:off x="5485680" y="3962160"/>
              <a:ext cx="838800" cy="68652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</p:grpSp>
      <p:cxnSp>
        <p:nvCxnSpPr>
          <p:cNvPr id="111" name="Straight Arrow Connector 52"/>
          <p:cNvCxnSpPr/>
          <p:nvPr/>
        </p:nvCxnSpPr>
        <p:spPr>
          <a:xfrm flipH="1">
            <a:off x="3504600" y="3732840"/>
            <a:ext cx="1600920" cy="991080"/>
          </a:xfrm>
          <a:prstGeom prst="straightConnector1">
            <a:avLst/>
          </a:prstGeom>
          <a:ln w="38160">
            <a:solidFill>
              <a:srgbClr val="ff9900"/>
            </a:solidFill>
            <a:prstDash val="sysDash"/>
            <a:miter/>
            <a:tailEnd len="med" type="arrow" w="med"/>
          </a:ln>
        </p:spPr>
      </p:cxnSp>
      <p:sp>
        <p:nvSpPr>
          <p:cNvPr id="112" name="Rounded Rectangle 54"/>
          <p:cNvSpPr/>
          <p:nvPr/>
        </p:nvSpPr>
        <p:spPr>
          <a:xfrm>
            <a:off x="380880" y="480060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ans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8"/>
          <p:cNvSpPr/>
          <p:nvPr/>
        </p:nvSpPr>
        <p:spPr>
          <a:xfrm>
            <a:off x="3566880" y="396252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9"/>
          <p:cNvSpPr/>
          <p:nvPr/>
        </p:nvSpPr>
        <p:spPr>
          <a:xfrm>
            <a:off x="309600" y="5781600"/>
            <a:ext cx="349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id in body sp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pleural, pericard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itoneal, synovial, &amp; intrao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Down Arrow 60"/>
          <p:cNvGrpSpPr/>
          <p:nvPr/>
        </p:nvGrpSpPr>
        <p:grpSpPr>
          <a:xfrm>
            <a:off x="1773360" y="5535720"/>
            <a:ext cx="568080" cy="261720"/>
            <a:chOff x="1773360" y="5535720"/>
            <a:chExt cx="568080" cy="261720"/>
          </a:xfrm>
        </p:grpSpPr>
        <p:pic>
          <p:nvPicPr>
            <p:cNvPr id="116" name="Down Arrow 60" descr=""/>
            <p:cNvPicPr/>
            <p:nvPr/>
          </p:nvPicPr>
          <p:blipFill>
            <a:blip r:embed="rId2"/>
            <a:stretch/>
          </p:blipFill>
          <p:spPr>
            <a:xfrm>
              <a:off x="1773360" y="5535720"/>
              <a:ext cx="5680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43280" y="5562720"/>
              <a:ext cx="228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1915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02401-025-f001"/>
          <p:cNvPicPr/>
          <p:nvPr/>
        </p:nvPicPr>
        <p:blipFill>
          <a:blip r:embed="rId2"/>
          <a:stretch/>
        </p:blipFill>
        <p:spPr>
          <a:xfrm>
            <a:off x="6629400" y="443700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478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Down Arrow 3"/>
          <p:cNvGrpSpPr/>
          <p:nvPr/>
        </p:nvGrpSpPr>
        <p:grpSpPr>
          <a:xfrm>
            <a:off x="3986280" y="2712960"/>
            <a:ext cx="871560" cy="798480"/>
            <a:chOff x="3986280" y="2712960"/>
            <a:chExt cx="871560" cy="798480"/>
          </a:xfrm>
        </p:grpSpPr>
        <p:pic>
          <p:nvPicPr>
            <p:cNvPr id="122" name="Down Arrow 3" descr=""/>
            <p:cNvPicPr/>
            <p:nvPr/>
          </p:nvPicPr>
          <p:blipFill>
            <a:blip r:embed="rId2"/>
            <a:stretch/>
          </p:blipFill>
          <p:spPr>
            <a:xfrm>
              <a:off x="3986280" y="2712960"/>
              <a:ext cx="871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29280" y="2743200"/>
              <a:ext cx="380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Rectangle 3" descr=""/>
          <p:cNvPicPr/>
          <p:nvPr/>
        </p:nvPicPr>
        <p:blipFill>
          <a:blip r:embed="rId3"/>
          <a:stretch/>
        </p:blipFill>
        <p:spPr>
          <a:xfrm>
            <a:off x="3773520" y="3346560"/>
            <a:ext cx="1279440" cy="9205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"/>
          <a:stretch/>
        </p:blipFill>
        <p:spPr>
          <a:xfrm>
            <a:off x="1828800" y="4194000"/>
            <a:ext cx="5157720" cy="93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512640" y="2517840"/>
            <a:ext cx="8174160" cy="156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3645000"/>
            <a:ext cx="84358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ntrol systems regulate ingestion and excre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osmo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smolarity is identical in all body fluid compar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ady state cond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9280" y="206064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rocess by which the body keeps the internal environment constant despite changes in the external environment is known 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25440"/>
            <a:ext cx="56862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467440" y="382572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Dr Mouaadh abdelka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bdelkarim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42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Arial"/>
              </a:rPr>
              <a:t>Physiology:  Le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2498760"/>
            <a:ext cx="3995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 ↑↑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urine output (Diabet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Volume: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tion: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 (hypothalam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  (Adrenal corte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high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low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840" y="198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Homeostatic Regulation of Normal Sodium Ion Concent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464508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gration of Fluid Volume Regulation and Sodium Ion Concent-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258920" y="1492200"/>
            <a:ext cx="6526080" cy="524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K 60-100% a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a concentration in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Na concentration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enveron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2637000"/>
            <a:ext cx="903600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6300720" y="2205000"/>
            <a:ext cx="2087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alibri"/>
              </a:rPr>
              <a:t>What are the factors affecting TBW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2041560"/>
            <a:ext cx="4038480" cy="44355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hys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♀ &lt; ♂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% of Body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h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5" descr="Water content changes with age.gif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mouaadh</cp:lastModifiedBy>
  <dcterms:modified xsi:type="dcterms:W3CDTF">2016-09-21T08:06:27Z</dcterms:modified>
  <cp:revision>208</cp:revision>
  <dc:subject/>
  <dc:title>PRESENTATION  NAME</dc:title>
</cp:coreProperties>
</file>