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4BE-8892-41B2-A8E5-DF9237FE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FD3-B29C-4D30-AE43-FED3291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33D-099F-4D65-AF1F-BCE8262E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415-374D-4BA6-AEEA-CEC3F82B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E428-E894-424C-8B9D-ED14B7E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A41D-F0FE-4592-9FCB-A2744AD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E05-C9D1-4315-BCD1-4466CB5F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4FF-C186-4C8E-9E59-20FA10A3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9A4-E79E-4DB3-AA98-FFBC965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3FA-E9CE-4028-89EF-6403626B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95B-20D9-42EC-AE70-AA52F4B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FE9-89E9-4EA7-B358-858A96F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FBA9-5A28-46EA-A5FE-EE0AD43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D4B-A28A-4C51-B241-B8CCBF4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E3D4-667F-4008-A114-2578B717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A4D9-4901-495C-8981-0EAB278C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06A3-A416-4855-8B88-FA63DE81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964-D171-4073-9A22-024EF89D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935-8B58-430A-BDCA-C9E2CC0C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EB-EAAA-452D-852A-8894499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D61-593D-4E0E-B2F6-E7CD8D6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210-10AB-4DC8-A0E9-DE57C56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47B-7F9D-48DF-A9D1-5A1E063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FB3-CFB8-45D8-A8E5-6928FA6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39AA-DD5D-4F2D-AC90-5C4DB239B2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04CE-1EF9-4154-893C-FE8CBB592C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receptor" TargetMode="External"/><Relationship Id="rId2" Type="http://schemas.openxmlformats.org/officeDocument/2006/relationships/hyperlink" Target="http://medical-dictionary.thefreedictionary.com/norepinephrine" TargetMode="External"/><Relationship Id="rId3" Type="http://schemas.openxmlformats.org/officeDocument/2006/relationships/hyperlink" Target="http://medical-dictionary.thefreedictionary.com/phenoxybenzamine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edical-dictionary.thefreedictionary.com/epinephrine" TargetMode="External"/><Relationship Id="rId2" Type="http://schemas.openxmlformats.org/officeDocument/2006/relationships/hyperlink" Target="http://medical-dictionary.thefreedictionary.com/propranolo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s Affecting  Autonomic Nervous System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techolami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ances that can produce a sympathomimetic respo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ogeno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pamine (Dopaminergic) epinephrine &amp; norepinephrine (Adrenegeric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Synthetic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proterenol, dobutamine, phenyleph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ght or Flight Respons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catecholamine hormones facilitate immediate physical reactions These includ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celeration of heart and lung action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stomach and intestinal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iction of blood vessels in many parts of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blood vessels for mus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tear glands and sal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lation of pup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xation of blad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hibition of e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pami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65080"/>
            <a:ext cx="7635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additional adrenergic recep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ed by dopam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uses dilation of the following blood vessels, resulting in INCREASED blood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ente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on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reb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ugs that stimulate the sympathetic nervous system (S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known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onists or sympathomim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mic the effects of the SNS neurotransmitt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epinephrine (NE) and epinephrine (EP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Re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ted throughout the b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 receptors for the sympathetic neurotransmit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pha-adrenergic receptors:  respond to 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-adrenergic receptors: respond to E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respond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or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henoxybenzam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subdivided into two typ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smooth muscle, heart, and liver, with effects including vasoconstriction, intestinal relaxation, uterine contraction and pupillary dilati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und in platelets, vascular smooth muscle, nerve termini, and pancreatic islets, with effects including platelet aggregation, vasoconstriction, and inhibition of norepinephrine release and of insulin se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-receptor 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adrenergic recep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ond particularly to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epinephr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o such blocking agents a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pranol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hree known types of beta receptor, designated β1, β2 and β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1-Adrenergic receptors are located mainly in the hear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2-Adrenergic receptors are located mainly in the lungs, gastrointestinal tract, liver, uterus, vascular smooth muscle, and skeletal musc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β3-receptors are located in fat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do the receptors do?</a:t>
            </a:r>
            <a:br>
              <a:rPr sz="3800"/>
            </a:br>
            <a:br>
              <a:rPr sz="3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laxation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recepto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ds to smooth musc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tra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specially in hear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1600200"/>
            <a:ext cx="8381880" cy="66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linical Utility of drugs which affect the adrenergic nervous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asthm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smooth muscles of the bronch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used in the treatment of hypertension and angin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角ゴ Pro W3"/>
              </a:rPr>
              <a:t>s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heart and reduce force of contra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ヒラギノ角ゴ Pro W3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recep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 are known to cause lowering of the blood pressure (relaxation of smooth muscle and dilation of the blood vesse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750680"/>
            <a:ext cx="7635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mulation of alpha-adrenergic receptors on smooth muscles results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soconstriction of blood vess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xation of GI smooth mus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uterus and blad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le ejac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ed insulin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the ciliary muscles of the ey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ilated pupi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Lecture objectiv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anatomy of nervous syste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dentify the drugs that effect 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83818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7720" y="19810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imulation of beta2-adrenergic receptors on the airways results i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nchodilation (relaxation of the bronch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erine relax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ycogenolysis in the l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of Adrenergic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1960"/>
            <a:ext cx="7635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beta1-adrenergic receptors on the myocardium, AV node, and SA node results in CARDIAC STIMUL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force of contra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ron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conduction through the AV no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osi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romotrop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) automati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9808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orexiants:  adjuncts to diet in the short-term management of obe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benza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ter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troamphetam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exed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Bronchodilators:  treatment of asthma and bronch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s that stimulate beta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drenergic recep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bronchial smooth muscles causing relax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03048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albu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etha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levalbuterol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a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salmeter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rbuta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Therapeutic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intraocular pressure and mydriasis (pupil dilation):  treatmen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-angle glauc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 epinephrine and dipivefr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Nasal decongestant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nasal (topical) application causes constric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lated arterioles and reduction of nasal bloo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, thus decreasing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Ophthalmic  relieving conjunctival conges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aphazol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 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tetrahydrozo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. Vasoactive sympathomimetics also called cardio selective sympathomime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support the heart during cardiac failure or shoc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but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dop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ephedrine 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fenoldopam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isoproterenol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methoxam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norepinephrine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ff"/>
                </a:solidFill>
                <a:latin typeface="Verdana"/>
              </a:rPr>
              <a:t>phenylephr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677600"/>
            <a:ext cx="7635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ache, restlessness, excitement, insomnia, eupho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lpitations (dysrhythmias), tachycardia, vasoconstriction, hyperten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rexia, dry mouth, nausea, vomiting, taste changes (rar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Sid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20440"/>
            <a:ext cx="763560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a-Adrenergic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d tremors, headache, nervousness, dizz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vascul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heart rate, palpitations (dysrhythmias), fluctuations in B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eating, nausea, vomiting, muscle cr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 Agents: 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3636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hypertension, cardiac dysrhythmias, or other cardiovascular disea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renal, hepatic, and cardiac function before treat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 baseline assessment of vital signs, peripheral pulses, skin color, temperature, and capillary refill. Include postural blood pressure and pul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administration guidelines carefu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ervous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65160"/>
            <a:ext cx="7635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chronic lung disea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 patients to avoid factors that exacerbate their cond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fluid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up to 3000 mL per day) if permit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 about proper dos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car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nasal decongestants may cause rebound nasal congestion or ulc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cardiovascular use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ed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urinary 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vital sig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skin color and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L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Agents:  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93680"/>
            <a:ext cx="7635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for therapeutic effects 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(asthma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to normal respirator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reath sounds, fewer 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d c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dysp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blood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activity tole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renergic-Blocking Ag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d to adrenergic receptors, but inhibit or block stimulation of the sympathetic nervous system (S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the opposite effect of adrenergic ag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known 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renergic antagonists or sympatholyti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renergic-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ug Effects and Therapeutic 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-Bloc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se both arterial and venous dilation, reducing peripheral vascular resistance and 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o treat hyper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 on receptors on prostate gland and bladder decreased resistance to urinary outflow, thus reducing urinary obstruction and relieving effe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P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Mechanism of 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dioselective (Beta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hear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longs SA node re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ws conduction rate through the AV n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es myocardial contractility, thus decreasing myocardial oxygen dem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ta Blockers: Therapeutic U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angina:decreases demand for myocardial oxy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dioprotective:inhibits stimulation by circulating catecholam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II antidysrhythm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hypert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atment of migraine headach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3824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laucoma (topical use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renergic Blocking Agent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ess for allergies and history of COPD, hypotension, cardiac dysrhythmias, bradycardia, CHF, or other cardiovascular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lpha blockers may precipitate hypoten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beta blockers may precipitate bradycardia, hypotens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 block, CHF, and bronchoconstri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patients to take medicat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prescrib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se medications should never be stopp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 constipation or the development of any urinary or bladder disten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bound hypertension or chest pain may occur if this medication is discontinued abrupt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ients should notify their physician if they become ill and unable to take medic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5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 patients that they may notice a decrease in their tolerance for exercise; dizziness and fainting may occur with increased activity. Notify the physician if these problems occ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a Blocking Ag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rsing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 should report the following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physicia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 gain of more than 2 pounds (1 k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a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ema of the feet or ank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ness of br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ssive fatigue or wea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ope or dizz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0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for side effects, including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potens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tig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hycardia (alpha blockers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tha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radycardi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res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rt blo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omn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F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ghtm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airway resista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gradFill rotWithShape="0">
            <a:gsLst>
              <a:gs pos="0">
                <a:srgbClr val="8e7fe5"/>
              </a:gs>
              <a:gs pos="100000">
                <a:srgbClr val="1b182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w Cen MT Condensed Extra Bold"/>
              </a:rPr>
              <a:t>QUESTION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86104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r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ctions of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tes and coordinates all body activ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er of all mental activity, including thought, learning, and mem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entral Nervous System (C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inal Co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es and stores sensory and motor in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s conscious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pheral Nervous System (P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12 Pairs of Crani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31 Pairs of Spinal Ner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ts sensory and motor impulses back and forth between CNS and rest of bo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vous System Divi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pheral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atic Nervous System (S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oluntary control over skeletal muscle contra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nomic Nervous System (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involuntary control over smooth muscle, cardiac muscle, and glandular activity and secretions in response to the commands of the central nervou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ict blood vess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se blood pres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ght-or-flight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sympathetic ner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w heart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peristalsis of intesti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glandular secre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x sphinc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utonomic Nervou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41:36Z</dcterms:created>
  <dc:creator>AHMAD RAWHI</dc:creator>
  <dc:description/>
  <dc:language>en-US</dc:language>
  <cp:lastModifiedBy>Alharbi</cp:lastModifiedBy>
  <cp:lastPrinted>2016-02-04T07:38:31Z</cp:lastPrinted>
  <dcterms:modified xsi:type="dcterms:W3CDTF">2016-02-04T07:43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