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AF7-1377-46BB-9029-A08DDC86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707-6E37-461B-880B-7047CB0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A76-9DF3-4FAA-8295-3C6FED49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50A-784B-40BF-B8A5-031B0B6B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ECDA-F4A0-47DB-B089-127860A3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0955-9E74-4078-9F25-79BB4B9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D7AD-0003-4FFD-BFD4-C8113555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64A0-7F21-47FA-85D1-BFC94114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250E-5FA8-4431-8208-1038C7C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1109-1F29-4EB6-B2B5-0161A5C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6201-8C3B-42B9-8B57-C282D77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A37-E8DE-4D72-A545-93F9F868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1620-2BCB-4D31-BE68-8052850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4933-3F27-4276-AF32-E44E3C51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52E9-DE67-4C9E-8FDD-3D3A6201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BDB2-E73C-4297-93EF-0F0EB010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96AF-4DCA-4069-9D65-97BD25A4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116-A943-4431-A24E-B735F15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D22-8E7C-4E9B-8F56-A92934F5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1CC-18C1-4595-B95A-A0F5F1E5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05E-B8FB-4AE5-B203-E08584E1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E6A-11AC-4FC1-9747-6DF29168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319-0B5F-4C20-B968-56206EE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120-9B6A-41BE-9551-D86C533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8890-C553-47CB-A138-267FE83B16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D4C1-CB01-454F-9B7F-869B6AE55E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edical-dictionary.thefreedictionary.com/receptor" TargetMode="External"/><Relationship Id="rId2" Type="http://schemas.openxmlformats.org/officeDocument/2006/relationships/hyperlink" Target="http://medical-dictionary.thefreedictionary.com/norepinephrine" TargetMode="External"/><Relationship Id="rId3" Type="http://schemas.openxmlformats.org/officeDocument/2006/relationships/hyperlink" Target="http://medical-dictionary.thefreedictionary.com/phenoxybenzamine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cal-dictionary.thefreedictionary.com/epinephrine" TargetMode="External"/><Relationship Id="rId2" Type="http://schemas.openxmlformats.org/officeDocument/2006/relationships/hyperlink" Target="http://medical-dictionary.thefreedictionary.com/propranolo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s Affecting  Autonomic Nervous System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techolamin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ances that can produce a sympathomimetic respo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ogeno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pamine (Dopaminergic) epinephrine &amp; norepinephrine (Adrenegeric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Synthetic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proterenol, dobutamine, phenylephr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ight or Flight Respons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catecholamine hormones facilitate immediate physical reactions These includ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leration of heart and lung action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stomach and intestinal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iction of blood vessels in many parts of the bo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lation of blood vessels for musc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tear glands and saliv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lation of pup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xation of blad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e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opaminergic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765080"/>
            <a:ext cx="7635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additional adrenergic recep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imulated by dopam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uses dilation of the following blood vessels, resulting in INCREASED blood fl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ente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ron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reb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Ag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ugs that stimulate the sympathetic nervous system (S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known 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onists or sympathomim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mic the effects of the SNS neurotransmitt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epinephrine (NE) and epinephrine (EP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ted throughout the b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 receptors for the sympathetic neurotransmit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pha-adrenergic receptors:  respond to 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-adrenergic receptors: respond to E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s o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s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drenergic recep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respond to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orepinephr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o such blocking agents a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henoxybenzam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are subdivided into two typ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und in smooth muscle, heart, and liver, with effects including vasoconstriction, intestinal relaxation, uterine contraction and pupillary dilatio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und in platelets, vascular smooth muscle, nerve termini, and pancreatic islets, with effects including platelet aggregation, vasoconstriction, and inhibition of norepinephrine release and of insulin se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4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-receptor typ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pond particularly to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epinephr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o such blocking agents a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ropranol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three known types of beta receptor, designated β1, β2 and β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1-Adrenergic receptors are located mainly in the hear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2-Adrenergic receptors are located mainly in the lungs, gastrointestinal tract, liver, uterus, vascular smooth muscle, and skeletal musc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3-receptors are located in fat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hat do the receptors do?</a:t>
            </a:r>
            <a:br>
              <a:rPr sz="3800"/>
            </a:br>
            <a:br>
              <a:rPr sz="38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traction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laxation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t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especially in heart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1600200"/>
            <a:ext cx="8381880" cy="66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linical Utility of drugs which affect the adrenergic nervous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used in the treatment of asthm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角ゴ Pro W3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smooth muscles of the bronch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used in the treatment of hypertension and angin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角ゴ Pro W3"/>
              </a:rPr>
              <a:t>s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heart and reduce force of contrac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known to cause lowering of the blood pressure (relaxation of smooth muscle and dilation of the blood vesse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6356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mulation of alpha-adrenergic receptors on smooth muscles results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soconstriction of blood vess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xation of GI smooth mus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the uterus and blad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le ejac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ed insulin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the ciliary muscles of the ey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ilated pupi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Lecture objectiv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fy the anatomy of nervous syste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fy the drugs that effect 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152280"/>
            <a:ext cx="8381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7720" y="19810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imulation of beta2-adrenergic receptors on the airways results i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onchodilation (relaxation of the bronch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erine relax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ycogenolysis in the li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821960"/>
            <a:ext cx="76356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beta1-adrenergic receptors on the myocardium, AV node, and SA node results in CARDIAC STIMUL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force of contra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heart 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ron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conduction through the AV no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rom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 automat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apeutic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98080" cy="42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orexiants:  adjuncts to diet in the short-term management of obe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benzapheta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ter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extroampheta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exedr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Bronchodilators:  treatment of asthma and bronch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that stimulate beta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drenergic recep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bronchial smooth muscles causing relax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albuter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ethar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levalbuterol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meta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salmeter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rbuta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Therapeutic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intraocular pressure and mydriasis (pupil dilation):  treatment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-angle glauc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 epinephrine and dipivefr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Nasal decongestant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nasal (topical) application causes constri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lated arterioles and reduction of nasal bloo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, thus decreasing conges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aphazol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trahydrozo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Ophthalmic  relieving conjunctival conges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aphazol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trahydrozo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Vasoactive sympathomimetics also called cardio selective sympathomime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support the heart during cardiac failure or sho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obut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op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 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fenoldopam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methox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or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Side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77600"/>
            <a:ext cx="7635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-Adrenergic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ache, restlessness, excitement, insomnia, euphor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lpitations (dysrhythmias), tachycardia, vasoconstriction, hyperten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rexia, dry mouth, nausea, vomiting, taste changes (ra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Side Eff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720440"/>
            <a:ext cx="763560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a-Adrenergic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d tremors, headache, nervousness, dizzi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heart rate, palpitations (dysrhythmias), fluctuations in B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eating, nausea, vomiting, muscle cra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Agents: 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36360"/>
            <a:ext cx="7635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for allergies and history of hypertension, cardiac dysrhythmias, or other cardiovascular dise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renal, hepatic, and cardiac function before trea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 baseline assessment of vital signs, peripheral pulses, skin color, temperature, and capillary refill. Include postural blood pressure and pul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administration guidelines careful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Nervous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865160"/>
            <a:ext cx="7635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chronic lung disea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 patients to avoid factors that exacerbate their cond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fluid inta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up to 3000 mL per day) if permit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e about proper dos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c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use of nasal decongestants may cause rebound nasal congestion or ulce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for therapeutic eff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cardiovascular use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d ed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urinary out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to normal vital sig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skin color and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LO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93680"/>
            <a:ext cx="7635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for therapeutic effects 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(asthma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to normal respirator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breath sounds, fewer 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ir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d c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dysp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blood g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ctivity tole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-Blocking Ag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nd to adrenergic receptors, but inhibit or block stimulation of the sympathetic nervous system (S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the opposite effect of adrenergic ag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known 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renergic antagonists or sympatholytic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-Blocking Ag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and Therapeutic 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-Bloc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se both arterial and venous dilation, reducing peripheral vascular resistance and 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o treat hyper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 on receptors on prostate gland and bladder decreased resistance to urinary outflow, thus reducing urinary obstruction and relieving eff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P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ta Blockers: Mechanism of A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dioselective (Beta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es heart 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longs SA node re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ws conduction rate through the AV n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es myocardial contractility, thus decreasing myocardial oxygen dem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ta Blockers: Therapeutic U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angina:decreases demand for myocardial oxy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protective:inhibits stimulation by circulating catecholam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II antidysrhythm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hypert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eatment of migraine headach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laucoma (topical use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Blocking Agent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for allergies and history of COPD, hypotension, cardiac dysrhythmias, bradycardia, CHF, or other cardiovascular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alpha blockers may precipitate hypoten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beta blockers may precipitate bradycardia, hypotens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rt block, CHF, and bronchoconstri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ourage patients to take medicat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prescrib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medications should never be stopped abrupt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 constipation or the development of any urinary or bladder disten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bound hypertension or chest pain may occur if this medication is discontinued abrupt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tients should notify their physician if they become ill and unable to take medi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 patients that they may notice a decrease in their tolerance for exercise; dizziness and fainting may occur with increased activity. Notify the physician if these problems occ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a Blocking Ag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 should report the following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physicia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ight gain of more than 2 pounds (1 kg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a 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ema of the feet or ank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rtness of br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ssive fatigue or weak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ope or dizz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ervous System Divis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0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for side effects, including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potens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tig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chycardia (alpha blockers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tha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radycardi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res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art blo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omn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F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ightma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airway resistanc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gradFill rotWithShape="0">
            <a:gsLst>
              <a:gs pos="0">
                <a:srgbClr val="8e7fe5"/>
              </a:gs>
              <a:gs pos="100000">
                <a:srgbClr val="1b182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w Cen MT Condensed Extra Bold"/>
              </a:rPr>
              <a:t>QUESTION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304920" y="166680"/>
            <a:ext cx="86104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vous System 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inal co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r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ctions of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ulates and coordinates all body activ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nter of all mental activity, including thought, learning, and mem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ntral Nervous System (C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inal Co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cesses and stores sensory and motor in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s conscious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ipheral Nervous System (P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12 Pairs of Cranial Ner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31 Pairs of Spinal Ner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ts sensory and motor impulses back and forth between CNS and rest of bo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vous System Divi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pheral Nervou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atic Nervous System (S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voluntary control over skeletal muscle contra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nomic Nervous System (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involuntary control over smooth muscle, cardiac muscle, and glandular activity and secretions in response to the commands of the central nervous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pathetic ner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heart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rict blood vess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ise blood pres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ght-or-flight respon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sympathetic ner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w heart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peristalsis of intesti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glandular secre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x sphinc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utonomic Nervou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41:36Z</dcterms:created>
  <dc:creator>AHMAD RAWHI</dc:creator>
  <dc:description/>
  <dc:language>en-US</dc:language>
  <cp:lastModifiedBy>Alharbi</cp:lastModifiedBy>
  <cp:lastPrinted>2016-02-04T07:38:31Z</cp:lastPrinted>
  <dcterms:modified xsi:type="dcterms:W3CDTF">2016-02-04T07:43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