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7AE76-FFC5-4CD9-998B-8853E2AD3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4EC2C-6471-4DD6-B5DB-32A18D5BF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D7735-E79F-4EE7-B9EE-FCED73590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54B6D-F216-4DF4-A2D4-F997991FD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6D67C-A346-4535-87C2-DDBF7B468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BF742-DFB8-41C2-9AA5-E2FC00F6E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EDC30-85D3-4FB7-86B8-AC87EA1CF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753E5-2857-4DE8-8318-DAA5B6612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E1992-B900-4B11-BEB3-23919FC77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515FF-063E-4E77-9FE1-DD8E16385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86DB2-41C7-4AFF-B7D1-12B243FD1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0DFC6-A721-4CF0-A8DB-DC8527B7B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CBA4C-57E9-4744-BA66-25CF92F11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9ABC5-59A3-44CE-9AB0-D72F37A1B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8F94A-AEAF-41F5-87B3-3C100EC9C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2D25D-6206-41B9-9A5B-C88C1376B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36808-4445-4358-8BC2-1ADFD1A0F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9F7AF-B2F1-4D58-ADE6-A1AF9473D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D0298-169C-411D-8932-462969D88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978D3-20C7-4277-9443-A33B5F5E9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7C51A-8053-42A3-975A-45BE6D70D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71B98-88A5-4D60-8F9C-30BBBD368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413B9-8BB7-452A-B87D-B214031D6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DCC65-AFC6-4DCD-953F-24FEC7904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AD2E8-DFEC-470B-A7B4-1FF6D12BFED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CB17D-13BA-4CC6-B3F9-186ADBBF98F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medical-dictionary.thefreedictionary.com/receptor" TargetMode="External"/><Relationship Id="rId2" Type="http://schemas.openxmlformats.org/officeDocument/2006/relationships/hyperlink" Target="http://medical-dictionary.thefreedictionary.com/norepinephrine" TargetMode="External"/><Relationship Id="rId3" Type="http://schemas.openxmlformats.org/officeDocument/2006/relationships/hyperlink" Target="http://medical-dictionary.thefreedictionary.com/phenoxybenzamine" TargetMode="External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medical-dictionary.thefreedictionary.com/epinephrine" TargetMode="External"/><Relationship Id="rId2" Type="http://schemas.openxmlformats.org/officeDocument/2006/relationships/hyperlink" Target="http://medical-dictionary.thefreedictionary.com/propranolol" TargetMode="Externa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cc00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rugs Affecting  Autonomic Nervous System 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41240" y="609120"/>
            <a:ext cx="76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atecholamines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bstances that can produce a sympathomimetic respon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601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ndogenou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opamine (Dopaminergic) epinephrine &amp; norepinephrine (Adrenegeric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. Synthetic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soproterenol, dobutamine, phenylephrin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ight or Flight Response: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se catecholamine hormones facilitate immediate physical reactions These include the following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cceleration of heart and lung action</a:t>
            </a:r>
            <a:r>
              <a:rPr b="0" lang="ar-SA" sz="1800" spc="-1" strike="noStrike">
                <a:solidFill>
                  <a:srgbClr val="000000"/>
                </a:solidFill>
                <a:latin typeface="Verdana"/>
              </a:rPr>
              <a:t>･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hibition of stomach and intestinal ac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striction of blood vessels in many parts of the bod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ilation of blood vessels for muscl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hibition of tear glands and saliva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ilation of pupi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laxation of bladd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hibition of erec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41240" y="609120"/>
            <a:ext cx="76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Dopaminergic Receptor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62120" y="1765080"/>
            <a:ext cx="7635600" cy="433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50720" indent="-45072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n additional adrenergic recepto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timulated by dopamin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uses dilation of the following blood vessels, resulting in INCREASED blood flow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871560" indent="-41868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na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71560" indent="-41868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esenteric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71560" indent="-41868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ronar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71560" indent="-41868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erebra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41240" y="609120"/>
            <a:ext cx="76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drenergic Agent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635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rugs that stimulate the sympathetic nervous system (SN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lso known a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drenergic agonists or sympathomimetic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imic the effects of the SNS neurotransmitter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repinephrine (NE) and epinephrine (EPI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41240" y="609120"/>
            <a:ext cx="76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drenergic Receptor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694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Located throughout the bod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re receptors for the sympathetic neurotransmitter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lpha-adrenergic receptors:  respond to N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Beta-adrenergic receptors: respond to EPI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ypes of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-adrenergic recept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8915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-adrenergic receptors</a:t>
            </a:r>
            <a:r>
              <a:rPr b="0" lang="ar-SA" sz="2000" spc="-1" strike="noStrike">
                <a:solidFill>
                  <a:srgbClr val="000000"/>
                </a:solidFill>
                <a:latin typeface="Verdana"/>
              </a:rPr>
              <a:t> are </a:t>
            </a:r>
            <a:r>
              <a:rPr b="0" lang="en-US" sz="2000" spc="-1" strike="noStrike" u="sng">
                <a:solidFill>
                  <a:srgbClr val="336699"/>
                </a:solidFill>
                <a:uFillTx/>
                <a:latin typeface="Verdana"/>
                <a:hlinkClick r:id="rId1"/>
              </a:rPr>
              <a:t>adrenergic receptor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that respond to </a:t>
            </a:r>
            <a:r>
              <a:rPr b="0" lang="en-US" sz="2000" spc="-1" strike="noStrike" u="sng">
                <a:solidFill>
                  <a:srgbClr val="336699"/>
                </a:solidFill>
                <a:uFillTx/>
                <a:latin typeface="Verdana"/>
                <a:hlinkClick r:id="rId2"/>
              </a:rPr>
              <a:t>norepinephrin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and to such blocking agents as </a:t>
            </a:r>
            <a:r>
              <a:rPr b="0" lang="en-US" sz="2000" spc="-1" strike="noStrike" u="sng">
                <a:solidFill>
                  <a:srgbClr val="336699"/>
                </a:solidFill>
                <a:uFillTx/>
                <a:latin typeface="Verdana"/>
                <a:hlinkClick r:id="rId3"/>
              </a:rPr>
              <a:t>phenoxybenzamin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y are subdivided into two types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found in smooth muscle, heart, and liver, with effects including vasoconstriction, intestinal relaxation, uterine contraction and pupillary dilation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found in platelets, vascular smooth muscle, nerve termini, and pancreatic islets, with effects including platelet aggregation, vasoconstriction, and inhibition of norepinephrine release and of insulin secretio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0488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-receptor typ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413280" indent="-41328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-adrenergic receptor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respond particularly to </a:t>
            </a:r>
            <a:r>
              <a:rPr b="0" lang="en-US" sz="2000" spc="-1" strike="noStrike" u="sng">
                <a:solidFill>
                  <a:srgbClr val="336699"/>
                </a:solidFill>
                <a:uFillTx/>
                <a:latin typeface="Verdana"/>
                <a:hlinkClick r:id="rId1"/>
              </a:rPr>
              <a:t>epinephrin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and to such blocking agents as </a:t>
            </a:r>
            <a:r>
              <a:rPr b="0" lang="en-US" sz="2000" spc="-1" strike="noStrike" u="sng">
                <a:solidFill>
                  <a:srgbClr val="336699"/>
                </a:solidFill>
                <a:uFillTx/>
                <a:latin typeface="Verdana"/>
                <a:hlinkClick r:id="rId2"/>
              </a:rPr>
              <a:t>propranolol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13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13280" indent="-41328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re are three known types of beta receptor, designated β1, β2 and β3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13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13280" indent="-41328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β1-Adrenergic receptors are located mainly in the heart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13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13280" indent="-41328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β2-Adrenergic receptors are located mainly in the lungs, gastrointestinal tract, liver, uterus, vascular smooth muscle, and skeletal muscl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13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13280" indent="-41328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β3-receptors are located in fat cell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3520" y="15998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What do the receptors do?</a:t>
            </a:r>
            <a:br>
              <a:rPr sz="3800"/>
            </a:br>
            <a:br>
              <a:rPr sz="3800"/>
            </a:b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Activatio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of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receptor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leads to smooth muscl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contraction</a:t>
            </a:r>
            <a:br>
              <a:rPr sz="2400"/>
            </a:br>
            <a:br>
              <a:rPr sz="2400"/>
            </a:b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Activatio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of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 receptor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leads to smooth muscl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relaxation</a:t>
            </a:r>
            <a:br>
              <a:rPr sz="2400"/>
            </a:br>
            <a:br>
              <a:rPr sz="2400"/>
            </a:b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Activatio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of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 receptor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leads to smooth muscl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contractio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(especially in heart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4"/>
          <p:cNvSpPr/>
          <p:nvPr/>
        </p:nvSpPr>
        <p:spPr>
          <a:xfrm>
            <a:off x="0" y="1600200"/>
            <a:ext cx="8381880" cy="665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Clinical Utility of drugs which affect the adrenergic nervous system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a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Agonis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 of the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ヒラギノ角ゴ Pro W3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 receptor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 are used in the treatment of asthma (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ヒラギノ角ゴ Pro W3"/>
              </a:rPr>
              <a:t>relax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 of the smooth muscles of the bronchi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b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Antagonis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 of the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ヒラギノ角ゴ Pro W3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 receptor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 are used in the treatment of hypertension and angina (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ヒラギノ角ゴ Pro W3"/>
              </a:rPr>
              <a:t>slo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 heart and reduce force of contraction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c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Antagonis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 of the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ヒラギノ角ゴ Pro W3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 receptor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 are known to cause lowering of the blood pressure (relaxation of smooth muscle and dilation of the blood vessel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41240" y="609120"/>
            <a:ext cx="76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rug Effects of Adrenergic Ag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62120" y="1750680"/>
            <a:ext cx="7635600" cy="434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imulation of alpha-adrenergic receptors on smooth muscles results in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asoconstriction of blood vessel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laxation of GI smooth muscl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traction of the uterus and bladd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le ejacul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reased insulin releas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traction of the ciliary muscles of the ey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dilated pupil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Verdana"/>
              </a:rPr>
              <a:t>Lecture objectives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Verdana"/>
              </a:rPr>
              <a:t>Identify the anatomy of nervous system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Verdana"/>
              </a:rPr>
              <a:t>Identify the drugs that effect AN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0" name="Picture 4" descr=""/>
          <p:cNvPicPr/>
          <p:nvPr/>
        </p:nvPicPr>
        <p:blipFill>
          <a:blip r:embed="rId1"/>
          <a:stretch/>
        </p:blipFill>
        <p:spPr>
          <a:xfrm>
            <a:off x="0" y="152280"/>
            <a:ext cx="8381880" cy="65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7932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rug Effects of Adrenergic Ag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77720" y="1981080"/>
            <a:ext cx="7920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timulation of beta2-adrenergic receptors on the airways results in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Bronchodilation (relaxation of the bronchi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terine relax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Glycogenolysis in the live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891540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41240" y="609120"/>
            <a:ext cx="76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rug Effects of Adrenergic Ag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762120" y="1821960"/>
            <a:ext cx="7635600" cy="427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imulation of beta1-adrenergic receptors on the myocardium, AV node, and SA node results in CARDIAC STIMULATION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creased force of contraction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positiv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inotropic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effect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creased heart rat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positiv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chronotropic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effect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creased conduction through the AV nod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positiv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dromotropic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effect) automatic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41240" y="609120"/>
            <a:ext cx="76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drenergic Agents: 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rapeutic Us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8398080" cy="421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9960" indent="-3999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AutoNum type="arabicPeriod"/>
              <a:tabLst>
                <a:tab algn="l" pos="3030480"/>
                <a:tab algn="l" pos="54259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orexiants:  adjuncts to diet in the short-term management of obesit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99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3030480"/>
                <a:tab algn="l" pos="54259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s: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3366ff"/>
                </a:solidFill>
                <a:latin typeface="Verdana"/>
              </a:rPr>
              <a:t>benzaphetamine</a:t>
            </a:r>
            <a:br>
              <a:rPr sz="2000"/>
            </a:br>
            <a:r>
              <a:rPr b="0" lang="en-US" sz="2000" spc="-1" strike="noStrike">
                <a:solidFill>
                  <a:srgbClr val="3366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3366ff"/>
                </a:solidFill>
                <a:latin typeface="Verdana"/>
              </a:rPr>
              <a:t>phentermine</a:t>
            </a:r>
            <a:br>
              <a:rPr sz="2000"/>
            </a:br>
            <a:r>
              <a:rPr b="0" lang="en-US" sz="2000" spc="-1" strike="noStrike">
                <a:solidFill>
                  <a:srgbClr val="3366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3366ff"/>
                </a:solidFill>
                <a:latin typeface="Verdana"/>
              </a:rPr>
              <a:t>dextroamphetamine</a:t>
            </a:r>
            <a:br>
              <a:rPr sz="2000"/>
            </a:br>
            <a:r>
              <a:rPr b="0" lang="en-US" sz="2000" spc="-1" strike="noStrike">
                <a:solidFill>
                  <a:srgbClr val="3366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3366ff"/>
                </a:solidFill>
                <a:latin typeface="Verdana"/>
              </a:rPr>
              <a:t>Dexedri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99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3030480"/>
                <a:tab algn="l" pos="54259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2.Bronchodilators:  treatment of asthma and bronchiti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99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3030480"/>
                <a:tab algn="l" pos="54259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s that stimulate beta</a:t>
            </a:r>
            <a:r>
              <a:rPr b="0" lang="en-US" sz="2000" spc="-1" strike="noStrike" baseline="-2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drenergic receptors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f bronchial smooth muscles causing relax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99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3030480"/>
                <a:tab algn="l" pos="54259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99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3030480"/>
                <a:tab algn="l" pos="54259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3366ff"/>
                </a:solidFill>
                <a:latin typeface="Verdana"/>
              </a:rPr>
              <a:t>albuterol</a:t>
            </a:r>
            <a:r>
              <a:rPr b="0" lang="en-US" sz="2000" spc="-1" strike="noStrike">
                <a:solidFill>
                  <a:srgbClr val="3366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3366ff"/>
                </a:solidFill>
                <a:latin typeface="Verdana"/>
              </a:rPr>
              <a:t>ephedrine</a:t>
            </a:r>
            <a:r>
              <a:rPr b="0" lang="en-US" sz="2000" spc="-1" strike="noStrike">
                <a:solidFill>
                  <a:srgbClr val="3366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3366ff"/>
                </a:solidFill>
                <a:latin typeface="Verdana"/>
              </a:rPr>
              <a:t>epinephrine</a:t>
            </a:r>
            <a:br>
              <a:rPr sz="2000"/>
            </a:br>
            <a:r>
              <a:rPr b="0" lang="en-US" sz="2000" spc="-1" strike="noStrike">
                <a:solidFill>
                  <a:srgbClr val="3366ff"/>
                </a:solidFill>
                <a:latin typeface="Verdana"/>
              </a:rPr>
              <a:t>isoetharine </a:t>
            </a:r>
            <a:r>
              <a:rPr b="0" lang="en-US" sz="2000" spc="-1" strike="noStrike">
                <a:solidFill>
                  <a:srgbClr val="3366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3366ff"/>
                </a:solidFill>
                <a:latin typeface="Verdana"/>
              </a:rPr>
              <a:t>isoproterenol</a:t>
            </a:r>
            <a:r>
              <a:rPr b="0" lang="en-US" sz="2000" spc="-1" strike="noStrike">
                <a:solidFill>
                  <a:srgbClr val="3366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3366ff"/>
                </a:solidFill>
                <a:latin typeface="Verdana"/>
              </a:rPr>
              <a:t>levalbuterol</a:t>
            </a:r>
            <a:br>
              <a:rPr sz="2000"/>
            </a:br>
            <a:r>
              <a:rPr b="0" lang="en-US" sz="2000" spc="-1" strike="noStrike">
                <a:solidFill>
                  <a:srgbClr val="3366ff"/>
                </a:solidFill>
                <a:latin typeface="Verdana"/>
              </a:rPr>
              <a:t>metaproterenol</a:t>
            </a:r>
            <a:r>
              <a:rPr b="0" lang="en-US" sz="2000" spc="-1" strike="noStrike">
                <a:solidFill>
                  <a:srgbClr val="3366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3366ff"/>
                </a:solidFill>
                <a:latin typeface="Verdana"/>
              </a:rPr>
              <a:t>salmeterol</a:t>
            </a:r>
            <a:r>
              <a:rPr b="0" lang="en-US" sz="2000" spc="-1" strike="noStrike">
                <a:solidFill>
                  <a:srgbClr val="3366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3366ff"/>
                </a:solidFill>
                <a:latin typeface="Verdana"/>
              </a:rPr>
              <a:t>terbutalin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41240" y="609120"/>
            <a:ext cx="76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drenergic Agents:  Therapeutic Us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016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9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279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3.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duction of intraocular pressure and mydriasis (pupil dilation):  treatment of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pen-angle glaucom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9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279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ff"/>
                </a:solidFill>
                <a:latin typeface="Verdana"/>
              </a:rPr>
              <a:t>Examples: epinephrine and dipivefri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9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279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9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279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4. Nasal decongestant: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9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279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tranasal (topical) application causes constriction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f dilated arterioles and reduction of nasal blood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low, thus decreasing congestio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9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279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3366ff"/>
                </a:solidFill>
                <a:latin typeface="Verdana"/>
              </a:rPr>
              <a:t>Examples:</a:t>
            </a:r>
            <a:br>
              <a:rPr sz="2000"/>
            </a:br>
            <a:r>
              <a:rPr b="0" lang="en-US" sz="2000" spc="-1" strike="noStrike">
                <a:solidFill>
                  <a:srgbClr val="3366ff"/>
                </a:solidFill>
                <a:latin typeface="Verdana"/>
              </a:rPr>
              <a:t>epinephrine</a:t>
            </a:r>
            <a:r>
              <a:rPr b="0" lang="en-US" sz="2000" spc="-1" strike="noStrike">
                <a:solidFill>
                  <a:srgbClr val="3366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3366ff"/>
                </a:solidFill>
                <a:latin typeface="Verdana"/>
              </a:rPr>
              <a:t>ephedrine</a:t>
            </a:r>
            <a:r>
              <a:rPr b="0" lang="en-US" sz="2000" spc="-1" strike="noStrike">
                <a:solidFill>
                  <a:srgbClr val="3366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3366ff"/>
                </a:solidFill>
                <a:latin typeface="Verdana"/>
              </a:rPr>
              <a:t>naphazoline </a:t>
            </a:r>
            <a:r>
              <a:rPr b="0" lang="en-US" sz="2000" spc="-1" strike="noStrike">
                <a:solidFill>
                  <a:srgbClr val="3366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3366ff"/>
                </a:solidFill>
                <a:latin typeface="Verdana"/>
              </a:rPr>
              <a:t>phenylephrine</a:t>
            </a:r>
            <a:r>
              <a:rPr b="0" lang="en-US" sz="2000" spc="-1" strike="noStrike">
                <a:solidFill>
                  <a:srgbClr val="3366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3366ff"/>
                </a:solidFill>
                <a:latin typeface="Verdana"/>
              </a:rPr>
              <a:t>tetrahydrozoli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9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279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 Ophthalmic  relieving conjunctival congestio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3366ff"/>
                </a:solidFill>
                <a:latin typeface="Verdana"/>
              </a:rPr>
              <a:t>Examples:</a:t>
            </a:r>
            <a:r>
              <a:rPr b="0" lang="en-US" sz="2000" spc="-1" strike="noStrike">
                <a:solidFill>
                  <a:srgbClr val="3366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3366ff"/>
                </a:solidFill>
                <a:latin typeface="Verdana"/>
              </a:rPr>
              <a:t>epinephrine</a:t>
            </a:r>
            <a:r>
              <a:rPr b="0" lang="en-US" sz="2000" spc="-1" strike="noStrike">
                <a:solidFill>
                  <a:srgbClr val="3366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3366ff"/>
                </a:solidFill>
                <a:latin typeface="Verdana"/>
              </a:rPr>
              <a:t>naphazoline </a:t>
            </a:r>
            <a:r>
              <a:rPr b="0" lang="en-US" sz="2000" spc="-1" strike="noStrike">
                <a:solidFill>
                  <a:srgbClr val="3366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3366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3366ff"/>
                </a:solidFill>
                <a:latin typeface="Verdana"/>
              </a:rPr>
              <a:t>phenylephrine </a:t>
            </a:r>
            <a:r>
              <a:rPr b="0" lang="en-US" sz="2000" spc="-1" strike="noStrike">
                <a:solidFill>
                  <a:srgbClr val="3366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3366ff"/>
                </a:solidFill>
                <a:latin typeface="Verdana"/>
              </a:rPr>
              <a:t>tetrahydrozoli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6. Vasoactive sympathomimetics also called cardio selective sympathomimetic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sed to support the heart during cardiac failure or shock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3366ff"/>
                </a:solidFill>
                <a:latin typeface="Verdana"/>
              </a:rPr>
              <a:t>dobutamine</a:t>
            </a:r>
            <a:r>
              <a:rPr b="0" lang="en-US" sz="2000" spc="-1" strike="noStrike">
                <a:solidFill>
                  <a:srgbClr val="3366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3366ff"/>
                </a:solidFill>
                <a:latin typeface="Verdana"/>
              </a:rPr>
              <a:t>dopamine</a:t>
            </a:r>
            <a:r>
              <a:rPr b="0" lang="en-US" sz="2000" spc="-1" strike="noStrike">
                <a:solidFill>
                  <a:srgbClr val="3366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3366ff"/>
                </a:solidFill>
                <a:latin typeface="Verdana"/>
              </a:rPr>
              <a:t>ephedrine epinephrine</a:t>
            </a:r>
            <a:r>
              <a:rPr b="0" lang="en-US" sz="2000" spc="-1" strike="noStrike">
                <a:solidFill>
                  <a:srgbClr val="3366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3366ff"/>
                </a:solidFill>
                <a:latin typeface="Verdana"/>
              </a:rPr>
              <a:t>fenoldopam</a:t>
            </a:r>
            <a:r>
              <a:rPr b="0" lang="en-US" sz="2000" spc="-1" strike="noStrike">
                <a:solidFill>
                  <a:srgbClr val="3366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3366ff"/>
                </a:solidFill>
                <a:latin typeface="Verdana"/>
              </a:rPr>
              <a:t>isoproterenol</a:t>
            </a:r>
            <a:r>
              <a:rPr b="0" lang="en-US" sz="2000" spc="-1" strike="noStrike">
                <a:solidFill>
                  <a:srgbClr val="3366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3366ff"/>
                </a:solidFill>
                <a:latin typeface="Verdana"/>
              </a:rPr>
              <a:t>methoxamine</a:t>
            </a:r>
            <a:r>
              <a:rPr b="0" lang="en-US" sz="2000" spc="-1" strike="noStrike">
                <a:solidFill>
                  <a:srgbClr val="3366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3366ff"/>
                </a:solidFill>
                <a:latin typeface="Verdana"/>
              </a:rPr>
              <a:t>norepinephrine</a:t>
            </a:r>
            <a:r>
              <a:rPr b="0" lang="en-US" sz="2000" spc="-1" strike="noStrike">
                <a:solidFill>
                  <a:srgbClr val="3366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3366ff"/>
                </a:solidFill>
                <a:latin typeface="Verdana"/>
              </a:rPr>
              <a:t>phenylephri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41240" y="609120"/>
            <a:ext cx="76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drenergic Agents:  Side Effec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762120" y="1677600"/>
            <a:ext cx="7635600" cy="459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432000" indent="-4320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lpha-Adrenergic Effec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32000" indent="-4320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N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35200" indent="-40140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eadache, restlessness, excitement, insomnia, euphori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32000" indent="-4320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rdiovascular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35200" indent="-40140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lpitations (dysrhythmias), tachycardia, vasoconstriction, hypertens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32000" indent="-4320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ther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35200" indent="-40140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orexia, dry mouth, nausea, vomiting, taste changes (rar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41240" y="609120"/>
            <a:ext cx="76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drenergic Agents:  Side Effec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762120" y="1720440"/>
            <a:ext cx="7635600" cy="43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eta-Adrenergic Effec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N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ild tremors, headache, nervousness, dizzines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rdiovascular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creased heart rate, palpitations (dysrhythmias), fluctuations in B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ther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weating, nausea, vomiting, muscle cramp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41240" y="609120"/>
            <a:ext cx="76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drenergic Agents:  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Nursing Implication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62120" y="1836360"/>
            <a:ext cx="7635600" cy="425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ssess for allergies and history of hypertension, cardiac dysrhythmias, or other cardiovascular diseas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ssess renal, hepatic, and cardiac function before treatm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erform baseline assessment of vital signs, peripheral pulses, skin color, temperature, and capillary refill. Include postural blood pressure and puls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llow administration guidelines carefully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4" descr="Nervous System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41240" y="609120"/>
            <a:ext cx="76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drenergic Agents:  Nursing Implica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62120" y="1865160"/>
            <a:ext cx="7635600" cy="444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9080" indent="-28908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ith chronic lung disease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struct patients to avoid factors that exacerbate their conditio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ncourage fluid intak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up to 3000 mL per day) if permitt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ducate about proper dosing an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quipment care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9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41240" y="609120"/>
            <a:ext cx="76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drenergic Agents:  Nursing Implica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635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spcAft>
                <a:spcPts val="751"/>
              </a:spcAft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veruse of nasal decongestants may cause rebound nasal congestion or ulceration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onitor for therapeutic effect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cardiovascular uses)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creased edem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creased urinary outpu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turn to normal vital sig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mproved skin color and temperatu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creased LOC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6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drenergic Agents:  Nursing Implica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62120" y="1993680"/>
            <a:ext cx="7635600" cy="425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onitor for therapeutic effects </a:t>
            </a:r>
            <a:r>
              <a:rPr b="0" lang="en-US" sz="2400" spc="-1" strike="noStrike">
                <a:solidFill>
                  <a:srgbClr val="3366ff"/>
                </a:solidFill>
                <a:latin typeface="Verdana"/>
              </a:rPr>
              <a:t>(asthma)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turn to normal respiratory ra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mproved breath sounds, fewer ra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creased air exchang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creased coug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ess dyspne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mproved blood gas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creased activity tolera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41240" y="609120"/>
            <a:ext cx="76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drenergic-Blocking Agent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635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ind to adrenergic receptors, but inhibit or block stimulation of the sympathetic nervous system (SN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ave the opposite effect of adrenergic agen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so known a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drenergic antagonists or sympatholytics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41240" y="609120"/>
            <a:ext cx="76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drenergic-Blocking Agents: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rug Effects and Therapeutic Us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635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lpha-Block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use both arterial and venous dilation, reducing peripheral vascular resistance and BP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ed to treat hypertens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ffect on receptors on prostate gland and bladder decreased resistance to urinary outflow, thus reducing urinary obstruction and relieving effect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f BP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41240" y="609120"/>
            <a:ext cx="76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Beta Blockers: Mechanism of Ac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635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64760" indent="-46476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rdioselective (Beta1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creases heart rat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rolongs SA node recover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lows conduction rate through the AV nod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creases myocardial contractility, thus decreasing myocardial oxygen demand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41240" y="609120"/>
            <a:ext cx="76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Beta Blockers: Therapeutic Us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016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601"/>
              </a:spcBef>
              <a:buClr>
                <a:srgbClr val="cc0000"/>
              </a:buClr>
              <a:buFont typeface="Verdana"/>
              <a:buAutoNum type="arabicPeriod"/>
              <a:tabLst>
                <a:tab algn="l" pos="3824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ti-angina:decreases demand for myocardial oxyg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601"/>
              </a:spcBef>
              <a:buClr>
                <a:srgbClr val="cc0000"/>
              </a:buClr>
              <a:buFont typeface="Verdana"/>
              <a:buAutoNum type="arabicPeriod"/>
              <a:tabLst>
                <a:tab algn="l" pos="3824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rdioprotective:inhibits stimulation by circulating catecholamin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601"/>
              </a:spcBef>
              <a:buClr>
                <a:srgbClr val="cc0000"/>
              </a:buClr>
              <a:buFont typeface="Verdana"/>
              <a:buAutoNum type="arabicPeriod"/>
              <a:tabLst>
                <a:tab algn="l" pos="3824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ass II antidysrhythmic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649"/>
              </a:spcBef>
              <a:buClr>
                <a:srgbClr val="cc0000"/>
              </a:buClr>
              <a:buFont typeface="Verdana"/>
              <a:buAutoNum type="arabicPeriod"/>
              <a:tabLst>
                <a:tab algn="l" pos="3824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ntihypertensiv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649"/>
              </a:spcBef>
              <a:buClr>
                <a:srgbClr val="cc0000"/>
              </a:buClr>
              <a:buFont typeface="Verdana"/>
              <a:buAutoNum type="arabicPeriod"/>
              <a:tabLst>
                <a:tab algn="l" pos="3824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reatment of migraine headach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51"/>
              </a:spcBef>
              <a:buClr>
                <a:srgbClr val="cc0000"/>
              </a:buClr>
              <a:buFont typeface="Verdana"/>
              <a:buAutoNum type="arabicPeriod"/>
              <a:tabLst>
                <a:tab algn="l" pos="3824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Glaucoma (topical use)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41240" y="609120"/>
            <a:ext cx="76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drenergic Blocking Agents: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ursing Implica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635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-49536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ssess for allergies and history of COPD, hypotension, cardiac dysrhythmias, bradycardia, CHF, or other cardiovascular proble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95360" indent="-49536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member that alpha blockers may precipitate hypotensio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95360" indent="-49536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member that beta blockers may precipitate bradycardia, hypotension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eart block, CHF, and bronchoconstrictio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ncourage patients to take medication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s prescribed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se medications should never be stopped abruptly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port constipation or the development of any urinary or bladder disten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95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bound hypertension or chest pain may occur if this medication is discontinued abruptly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95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atients should notify their physician if they become ill and unable to take medic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95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form patients that they may notice a decrease in their tolerance for exercise; dizziness and fainting may occur with increased activity. Notify the physician if these problems occur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41240" y="609120"/>
            <a:ext cx="76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eta Blocking Agents: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ursing Implica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635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tients should report the following to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ir physician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601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eight gain of more than 2 pounds (1 kg)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ithin a wee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601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dema of the feet or ank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601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hortness of brea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601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cessive fatigue or weaknes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601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yncope or dizzines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001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Nervous System Division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1" name="Picture 5" descr="04"/>
          <p:cNvPicPr/>
          <p:nvPr/>
        </p:nvPicPr>
        <p:blipFill>
          <a:blip r:embed="rId1"/>
          <a:stretch/>
        </p:blipFill>
        <p:spPr>
          <a:xfrm>
            <a:off x="0" y="838080"/>
            <a:ext cx="914400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nitor for side effects, including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Hypotension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atigu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achycardia (alpha blockers)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Lethargy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Bradycardia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Depress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Heart block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Insomnia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HF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nightmar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Increased airway resistance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380520" y="2133720"/>
            <a:ext cx="8001000" cy="2133360"/>
          </a:xfrm>
          <a:prstGeom prst="rect">
            <a:avLst/>
          </a:prstGeom>
          <a:gradFill rotWithShape="0">
            <a:gsLst>
              <a:gs pos="0">
                <a:srgbClr val="8e7fe5"/>
              </a:gs>
              <a:gs pos="100000">
                <a:srgbClr val="1b182c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46980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w Cen MT Condensed Extra Bold"/>
              </a:rPr>
              <a:t>QUESTION?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6" descr=""/>
          <p:cNvPicPr/>
          <p:nvPr/>
        </p:nvPicPr>
        <p:blipFill>
          <a:blip r:embed="rId1"/>
          <a:stretch/>
        </p:blipFill>
        <p:spPr>
          <a:xfrm>
            <a:off x="304920" y="166680"/>
            <a:ext cx="8610480" cy="65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Nervous System Overview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Nervous Syste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rai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pinal cor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erv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unctions of nervous syste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gulates and coordinates all body activ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enter of all mental activity, including thought, learning, and memor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380880" y="17521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entral Nervous System (CNS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rai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pinal Cord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Processes and stores sensory and motor inform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ontrols consciousnes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eripheral Nervous System (PNS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0000"/>
                </a:solidFill>
                <a:latin typeface="Verdana"/>
              </a:rPr>
              <a:t>12 Pairs of Cranial Nerv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0000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cc0000"/>
                </a:solidFill>
                <a:latin typeface="Verdana"/>
              </a:rPr>
              <a:t>31 Pairs of Spinal Nerv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ransmits sensory and motor impulses back and forth between CNS and rest of body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30492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Nervous System Division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eripheral Nervous System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omatic Nervous System (SNS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rovides voluntary control over skeletal muscle contraction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utonomic Nervous System (ANS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rovides involuntary control over smooth muscle, cardiac muscle, and glandular activity and secretions in response to the commands of the central nervous system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417960" indent="-41796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ympathetic nerv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807840" indent="-38808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crease heart ra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07840" indent="-38808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strict blood vessel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07840" indent="-38808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aise blood pressur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07840" indent="-38808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ight-or-flight respons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17960" indent="-41796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arasympathetic nerv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807840" indent="-38808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low heart ra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07840" indent="-38808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crease peristalsis of intestin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07840" indent="-38808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crease glandular secretion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07840" indent="-38808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lax sphinct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utonomic Nervous System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1T16:41:36Z</dcterms:created>
  <dc:creator>AHMAD RAWHI</dc:creator>
  <dc:description/>
  <dc:language>en-US</dc:language>
  <cp:lastModifiedBy>Alharbi</cp:lastModifiedBy>
  <cp:lastPrinted>2016-02-04T07:38:31Z</cp:lastPrinted>
  <dcterms:modified xsi:type="dcterms:W3CDTF">2016-02-04T07:43:29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