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7A3-6F74-4036-A77A-0EE912E4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590-55DB-4CCC-B4CE-05AEE32B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F28A-DEA1-43BB-A2B6-7AFC0373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825-6A72-4A69-AAA2-7E3D2366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226F-6C42-4B4C-8C2A-26F10B4E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C72D-61AE-45F6-9660-FA3B6F5C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5A0C-7147-44F5-91C0-88AE2318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2270-1F35-4269-BD00-B023A10F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2E38-592A-45AD-B87A-8A92CC2B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FD9D-724F-454A-8FC7-4ED12A8F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D4F0-4A53-4CA7-A35E-993AC77A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2071-EBAC-4DD3-9E22-DBC24070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0FF3-4BBC-4C85-A1F9-62136747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6698-38EA-480E-9A61-70397324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5741-897E-4E5E-8F7A-850EA167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8D20-929B-49C8-A075-EAE90E92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FCC5-6474-497C-98FC-DA2600BC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F841-C648-4CE7-9B45-408A2D2C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92D-597C-46B3-A5DD-6FCE0FC8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9BD-CA90-4E06-B7A7-AE9ADAE8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CE01-F248-4FEF-9F06-F2FC7EE6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3069-673A-48ED-B606-AE01E313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67D3-1408-4441-8FC7-7B2D0F35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C191-02A5-4072-8ACE-22DE0BD0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2C16-ED46-4502-960F-FCFDB434FC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35DF-1997-483C-84BC-5E6ACA5F1D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edical-dictionary.thefreedictionary.com/receptor" TargetMode="External"/><Relationship Id="rId2" Type="http://schemas.openxmlformats.org/officeDocument/2006/relationships/hyperlink" Target="http://medical-dictionary.thefreedictionary.com/norepinephrine" TargetMode="External"/><Relationship Id="rId3" Type="http://schemas.openxmlformats.org/officeDocument/2006/relationships/hyperlink" Target="http://medical-dictionary.thefreedictionary.com/phenoxybenzamine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edical-dictionary.thefreedictionary.com/epinephrine" TargetMode="External"/><Relationship Id="rId2" Type="http://schemas.openxmlformats.org/officeDocument/2006/relationships/hyperlink" Target="http://medical-dictionary.thefreedictionary.com/propranolol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rugs Affecting  Autonomic Nervous System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techolamin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ances that can produce a sympathomimetic respo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ogenou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pamine (Dopaminergic) epinephrine &amp; norepinephrine (Adrenegeric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Synthetic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oproterenol, dobutamine, phenylephr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ight or Flight Response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se catecholamine hormones facilitate immediate physical reactions These include the follow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eleration of heart and lung action</a:t>
            </a:r>
            <a:r>
              <a:rPr b="0" lang="ar-SA" sz="1800" spc="-1" strike="noStrike">
                <a:solidFill>
                  <a:srgbClr val="000000"/>
                </a:solidFill>
                <a:latin typeface="Verdana"/>
              </a:rPr>
              <a:t>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hibition of stomach and intestinal 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iction of blood vessels in many parts of the bo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lation of blood vessels for musc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hibition of tear glands and saliv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lation of pup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axation of bladd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hibition of er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opaminergic Recept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765080"/>
            <a:ext cx="7635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 additional adrenergic recep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imulated by dopam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uses dilation of the following blood vessels, resulting in INCREASED blood flo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sente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rona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erebr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renergic Ag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ugs that stimulate the sympathetic nervous system (S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known 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agonists or sympathomime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mic the effects of the SNS neurotransmitte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epinephrine (NE) and epinephrine (EP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renergic Recept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cated throughout the bo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 receptors for the sympathetic neurotransmit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pha-adrenergic receptors:  respond to 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ta-adrenergic receptors: respond to EP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s o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adrenergic recep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adrenergic receptors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 are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adrenergic recepto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at respond to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norepinephr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to such blocking agents as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phenoxybenzam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are subdivided into two typ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found in smooth muscle, heart, and liver, with effects including vasoconstriction, intestinal relaxation, uterine contraction and pupillary dilation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found in platelets, vascular smooth muscle, nerve termini, and pancreatic islets, with effects including platelet aggregation, vasoconstriction, and inhibition of norepinephrine release and of insulin secre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4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-receptor typ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13280" indent="-413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adrenergic recepto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spond particularly to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epinephr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to such blocking agents as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propranolo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are three known types of beta receptor, designated β1, β2 and β3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β1-Adrenergic receptors are located mainly in the hear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β2-Adrenergic receptors are located mainly in the lungs, gastrointestinal tract, liver, uterus, vascular smooth muscle, and skeletal musc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β3-receptors are located in fat ce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What do the receptors do?</a:t>
            </a:r>
            <a:br>
              <a:rPr sz="3800"/>
            </a:br>
            <a:br>
              <a:rPr sz="38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ctiv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recep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ads to smooth musc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ntraction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ctiv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recep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ads to smooth musc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laxation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ctiv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recep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ads to smooth musc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ntr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especially in heart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1600200"/>
            <a:ext cx="8381880" cy="66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linical Utility of drugs which affect the adrenergic nervous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gon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ヒラギノ角ゴ Pro W3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recep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are used in the treatment of asthma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ヒラギノ角ゴ Pro W3"/>
              </a:rPr>
              <a:t>relax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of the smooth muscles of the bronch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ntagon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ヒラギノ角ゴ Pro W3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recep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are used in the treatment of hypertension and angina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ヒラギノ角ゴ Pro W3"/>
              </a:rPr>
              <a:t>s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heart and reduce force of contrac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ntagon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ヒラギノ角ゴ Pro W3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recep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are known to cause lowering of the blood pressure (relaxation of smooth muscle and dilation of the blood vesse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ug Effects of Adrenergic Ag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750680"/>
            <a:ext cx="763560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mulation of alpha-adrenergic receptors on smooth muscles results i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soconstriction of blood vess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xation of GI smooth musc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action of the uterus and blad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le ejac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reased insulin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action of the ciliary muscles of the ey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dilated pupi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Lecture objectiv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Identify the anatomy of nervous system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Identify the drugs that effect A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152280"/>
            <a:ext cx="83818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93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rug Effects of Adrenergic Ag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7720" y="198108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imulation of beta2-adrenergic receptors on the airways results i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ronchodilation (relaxation of the bronch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terine relax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lycogenolysis in the li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ug Effects of Adrenergic Ag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821960"/>
            <a:ext cx="76356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mulation of beta1-adrenergic receptors on the myocardium, AV node, and SA node results in CARDIAC STIMUL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force of contra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positi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otrop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heart 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positi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ronotrop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conduction through the AV no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positi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romotrop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) automati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Agents: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apeutic 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98080" cy="42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orexiants:  adjuncts to diet in the short-term management of obe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benzaphetamine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phentermine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dextroamphetamine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Dexedr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Bronchodilators:  treatment of asthma and bronch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s that stimulate beta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drenergic recepto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bronchial smooth muscles causing relax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albuterol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hed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inephrine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isoetharine 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isoproterenol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levalbuterol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metaproterenol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salmeterol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terbutal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Agents:  Therapeutic 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1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tion of intraocular pressure and mydriasis (pupil dilation):  treatment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-angle glauco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xamples: epinephrine and dipivefr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 Nasal decongestant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anasal (topical) application causes constric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lated arterioles and reduction of nasal bloo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ow, thus decreasing conges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xamples: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ineph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hed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naphazoline 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phenyleph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tetrahydrozo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Ophthalmic  relieving conjunctival conges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xamples: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ineph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naphazoline 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phenylephrine 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tetrahydrozo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. Vasoactive sympathomimetics also called cardio selective sympathomime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to support the heart during cardiac failure or shoc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dobutam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dopam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hedrine epineph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fenoldopam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isoproterenol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methoxam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norepineph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phenylephr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Agents:  Side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677600"/>
            <a:ext cx="7635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pha-Adrenergic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ache, restlessness, excitement, insomnia, euphori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diovascula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lpitations (dysrhythmias), tachycardia, vasoconstriction, hypertens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orexia, dry mouth, nausea, vomiting, taste changes (rar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renergic Agents:  Side Eff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720440"/>
            <a:ext cx="763560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ta-Adrenergic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ld tremors, headache, nervousness, dizzi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diovascula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heart rate, palpitations (dysrhythmias), fluctuations in B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eating, nausea, vomiting, muscle cra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renergic Agents: 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ursing Implic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836360"/>
            <a:ext cx="7635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ess for allergies and history of hypertension, cardiac dysrhythmias, or other cardiovascular disea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ess renal, hepatic, and cardiac function before treat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 baseline assessment of vital signs, peripheral pulses, skin color, temperature, and capillary refill. Include postural blood pressure and pul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administration guidelines careful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Nervous Syste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renergic Agents:  Nursing Imp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865160"/>
            <a:ext cx="76356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chronic lung disea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 patients to avoid factors that exacerbate their condi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rage fluid intak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up to 3000 mL per day) if permitt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ucate about proper dosing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car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renergic Agents:  Nursing Imp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use of nasal decongestants may cause rebound nasal congestion or ulcer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for therapeutic effec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cardiovascular uses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reased ed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urinary outp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 to normal vital sig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d skin color and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LO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Agents:  Nursing Imp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993680"/>
            <a:ext cx="7635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for therapeutic effects </a:t>
            </a:r>
            <a:r>
              <a:rPr b="0" lang="en-US" sz="2400" spc="-1" strike="noStrike">
                <a:solidFill>
                  <a:srgbClr val="3366ff"/>
                </a:solidFill>
                <a:latin typeface="Verdana"/>
              </a:rPr>
              <a:t>(asthma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 to normal respiratory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d breath sounds, fewer r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air ex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reased cou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 dyspn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d blood g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activity tole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renergic-Blocking Ag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nd to adrenergic receptors, but inhibit or block stimulation of the sympathetic nervous system (S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e the opposite effect of adrenergic ag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so known 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renergic antagonists or sympatholytic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renergic-Blocking Agent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ug Effects and Therapeutic 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pha-Block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use both arterial and venous dilation, reducing peripheral vascular resistance and B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to treat hyperte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ect on receptors on prostate gland and bladder decreased resistance to urinary outflow, thus reducing urinary obstruction and relieving effec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BP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ta Blockers: Mechanism of A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dioselective (Beta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reases heart r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longs SA node re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ws conduction rate through the AV n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reases myocardial contractility, thus decreasing myocardial oxygen dema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ta Blockers: Therapeutic U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1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-angina:decreases demand for myocardial oxy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dioprotective:inhibits stimulation by circulating catecholam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 II antidysrhythm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tihypertens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eatment of migraine headach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laucoma (topical use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Blocking Agent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rsing Imp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ess for allergies and history of COPD, hypotension, cardiac dysrhythmias, bradycardia, CHF, or other cardiovascular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ember that alpha blockers may precipitate hypotens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ember that beta blockers may precipitate bradycardia, hypotens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rt block, CHF, and bronchoconstri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courage patients to take medication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 prescrib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se medications should never be stopped abrupt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 constipation or the development of any urinary or bladder disten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bound hypertension or chest pain may occur if this medication is discontinued abrupt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tients should notify their physician if they become ill and unable to take medic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 patients that they may notice a decrease in their tolerance for exercise; dizziness and fainting may occur with increased activity. Notify the physician if these problems occu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ta Blocking Agent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rsing Imp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 should report the following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ir physicia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ight gain of more than 2 pounds (1 kg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in a 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ema of the feet or ank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rtness of bre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ssive fatigue or weak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ncope or dizzine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ervous System Divis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04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for side effects, including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ypotens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atigu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achycardia (alpha blockers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tharg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radycardi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press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art blo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omn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HF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ightma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creased airway resistanc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80520" y="2133720"/>
            <a:ext cx="8001000" cy="2133360"/>
          </a:xfrm>
          <a:prstGeom prst="rect">
            <a:avLst/>
          </a:prstGeom>
          <a:gradFill rotWithShape="0">
            <a:gsLst>
              <a:gs pos="0">
                <a:srgbClr val="8e7fe5"/>
              </a:gs>
              <a:gs pos="100000">
                <a:srgbClr val="1b182c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w Cen MT Condensed Extra Bold"/>
              </a:rPr>
              <a:t>QUESTION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304920" y="166680"/>
            <a:ext cx="86104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rvous System Overvie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a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inal cor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r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nctions of 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gulates and coordinates all body activ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enter of all mental activity, including thought, learning, and mem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entral Nervous System (CN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ra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pinal Cor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cesses and stores sensory and motor inform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s consciousn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ipheral Nervous System (PN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12 Pairs of Cranial Ner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31 Pairs of Spinal Ner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mits sensory and motor impulses back and forth between CNS and rest of bod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rvous System Divis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pheral Nervous Syst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matic Nervous System (S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es voluntary control over skeletal muscle contra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nomic Nervous System (A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es involuntary control over smooth muscle, cardiac muscle, and glandular activity and secretions in response to the commands of the central nervous syst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pathetic ner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rease heart 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trict blood vess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ise blood pres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ght-or-flight respon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asympathetic ner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ow heart 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rease peristalsis of intesti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rease glandular secre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ax sphinct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utonomic Nervous Syst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6:41:36Z</dcterms:created>
  <dc:creator>AHMAD RAWHI</dc:creator>
  <dc:description/>
  <dc:language>en-US</dc:language>
  <cp:lastModifiedBy>Alharbi</cp:lastModifiedBy>
  <cp:lastPrinted>2016-02-04T07:38:31Z</cp:lastPrinted>
  <dcterms:modified xsi:type="dcterms:W3CDTF">2016-02-04T07:43:2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