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853-89DA-4203-8C8D-4278AEA8DA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us arrest may be seen due to increased vagal tone, drug intoxication or sick sinus node syndr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271-CF76-489A-8495-8E5A39910B9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B3E-A5E2-43F2-9660-48B57296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A30-5CFC-460B-BBF5-5DC400DD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784-5A9F-48FE-8665-C065C92D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D64-CBDD-4663-8937-DBFCD36D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298C-B1A6-4A7E-8422-0E00C2C7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AB12-A9E0-4EFD-8527-91EC0B4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74F7-C824-49A9-906D-74275CD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4214-7279-4140-A5B9-FC0F0B9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6850-9993-4995-AF3A-827C40D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49F2-7785-44BC-A332-1FA85BD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6789-8EA9-4020-B05D-F584ADF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930-4B3B-4BD6-AA1F-3010B990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546-C091-47B0-B8E3-961FF655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49F7-34BE-4C29-A31F-E24A6ED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76E4-75CB-473A-8840-69299609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5E69-7D45-4F8D-92F1-95357D31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093A-8223-4E42-9AA9-E759DD48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171-215A-4AD4-93D2-7A6AFC59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3BD-6535-49B4-BE13-54FC3E7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AD6-AB1B-4F7E-A5CD-6948E82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C26-9204-492D-8C8B-67B7AC2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D03-AC13-442A-9854-0B87818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073-EF7B-4427-95B3-1AEF59A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3A2-B2B1-4BB6-AFAE-5CFB743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4d2d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d4d2d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702-C314-47F8-8C40-4CCA3EFD6D8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4d2d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d4d2d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CFC-0626-4FF6-A054-0812D866186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2d0"/>
                </a:solidFill>
                <a:latin typeface="Arial"/>
              </a:rPr>
              <a:t>ECG interpretations</a:t>
            </a:r>
            <a:endParaRPr b="0" lang="en-US" sz="40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520" y="35053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063E-BF83-453B-9545-B790235DE15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Analysi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1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Calculate ra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2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etermine regularity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3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Assess the P wave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4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etermine PR interval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5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etermine QRS duration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149" name="Picture 4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97D-B82F-4F7A-9008-648D65335E5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1: Calculate Rate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Count the # of R waves in a 6 second rhythm strip, then multiply by 10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Reminder: all rhythm strips in the Modules are 6 seconds in length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53" name="Line 4"/>
          <p:cNvSpPr/>
          <p:nvPr/>
        </p:nvSpPr>
        <p:spPr>
          <a:xfrm flipV="1">
            <a:off x="845820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49568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68580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0" y="548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9 x 10 = 9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8380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33720" y="1538280"/>
            <a:ext cx="99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7242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943600" y="152388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12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638-9C8E-4900-B460-180455B2080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2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917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2: Determine regularity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Look at the R-R distances (using a caliper or markings on a pen or paper).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egular (are they equidistant apart)? Occasionally irregular? Regularly irregular? Irregularly irregular?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r>
              <a:rPr b="0" lang="en-US" sz="25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91440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59092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426708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342900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601992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10552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572000" y="5181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2004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625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28D-CAE0-4719-A674-134F604C8BB0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917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3: Assess the P wave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Are there P waves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o the P waves all look alike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o the P waves occur at a regular rate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s there one P wave before each QRS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r>
              <a:rPr b="0" lang="en-US" sz="29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15238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3623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40384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8769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57913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662940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4674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83059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581280" y="502920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Normal P waves with 1 P wave for every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E359-9333-4872-AA34-4DEB2C0FA0A4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2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4: Determine PR interval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rmal: 0.12 - 0.20 second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     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(3 - 5 boxes)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r>
              <a:rPr b="0" lang="en-US" sz="29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28600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2286000" y="2362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7"/>
          <p:cNvSpPr/>
          <p:nvPr/>
        </p:nvSpPr>
        <p:spPr>
          <a:xfrm flipV="1">
            <a:off x="251460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72428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0.12 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C94-E5C2-44D0-AC8C-A27F1D592895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5: QRS dura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rmal: 0.04 - 0.12 second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              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(1 - 3 boxes)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03" name="Line 5"/>
          <p:cNvSpPr/>
          <p:nvPr/>
        </p:nvSpPr>
        <p:spPr>
          <a:xfrm flipV="1">
            <a:off x="1600200" y="19807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72428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0.08 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2017-CD4A-49E4-B6FB-E25E13C0260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Summary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ate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90-95 bpm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egularity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egular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 waves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normal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R interval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0.12 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QRS duration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0.08 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03848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Normal Sinus Rhyth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5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53F-57BE-4E22-98A4-648ABACDA3D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NSR Parameter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Rate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60 - 100 bpm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Regularity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regular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P waves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norma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PR interval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0.12 - 0.20 s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QRS duration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0.04 - 0.12 s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c8c3"/>
                </a:solidFill>
                <a:uFillTx/>
                <a:latin typeface="Verdana"/>
              </a:rPr>
              <a:t>Any deviation from above is sinus tachycardia, sinus bradycardia or an arrhythmia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14" name="Picture 4" descr="nsr2-m6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121-6EFB-4CC9-8276-E66DD104478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A Node Problem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e SA Node can: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re too slow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re too fast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5050"/>
                </a:solidFill>
                <a:latin typeface="Verdana"/>
              </a:rPr>
              <a:t>Sinus Bradycardia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5050"/>
                </a:solidFill>
                <a:latin typeface="Verdana"/>
              </a:rPr>
              <a:t>Sinus Tachycardia*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FA2A-145C-44C1-985C-81D3CE0B78A0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rrhythmia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Sinus Rhythm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Premature Beat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Ventricular Arrhythmia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AV Junctional Block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E9A2-F96F-47AA-94A7-87587379480C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Learning Module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ECG Basic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How to Analyze a Rhythm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Normal Sinus Rhythm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Heart Arrhythmia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D7C0-A13A-4D10-BB95-F7C916FDDEEA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Rhythm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Sinus Bradycardia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Sinus Tachycardia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Sinus Arrest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Normal Sinus Rhythm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A09-5869-4514-A601-6F3A38E5AAF0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257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3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85800" y="3306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257800" y="3352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2578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0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5257800" y="4572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2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Sinus Bradycar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15" descr="sb-m1"/>
          <p:cNvPicPr/>
          <p:nvPr/>
        </p:nvPicPr>
        <p:blipFill>
          <a:blip r:embed="rId1"/>
          <a:stretch/>
        </p:blipFill>
        <p:spPr>
          <a:xfrm>
            <a:off x="685800" y="1617840"/>
            <a:ext cx="77724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B7CA-F483-4B5C-9A8F-C80357A30EA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Brad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- Rate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&lt; 60 bpm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7036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5" descr="sb-m1"/>
          <p:cNvPicPr/>
          <p:nvPr/>
        </p:nvPicPr>
        <p:blipFill>
          <a:blip r:embed="rId1"/>
          <a:stretch/>
        </p:blipFill>
        <p:spPr>
          <a:xfrm>
            <a:off x="685800" y="1617840"/>
            <a:ext cx="77724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402-F613-4104-B361-AC6F14F352E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Brad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SA node is depolarizing slower than normal, impulse is conducted normally (i.e. normal PR and QRS interval)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251240" y="17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sb-m1"/>
          <p:cNvPicPr/>
          <p:nvPr/>
        </p:nvPicPr>
        <p:blipFill>
          <a:blip r:embed="rId1"/>
          <a:stretch/>
        </p:blipFill>
        <p:spPr>
          <a:xfrm>
            <a:off x="685800" y="1617840"/>
            <a:ext cx="77724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5178-8B84-4134-AD8F-0F48BF56894C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2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3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85800" y="3306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257800" y="3352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2578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257800" y="4572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Sinus Tachycar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15" descr="STa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7E2E-1004-48A1-AF1B-46894E23BE8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Tach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- Rate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&gt; 100 bpm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68" name="Picture 4" descr="STa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A215-E494-400A-B7C5-A1ECDCBBCB1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Tach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SA node is depolarizing faster than normal, impulse is conducted normally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Remember: sinus tachycardia is a response to physical or psychological stress, not a primary arrhythmia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72" name="Picture 4" descr="STa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E78-06E6-4E2C-A592-D69DB1CF1635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Arres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400" spc="-1" strike="noStrike">
                <a:solidFill>
                  <a:srgbClr val="00c8c3"/>
                </a:solidFill>
                <a:latin typeface="Verdana"/>
              </a:rPr>
              <a:t> SA node fails to depolarize and no compensatory mechanisms take over</a:t>
            </a:r>
            <a:endParaRPr b="0" lang="en-US" sz="24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8c3"/>
                </a:solidFill>
                <a:latin typeface="Verdana"/>
              </a:rPr>
              <a:t>Sinus arrest is usually a transient pause in sinus node activity</a:t>
            </a:r>
            <a:endParaRPr b="0" lang="en-US" sz="24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772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715D-E663-4A14-A160-839928BA4CB4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Premature Beat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Premature Atrial Contractions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i="1" lang="en-US" sz="3300" spc="-1" strike="noStrike">
                <a:solidFill>
                  <a:srgbClr val="00c8c3"/>
                </a:solidFill>
                <a:latin typeface="Verdana"/>
              </a:rPr>
              <a:t>(PACs)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Premature Ventricular Contractions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i="1" lang="en-US" sz="3300" spc="-1" strike="noStrike">
                <a:solidFill>
                  <a:srgbClr val="00c8c3"/>
                </a:solidFill>
                <a:latin typeface="Verdana"/>
              </a:rPr>
              <a:t>(PVCs)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D3E-22C0-4CFA-844A-9FAA266E7DA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2" descr="pac-m2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9478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3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7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ccasionally irr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5257800" y="3962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/7 different conto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4 s (except 2/7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358128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NSR with Premature Atrial Contrac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739152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190512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0E0E-1B9B-4A89-B89B-1BB15B49DA7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Picture 2" descr="conduction system best copy"/>
          <p:cNvPicPr/>
          <p:nvPr/>
        </p:nvPicPr>
        <p:blipFill>
          <a:blip r:embed="rId1"/>
          <a:stretch/>
        </p:blipFill>
        <p:spPr>
          <a:xfrm>
            <a:off x="4114800" y="205740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Normal Impulse Conduc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Sinoatrial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AV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of Hi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Branche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urkinje fiber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243828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1E2-38EC-4BBD-A809-EF3B2E72622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2" descr="pvc-m4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1266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4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6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ccasionally irr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5257800" y="3962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 for 7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5257800" y="5135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 (7th w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4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3581280" y="5821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Sinus Rhythm with 1 PV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7238880" y="1371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26C-7959-4F35-AC4F-44C92A068164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PVC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Ectopic beats originate in the ventricles resulting in wide and bizarre QRS complexes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When there are more than 1 premature beats and look alike, they are called “uniform”. When they look different, they are called “multiform”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16" name="Picture 4" descr="pvc-m4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0911-507E-489E-A65E-A65E66FD243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upraventricular Arrhythmia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Atrial Fibrillation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Atrial Flutte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39FD-0DAF-455C-90F8-E18E566C133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5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0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5257800" y="3352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rregularly ir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Atrial Fibri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15" descr="af-m3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4630-712D-41ED-B8FD-F483B2E61F68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78000"/>
            <a:ext cx="731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trial Fibrilla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 organized atrial depolarization, so no normal P waves (impulses are not originating from the sinus node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Atrial activity is chaotic (resulting in an irregularly irregular rate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251240" y="17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5" descr="af-m3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B0C5-93D6-4BDC-A87D-741BA17CB75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6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7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lutter w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Atrial Flu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15" descr="aflut-m3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F14C-D2F4-4428-9793-C10FF891012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trial Flutter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 P waves. Instead flutter waves (note “sawtooth” pattern)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58" name="Picture 4" descr="aflut-m3"/>
          <p:cNvPicPr/>
          <p:nvPr/>
        </p:nvPicPr>
        <p:blipFill>
          <a:blip r:embed="rId1"/>
          <a:stretch/>
        </p:blipFill>
        <p:spPr>
          <a:xfrm>
            <a:off x="685800" y="1616040"/>
            <a:ext cx="7772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CFC6-98FE-418A-8A7E-0AE26B0F0D22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V Nodal Block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1st Degree AV Block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2nd Degree AV Block, Type I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2nd Degree AV Block, Type II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3rd Degree AV Block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DDF-071F-4C51-AB2E-AA2D50DD43A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0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6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5257800" y="5135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3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81280" y="5821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1st Degree AV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15" descr="1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5254-C182-4E4D-9E7E-DC57A35E422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1st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8c3"/>
                </a:solidFill>
                <a:latin typeface="Verdana"/>
              </a:rPr>
              <a:t>PR Interval</a:t>
            </a:r>
            <a:r>
              <a:rPr b="1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ff5050"/>
                </a:solidFill>
                <a:latin typeface="Verdana"/>
              </a:rPr>
              <a:t>&gt; 0.20 s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80" name="Picture 4" descr="1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2B60-3F7F-4B7E-808E-8A9B9874F2CA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2" descr="Conductionand Heart"/>
          <p:cNvPicPr/>
          <p:nvPr/>
        </p:nvPicPr>
        <p:blipFill>
          <a:blip r:embed="rId1"/>
          <a:stretch/>
        </p:blipFill>
        <p:spPr>
          <a:xfrm>
            <a:off x="4772160" y="1981080"/>
            <a:ext cx="358776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Impulse Conduction &amp; the ECG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Sinoatrial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AV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of Hi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Branche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urkinje fiber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43828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43828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7DC-E2C7-4D3C-8A14-496F4C05BEA8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1st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Prolonged conduction delay in the AV node or Bundle of Hi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84" name="Picture 4" descr="1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0FE-48CA-402A-9BDB-1C9FAA49156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2I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67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1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5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r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257800" y="3962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normal, but 4th no Q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5257800" y="5334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5257800" y="4495680"/>
            <a:ext cx="3733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engthens differ one exceed normal PR interval length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3581280" y="5821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2nd Degree AV Block, Type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5259240" y="522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A12-2F3D-46C0-A636-2CB6883BFC3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2nd Degree AV Block, Type I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PR interval progressively lengthens, then the impulse is completely blocked (P wave not followed by QRS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04" name="Picture 4" descr="2I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7DF-0390-46A8-8117-58A86F3DECC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2nd Degree AV Block, Type I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Each successive atrial impulse encounters a longer and longer delay in the AV node until one impulse (usually the 3rd or 4th) fails to make it through the AV nod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08" name="Picture 4" descr="2I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7F75-0898-4F28-A2B1-62C2A2CB864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2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4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l, 2 of 3 no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257800" y="5135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4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3581280" y="5821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2nd Degree AV Block, Type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15" descr="2IIAV-m2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A74-40BD-42DC-ACBB-915AF07F6BD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2nd Degree AV Block, Type II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Occasional P waves are completely blocked (P wave not followed by QRS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27" name="Picture 4" descr="2IIAV-m2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C33-3E4C-4A23-916E-4B37EBA4EE8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9" name="Picture 2" descr="3AV-m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1081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3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4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5257800" y="39625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 relation to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257800" y="5135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ide (&gt; 0.12 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3581280" y="5821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3rd Degree AV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Line 16"/>
          <p:cNvSpPr/>
          <p:nvPr/>
        </p:nvSpPr>
        <p:spPr>
          <a:xfrm flipV="1">
            <a:off x="2286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Line 17"/>
          <p:cNvSpPr/>
          <p:nvPr/>
        </p:nvSpPr>
        <p:spPr>
          <a:xfrm flipV="1">
            <a:off x="5638680" y="2362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Line 18"/>
          <p:cNvSpPr/>
          <p:nvPr/>
        </p:nvSpPr>
        <p:spPr>
          <a:xfrm flipV="1">
            <a:off x="64771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Line 19"/>
          <p:cNvSpPr/>
          <p:nvPr/>
        </p:nvSpPr>
        <p:spPr>
          <a:xfrm flipV="1">
            <a:off x="73152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Line 20"/>
          <p:cNvSpPr/>
          <p:nvPr/>
        </p:nvSpPr>
        <p:spPr>
          <a:xfrm flipV="1">
            <a:off x="815328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Line 21"/>
          <p:cNvSpPr/>
          <p:nvPr/>
        </p:nvSpPr>
        <p:spPr>
          <a:xfrm flipV="1">
            <a:off x="48006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Line 22"/>
          <p:cNvSpPr/>
          <p:nvPr/>
        </p:nvSpPr>
        <p:spPr>
          <a:xfrm flipV="1">
            <a:off x="38862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Line 23"/>
          <p:cNvSpPr/>
          <p:nvPr/>
        </p:nvSpPr>
        <p:spPr>
          <a:xfrm flipV="1">
            <a:off x="30481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Line 24"/>
          <p:cNvSpPr/>
          <p:nvPr/>
        </p:nvSpPr>
        <p:spPr>
          <a:xfrm flipV="1">
            <a:off x="14479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5389-AB70-4C0D-B0A4-EB40B4EA011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3rd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e P waves are completely blocked in the AV junction; QRS complexes originate independently from below the junction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55" name="Picture 4" descr="3AV-m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F95C-2AE8-4299-9BAC-37925DEC59A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3rd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 There is complete block of conduction in the AV junction, so the atria and ventricles form impulses independently of each other. 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Without impulses from the atria, the ventricles own intrinsic pacemaker kicks in at around 30 - 45 beats/minute.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59" name="Picture 4" descr="3AV-m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A29A-D288-4C29-AA62-AFDD61F1EE3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When an impulse originates in a ventricle, conduction through the ventricles will be inefficient and the QRS will be wide and bizarr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63" name="Picture 4" descr="3AV-m2"/>
          <p:cNvPicPr/>
          <p:nvPr/>
        </p:nvPicPr>
        <p:blipFill>
          <a:blip r:embed="rId1"/>
          <a:stretch/>
        </p:blipFill>
        <p:spPr>
          <a:xfrm>
            <a:off x="685800" y="3719520"/>
            <a:ext cx="7772400" cy="1081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pvc-mf3-m6"/>
          <p:cNvPicPr/>
          <p:nvPr/>
        </p:nvPicPr>
        <p:blipFill>
          <a:blip r:embed="rId2"/>
          <a:stretch/>
        </p:blipFill>
        <p:spPr>
          <a:xfrm>
            <a:off x="685800" y="4952880"/>
            <a:ext cx="7772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5DD-BC39-4067-9480-590786173894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The “PQRST”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33560" y="23619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P wave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- Atrial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                                      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depolarization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121" name="Picture 4" descr="Conductionand Heart"/>
          <p:cNvPicPr/>
          <p:nvPr/>
        </p:nvPicPr>
        <p:blipFill>
          <a:blip r:embed="rId1"/>
          <a:stretch/>
        </p:blipFill>
        <p:spPr>
          <a:xfrm>
            <a:off x="1382760" y="2208240"/>
            <a:ext cx="263988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733920" y="49528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T w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ccaf0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Ventricular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  repolar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11480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Q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ccaf0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Ventricular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      depolar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7E8F-F46F-445C-82E1-C43612E1DCD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Ventricular Fibrilla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Rhythm:  irregular-coarse or fine,  wave form varies in size and shape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Fires continuously from multiple foci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No organized electrical activity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No cardiac output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Causes:  MI, ischemia, untreated VT, underlying CAD, acid base imbalance, electrolyte imbalance, hypothermia, 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68" name="Picture 5" descr="figure 41"/>
          <p:cNvPicPr/>
          <p:nvPr/>
        </p:nvPicPr>
        <p:blipFill>
          <a:blip r:embed="rId1"/>
          <a:srcRect l="0" t="14110" r="0" b="0"/>
          <a:stretch/>
        </p:blipFill>
        <p:spPr>
          <a:xfrm>
            <a:off x="685800" y="4191120"/>
            <a:ext cx="7924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9C9-CA94-443C-9074-53FDF452D6E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Ventricular Tach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Ventricular cells fire continuously due to a looping re-entrant circuit 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Rate usually regular, 100 - 250 bpm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P wave: may be absent, inverted or retrograde 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QRS:  complexes bizarre, &gt; .12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Rhythm:  usually regular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72" name="Picture 8" descr="MonomorphicVTach.jpg"/>
          <p:cNvPicPr/>
          <p:nvPr/>
        </p:nvPicPr>
        <p:blipFill>
          <a:blip r:embed="rId1"/>
          <a:stretch/>
        </p:blipFill>
        <p:spPr>
          <a:xfrm>
            <a:off x="762120" y="3657600"/>
            <a:ext cx="7848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E2B0-9B7B-4D23-A921-3F94775908D8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systole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Ventricular standstill, no electrical activity, no cardiac output – no pulse!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Cardiac arrest, may follow VF or PEA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Remember!  No defibrillation with Asystole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Rate:  absent due to absence of ventricular activity.  Occasional P wave may be identified.  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76" name="Picture 2" descr="http://t1.gstatic.com/images?q=tbn:ANd9GcTcGNluFb8CZ18YSZGUeZaSSrpBest8aVXSvq8jQ5jSTF-5P8n1uw"/>
          <p:cNvPicPr/>
          <p:nvPr/>
        </p:nvPicPr>
        <p:blipFill>
          <a:blip r:embed="rId1"/>
          <a:stretch/>
        </p:blipFill>
        <p:spPr>
          <a:xfrm>
            <a:off x="990720" y="4267080"/>
            <a:ext cx="7238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B7A-0CE7-401D-8EEB-395D7572D19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Pacemakers of the Hear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3120" y="167652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SA Node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- Dominant pacemaker with an intrinsic rate of 60 - 100 beats/ minu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AV Node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- Back-up pacemaker with an intrinsic rate of 40 - 60 beats/minu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Ventricular cells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- Back-up pacemaker with an intrinsic rate of 20 - 45 bpm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A6F2-1325-43B2-B046-4A48F60E5A6A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2" descr="nsr-m3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91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The ECG Paper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Horizontally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One small box - 0.04 s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One large box - 0.20 s 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Vertically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One large box - 0.5 mV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131" name="Picture 5" descr="EKGGraph"/>
          <p:cNvPicPr/>
          <p:nvPr/>
        </p:nvPicPr>
        <p:blipFill>
          <a:blip r:embed="rId2"/>
          <a:stretch/>
        </p:blipFill>
        <p:spPr>
          <a:xfrm>
            <a:off x="5067360" y="2438280"/>
            <a:ext cx="3771720" cy="288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800600" y="55627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444-F133-4FBD-B2BE-498ACAB4386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The ECG Paper (cont)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3124080"/>
            <a:ext cx="7313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Every 3 seconds (15 large boxes) is marked by a vertical lin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is helps when calculating the heart ra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NOTE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the following strips are not marked but all are 6 seconds long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685800" y="1600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4572000" y="1600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 flipV="1">
            <a:off x="8458200" y="1600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8380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47242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133720" y="1447920"/>
            <a:ext cx="9903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019920" y="1447920"/>
            <a:ext cx="9903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11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2d0"/>
                </a:solidFill>
                <a:latin typeface="Arial"/>
              </a:rPr>
              <a:t>ECG Rhythm Interpretation</a:t>
            </a:r>
            <a:endParaRPr b="0" lang="en-US" sz="40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c8c3"/>
                </a:solidFill>
                <a:latin typeface="Verdana"/>
              </a:rPr>
              <a:t>Really Very Easy</a:t>
            </a:r>
            <a:br>
              <a:rPr sz="3700"/>
            </a:br>
            <a:r>
              <a:rPr b="0" lang="en-US" sz="3700" spc="-1" strike="noStrike">
                <a:solidFill>
                  <a:srgbClr val="ff5050"/>
                </a:solidFill>
                <a:latin typeface="Verdana"/>
              </a:rPr>
              <a:t>How to Analyze a Rhythm</a:t>
            </a:r>
            <a:endParaRPr b="0" lang="en-US" sz="3700" spc="-1" strike="noStrike">
              <a:solidFill>
                <a:srgbClr val="00c8c3"/>
              </a:solidFill>
              <a:latin typeface="Verdan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32:25Z</dcterms:created>
  <dc:creator>Mandyam Tirumalachar</dc:creator>
  <dc:description/>
  <dc:language>en-US</dc:language>
  <cp:lastModifiedBy>Nasima Yahya Awaji</cp:lastModifiedBy>
  <dcterms:modified xsi:type="dcterms:W3CDTF">2017-02-08T06:11:03Z</dcterms:modified>
  <cp:revision>21</cp:revision>
  <dc:subject/>
  <dc:title>ECG interpre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