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2BD-013C-40FD-A16D-95A495FE24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us arrest may be seen due to increased vagal tone, drug intoxication or sick sinus node syndr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5938-BCB1-4F5C-902D-76FC11DEACC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F94-0C98-4CE4-93FD-B6FFC555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AFD-3DE9-41AC-AEAA-CBBCFB6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AEC-8369-470A-83D7-9DFC72E5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7F6-824E-423F-AEE6-2CFE9E84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03A0-9C98-4DD5-83FF-243D5051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7AA1-E64C-4DF9-AFDB-86A510FE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5554-F32B-4D36-8F07-6FFF1C7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6A6E-1EFC-4C63-AC25-F392759B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6DC-ADD3-4166-A519-E68D58C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F439-9E5C-49AB-AA0D-7381A72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7E2-6B60-4A57-A585-C133AE5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4D8-FC57-4C1A-B458-E4A6E80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DCD8-6836-42A8-AE10-D495619B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5E4-7687-4C36-A1C5-5A03A3A6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EDD-94A4-46F7-83DC-477474F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95A7-10C6-46D4-9112-19F7B98A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C11-7B7F-46BD-A7D8-9B243D56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4F0-E1D3-407A-9AA5-6B11F57A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95D-171E-4C1A-A65B-3FD2313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3D2-4DD9-42E6-8F0B-0B1722D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D56-1037-4F4E-89E9-6255CAB0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0A9-B730-4543-8751-058FF2B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E9B-CFE5-47B8-AFDC-1657E34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C10-12A9-43FC-8BBC-660B6BA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4d2d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d4d2d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BF4A-EDFF-4659-AF9F-694AEE9A17F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af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4d2d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d4d2d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AB79-D99C-4E14-A0ED-A71A6CCCBA5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2d0"/>
                </a:solidFill>
                <a:latin typeface="Arial"/>
              </a:rPr>
              <a:t>ECG interpretations</a:t>
            </a:r>
            <a:endParaRPr b="0" lang="en-US" sz="40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520" y="35053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D96-2892-4A5A-9F5E-CD054C5B101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Analysi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1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Calculate ra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2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regularity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3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ssess the P wave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4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PR interval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Step 5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etermine QRS duration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49" name="Picture 4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86BF-0C83-4E60-B470-3341DF6E92A8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1: Calculate Rat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Count the # of R waves in a 6 second rhythm strip, then multiply by 10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Reminder: all rhythm strips in the Modules are 6 seconds in length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 flipV="1">
            <a:off x="845820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49568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685800" y="16765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57200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9 x 10 = 9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8380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33720" y="1538280"/>
            <a:ext cx="99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7242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943600" y="152388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1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EB1-0924-41A0-92D8-0A7FEB6710E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2: Determine regularity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Look at the R-R distances (using a caliper or markings on a pen or paper).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 (are they equidistant apart)? Occasionally irregular? Regularly irregular? Irregularly irregular?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5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9144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5909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426708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4290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60199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10552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572000" y="5181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2004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625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CC4-8127-43DB-A5B8-299D7BA299A4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2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917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3: Assess the P wave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827360"/>
            <a:ext cx="815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re there P waves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o the P waves all look alike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Do the P waves occur at a regular rate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s there one P wave before each QRS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9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15238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3623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40384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8769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57913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662940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4674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830592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502920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Normal P waves with 1 P wave for every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1E2E-6464-40E2-BFFA-E576F85D8D0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2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4: Determine PR interval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rmal: 0.12 - 0.20 second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(3 - 5 boxes)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r>
              <a:rPr b="0" lang="en-US" sz="29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28600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2286000" y="2362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7"/>
          <p:cNvSpPr/>
          <p:nvPr/>
        </p:nvSpPr>
        <p:spPr>
          <a:xfrm flipV="1">
            <a:off x="251460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2428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0.12 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64F-2D05-469D-A37A-B9DC2548A04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tep 5: QRS dur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rmal: 0.04 - 0.12 second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 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(1 - 3 boxes)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3" name="Line 5"/>
          <p:cNvSpPr/>
          <p:nvPr/>
        </p:nvSpPr>
        <p:spPr>
          <a:xfrm flipV="1">
            <a:off x="1600200" y="198072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72428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0.08 sec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358B-F4D0-4596-9D25-98A7C79122E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Summary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ate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90-95 bpm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ity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regular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 waves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normal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0.12 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QRS duration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0.08 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Interpretation?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03848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Normal Sinus Rhyth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5" descr="nsr-m3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944-5062-4283-A469-48EA71CC2D1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NSR Parameter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at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60 - 10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egularity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regular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 waves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normal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0.12 - 0.20 s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QRS duration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0.04 - 0.12 s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c8c3"/>
                </a:solidFill>
                <a:uFillTx/>
                <a:latin typeface="Verdana"/>
              </a:rPr>
              <a:t>Any deviation from above is sinus tachycardia, sinus bradycardia or an arrhythmia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14" name="Picture 4" descr="nsr2-m6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ABC-315B-480D-BBC7-29120712A35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A Node Problem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e SA Node can: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re too slow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fire too fast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5050"/>
                </a:solidFill>
                <a:latin typeface="Verdana"/>
              </a:rPr>
              <a:t>Sinus Bradycardia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5050"/>
                </a:solidFill>
                <a:latin typeface="Verdana"/>
              </a:rPr>
              <a:t>Sinus Tachycardia*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53A-070C-473D-93C1-BC3E33D4409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rrhythmia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Sinus Rhythm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Premature Beat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Ventricular Arrhythmia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AV Junctional Block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0C80-D822-4017-BEEB-652202C9A73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Learning Module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ECG Basic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How to Analyze a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Normal Sinus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Heart Arrhythmias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94D-9CC7-443F-9BA4-6A23AB02B23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Rhythm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Bradycardia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Tachycardia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Sinus Arrest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Normal Sinus Rhythm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6F0-DD4D-4405-9558-E5441FED91E5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257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3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85800" y="3306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25780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2578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0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5257800" y="4572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2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Bradycar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1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71C-DEEC-48AE-A631-7FBC40F7C6C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Brad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- Rate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&lt; 6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7036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6AD-DEC7-47C6-972C-8D55CB2F538D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Brad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SA node is depolarizing slower than normal, impulse is conducted normally (i.e. normal PR and QRS interval)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2512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sb-m1"/>
          <p:cNvPicPr/>
          <p:nvPr/>
        </p:nvPicPr>
        <p:blipFill>
          <a:blip r:embed="rId1"/>
          <a:stretch/>
        </p:blipFill>
        <p:spPr>
          <a:xfrm>
            <a:off x="685800" y="1617840"/>
            <a:ext cx="77724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03BC-D4D8-4848-BBD3-87AED2409D0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2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3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5800" y="3306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257800" y="3352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2578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257800" y="4572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Tachycar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15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3508-203E-463A-BB5D-F9FDA60EB2D7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- Rate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&gt; 100 bpm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68" name="Picture 4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9DC-5F40-4449-9A6E-7264E0F5DFD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SA node is depolarizing faster than normal, impulse is conducted normally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Remember: sinus tachycardia is a response to physical or psychological stress, not a primary arrhythmia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72" name="Picture 4" descr="STa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C02A-6463-40A7-A2E8-C6690BA834C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inus Arres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400" spc="-1" strike="noStrike">
                <a:solidFill>
                  <a:srgbClr val="00c8c3"/>
                </a:solidFill>
                <a:latin typeface="Verdana"/>
              </a:rPr>
              <a:t> SA node fails to depolarize and no compensatory mechanisms take over</a:t>
            </a:r>
            <a:endParaRPr b="0" lang="en-US" sz="24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Verdana"/>
              </a:rPr>
              <a:t>Sinus arrest is usually a transient pause in sinus node activity</a:t>
            </a:r>
            <a:endParaRPr b="0" lang="en-US" sz="24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772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3D6-084B-4BF9-A9DD-3DB7D7549EBC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remature Beat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Premature Atrial Contractions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i="1" lang="en-US" sz="3300" spc="-1" strike="noStrike">
                <a:solidFill>
                  <a:srgbClr val="00c8c3"/>
                </a:solidFill>
                <a:latin typeface="Verdana"/>
              </a:rPr>
              <a:t>(PACs)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Premature Ventricular Contractions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i="1" lang="en-US" sz="3300" spc="-1" strike="noStrike">
                <a:solidFill>
                  <a:srgbClr val="00c8c3"/>
                </a:solidFill>
                <a:latin typeface="Verdana"/>
              </a:rPr>
              <a:t>(PVCs)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D332-2AE0-4116-9787-CEE1196580C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2" descr="pac-m2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947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3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7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ccasionally irr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5257800" y="3962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/7 different conto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 (except 2/7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358128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NSR with Premature Atrial Contrac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739152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190512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25E-BE93-4A89-85BE-A9CB3A462FFA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Picture 2" descr="conduction system best copy"/>
          <p:cNvPicPr/>
          <p:nvPr/>
        </p:nvPicPr>
        <p:blipFill>
          <a:blip r:embed="rId1"/>
          <a:stretch/>
        </p:blipFill>
        <p:spPr>
          <a:xfrm>
            <a:off x="4114800" y="205740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Normal Impulse Conduc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Sinoatrial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AV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of Hi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Branche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urkinje fiber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43828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43828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149-4DC2-4EAA-9FDE-FE696FF44360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2" descr="pvc-m4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1266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4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6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ccasionally irre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257800" y="3962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 for 7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5257800" y="5135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 (7th w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581280" y="5821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Sinus Rhythm with 1 PV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7238880" y="1371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60D-3375-4C93-B5A3-64987DB098C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VC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Ectopic beats originate in the ventricles resulting in wide and bizarre QRS complexes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When there are more than 1 premature beats and look alike, they are called “uniform”. When they look different, they are called “multiform”.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16" name="Picture 4" descr="pvc-m4"/>
          <p:cNvPicPr/>
          <p:nvPr/>
        </p:nvPicPr>
        <p:blipFill>
          <a:blip r:embed="rId1"/>
          <a:stretch/>
        </p:blipFill>
        <p:spPr>
          <a:xfrm>
            <a:off x="1066680" y="1447920"/>
            <a:ext cx="7010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650-1C20-4482-B5D8-FD24B936F2A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Supraventricular Arrhythmia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Atrial Fibrillation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Atrial Flutte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CB1-9C83-4C4C-B7BF-60B10D0DD9C5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5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0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5257800" y="33526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rregularly ir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Atrial Fibri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15" descr="af-m3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18C-DD19-47E7-B4E5-80F51A06A9DF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78000"/>
            <a:ext cx="731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trial Fibrill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 organized atrial depolarization, so no normal P waves (impulses are not originating from the sinus node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Atrial activity is chaotic (resulting in an irregularly irregular rate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251240" y="173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5" descr="af-m3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DDD-BA19-4D95-94AE-A2376990F370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6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7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flutter w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257800" y="51354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581280" y="5821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Atrial Flu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15" descr="aflut-m3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218-1BA5-4395-87DA-CF9B651CD03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trial Flutt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No P waves. Instead flutter waves (note “sawtooth” pattern)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58" name="Picture 4" descr="aflut-m3"/>
          <p:cNvPicPr/>
          <p:nvPr/>
        </p:nvPicPr>
        <p:blipFill>
          <a:blip r:embed="rId1"/>
          <a:stretch/>
        </p:blipFill>
        <p:spPr>
          <a:xfrm>
            <a:off x="685800" y="1616040"/>
            <a:ext cx="7772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67D2-09C9-403D-9F22-6457B47AB2DD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V Nodal Blocks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1st Degree AV Block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2nd Degree AV Block, Type I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2nd Degree AV Block, Type II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ff5050"/>
                </a:solidFill>
                <a:latin typeface="Verdana"/>
              </a:rPr>
              <a:t>3rd Degree AV Block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1B7E-D444-421C-8FAA-1B6609B59A0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0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6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rm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5257800" y="5135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36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81280" y="582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1st Degree AV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6" name="Picture 15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4BE-D5DD-4615-828A-507670001B1F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1st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PR Interval</a:t>
            </a: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1" lang="en-US" sz="2900" spc="-1" strike="noStrike">
                <a:solidFill>
                  <a:srgbClr val="ff5050"/>
                </a:solidFill>
                <a:latin typeface="Verdana"/>
              </a:rPr>
              <a:t>&gt; 0.20 s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80" name="Picture 4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646-7C73-4EB2-AF98-B8F77108EFF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2" descr="Conductionand Heart"/>
          <p:cNvPicPr/>
          <p:nvPr/>
        </p:nvPicPr>
        <p:blipFill>
          <a:blip r:embed="rId1"/>
          <a:stretch/>
        </p:blipFill>
        <p:spPr>
          <a:xfrm>
            <a:off x="4772160" y="1981080"/>
            <a:ext cx="35877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Impulse Conduction &amp; the ECG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Sinoatrial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AV node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of Hi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Bundle Branche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Purkinje fibers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243828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438280" y="48769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0694-0C0F-40D1-8FE7-82B9E144A68F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1st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Prolonged conduction delay in the AV node or Bundle of His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384" name="Picture 4" descr="1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BEB5-79AF-4CDB-AC46-E8048C8DC4B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1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5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r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257800" y="3962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normal, but 4th no Q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5257800" y="5334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5257800" y="4495680"/>
            <a:ext cx="3733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engthens differ one exceed normal PR interval length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3581280" y="5821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2nd Degree AV Block, Type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5259240" y="522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CA7A-60D2-4032-BF32-E177B141E79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PR interval progressively lengthens, then the impulse is completely blocked (P wave not followed by QRS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04" name="Picture 4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B00-A043-4920-ACC3-555D21EA044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Each successive atrial impulse encounters a longer and longer delay in the AV node until one impulse (usually the 3rd or 4th) fails to make it through the AV nod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08" name="Picture 4" descr="2IAV-m1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B80B-F33C-433C-9F61-2288B29AFFB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2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4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257800" y="3962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l, 2 of 3 no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257800" y="5135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08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0.14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3581280" y="5821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2nd Degree AV Block, Type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15" descr="2IIAV-m2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D92B-9BCD-4166-84F7-9658861A7F82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2nd Degree AV Block, Type II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Occasional P waves are completely blocked (P wave not followed by QRS)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27" name="Picture 4" descr="2IIAV-m2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F6D-89B0-4763-9A98-4A17F1C4931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9" name="Picture 2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hythm #13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5780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40 bp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85800" y="2743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685800" y="3306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57800" y="3352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257800" y="39625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 relation to Q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257800" y="5135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ide (&gt; 0.12 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685800" y="3886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wav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8580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 interva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525780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68580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RS dur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68580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3581280" y="58212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3rd Degree AV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Line 16"/>
          <p:cNvSpPr/>
          <p:nvPr/>
        </p:nvSpPr>
        <p:spPr>
          <a:xfrm flipV="1">
            <a:off x="2286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Line 17"/>
          <p:cNvSpPr/>
          <p:nvPr/>
        </p:nvSpPr>
        <p:spPr>
          <a:xfrm flipV="1">
            <a:off x="5638680" y="2362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Line 18"/>
          <p:cNvSpPr/>
          <p:nvPr/>
        </p:nvSpPr>
        <p:spPr>
          <a:xfrm flipV="1">
            <a:off x="64771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Line 19"/>
          <p:cNvSpPr/>
          <p:nvPr/>
        </p:nvSpPr>
        <p:spPr>
          <a:xfrm flipV="1">
            <a:off x="73152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Line 20"/>
          <p:cNvSpPr/>
          <p:nvPr/>
        </p:nvSpPr>
        <p:spPr>
          <a:xfrm flipV="1">
            <a:off x="815328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Line 21"/>
          <p:cNvSpPr/>
          <p:nvPr/>
        </p:nvSpPr>
        <p:spPr>
          <a:xfrm flipV="1">
            <a:off x="48006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Line 22"/>
          <p:cNvSpPr/>
          <p:nvPr/>
        </p:nvSpPr>
        <p:spPr>
          <a:xfrm flipV="1">
            <a:off x="38862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Line 23"/>
          <p:cNvSpPr/>
          <p:nvPr/>
        </p:nvSpPr>
        <p:spPr>
          <a:xfrm flipV="1">
            <a:off x="30481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Line 24"/>
          <p:cNvSpPr/>
          <p:nvPr/>
        </p:nvSpPr>
        <p:spPr>
          <a:xfrm flipV="1">
            <a:off x="144792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7F61-884E-4834-9F62-09550E42A7FE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3rd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5050"/>
                </a:solidFill>
                <a:latin typeface="Verdana"/>
              </a:rPr>
              <a:t>Deviation from NSR</a:t>
            </a:r>
            <a:endParaRPr b="0" lang="en-US" sz="33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e P waves are completely blocked in the AV junction; QRS complexes originate independently from below the junction.</a:t>
            </a:r>
            <a:endParaRPr b="1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55" name="Picture 4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CDB-3A7C-4D69-B033-615637B338D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3rd Degree AV Block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5050"/>
                </a:solidFill>
                <a:latin typeface="Verdana"/>
              </a:rPr>
              <a:t>Etiology:</a:t>
            </a: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 There is complete block of conduction in the AV junction, so the atria and ventricles form impulses independently of each other. 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c8c3"/>
                </a:solidFill>
                <a:latin typeface="Verdana"/>
              </a:rPr>
              <a:t>Without impulses from the atria, the ventricles own intrinsic pacemaker kicks in at around 30 - 45 beats/minute.</a:t>
            </a: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59" name="Picture 4" descr="3AV-m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40E3-69C4-4053-B96C-6231D8BBF86B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When an impulse originates in a ventricle, conduction through the ventricles will be inefficient and the QRS will be wide and bizarr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63" name="Picture 4" descr="3AV-m2"/>
          <p:cNvPicPr/>
          <p:nvPr/>
        </p:nvPicPr>
        <p:blipFill>
          <a:blip r:embed="rId1"/>
          <a:stretch/>
        </p:blipFill>
        <p:spPr>
          <a:xfrm>
            <a:off x="685800" y="3719520"/>
            <a:ext cx="7772400" cy="1081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pvc-mf3-m6"/>
          <p:cNvPicPr/>
          <p:nvPr/>
        </p:nvPicPr>
        <p:blipFill>
          <a:blip r:embed="rId2"/>
          <a:stretch/>
        </p:blipFill>
        <p:spPr>
          <a:xfrm>
            <a:off x="685800" y="4952880"/>
            <a:ext cx="7772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05C0-1E82-4511-AA1E-09FB20DAF6F5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“PQRST”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33560" y="23619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P wave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- Atrial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                                       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 depolarization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052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21" name="Picture 4" descr="Conductionand Heart"/>
          <p:cNvPicPr/>
          <p:nvPr/>
        </p:nvPicPr>
        <p:blipFill>
          <a:blip r:embed="rId1"/>
          <a:stretch/>
        </p:blipFill>
        <p:spPr>
          <a:xfrm>
            <a:off x="1382760" y="2208240"/>
            <a:ext cx="263988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733920" y="49528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T w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ccaf0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Ventricular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repolar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11480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Q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ccaf0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Ventricular 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c8c3"/>
                </a:solidFill>
                <a:latin typeface="Arial"/>
              </a:rPr>
              <a:t>      depolar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3988-1335-4265-9CCE-D509872386A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Ventricular Fibrillation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hythm:  irregular-coarse or fine,  wave form varies in size and shape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Fires continuously from multiple foci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No organized electrical activity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No cardiac output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Causes:  MI, ischemia, untreated VT, underlying CAD, acid base imbalance, electrolyte imbalance, hypothermia, 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68" name="Picture 5" descr="figure 41"/>
          <p:cNvPicPr/>
          <p:nvPr/>
        </p:nvPicPr>
        <p:blipFill>
          <a:blip r:embed="rId1"/>
          <a:srcRect l="0" t="14110" r="0" b="0"/>
          <a:stretch/>
        </p:blipFill>
        <p:spPr>
          <a:xfrm>
            <a:off x="685800" y="4191120"/>
            <a:ext cx="7924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CF4-A9FF-497C-98C8-C0E3CB43E46F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Ventricular Tachycardia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Ventricular cells fire continuously due to a looping re-entrant circuit 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Rate usually regular, 100 - 250 bpm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P wave: may be absent, inverted or retrograde 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QRS:  complexes bizarre, &gt; .12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8c3"/>
                </a:solidFill>
                <a:latin typeface="Verdana"/>
              </a:rPr>
              <a:t>Rhythm:  usually regular</a:t>
            </a: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72" name="Picture 8" descr="MonomorphicVTach.jpg"/>
          <p:cNvPicPr/>
          <p:nvPr/>
        </p:nvPicPr>
        <p:blipFill>
          <a:blip r:embed="rId1"/>
          <a:stretch/>
        </p:blipFill>
        <p:spPr>
          <a:xfrm>
            <a:off x="762120" y="3657600"/>
            <a:ext cx="7848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D838-2FDC-42E4-B83C-1859C0165A9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Asystole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Ventricular standstill, no electrical activity, no cardiac output – no pulse!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Cardiac arrest, may follow VF or PEA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emember!  No defibrillation with Asystole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8c3"/>
                </a:solidFill>
                <a:latin typeface="Verdana"/>
              </a:rPr>
              <a:t>Rate:  absent due to absence of ventricular activity.  Occasional P wave may be identified.  </a:t>
            </a: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476" name="Picture 2" descr="http://t1.gstatic.com/images?q=tbn:ANd9GcTcGNluFb8CZ18YSZGUeZaSSrpBest8aVXSvq8jQ5jSTF-5P8n1uw"/>
          <p:cNvPicPr/>
          <p:nvPr/>
        </p:nvPicPr>
        <p:blipFill>
          <a:blip r:embed="rId1"/>
          <a:stretch/>
        </p:blipFill>
        <p:spPr>
          <a:xfrm>
            <a:off x="990720" y="4267080"/>
            <a:ext cx="723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CB2-6D30-4134-BD08-4EE36E3FC2A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Pacemakers of the Heart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3120" y="167652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SA Nod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Dominant pacemaker with an intrinsic rate of 60 - 100 beats/ minu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AV Node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Back-up pacemaker with an intrinsic rate of 40 - 60 beats/minu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Ventricular cells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- Back-up pacemaker with an intrinsic rate of 20 - 45 bpm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F26-591A-4EFD-BEB7-57A90CA04C73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2" descr="nsr-m3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91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ECG Paper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Horizontally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small box - 0.04 s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large box - 0.20 s 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Vertically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ccaf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c8c3"/>
                </a:solidFill>
                <a:latin typeface="Verdana"/>
              </a:rPr>
              <a:t>One large box - 0.5 mV</a:t>
            </a:r>
            <a:endParaRPr b="1" lang="en-US" sz="2500" spc="-1" strike="noStrike">
              <a:solidFill>
                <a:srgbClr val="00c8c3"/>
              </a:solidFill>
              <a:latin typeface="Verdana"/>
            </a:endParaRPr>
          </a:p>
        </p:txBody>
      </p:sp>
      <p:pic>
        <p:nvPicPr>
          <p:cNvPr id="131" name="Picture 5" descr="EKGGraph"/>
          <p:cNvPicPr/>
          <p:nvPr/>
        </p:nvPicPr>
        <p:blipFill>
          <a:blip r:embed="rId2"/>
          <a:stretch/>
        </p:blipFill>
        <p:spPr>
          <a:xfrm>
            <a:off x="5067360" y="2438280"/>
            <a:ext cx="3771720" cy="288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800600" y="55627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DEF-AF26-4877-ABB6-940943D252B9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2d0"/>
                </a:solidFill>
                <a:latin typeface="Arial"/>
              </a:rPr>
              <a:t>The ECG Paper (cont)</a:t>
            </a:r>
            <a:endParaRPr b="0" lang="en-US" sz="36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3124080"/>
            <a:ext cx="7313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Every 3 seconds (15 large boxes) is marked by a vertical lin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d4d2d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This helps when calculating the heart rate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Verdana"/>
              </a:rPr>
              <a:t>NOTE:</a:t>
            </a:r>
            <a:r>
              <a:rPr b="0" lang="en-US" sz="2900" spc="-1" strike="noStrike">
                <a:solidFill>
                  <a:srgbClr val="00c8c3"/>
                </a:solidFill>
                <a:latin typeface="Verdana"/>
              </a:rPr>
              <a:t> the following strips are not marked but all are 6 seconds long.</a:t>
            </a: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c8c3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6858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45720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8458200" y="16002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8380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4724280" y="1752480"/>
            <a:ext cx="35053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33720" y="1447920"/>
            <a:ext cx="990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019920" y="1447920"/>
            <a:ext cx="990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5050"/>
                </a:solidFill>
                <a:latin typeface="Times New Roman"/>
              </a:rPr>
              <a:t>3 sec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11" descr="nsr-m3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2d0"/>
                </a:solidFill>
                <a:latin typeface="Arial"/>
              </a:rPr>
              <a:t>ECG Rhythm Interpretation</a:t>
            </a:r>
            <a:endParaRPr b="0" lang="en-US" sz="4000" spc="-1" strike="noStrike">
              <a:solidFill>
                <a:srgbClr val="d4d2d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c8c3"/>
                </a:solidFill>
                <a:latin typeface="Verdana"/>
              </a:rPr>
              <a:t>Really Very Easy</a:t>
            </a:r>
            <a:br>
              <a:rPr sz="3700"/>
            </a:br>
            <a:r>
              <a:rPr b="0" lang="en-US" sz="3700" spc="-1" strike="noStrike">
                <a:solidFill>
                  <a:srgbClr val="ff5050"/>
                </a:solidFill>
                <a:latin typeface="Verdana"/>
              </a:rPr>
              <a:t>How to Analyze a Rhythm</a:t>
            </a:r>
            <a:endParaRPr b="0" lang="en-US" sz="3700" spc="-1" strike="noStrike">
              <a:solidFill>
                <a:srgbClr val="00c8c3"/>
              </a:solidFill>
              <a:latin typeface="Verdan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c8c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32:25Z</dcterms:created>
  <dc:creator>Mandyam Tirumalachar</dc:creator>
  <dc:description/>
  <dc:language>en-US</dc:language>
  <cp:lastModifiedBy>Nasima Yahya Awaji</cp:lastModifiedBy>
  <dcterms:modified xsi:type="dcterms:W3CDTF">2017-02-08T06:11:03Z</dcterms:modified>
  <cp:revision>21</cp:revision>
  <dc:subject/>
  <dc:title>ECG interpre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