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1386-BFCD-4BE5-980A-DF91CD6A19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36A6-BA6F-435E-962A-9276CB8356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0BB-0849-4EB0-9F3F-713D2C90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DB7-438E-4454-90F4-74B63BF6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F7180-0BD8-43C9-99AC-9C8413E6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71F53-5BB8-4176-8749-FE64C919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33599-A4CD-4613-A976-6B1BE596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A0683-CC4B-43D9-843D-D1578EFF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D9EAF-0E57-4AA4-9578-D56D026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44237-6196-482A-84D8-E44A99BF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DDF83-7D57-4F00-A673-21858947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994B1-675F-4464-8282-82111A45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B980D-D4AC-4A8D-9E0F-485B2A67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9C8FB-FBD5-48CD-BEA1-BAFC9B23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547-1BA7-43F5-BA6E-2E24708B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80C42-5A3B-43D6-B85A-9750AAE5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92AAA-9C2F-4634-822D-BD31A649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5F3DE-EE00-41BE-BCAF-EA10E90D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7C14C-D76B-454B-B1AA-DCC945C0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6DC7A-B238-4EDC-BD3E-737ED6A4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706C7-B923-4E5C-B9B7-FFB399B4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38974-810E-4E32-9419-B7592FE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418EE-663C-4ABF-A268-6FAD130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16F90-82E1-46B8-93F6-B816F3AC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4C739-E734-4E3D-A043-A086ADED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A3F-1B5A-4CA4-A1DC-A16B3932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90400-3FA1-42F6-BAAB-775822D0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5BF44-59B1-437D-92F4-A00F3EF8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988DA-CFCB-4DCE-8C63-8864A364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F253A-9A0D-4024-894B-729809B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645DB-A91C-4532-B420-0708BF35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8DA06-7F04-4645-9C7F-208843C8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F99AE-C5D2-4F36-9E3A-C360B91B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42BD8-09AA-4A7B-8FFE-1F1C4EF3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E6268-0C77-48BA-9465-C5C2BF35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32E06-138A-406E-B4FE-A85A920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C9AE-27B5-4859-BE61-C4DA3C3D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B78B1-2291-4B48-8E11-C435C4E0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D4C07-1AD3-4A97-89A6-6F0CE352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36BD6-469C-4785-8DD9-86505754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F2EB7-348C-41FD-A75E-2A3C5398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60CE0-1A68-4691-8FB8-A6FBE0A2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F9BDA-7817-4833-83FB-5ACCBBD5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E72DB-4401-4288-9741-928DB155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6A105-5DF3-4532-8829-C92EDF44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41A1E-203D-472A-ADBD-9859B8AE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327AE-E672-4827-8C56-B3A33578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A421-C166-4417-8540-7B89D354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262E0-48EC-451C-8F73-E8DEA98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12043-13DB-4161-9A29-5DD8CFE8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C7497-646D-4EDE-88EF-AC21FC11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D4783-2F82-4109-87ED-9B26DA86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D921F-CF84-47CA-8D84-B7686094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890CC-C2A0-46B1-B0F6-28156620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C0706-38A5-4337-9654-74A9346A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87249-4D26-4A78-88F9-719E9E50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5EFC0-940B-4A63-B2F6-AC36978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0E1B8-3E00-490F-ABEE-731F1F03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D8A5-C3A0-4516-96A9-F37D2AA4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0ACF4-E30B-4139-AC6D-AC824B72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F3F0D-DD34-4DC3-9205-EBD5F4E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6AFDF-737D-45E3-9422-B40D721D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18E0D-056F-498A-B8B9-86C3D70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51341-9A6F-4906-A3C8-20C5D02B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1E0B7-D9CC-4996-8BA4-7DCB8AE7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6ACCD-F30F-47F9-B470-F96EA2B4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421E1-0A54-431A-83A6-128C1BC3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7CBB7-FEAB-4899-B8CE-40D1EC1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329D7-79E3-43C4-9EEF-481744A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B497-766B-4236-841F-2CC07B22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6FBC8-C034-4FFD-9E8F-6786BBC1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B49D8-6019-4B8A-B523-9708146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2BC99-2A0C-479E-9A02-AA5E8140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3267D-3244-4F47-BB38-EA939724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FDF85-0374-49E7-8CF1-9495C3CC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A8D72-2734-4311-8B32-FC1CAAA8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D07AF-C5F5-476A-AF5D-72823100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145D4-9678-43A4-8C94-6BBF07E2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4519F-55B1-4EE2-805A-8836A72C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C4422-2A83-4348-AA15-EF3C7402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839F-3AF5-44F1-AA9D-1F113EDF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C5E2A-50B5-4186-BB6D-37E59DD5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3AD7E-B9C2-48D0-A071-9B778F19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D1E69-AF56-4E9C-B8F4-736A65AA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8B363-2A04-428D-8E97-29566982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5B208-0A2C-4265-843C-C1844F55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E4162-4924-4121-9AB1-5910060A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ADE9B-5978-4B71-BF17-CBCF4276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9FAEF-3EAE-4EF5-827B-FD3C8B36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BFE17-3D1D-44F0-B468-73180DA4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E0FB0-B65F-42EB-A0EB-F57C9734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523E-84F6-41A8-8D0D-6D80564B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BFB0A-ADE3-42A1-9AEC-2F6D16FE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2534A-E999-4F0B-AFD5-2A996643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0A85E-7F88-4D19-85E8-818AC0BE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747FD-D3CF-4A3C-996E-2F248D4E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CB364-391A-4620-AC97-AD41A880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22552-D702-465B-8FA2-DEF4FCC7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4A5A3-140D-48AC-A628-31CA8E01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35F25-4937-4272-BF36-086532F3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B776F-DEED-47D5-89BA-2B7E9346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7555B-B999-45B5-B898-C6E21C1D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2655-8CCC-40D8-8A1F-68600B25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C19656-6AD9-46CF-B9D5-C9858E7B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D0FE9-CB97-48A6-BF1B-0E289BD7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8B9E7-0464-4B47-9A7F-B7C42632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473-5B0D-4D22-B409-695E84DF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A744-71C0-4576-99CF-4570ED36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055D-40D5-44AC-9883-1F23C05D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3C2F-E9F3-424A-A6B7-056897DA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9A9C-30D6-4641-AD10-98081C59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5962-733E-4034-8473-8DAA85CF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F807-405C-49B2-840C-1287DCDA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2B22-C371-4D1F-8196-2AE70DA1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A5CF-5EB5-4D45-8023-C0E66F1A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0CAE-2048-4971-A098-614B4208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B2F9-2228-42E9-B171-3957B362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DB5-9CDF-4A53-B23A-1ED2F373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593F7-028B-4ECE-88B9-26EF0E07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EC06-BE96-47A7-BDA7-9251650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4192-3401-44EB-BF8C-4DA25D4C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F9CA-E1E9-4B22-B018-A5654604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913A-DACD-468C-9ABE-3C7B3BF4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2856-DB3C-48CF-9679-40B34EB8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3234-8E44-4382-9CAC-30E52F51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935B-968F-4C1F-AD8D-74F5FBEC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71AF8-A353-4019-A5C9-513C6472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6F001-CB49-4D26-8916-13590120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BB4-ACA4-4C8B-A1E1-635D0913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65A7-5D01-4B49-8488-10D14B47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6008-17EC-451A-86DC-2B2E62FB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A0EE-AD8D-4DC1-9F0B-AF3280CC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A858F-9D7D-4213-9B2F-9E209A8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1BF8-3136-4A86-A00F-F4D7120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CB8E-1FD2-489E-A9AA-583AE27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30AD-65C4-4609-B100-B196F7A3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4092-04D3-4BFC-AFF1-DF80FE60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8A25-AC1B-49FD-8582-6E8842F7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E31E8-3874-40ED-8D7E-9D4E9FFA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1D7-742A-4E66-9B81-12EAB48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5FBDD-45B6-416B-BDB4-D1F6C20F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70D7-E802-47F0-B0AA-E6F8C3FC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057B5-A58E-4033-997C-38B7330C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1208-D0D4-4182-9053-69BA535B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CE32F-BE77-4DEC-A8AA-9D4796B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A4F6-EE94-4226-B3A6-5EBDAD73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ADEBB-2E29-4A35-8E03-877429E1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08D7-2F3A-4DEC-9558-F338FF67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39440-F793-43B4-826F-25291DC6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E0B59-C712-4AFE-BAC9-DE3798F6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4E8-A3E3-4240-BF3D-BEAF724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E59F-7748-4DB7-A15A-105016C8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A3D17-D031-4E20-8814-53120382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D7674-E7FC-4B7F-A1DD-A1492DE2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4A149-E1B7-4376-BA4A-D1DAB8FB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60F0-5003-4B04-8EB7-3C8B54B7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C49BD-6D7E-47CA-B513-49D4BA15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76A49-A8A6-434C-89F6-44B8A91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8F8D7-3422-480C-A1AA-C7C635BD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ACD42-2356-452F-B8A5-176E43B5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383AB-FF35-44BD-BBF0-2AFC1980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C84-0EC3-497D-B3CD-624766A5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60E35-8511-406F-B0E8-A82D04AF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E5861-D4B3-4642-AA72-1FCB3776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8EA4F-46DB-4883-8937-8C02BFAA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C0201-27B8-42D5-8693-039333DC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90858-27F6-4D85-AC68-818BA07A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394FB-FCB2-486A-9C7E-2FF1B9A4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AA559-C096-48EF-9039-62EFC161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92E11-0031-42EC-9210-EE33CF62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E2DC-FF51-49E7-BE79-9B222B0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B95B3-45CF-40DB-A124-45F7D73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683-1D44-4A34-9F43-60F25733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08988-CF06-4316-8D62-788BAB92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85B4-D540-4DFE-8769-68C2024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0B9E9-9ECF-4F0B-9064-4495C653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E9A17-6464-4ABF-853E-EB31F50F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3EAA2-D34B-42CB-BCEE-5015BC48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7ED54-1D01-4E27-9E97-664FC738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D868-4BE2-44A6-8881-B8C23ADA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2A8A5-C356-4141-8876-8215896B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5C7DA-77D0-434B-A7EB-0247BAC2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67972-92F8-4B3C-A0DA-2CB63D79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B12-1CE9-4586-B571-CCBD8D2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8E4B3-124A-46B8-84AE-2717474A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21CA9-55A6-4268-80EA-BDC7312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68ED6-B443-42E0-9A32-A2D96A8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FA346-2863-4021-814C-E96D6CFF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F06CF-4E0E-4767-BAA5-A57EC36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E49FC-B145-48B1-A016-088E2463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A7547-D8F1-49FE-B45D-45E2FBAA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08928-A915-491B-879B-891AA15F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9CD46-D795-4788-BC40-9E141B25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DE2EB-89ED-4CD8-9457-83330866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97C-F228-473A-B41B-B5C52F4E119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3BE1-2C4C-41D1-9312-C94D9319D21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9A4F-485B-4A35-9DD7-EEA9D06727B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928-608D-407B-98A6-ECEF64BB622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9D39-9106-4433-96FE-BEEA4E9481D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3B30-9542-4075-A78D-F1FE291F67A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BB18-E6C3-44A8-8978-304C9DE15D0C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813D-E92E-4108-B04D-7C5B7497D1C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BF25-DBEB-4A22-BCD2-5F2ABD096BA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28CA-5D19-421C-B07E-1A9BB33AD4A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B178-7414-497E-8806-A0850784D42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E83D-E778-46DB-AB63-CD4536A238A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6E4C-9F57-42D8-B478-32E44CE22A7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5AB3-0BD8-4D5F-96C5-AFA42948B8E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DB2C-F046-4676-8FF4-FA5B6232CE3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6002-B4F9-4B93-A11E-6EBE15910FA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19E1-7132-4613-8698-0C9C6537710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10:27Z</dcterms:modified>
  <cp:revision>271</cp:revision>
  <dc:subject/>
  <dc:title>The Cell Organelles</dc:title>
</cp:coreProperties>
</file>