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EEE9-F825-4AF0-B288-BC665BEB7A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948-81BA-4530-949B-3679DFD23D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803-9791-49D6-B50D-223DFC3F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B2E-4E14-4459-9E48-856A9AE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3E08-389E-4657-9004-B5C4367E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69B7E-C38D-4CA2-897C-ABB3884C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B4C3F-26C3-4376-85B9-9091E0D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80BA-31AB-4F86-A144-BC01765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F1E16-DF8E-4D8D-95E2-BF4B6CB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A6EC-DF22-4616-8C3D-3B9582B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E93B-1772-4CB2-A675-9D2A48F2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7A57-14C9-46D8-ACF2-660B5749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0CE4-9654-4652-8EAC-0A3C7216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175A-3F09-4E15-8C8A-95B9A04F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5FA-AD11-4B97-92B1-39392233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C7DE-1B5F-49D1-A205-7EC6DE95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094A4-C725-4D01-AADE-A66B12D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ECB9-B749-41A2-9E3B-7C2A44E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83254-6E39-4E12-99F4-021823D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8F19C-B629-4F2B-A1CC-BF5D8D2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653DB-129B-44BE-A23D-5B21DC1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11139-18A6-459F-A2B9-AE4A673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C1AC8-BE25-468D-B22F-82556A2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A2349-3301-4776-BD55-AC643B1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5AB60-8496-4492-9E72-37AE3D8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73D-BBC1-44B0-9E59-0FA31EDE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006CC-95B4-4B20-B639-72CEF0A9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6AF1C-98B7-49DB-9068-2610DD75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9A1D7-97EF-4131-A5EC-ECA71220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4577F-7C2F-49B8-BEC5-5D0F9C4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BA2CD-F839-470E-9B3C-28FD3407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85A7-DAFF-45B4-8029-A2C3139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316BA-548C-491D-AD13-2AC8950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FFEF4-DAB4-46BA-A549-71A2BDB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B87B7-999E-4BA0-AC75-4585838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026FA-629E-46F9-968C-30F5838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BF88-A249-4D1E-96A6-F3E49B2A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5AEF3-7F36-483E-92FA-B2C7AA5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8CB30-3507-496E-9215-377C6527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71EC6-8627-4F6C-ACC7-AAC70137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2AE9A-79F8-4068-B3BC-6F7BC1EC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4D359-821B-43CF-9599-F40CF22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D54F0-DD07-492B-BE69-186816D8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CB33C-77C5-4CF2-8E9D-3E9DA90B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69DD7-9490-414A-A1F3-E61F69C1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7CB68-4C53-41BD-B425-BE3C5FD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A7605-55D2-49FC-BFBE-0A6212E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081C-4B45-4B7B-91D2-A71A8C57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3D0E3-CD37-4CC9-9290-F05D9D5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368EC-1FF7-4C69-A63D-C42688A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D4C65-5D85-4E81-8191-6E05437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C2F29-CEA0-4944-8DB5-E9E44FC5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07105-D0EA-4294-B212-467E202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DB300-642E-40BC-AC4B-95D8C6A1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B67E0-C46D-4820-8DAF-16747B8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FE556-BDA1-4F6A-865D-A6E6E0D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64A10-1D51-44EA-B1E3-6A1B751E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333B0-E2C1-4419-B2D6-BCFC7B4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940-FAF1-4927-854B-432186E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A9B2C-8416-4A9A-B00C-B48F3C61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4EF71-86B7-4B67-96A5-8D15466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4F19D-883A-4084-98EB-A063F83D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A9DBF-74C8-473B-B4E4-8D451DA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02F18-8D80-4C9A-9332-CCF8B86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7A853-922E-4F3B-843A-5A0AD93F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173B8-1B43-4567-9741-E5DDBE62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B023C-D57B-4C0E-AF1C-9B139CE9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713E8-41A5-4C25-A227-C79587CC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C88C6-450F-4813-AAF7-3FF725AA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1FF-05D0-46A4-9C75-AB8D25D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B2708-1DA6-4870-8206-04DC515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B77CD-2D2F-4BC0-86E8-C8144FE8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B00DE-B3AE-4D6E-A85B-F0B7086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87F0C-4ED4-475E-AA24-B0926B0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627EF-45C6-4921-A5AF-9C0A593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AB2BD-FEE9-4D1D-A4D3-774E240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F61DE-0FE0-493E-B1F6-3F485E8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BB20F-DBF5-4B48-A1A1-95A134CB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D3C3B-8227-46F6-AE2A-CB69681D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3141F-B2E3-4A29-A6BB-E3009FFE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03E8-4992-473A-BC89-EB158165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E0B1D-C3A5-4C49-9DD0-0ED3409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14316-684D-4DC1-95B5-0E18D5E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357C7-E1CF-4726-AA5A-62886DF6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C0132-2ACD-42A8-8469-1669E71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048D7-687B-4C08-BFE5-9E0E0E56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67396-309D-4FAC-8455-AEEA328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D636C-8FD6-4C29-BD19-CC36EAE9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678F4-1E5C-4E5D-8657-BE1EAC0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F17FC-3AAC-464C-A9DB-751614C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250F4-F3A5-4D39-9F95-69107826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61A-0B8F-4B5C-BBB1-21555B2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9F44E-84F5-49C8-AF85-2D2687BB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A3DFF-C556-4A36-AB33-155E9929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981F8-C615-4BF5-BC95-1378A17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D51A2-72B6-4116-845B-F557986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94A6A-A569-43BE-B2E0-39C1654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B45F7-576E-4A98-A858-038A9A0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C081F-F3BE-4AC8-93E0-64B1994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119B6-8B23-423B-9C33-41DECD8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D37F4-6EEF-4E17-8266-86D8F5E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97499A-475C-4B50-8C32-FA6BD9B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6955-EF48-410A-B77F-127D42A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FF0C5-7CC2-4B29-9F04-2764B48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AA516-6762-4B7A-946B-AFB116B7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06CD0-3BFC-4AA5-B4D5-324E51E2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7F7-4793-4F80-A8EE-D72266E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2A9-CAB2-4DED-BD10-0257BE1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6F0-709D-4621-9CC7-B7C7160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56A8-C0DB-4369-BA2D-D76A0AA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5DF-7558-4CF4-BD30-0CA500D0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D40-6CDF-417E-8496-1D488AA8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C622-0B16-4D3B-96D6-68A91E3F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4377-EB7A-4D71-A3DA-1B9A6C0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828D-C2E7-4DB0-8B88-E6D3FF3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852D-8FFC-4464-B003-AC8536F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8704-EDD9-41C1-884F-E4AC584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4B8-B571-48BB-89F3-FEA4426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3CD7-F45F-47B9-A897-5FCF8247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59BC-F95C-4614-B1A0-BF4E9957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7C6D-2ACE-48C2-8693-BDFFABF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4D99-C3DD-45B5-B8A9-02B7DDF6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C8C8-ECE1-462A-9DD6-AFC5425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3047-EAC3-435B-A48B-4C128B2D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D334-8F83-48AB-A77D-1EEF5CAE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C7A6-A2E1-48BB-933C-351F2A4D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D7BA-95DD-4D65-852B-0FD7D776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9DCB-2DF6-44EB-B0BE-5368FFD5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B76-3F54-483D-964A-91DD1E18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033B-58D4-4E06-914E-789F89B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981F-E1ED-4EDD-BE4B-3EFA8A6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31AE-21B7-458D-B4D5-6A2A6AD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D493-C736-4177-B468-FE6D7CC9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F0D02-2F9E-49CC-AD18-BD4BBFBD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FBD1-0CB1-46F9-ACDD-B6CB1B8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44F5-57ED-49F2-B944-57408927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7E8B-9148-44C0-8FF5-54EA74E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0BCD-6B7C-4CED-81D7-81537FDF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76BA-D011-4AD6-A53F-7E09576B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1BB-7886-4611-95E8-5B1819EC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F8BB-4B9A-41B1-8201-DBE7786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E390-9BD5-48D4-B41C-3995F4E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3318-1273-4F15-82F1-588F3D7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EE20-6250-4831-B57F-74ED13A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BFD7-5B30-4C5D-9283-496B1E36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F669-56E6-41B6-AA35-F01BB3D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EACB-A904-47CB-9F48-9CEC6C9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5947-D5BC-4030-BBD4-F2DE274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B1B1-46DC-4478-9CEC-5EE932D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E2CA-4804-4EF6-8C90-6C82535E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D06-839C-46C5-9CBE-5E5838E4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1119B-275F-435E-9916-8887A99B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6724-322D-483F-AB4C-569B2C9F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B214-880F-401C-9BC8-6F5569C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05FC-8F31-4676-BB0C-EF64E90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44E2F-6C98-4D49-A05A-5189F29E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3A5F-4A69-4BF7-9F90-392A58D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3EDD-B867-4F46-BF53-28323349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D31C4-39A6-4052-83E6-AC4BAF3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4AAB-BF1B-4CF3-BD8D-F899DE9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59E4-05E1-4B95-A999-DACA46E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D8C-3882-4E3D-A3E2-823D61D8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C992D-7188-4CDF-89D6-E16CF10F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FC670-9400-47D3-B9DD-4C58E259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A55AA-B497-4CF9-8262-A0DFD4BE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7531-CBD0-4EF5-925B-39A2E46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AEC3-4AC3-478D-96D7-EDCBD45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77FB-2AB9-4459-B6F3-529AA7D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3E13C-EA8A-4A2C-8BD6-A75E7A38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AC593-4F30-4260-BAF5-C44A83C8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CBE63-C6E5-4A6B-BF2A-32F7CF9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4E66-77DC-4C39-8D2B-71A2FA6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D1C-F1FE-4AFE-A776-6AED410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86E4-F44E-45C8-B56F-43C04AB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F585-6F13-42E4-BA2E-67C1D31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102A-1A5D-4952-8482-D4A5A127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B586-87F0-4B31-8D9B-55502F7F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6831-3201-4246-9D1E-01EAFEBA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6986-9B25-498E-8CBF-4966735D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709D-2AB5-42B5-87BF-F006386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3266-1037-4D68-8E5B-8F31B1A8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0AAC2-706D-423C-B500-0151D7A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E004-58B9-40BB-9EA2-846F5BCD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A84-A53A-493F-BD55-4FD110B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83ADC-5B13-4A1A-B603-B1BDE730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F3F23-22E9-4EED-A92C-591E5B9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E897D-5315-489F-874D-630F93BA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D8815-099E-452E-9E73-F5F271C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4BEF-4AD6-42D5-A27B-39E02FA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04414-E7BF-40B3-B113-2C4D753E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F01DC-FF63-4E63-AE87-4146270B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9C08-5B18-4FB4-A325-42995FAC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6019B-9139-4C49-B175-B713108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18AA-5C34-4426-9399-783B54BF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7DAD-C062-421A-A2E4-6CCB6FA4A91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CDB-73BD-44DF-93D4-D1FC4626AAC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48A-7021-4F7D-B185-3FDBB048980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28EC-41E0-41F2-B392-82C77C18438E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02F4-68A5-436F-B279-0DE5742D6E2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206-6780-4E71-A74F-BD4965E4E3F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D46-D4E4-402B-8B2B-FF9DB001C34F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BEC-9EF7-4F6C-AEDF-694A11DD6C69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AA8-68CD-4B67-8953-6EFADC61C13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B4B9-EE81-43C5-A876-B34FBC6400D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257-0EC4-4D63-A665-BE002A6603A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FC9-FEEA-496F-98F0-ECC4FAEE73C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51D-A7C4-4ACE-8730-8591480143A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C3FC-A3A3-4535-A237-12B48E0B80E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8EF2-EA45-40D9-99C8-1E806E4A772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827-1DE9-4211-90DA-047D5BFFE39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266724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 Cel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8, the German botanist Matthias Schleiden concluded that all plants were composed of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39, Theodor Schwann concluded the same thing for anim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1855, Rudolf Virchow noted that all cells come from other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he cell theory states that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all living organisms are made of one or more cel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are the basic units of structure and function,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cells come only from pre-existing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cell is the smallest unit that can carry on all of the processes of li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"/>
          <p:cNvSpPr/>
          <p:nvPr/>
        </p:nvSpPr>
        <p:spPr>
          <a:xfrm>
            <a:off x="1447920" y="22860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3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 Box 2"/>
          <p:cNvSpPr/>
          <p:nvPr/>
        </p:nvSpPr>
        <p:spPr>
          <a:xfrm>
            <a:off x="3581280" y="181116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2666880" y="838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152388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5715000" y="4297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"/>
          <p:cNvGrpSpPr/>
          <p:nvPr/>
        </p:nvGrpSpPr>
        <p:grpSpPr>
          <a:xfrm>
            <a:off x="2743200" y="2895480"/>
            <a:ext cx="3962520" cy="1401120"/>
            <a:chOff x="2743200" y="2895480"/>
            <a:chExt cx="3962520" cy="1401120"/>
          </a:xfrm>
        </p:grpSpPr>
        <p:sp>
          <p:nvSpPr>
            <p:cNvPr id="896" name="Line 7"/>
            <p:cNvSpPr/>
            <p:nvPr/>
          </p:nvSpPr>
          <p:spPr>
            <a:xfrm>
              <a:off x="4648320" y="289548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2743200" y="369612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 flipH="1">
              <a:off x="2743200" y="369612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 flipH="1">
              <a:off x="6692760" y="369612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11"/>
          <p:cNvSpPr/>
          <p:nvPr/>
        </p:nvSpPr>
        <p:spPr>
          <a:xfrm>
            <a:off x="3429000" y="1752480"/>
            <a:ext cx="251460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"/>
          <p:cNvSpPr/>
          <p:nvPr/>
        </p:nvSpPr>
        <p:spPr>
          <a:xfrm>
            <a:off x="76320" y="5410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4"/>
          <p:cNvSpPr/>
          <p:nvPr/>
        </p:nvSpPr>
        <p:spPr>
          <a:xfrm>
            <a:off x="152280" y="6126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888840"/>
            <a:ext cx="8858520" cy="58136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6"/>
          <p:cNvSpPr/>
          <p:nvPr/>
        </p:nvSpPr>
        <p:spPr>
          <a:xfrm>
            <a:off x="3886200" y="59943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685800" y="1879560"/>
            <a:ext cx="990720" cy="304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5791320" y="54608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6781680" y="507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6781680" y="46227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7162920" y="39369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838080" y="64515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733920" y="6299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457200" y="3098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8"/>
          <p:cNvSpPr/>
          <p:nvPr/>
        </p:nvSpPr>
        <p:spPr>
          <a:xfrm>
            <a:off x="533520" y="2184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9"/>
          <p:cNvSpPr/>
          <p:nvPr/>
        </p:nvSpPr>
        <p:spPr>
          <a:xfrm>
            <a:off x="1676520" y="8128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0"/>
          <p:cNvSpPr/>
          <p:nvPr/>
        </p:nvSpPr>
        <p:spPr>
          <a:xfrm>
            <a:off x="7112160" y="1384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1"/>
          <p:cNvSpPr/>
          <p:nvPr/>
        </p:nvSpPr>
        <p:spPr>
          <a:xfrm>
            <a:off x="5435640" y="7621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2"/>
          <p:cNvSpPr/>
          <p:nvPr/>
        </p:nvSpPr>
        <p:spPr>
          <a:xfrm>
            <a:off x="6400800" y="1193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3"/>
          <p:cNvSpPr/>
          <p:nvPr/>
        </p:nvSpPr>
        <p:spPr>
          <a:xfrm>
            <a:off x="5702400" y="1587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4"/>
          <p:cNvSpPr/>
          <p:nvPr/>
        </p:nvSpPr>
        <p:spPr>
          <a:xfrm>
            <a:off x="533520" y="52005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189A-3087-4593-8E14-8B2496E2953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76320" y="750960"/>
            <a:ext cx="8915400" cy="6030720"/>
          </a:xfrm>
          <a:prstGeom prst="rect">
            <a:avLst/>
          </a:prstGeom>
          <a:ln w="0">
            <a:noFill/>
          </a:ln>
        </p:spPr>
      </p:pic>
      <p:grpSp>
        <p:nvGrpSpPr>
          <p:cNvPr id="922" name="Group 10"/>
          <p:cNvGrpSpPr/>
          <p:nvPr/>
        </p:nvGrpSpPr>
        <p:grpSpPr>
          <a:xfrm>
            <a:off x="2362320" y="2935440"/>
            <a:ext cx="4685760" cy="3504960"/>
            <a:chOff x="2362320" y="2935440"/>
            <a:chExt cx="4685760" cy="3504960"/>
          </a:xfrm>
        </p:grpSpPr>
        <p:sp>
          <p:nvSpPr>
            <p:cNvPr id="923" name="Rectangle 6"/>
            <p:cNvSpPr/>
            <p:nvPr/>
          </p:nvSpPr>
          <p:spPr>
            <a:xfrm>
              <a:off x="4190760" y="61358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"/>
            <p:cNvSpPr/>
            <p:nvPr/>
          </p:nvSpPr>
          <p:spPr>
            <a:xfrm>
              <a:off x="5841720" y="5526000"/>
              <a:ext cx="11426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5600520" y="2935440"/>
              <a:ext cx="144756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9"/>
            <p:cNvSpPr/>
            <p:nvPr/>
          </p:nvSpPr>
          <p:spPr>
            <a:xfrm>
              <a:off x="2362320" y="5780160"/>
              <a:ext cx="91404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11"/>
          <p:cNvSpPr/>
          <p:nvPr/>
        </p:nvSpPr>
        <p:spPr>
          <a:xfrm>
            <a:off x="6858000" y="2884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934320" y="55134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3"/>
          <p:cNvSpPr/>
          <p:nvPr/>
        </p:nvSpPr>
        <p:spPr>
          <a:xfrm>
            <a:off x="4191120" y="6434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4"/>
          <p:cNvSpPr/>
          <p:nvPr/>
        </p:nvSpPr>
        <p:spPr>
          <a:xfrm>
            <a:off x="1066680" y="57801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Rectangle 2" descr=""/>
          <p:cNvPicPr/>
          <p:nvPr/>
        </p:nvPicPr>
        <p:blipFill>
          <a:blip r:embed="rId1"/>
          <a:stretch/>
        </p:blipFill>
        <p:spPr>
          <a:xfrm>
            <a:off x="231840" y="1884240"/>
            <a:ext cx="6431040" cy="196848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6"/>
          <p:cNvSpPr/>
          <p:nvPr/>
        </p:nvSpPr>
        <p:spPr>
          <a:xfrm>
            <a:off x="4343400" y="3809880"/>
            <a:ext cx="3429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660066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ains the cell’s genetic library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حتوى الـﭽينى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52280" y="2244240"/>
            <a:ext cx="8686800" cy="422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nstantia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04560" y="1012320"/>
            <a:ext cx="8381880" cy="55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يوط الكروماتين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the cell prepares to divide, the chromatin fibers coil up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لت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be seen as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eukaryotic species has a characteristic number of chromosome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رقم مُمَيـٍز من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but sex cells (eggs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380880" y="85248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828800" y="19191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1066680" y="359568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6172200" y="351936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3352680" y="2376360"/>
            <a:ext cx="281952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685800" y="5195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5943600" y="51195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4419720" y="1233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15228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685800" y="55767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7086600" y="3214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  <a:cs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65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151920" y="2698920"/>
            <a:ext cx="8915400" cy="51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Constantia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514600" y="201132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1).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 differ in size and complexity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6320" y="2701440"/>
            <a:ext cx="8991360" cy="54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7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2514600" y="1782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822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2438280" y="762120"/>
            <a:ext cx="5334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83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62520" y="990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  <a:ea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0880" y="725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A)-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1981080" y="5927760"/>
            <a:ext cx="6400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Fig. 7.4  The prokaryotic cell is much simpler in structure, lacking a nucleus and the other membrane-enclosed organelles of the eukaryotic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"/>
          <p:cNvSpPr/>
          <p:nvPr/>
        </p:nvSpPr>
        <p:spPr>
          <a:xfrm>
            <a:off x="4343400" y="238752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44920" y="2921040"/>
            <a:ext cx="119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3733920" y="129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شبه 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411480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ريبوز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4952880" y="3549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كبسو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3"/>
          <p:cNvSpPr/>
          <p:nvPr/>
        </p:nvSpPr>
        <p:spPr>
          <a:xfrm>
            <a:off x="762120" y="39625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سوا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AutoShape 13"/>
          <p:cNvSpPr/>
          <p:nvPr/>
        </p:nvSpPr>
        <p:spPr>
          <a:xfrm>
            <a:off x="1574640" y="30034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8"/>
          <p:cNvGrpSpPr/>
          <p:nvPr/>
        </p:nvGrpSpPr>
        <p:grpSpPr>
          <a:xfrm>
            <a:off x="1523880" y="2940120"/>
            <a:ext cx="5943600" cy="2133360"/>
            <a:chOff x="1523880" y="2940120"/>
            <a:chExt cx="5943600" cy="2133360"/>
          </a:xfrm>
        </p:grpSpPr>
        <p:sp>
          <p:nvSpPr>
            <p:cNvPr id="847" name="AutoShape 7"/>
            <p:cNvSpPr/>
            <p:nvPr/>
          </p:nvSpPr>
          <p:spPr>
            <a:xfrm>
              <a:off x="1600200" y="29401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5"/>
            <p:cNvSpPr/>
            <p:nvPr/>
          </p:nvSpPr>
          <p:spPr>
            <a:xfrm>
              <a:off x="1523880" y="31687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4"/>
          <p:cNvSpPr/>
          <p:nvPr/>
        </p:nvSpPr>
        <p:spPr>
          <a:xfrm>
            <a:off x="228600" y="797040"/>
            <a:ext cx="38098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1638360" y="32702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1739880" y="33591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10"/>
          <p:cNvSpPr/>
          <p:nvPr/>
        </p:nvSpPr>
        <p:spPr>
          <a:xfrm>
            <a:off x="1816200" y="34354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2806560" y="36734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7"/>
          <p:cNvGrpSpPr/>
          <p:nvPr/>
        </p:nvGrpSpPr>
        <p:grpSpPr>
          <a:xfrm>
            <a:off x="6934320" y="1568520"/>
            <a:ext cx="1752480" cy="1523880"/>
            <a:chOff x="6934320" y="1568520"/>
            <a:chExt cx="1752480" cy="1523880"/>
          </a:xfrm>
        </p:grpSpPr>
        <p:sp>
          <p:nvSpPr>
            <p:cNvPr id="855" name="Line 15"/>
            <p:cNvSpPr/>
            <p:nvPr/>
          </p:nvSpPr>
          <p:spPr>
            <a:xfrm flipV="1">
              <a:off x="6934320" y="21780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6"/>
            <p:cNvSpPr/>
            <p:nvPr/>
          </p:nvSpPr>
          <p:spPr>
            <a:xfrm>
              <a:off x="70102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22"/>
          <p:cNvGrpSpPr/>
          <p:nvPr/>
        </p:nvGrpSpPr>
        <p:grpSpPr>
          <a:xfrm>
            <a:off x="4952880" y="1568520"/>
            <a:ext cx="1676520" cy="1675800"/>
            <a:chOff x="4952880" y="1568520"/>
            <a:chExt cx="1676520" cy="1675800"/>
          </a:xfrm>
        </p:grpSpPr>
        <p:sp>
          <p:nvSpPr>
            <p:cNvPr id="858" name="Line 20"/>
            <p:cNvSpPr/>
            <p:nvPr/>
          </p:nvSpPr>
          <p:spPr>
            <a:xfrm flipV="1">
              <a:off x="4952880" y="21776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21"/>
            <p:cNvSpPr/>
            <p:nvPr/>
          </p:nvSpPr>
          <p:spPr>
            <a:xfrm>
              <a:off x="4952880" y="15685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5"/>
          <p:cNvGrpSpPr/>
          <p:nvPr/>
        </p:nvGrpSpPr>
        <p:grpSpPr>
          <a:xfrm>
            <a:off x="2438280" y="1568520"/>
            <a:ext cx="2057400" cy="1790280"/>
            <a:chOff x="2438280" y="1568520"/>
            <a:chExt cx="2057400" cy="1790280"/>
          </a:xfrm>
        </p:grpSpPr>
        <p:sp>
          <p:nvSpPr>
            <p:cNvPr id="861" name="Line 23"/>
            <p:cNvSpPr/>
            <p:nvPr/>
          </p:nvSpPr>
          <p:spPr>
            <a:xfrm flipV="1">
              <a:off x="2819520" y="22158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24"/>
            <p:cNvSpPr/>
            <p:nvPr/>
          </p:nvSpPr>
          <p:spPr>
            <a:xfrm>
              <a:off x="2438280" y="15685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876920" y="4540320"/>
            <a:ext cx="2057400" cy="2013840"/>
            <a:chOff x="4876920" y="4540320"/>
            <a:chExt cx="2057400" cy="2013840"/>
          </a:xfrm>
        </p:grpSpPr>
        <p:sp>
          <p:nvSpPr>
            <p:cNvPr id="864" name="Line 26"/>
            <p:cNvSpPr/>
            <p:nvPr/>
          </p:nvSpPr>
          <p:spPr>
            <a:xfrm flipH="1">
              <a:off x="5791320" y="45403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27"/>
            <p:cNvSpPr/>
            <p:nvPr/>
          </p:nvSpPr>
          <p:spPr>
            <a:xfrm>
              <a:off x="4876920" y="56070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2"/>
          <p:cNvGrpSpPr/>
          <p:nvPr/>
        </p:nvGrpSpPr>
        <p:grpSpPr>
          <a:xfrm>
            <a:off x="2895480" y="4083120"/>
            <a:ext cx="2057400" cy="2044440"/>
            <a:chOff x="2895480" y="4083120"/>
            <a:chExt cx="2057400" cy="2044440"/>
          </a:xfrm>
        </p:grpSpPr>
        <p:sp>
          <p:nvSpPr>
            <p:cNvPr id="867" name="Line 30"/>
            <p:cNvSpPr/>
            <p:nvPr/>
          </p:nvSpPr>
          <p:spPr>
            <a:xfrm flipH="1">
              <a:off x="3809520" y="40831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31"/>
            <p:cNvSpPr/>
            <p:nvPr/>
          </p:nvSpPr>
          <p:spPr>
            <a:xfrm>
              <a:off x="2895480" y="56070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53"/>
          <p:cNvGrpSpPr/>
          <p:nvPr/>
        </p:nvGrpSpPr>
        <p:grpSpPr>
          <a:xfrm>
            <a:off x="2133720" y="3535200"/>
            <a:ext cx="4495320" cy="1219320"/>
            <a:chOff x="2133720" y="3535200"/>
            <a:chExt cx="4495320" cy="1219320"/>
          </a:xfrm>
        </p:grpSpPr>
        <p:sp>
          <p:nvSpPr>
            <p:cNvPr id="870" name="Oval 39"/>
            <p:cNvSpPr/>
            <p:nvPr/>
          </p:nvSpPr>
          <p:spPr>
            <a:xfrm>
              <a:off x="2133720" y="36874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0"/>
            <p:cNvSpPr/>
            <p:nvPr/>
          </p:nvSpPr>
          <p:spPr>
            <a:xfrm>
              <a:off x="2438280" y="43732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1"/>
            <p:cNvSpPr/>
            <p:nvPr/>
          </p:nvSpPr>
          <p:spPr>
            <a:xfrm>
              <a:off x="2209680" y="40687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42"/>
            <p:cNvSpPr/>
            <p:nvPr/>
          </p:nvSpPr>
          <p:spPr>
            <a:xfrm>
              <a:off x="4952880" y="4678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43"/>
            <p:cNvSpPr/>
            <p:nvPr/>
          </p:nvSpPr>
          <p:spPr>
            <a:xfrm>
              <a:off x="3657600" y="45259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44"/>
            <p:cNvSpPr/>
            <p:nvPr/>
          </p:nvSpPr>
          <p:spPr>
            <a:xfrm>
              <a:off x="3047760" y="4601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45"/>
            <p:cNvSpPr/>
            <p:nvPr/>
          </p:nvSpPr>
          <p:spPr>
            <a:xfrm>
              <a:off x="274320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46"/>
            <p:cNvSpPr/>
            <p:nvPr/>
          </p:nvSpPr>
          <p:spPr>
            <a:xfrm>
              <a:off x="51814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47"/>
            <p:cNvSpPr/>
            <p:nvPr/>
          </p:nvSpPr>
          <p:spPr>
            <a:xfrm>
              <a:off x="44193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48"/>
            <p:cNvSpPr/>
            <p:nvPr/>
          </p:nvSpPr>
          <p:spPr>
            <a:xfrm>
              <a:off x="3581280" y="35352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49"/>
            <p:cNvSpPr/>
            <p:nvPr/>
          </p:nvSpPr>
          <p:spPr>
            <a:xfrm>
              <a:off x="6476760" y="42210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0"/>
            <p:cNvSpPr/>
            <p:nvPr/>
          </p:nvSpPr>
          <p:spPr>
            <a:xfrm>
              <a:off x="6476760" y="38401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51"/>
            <p:cNvSpPr/>
            <p:nvPr/>
          </p:nvSpPr>
          <p:spPr>
            <a:xfrm>
              <a:off x="5562360" y="45259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52"/>
            <p:cNvSpPr/>
            <p:nvPr/>
          </p:nvSpPr>
          <p:spPr>
            <a:xfrm>
              <a:off x="6019560" y="35352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58"/>
          <p:cNvGrpSpPr/>
          <p:nvPr/>
        </p:nvGrpSpPr>
        <p:grpSpPr>
          <a:xfrm>
            <a:off x="304920" y="4144680"/>
            <a:ext cx="2146320" cy="1816200"/>
            <a:chOff x="304920" y="4144680"/>
            <a:chExt cx="2146320" cy="1816200"/>
          </a:xfrm>
        </p:grpSpPr>
        <p:sp>
          <p:nvSpPr>
            <p:cNvPr id="885" name="Text Box 54"/>
            <p:cNvSpPr/>
            <p:nvPr/>
          </p:nvSpPr>
          <p:spPr>
            <a:xfrm>
              <a:off x="304920" y="5440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 flipV="1">
              <a:off x="1384560" y="44370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57"/>
            <p:cNvSpPr/>
            <p:nvPr/>
          </p:nvSpPr>
          <p:spPr>
            <a:xfrm flipV="1">
              <a:off x="1371960" y="41446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- Eukaryot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228600" y="189216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3-11T03:50:25Z</dcterms:modified>
  <cp:revision>271</cp:revision>
  <dc:subject/>
  <dc:title>The Cell Organelles</dc:title>
</cp:coreProperties>
</file>