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BB25-8B95-4CAD-A561-B1FA91AFF7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1EA7-4A70-4F13-8215-BF8D9342BB9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8B8-D8DA-4DF0-871D-7BD1FF54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498-7312-40CD-9F21-391C0192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80432-67AC-4137-A886-1FC4F231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F4A2E-5893-431B-989E-AF3A120E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B4A2B-A077-4B94-AAA2-9B9886C7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B74FF-89C3-4B64-A68B-878A4016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9418E-2852-41DB-AD67-ABD21BD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0640C-19D0-4454-A854-3530C6B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CFAD7-1C4B-427E-9DA2-0976C602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186EB-7AAD-4CAC-8F31-EC92C369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378BB-C2FA-441B-B285-27656BC7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A86B7-4F29-4E0D-BDF8-8D0BCDB7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2F7-071B-4EC6-8768-5B7461A6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CD25F-46AB-42BC-B945-673D93A5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FEF2E-A32D-4680-B1F9-520FD40D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4E526-7A07-4D9C-BB36-D7FA8AA3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076D5-DF65-4191-B318-7A5B12D9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8B39E-0FA1-439E-AFFD-0C22C772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B8931-EDED-4C78-B7B7-DA14BA4D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4BA4F-7867-451E-BD72-9C05304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C0EDB-BC83-47E2-9D98-9645EE65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D4333-6019-413F-AFC8-C99154F2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50745-0853-48A8-8B06-F7C55B0B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43C-7BD5-41C0-AC61-8291B028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61FC8-AAC2-4C19-9915-3432A076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CCF19-0E8E-4D2F-A025-0DDF5309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4F30D-D1D7-4091-BA3A-408AF993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AE080-F41A-4489-8AE2-DA213190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7E7C2-3C68-489B-9EA6-9CCB4976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22724-372C-4334-A895-81DC12F3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E4206-05F7-4237-85C9-6025D2E2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BD446-86DF-4E59-A393-9D46A2ED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70EAD-F316-4A83-AB25-7BC75168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F195F-704E-4F0F-A675-7304866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D879-B06F-4FD5-90F3-2579E901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020C3-DC5C-411D-8108-08400F52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A85A9-C810-42C2-B8DB-761187C7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6FBAE-1A6C-428B-8BAD-D1D2F79E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79488-B825-4C56-B718-4037F5F8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BB147-70BC-4C7F-B944-72668D23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CA58D-2F0C-48C9-8B69-07582CDE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52FC7-942A-4D90-BF10-3699032A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8444B-43D5-4C82-82AD-FD9B95C2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C5794-3D02-41A0-8BDC-5C3BB561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F4229-7908-4F34-BCD1-2946763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47B4-CDB3-48A4-BA5F-B57C97B5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8572F-9046-4E76-9399-1AE44B5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0F76E-7FB8-44BF-91C8-704FB134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A2B4D-C862-406D-9F61-7C0E44BD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1F33D-7573-420E-84F8-B27AB7BD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C555C-E090-4CA2-A27C-4D38380C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D6643-89FE-4D67-8E00-9EAEA450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31AAC-D0E7-43F1-AB50-AFB92F5D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0F45B-C9F9-43DE-AC03-0F697949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4B9F1-9CFA-4934-A7B2-B2DF0500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645FE-29E8-46B5-878D-AEE018BF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1FC1-A58C-4566-B71E-90529F42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15A4F-C9E3-4B6E-99A0-A6A80017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0BA9E-B617-4B06-97BE-DC22E315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3F7A7-2633-44D0-B00C-39CF4369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79125-894A-4666-B17A-D1BACF05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B7227-9CF1-4FE5-AE77-D2674741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29F36-7534-4643-960C-AB2755E1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B36DE-53B8-4E07-A51F-754AF31D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77A06-2BCF-48E8-8560-F234DAD7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14B40-8F52-472A-B659-7398A63A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3FA29-2A08-447F-BD01-D912AB39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B9B7-A043-4EC9-9C09-06AFF471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8923C-D812-4034-B16E-5F22AD04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7BD90-4020-4B85-95E0-81CE7169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99FFE-C3CA-4C49-80FF-C73CCEAA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C0454-DF2F-4A72-9EBD-71C431C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73F98-52DC-4C3B-8E92-8E146D72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C34AE-0076-4C11-856F-382EBD1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BDB80-875D-4CF4-AFB2-4383EE2E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0199C-9803-4042-BC2C-2E452A73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0E0C0-B1CF-4757-932E-E5ABC16E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76593-D9E8-4051-8A9A-4C9F8D03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5415-2525-4C04-8C40-6A35E623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4ECB4-DDA1-4B56-876F-7C7D824A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9C317-26E1-4BBC-929E-BCB0D2CB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F4855-91FB-4E58-AB17-41401656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0B701-A90E-44DC-80DA-F69E47E6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F33BB-8C48-4BC7-A84A-090D8668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C183DF-8A0F-4F76-A306-86959FA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988FB-43A4-4D06-8B71-E6EC8EA9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C0267-1878-4470-B31A-B7223ABB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7AA0D-0814-4B40-B539-C1F67685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C53FD-336A-4A80-BF24-D94558B3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AD8A-BBE0-45D9-835C-A44573D5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C27C6-EE45-4C90-BCAA-F355A1F6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6D8DE-E4F6-485D-8445-30F6E1EB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62BE0-C6C1-4FCD-99C6-18BC901B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46343-8FF8-4E61-979E-2A52D223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2F801-EA8B-4F4A-A769-C1417411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E5141-9C69-4A83-B993-E3C239BC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28374-8D71-40E2-A488-F1BEE6D3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58F14-957F-430F-9393-48F62450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11733-D649-4CDC-8789-B059261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16102-3113-4CEF-A6D3-DAD138DF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9E1D-4757-4438-A958-C64466EC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E1A82-7D9A-4763-B88D-C818D1A0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47618-644F-4D2F-B8F6-23586E8A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0F814-1619-4C57-A980-13D31085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96B-CCBB-4718-BF02-8832CB62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C343-E05F-4105-9EAC-04BE6BFB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B192-18EC-45CB-BD0A-A3004C3F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E774-550F-4FFD-865E-7608A583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A40D-2C6B-4F98-B5AE-096E11F0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57C9-DC82-4675-85F7-029CB084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8C19-4867-47D1-ABBA-DC1D2E9E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47A29-E426-421A-969A-6B62488A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D67B-A3E2-4032-8541-2B3FAA82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EA8F-E905-4B41-BBBD-5F5E6C28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6139-B4B0-4212-82CC-C542ABEE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558-4973-42C7-805D-47455C5C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1FEE9-2D63-4045-A10D-28EFBFF4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E156-9AA9-4E29-B493-5399737C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1917-B22A-4872-8587-2B8F0363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DD6A9-53A3-4BFB-A604-5FFD167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7E6E-9565-4552-8165-5F76959A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B152-EB63-456C-9BB5-8FA6B2FD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2A1E-8045-4127-A771-89DA7EDA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B2DD0-D44E-41DF-9FEE-790ED70E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920A-4895-43B0-B917-E3EB9170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EA1F-80C5-404C-9075-927299DA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40C-BCF8-4636-97B9-FCA9D6C2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DA0C-9617-4D90-9C17-4597A6D9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3351B-B8DC-462B-A979-0B66618F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15E3-CE10-4E0D-95BA-E36C5EF6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12A1-A73F-416C-A7DB-C1CC7902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91303-1E97-48E6-AE9C-662D7126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8B8F4-68B8-4630-A0BD-0DB3B875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E137C-1D97-4647-B9AC-5E7BB36B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7C3C-2168-4775-B6AE-1519E9E1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EF09-3BC2-45CC-9BB4-62B88141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EC1D1-F8D7-401C-AA65-71DB1F2D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0AE-9E9A-4709-9408-EF59BB1B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8C739-195B-43FF-B6D3-CFEB3A2B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51E1-424A-4E41-99FB-E2532873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B001F-0D9A-4C6A-A150-6E32C9CB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EB0E-9F3B-420B-8E59-B1C209CE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A2C1-1EED-4A8B-B3B4-D54E7BDB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40BF-6176-4D84-95F9-7774E07A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3D1F-D165-41FE-8FBA-6A9988EC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8EEAD-1FD7-42F5-8A21-590A18E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AD5EA-036C-4E18-86F2-049CB436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2DCE7-9557-44C8-8690-6FF4EB93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261-31D2-45AA-A57E-401D4C60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8E55-FA65-4DB7-B2A5-82223D43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66AB2-EDA1-4F15-9A57-009B232C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F10AB-5271-4496-B47A-231B78A8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B3376-AC55-41A2-95C9-C19A530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5BF4A-E455-40D9-BF5A-95B01E48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9644-24BD-4175-8CC6-C4149461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0D23F-089B-4945-8DD4-C33880EB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9A97B-D57A-4A8C-8123-02BF1303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F43CA-45B1-469B-B5C8-26AA854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718EF-2FAF-430B-AF5F-8F3FA60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CF0-5A45-4453-9F42-8522E610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1C8D1-AB33-4C75-8230-914A9E63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A82BA-1648-4C94-BE48-8361E26E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6C1C8-940F-4F27-BCCE-AEDF7761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81139-4C9A-427F-B0A9-F7ABB031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7E688-96B4-4245-9432-E5EFFEDB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E64BD-C1D4-4DB3-A2D3-75187D24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8DD2E-C427-4B22-8477-1777BD97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5CFC1-BD77-4A27-BFB2-140F3621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A04EB-16C4-42DD-A268-17CCF0E9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CED1B-9284-4722-BB5D-354835CB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211-F902-4546-8809-FD9A43C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19BA8-2B0C-446C-BCDE-7F546C26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91F2F-190C-4B37-AC12-D303A438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0BD0E-3875-4D1E-918B-F8D95D91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5921B-9EFE-48EA-A033-EBC6269E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755A1-C381-4122-B07D-94F7B813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7A361-669B-44B3-A108-7AEA412F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3725D-1178-4E2B-BB2D-29C7A59B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BD10F-0922-4BA1-8013-8CFEDDC4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5AF9F-6277-43EC-9124-FBD0AA91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67E05-B353-4CD3-87AB-C1B61D10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63D-F27B-4614-BDB8-5449BA6D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CA1DD-9D28-42A0-9EFE-D8D2B460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767FD-9CB5-4128-8086-D4DB674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C535E-A5C8-41DD-B045-07CABCD4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60AA6-666F-499B-8838-382F3E65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F4A87-997B-4085-B46D-78CBE94E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1A6E8-C26D-425A-B416-27EF0666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DDD12-0A00-456D-8A27-8B888BA7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F2B10-920D-4DC9-909D-5D719460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43D10-A154-4349-923C-FDAA6E45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3CE1B-A356-409D-AD48-C398EE30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EEE4-C642-4420-B97B-D89B8337965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9B34-0F80-4873-B418-BD49049B078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B9BB-E62A-4CF9-9A67-3140D0950EF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74FE-843C-4A3F-8E96-AAF6671E0F2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F2FD-14AE-417F-9FE4-DC99FAC31F5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195D-8907-40F3-9D64-284B83447E5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F80B-BACA-4696-9B88-9AD2CFD6851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04AA-68F7-4CE8-ACE5-6CFAEDE2857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DD84-86D8-48C7-BEAF-EA7A4AF21E8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4B54-001D-4BFB-B006-6FDB758A0E2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94FF-2017-4F4F-B4B8-39E8AFB419E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ABF6-8E91-4417-AAEC-9012A93ED67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6C2C-0AC8-425E-AB53-816F45D18F8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9736-0F33-47C3-B628-FDDE342FB71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EC68-749E-4436-A5FA-0B3EDE952C17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CB65-10B1-4FBE-BDC4-6B083E7650E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9D49-976F-4491-9524-2C95FFF0880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84240"/>
            <a:ext cx="6431040" cy="196848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  <a:ea typeface="Arial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5-03-11T03:50:25Z</dcterms:modified>
  <cp:revision>271</cp:revision>
  <dc:subject/>
  <dc:title>The Cell Organelles</dc:title>
</cp:coreProperties>
</file>