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7419-B9D1-4E74-8066-C5E4D958F8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7F76-43C1-4ED0-B5E0-DDBEA2D316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D06-C3B7-4266-99DF-6ADE5A56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258-DBEB-4F2B-8061-DCC7B152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C7373-5D0C-420E-96B0-0434F927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0FEFD-66AB-425E-BFE0-FA73A14E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B187C-82FD-4100-87B0-E0F41676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AA76A-3D64-443F-955B-0464C30A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DCADE-E286-4931-915B-DB6FE4BB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BFB03-2A63-4BF9-9135-CC752D5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13155-97DC-4760-9810-235E7D5D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AC6F6-6CC0-4FCF-8B53-F22133E3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24C97-1AD6-463C-AB06-87BE8C59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9A322-61DA-4926-988A-FFFE2A85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A57-C1CA-4CBB-ADEE-CB5D239C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67870-D894-4306-A295-D093904B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18540-AE49-4948-8182-A2F17417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2E551-3A76-48BF-9CB6-F21B921D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7964A-4E16-4BAA-9907-A7742158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4724F-3F7E-4B1B-B6F1-D8EF3695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393FC-9BE0-42BA-B39D-5B8518F1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D5A95-4440-4F45-B70E-70BE5268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1715D-D80C-4126-A1B7-8F4C8CF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B914C-95B4-43A9-9764-E2C1CBCC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90BC5-3A56-4F81-AE31-1786A27C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ACD-297F-4B98-A631-527F2CD7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2C44B-02E9-4C7E-B39E-B2BC4729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0D915-2CC9-4F24-BB89-4D9DA149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76096-D676-4063-B651-A3C91E37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B7948-9AC6-443D-A881-2FD160FC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A5179-D2EB-4AAF-B301-9EAA8BEA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0593E-1272-48D8-BC09-B6844289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63499-B488-478F-BECA-A5D76F64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61178-D977-4EFB-80FB-3F8ADD80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D22AF-D012-40AC-9DA7-98CF6942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1D85A-6F12-4C64-B3D5-C1DED8AE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CAF6-9D2B-44E7-8E14-DF5B2DF3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C456E-1E24-44DA-877D-4309AD1D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377CB-0858-47DA-9B2C-352C8434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01371-59F2-4374-9236-A60DB6D5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841DC-B5AD-4CB0-87C5-877FE48B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90A65-57F2-4885-975E-73C9186A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ABF54-BBF2-4283-9A01-97D39EDD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6CD59-F18B-4F8F-840D-EDBA3D43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2E217-A705-4CA1-BF99-A91D1EDF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251C1-9F7F-47F7-8F33-B16CA4C1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C199C-875B-4082-9779-10FD0ECC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809A-CD20-4F6F-8FC4-2C21D665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8CA0D-BB85-4781-9DEC-77C0FE4B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98230-4E98-4E2E-B3A7-6640B8CF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2A89C-16C7-47C9-B5BA-9EA246DE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DDCCE-2EF7-429E-BA81-E5230EAF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66680-A034-4FA2-A018-315C81A6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A3DD2-C18A-4278-BBC9-6F3C398F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1CF25-38AD-467B-B8F0-19CFADB8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85012-412D-4832-B75B-0FA57AC4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5D1DA-840C-485C-B10A-54C21ACD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8511C-8044-4CD4-AE0C-5B0124F4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827F-9E56-4973-8070-F26491DD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1CD3C-F3DF-4507-9C4C-018D6ACA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ECC3C-678C-4555-90AF-9D36B39E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21117-3693-4FA2-B0DD-81D4A9E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9C589-8E3F-4126-9CD9-07C68378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6D8E8-C084-4364-B803-908BCEFF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CD372-529E-4CF7-81E2-080180F8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70206-20C7-4DE5-9802-1167C368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45C31-CB6E-4663-9F14-665FF680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F9596-B94E-4A10-AF67-401787DD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CEB9F-864D-4224-9230-0A209A1C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8FE3-88B0-440C-8BCD-1F37CC32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8E959-4D27-4E7D-9EB4-64B92909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29A1E-DFD1-49EC-9AF6-5B804EAB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90AA2-BACF-4E54-9B54-394356FF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9F683-08AA-4F93-B79C-867A389E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221FB-4FEA-45E7-9FED-0E150E9D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CAB14-5D81-4404-88E6-0831829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80CE4-A1A8-4855-9385-063F9C93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8AA3B-96FE-43A1-BDD1-B9FC1BDA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1BF3C-CF18-4842-8B0C-29A0570A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61B3D-9A9A-4AE4-9416-A2226D72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5707-8EF9-4D87-ADA4-4FBA0316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D6AB6-F0B2-48CC-AE86-0F8A0CA8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EFDD1-B00E-49EA-ADEC-D9FDF165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83C67A-BC45-4EDC-ACE6-E034798D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D076C5-E93F-4399-835C-682CA67C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B95F2-1763-4271-9911-08875862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6ADB5-B71F-44C2-9A40-4A301CF2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26F31-62EB-4368-8C0F-0737A9DF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510E7-9006-4E1A-B8D3-8DE242EB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E128C-2B92-42A5-ABFA-4ACD8D94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F8D51-3E14-4CD6-BA10-E0A83F4A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CB29-C3A4-4FB4-AE1B-35224BAB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D616B-283B-4C44-8EDA-B19971B5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92956-42C0-427C-BFD3-B83E9F1D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878BBE-E1C3-40DC-90F5-C3C45BC5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0BA27-3659-4C95-9081-85DE2335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18147-06D8-4FD0-A494-288B2C7F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84B37-6D06-4D04-9F92-287A8F22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0980AD-FF26-4C8D-8CFA-426BA197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0039D-EA30-445F-B613-361E729F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BD99D-B0F8-4946-ABB2-F6361683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8ADD2-7ED7-47B4-AAB0-ED760F4E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E996-85E5-4376-8274-155DDAA4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6B11C4-4C19-4E43-81A1-0C2880B2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2A1D2-9B02-40D4-AFB8-018A981A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8E1964-9ED2-42B0-B77B-54196879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D72-5954-4D0F-A5D8-E9740372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B70A-3FE2-4AA0-BFD9-116CBD99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5D85-A47B-4FE0-BE30-5FC6BEDD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978D-45B1-4482-9420-A29B49A8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AFE4-F54F-411C-AE89-2BBD4960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A663-FFF0-457A-A642-39BA297F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59EA-EE51-48FE-81AF-90CC4B59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C3BF-E0C6-4180-9775-C898EE4A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6847-AFD9-45F0-88C2-7CE55628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CECF3-F677-4154-82F1-964506D1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821A-A279-46F2-AFC1-B5F1CC7F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E026-6ADE-4DDC-8E8A-F3223AA4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862E-D205-44C9-82A5-DA8257EE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7EFD1-588C-4FA8-BE88-742A046E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0FF47-4640-40D4-A1A0-C7002F08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F3F3E-FD3C-4F0A-87B5-AE15FE6E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34AA-5FB8-454B-A136-841BFDA9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74F2-EBAA-4B16-A565-21F80120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5119A-9394-4880-84C8-25DA18A5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8404B-A0FF-480E-9865-338579D1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23D4C-1B1F-44B9-99DF-399CCEF0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19501-AF80-4F35-B7B3-3169BB5C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59F-5435-49EF-8A09-194334D6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0DCDA-0E38-4D54-9308-471404A4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5D96-DB1B-4FC4-81B3-9D3417F1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9723-DC19-40ED-93A2-2EB690B7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3C7CB-4A11-464B-89B9-465306F1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9769-2969-4026-9D6C-8BD0A61E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2CC4-DE08-4A7C-9A23-73865D9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66D2-B1DC-42C0-9455-E7ADF71F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58633-F9A7-406D-87A7-773E984B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D345C-20EB-4F0C-B2DA-C7CFA9E5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10505-E25E-4AAC-8CEF-7EA8D0C4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67C-B68C-4FC1-AE57-22DA8415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51E55-5FDC-4FC1-BCDC-EB3109E0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B643-437A-459D-BCA3-46205725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9244D-5ED9-40C9-B2B1-D2DA6937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5CA3A-CC83-48F9-8280-E8C0E1F6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F2EAB-85FB-4BA9-8494-1C5AF689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C86E8-A78A-457A-A941-056AB921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85CCB-F1B7-465A-91DA-FFB77D48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9A881-CF9A-40BE-B361-E7BBAE59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09830-5943-401E-9A9E-9C61F389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3D0F3-6D89-4706-9F5F-21577173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557-AC74-488D-A62D-E7401A98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FE52-7995-4465-BE5B-F5F5806E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B5B94-035F-43B8-ADA1-2806C6CE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937CF-A6B0-4675-B566-802360EA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D9433-B7B0-4469-AF92-9E5ADCB2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8080A-C88A-44B2-8B46-6D6511D0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2086E-8F3B-4447-8A65-1D9E0EF6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78F5B-1DCD-457A-AB43-306B2AB6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372F-86A9-4EA8-8349-60FB7791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F6160-E2D8-4E48-BBCA-8998326E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5B00F-E88D-4901-8D1B-2A867657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B4A-0E78-4870-8FC1-4B3A899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9CCD1-C5C3-4709-B74A-CCFFEE12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750D3-59D1-4F6C-AF58-8355D534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3F36F-990C-4AC6-A2F5-DEA24688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C2EE5-EBCE-4799-AE27-17D904F4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AD27F-4D8A-4348-8CDF-716C5F41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41AED-7EE7-4D5C-8593-29638FFF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C36A9-F308-42EA-9E5F-7A48F98B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BB85-124B-4085-AEB9-22B722CB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11CEB-451D-4F57-ACA9-FED51896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077C4-E98B-44BE-9B8E-4B16E8A5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28B-0E26-45D2-83FB-2863CFDE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932C8-8A77-43B8-8A72-E2871766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B0147-BBEE-4737-A223-847F08D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35633-CCEF-48A5-A790-36FF294E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B3264-1646-48DD-A94D-66942B39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EED0F-3F90-430B-8472-F725BFD5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9203D-FCBC-49CC-942F-F2D0A761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50F68-8C51-44D3-88AD-7E4AFE21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FAD5C-6319-431E-B4B2-7A4CEC8E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50FA0-707F-42CB-992D-5612260E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51515-8D3C-4744-AB65-1EBBEB0C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3A8-338D-4D9C-A276-EAA47B0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B2DCB-0952-4145-85BF-A1916285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D6434-9242-4E5A-AD50-18CFE43D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6879B-EAC2-4648-95B4-54F075E0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706F0-E039-49A5-9EBC-0F434B28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CCA98-AE9A-4904-8475-B1B7F45B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5C7AF-AD9A-4C91-8D97-558E1BB6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A2E1A-F842-4259-80A4-906908AA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E6A14-AF11-4FC6-B83D-174634E3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B7C40-AEAD-4DD0-A18E-6B5C7035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6AB01-47D3-453C-9B06-FB3F9A27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8145-36F4-4469-A12A-1F7C596392C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C793-2F25-4457-A3E1-6F1060C53E7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CC50-AE0C-446E-8D27-8205EBD5A5C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1504-FBE4-49DD-93A8-2EEFA2DAD60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5CCB-B866-4583-A7AB-B9BC731F4B5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76C7-2B4D-480D-89CE-EDAC39570E65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F128-08EB-4888-AF4F-9A74DB2A06AC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6163-D527-45B0-A8B7-7555209E588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D7E6-369C-4C08-A45E-3FE6F448C70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1AEE-8538-4AE6-8B5C-6319BB3FB01D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0423-2100-4BFC-9BC0-707E8D9F5BE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56A9-B3A7-4808-904A-D13E48526013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D455-82A2-45E2-BE19-A7AD7165667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CF2E-4A9A-4229-B4D2-8BFF5A10F4F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0F6F-3BC4-4ECD-84B6-E73AC860B6E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62DE-C724-4ED6-B172-659FECA614B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Cell Theory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520" y="23619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476"/>
              </a:spcBef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476"/>
              </a:spcBef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476"/>
              </a:spcBef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66ff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523880" y="371520"/>
            <a:ext cx="5867640" cy="8251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pperplate Gothic Bold"/>
                <a:ea typeface="Arial"/>
              </a:rPr>
              <a:t>Lecture 3: The Ce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228600" y="1891800"/>
            <a:ext cx="8686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جزاء مستقل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طبقا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phospholipids and diverse proteins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0080" indent="-342720" algn="just">
              <a:spcBef>
                <a:spcPts val="601"/>
              </a:spcBef>
              <a:buClr>
                <a:srgbClr val="339933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7"/>
          <p:cNvSpPr/>
          <p:nvPr/>
        </p:nvSpPr>
        <p:spPr>
          <a:xfrm>
            <a:off x="3048120" y="6858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Eu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 Box 2"/>
          <p:cNvSpPr/>
          <p:nvPr/>
        </p:nvSpPr>
        <p:spPr>
          <a:xfrm>
            <a:off x="3352680" y="188280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  <a:ea typeface="Arial"/>
              </a:rPr>
              <a:t>Eu: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  <a:ea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  <a:ea typeface="Arial"/>
              </a:rPr>
              <a:t>Karyon: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1230480" y="43545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nstantia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5398920" y="437364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nstantia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6"/>
          <p:cNvGrpSpPr/>
          <p:nvPr/>
        </p:nvGrpSpPr>
        <p:grpSpPr>
          <a:xfrm>
            <a:off x="2514600" y="2895480"/>
            <a:ext cx="3962520" cy="1401120"/>
            <a:chOff x="2514600" y="2895480"/>
            <a:chExt cx="3962520" cy="1401120"/>
          </a:xfrm>
        </p:grpSpPr>
        <p:sp>
          <p:nvSpPr>
            <p:cNvPr id="893" name="Line 7"/>
            <p:cNvSpPr/>
            <p:nvPr/>
          </p:nvSpPr>
          <p:spPr>
            <a:xfrm>
              <a:off x="44197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8"/>
            <p:cNvSpPr/>
            <p:nvPr/>
          </p:nvSpPr>
          <p:spPr>
            <a:xfrm>
              <a:off x="25146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9"/>
            <p:cNvSpPr/>
            <p:nvPr/>
          </p:nvSpPr>
          <p:spPr>
            <a:xfrm flipH="1">
              <a:off x="25146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10"/>
            <p:cNvSpPr/>
            <p:nvPr/>
          </p:nvSpPr>
          <p:spPr>
            <a:xfrm flipH="1">
              <a:off x="64641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Oval 11"/>
          <p:cNvSpPr/>
          <p:nvPr/>
        </p:nvSpPr>
        <p:spPr>
          <a:xfrm>
            <a:off x="32004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3"/>
          <p:cNvSpPr/>
          <p:nvPr/>
        </p:nvSpPr>
        <p:spPr>
          <a:xfrm>
            <a:off x="76320" y="52578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4"/>
          <p:cNvSpPr/>
          <p:nvPr/>
        </p:nvSpPr>
        <p:spPr>
          <a:xfrm>
            <a:off x="152280" y="59436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7"/>
          <p:cNvSpPr/>
          <p:nvPr/>
        </p:nvSpPr>
        <p:spPr>
          <a:xfrm>
            <a:off x="3048120" y="6858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Eu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558720" y="1219320"/>
            <a:ext cx="8051760" cy="5284800"/>
          </a:xfrm>
          <a:prstGeom prst="rect">
            <a:avLst/>
          </a:prstGeom>
          <a:ln w="0">
            <a:noFill/>
          </a:ln>
        </p:spPr>
      </p:pic>
      <p:sp>
        <p:nvSpPr>
          <p:cNvPr id="902" name="Text Box 10"/>
          <p:cNvSpPr/>
          <p:nvPr/>
        </p:nvSpPr>
        <p:spPr>
          <a:xfrm>
            <a:off x="5638680" y="53341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1"/>
          <p:cNvSpPr/>
          <p:nvPr/>
        </p:nvSpPr>
        <p:spPr>
          <a:xfrm>
            <a:off x="6477120" y="4952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</a:t>
            </a:r>
            <a:r>
              <a:rPr b="1" lang="ar-SA" sz="1600" spc="-1" strike="noStrike">
                <a:solidFill>
                  <a:srgbClr val="ff0000"/>
                </a:solidFill>
                <a:latin typeface="Arial"/>
              </a:rPr>
              <a:t>ي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65530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</a:t>
            </a:r>
            <a:r>
              <a:rPr b="1" lang="ar-SA" sz="1600" spc="-1" strike="noStrike">
                <a:solidFill>
                  <a:srgbClr val="ff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6781680" y="39304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4"/>
          <p:cNvSpPr/>
          <p:nvPr/>
        </p:nvSpPr>
        <p:spPr>
          <a:xfrm>
            <a:off x="1066680" y="63244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5"/>
          <p:cNvSpPr/>
          <p:nvPr/>
        </p:nvSpPr>
        <p:spPr>
          <a:xfrm>
            <a:off x="3733920" y="606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7"/>
          <p:cNvSpPr/>
          <p:nvPr/>
        </p:nvSpPr>
        <p:spPr>
          <a:xfrm>
            <a:off x="762120" y="28195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8"/>
          <p:cNvSpPr/>
          <p:nvPr/>
        </p:nvSpPr>
        <p:spPr>
          <a:xfrm>
            <a:off x="838080" y="18288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9"/>
          <p:cNvSpPr/>
          <p:nvPr/>
        </p:nvSpPr>
        <p:spPr>
          <a:xfrm>
            <a:off x="1905120" y="1035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0"/>
          <p:cNvSpPr/>
          <p:nvPr/>
        </p:nvSpPr>
        <p:spPr>
          <a:xfrm>
            <a:off x="7467480" y="1447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1"/>
          <p:cNvSpPr/>
          <p:nvPr/>
        </p:nvSpPr>
        <p:spPr>
          <a:xfrm>
            <a:off x="5562720" y="1066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Arial"/>
              </a:rPr>
              <a:t>الكرومات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6248520" y="1447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3"/>
          <p:cNvSpPr/>
          <p:nvPr/>
        </p:nvSpPr>
        <p:spPr>
          <a:xfrm>
            <a:off x="5638680" y="19051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Arial"/>
              </a:rPr>
              <a:t>الغلاف </a:t>
            </a: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4"/>
          <p:cNvSpPr/>
          <p:nvPr/>
        </p:nvSpPr>
        <p:spPr>
          <a:xfrm>
            <a:off x="838080" y="47242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8"/>
          <p:cNvSpPr/>
          <p:nvPr/>
        </p:nvSpPr>
        <p:spPr>
          <a:xfrm>
            <a:off x="1828800" y="2025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Arial"/>
              </a:rPr>
              <a:t>خش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8"/>
          <p:cNvSpPr/>
          <p:nvPr/>
        </p:nvSpPr>
        <p:spPr>
          <a:xfrm>
            <a:off x="2666880" y="2025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Arial"/>
              </a:rPr>
              <a:t>ناعم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8DE0-6F98-4F3A-89C8-26D47931028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304920" y="831960"/>
            <a:ext cx="8458200" cy="5721120"/>
          </a:xfrm>
          <a:prstGeom prst="rect">
            <a:avLst/>
          </a:prstGeom>
          <a:ln w="0">
            <a:noFill/>
          </a:ln>
        </p:spPr>
      </p:pic>
      <p:sp>
        <p:nvSpPr>
          <p:cNvPr id="920" name="Text Box 11"/>
          <p:cNvSpPr/>
          <p:nvPr/>
        </p:nvSpPr>
        <p:spPr>
          <a:xfrm>
            <a:off x="6781680" y="28843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6781680" y="53020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4267080" y="61722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4"/>
          <p:cNvSpPr/>
          <p:nvPr/>
        </p:nvSpPr>
        <p:spPr>
          <a:xfrm>
            <a:off x="1219320" y="5607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Oval 4"/>
          <p:cNvSpPr/>
          <p:nvPr/>
        </p:nvSpPr>
        <p:spPr>
          <a:xfrm>
            <a:off x="1371600" y="3276720"/>
            <a:ext cx="243828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5"/>
          <p:cNvSpPr/>
          <p:nvPr/>
        </p:nvSpPr>
        <p:spPr>
          <a:xfrm>
            <a:off x="5867280" y="3276720"/>
            <a:ext cx="228600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2819520" y="990720"/>
            <a:ext cx="3733560" cy="99036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nstantia"/>
              </a:rPr>
              <a:t>Typ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7"/>
          <p:cNvSpPr/>
          <p:nvPr/>
        </p:nvSpPr>
        <p:spPr>
          <a:xfrm>
            <a:off x="914400" y="5029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Bacteria and Arch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5562720" y="51055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ll Protists, Fungi, Plants and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3"/>
          <p:cNvSpPr/>
          <p:nvPr/>
        </p:nvSpPr>
        <p:spPr>
          <a:xfrm>
            <a:off x="495360" y="274320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  <a:cs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5"/>
          <p:cNvSpPr/>
          <p:nvPr/>
        </p:nvSpPr>
        <p:spPr>
          <a:xfrm>
            <a:off x="6858000" y="2743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Prokaryotic and eukaryotic cel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51920" y="2438280"/>
            <a:ext cx="8915400" cy="525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2971800" y="1752480"/>
            <a:ext cx="4114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A) Similarities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0" lang="ar-EG" sz="2400" spc="-1" strike="noStrike">
                <a:solidFill>
                  <a:srgbClr val="0000ff"/>
                </a:solidFill>
                <a:latin typeface="Constantia"/>
                <a:cs typeface="Al-Mothnna"/>
              </a:rPr>
              <a:t>أوجه التشابه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l-Mothn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76320" y="2285640"/>
            <a:ext cx="8991360" cy="53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tween prokaryotic and eukaryotic cells is the location of chromosome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nucleus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ا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with nuclear membrane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نووي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ucleoi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without a nuclear membrane separating it from the rest of the cell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 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ريط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, but in eukaryotic cell, DNA is double stran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251460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B) Differences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Prokaryotic and eukaryotic cel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42DA-DE53-43B5-BDCB-351AA1FF2A6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685800" y="1477800"/>
          <a:ext cx="7696080" cy="5075280"/>
        </p:xfrm>
        <a:graphic>
          <a:graphicData uri="http://schemas.openxmlformats.org/drawingml/2006/table">
            <a:tbl>
              <a:tblPr/>
              <a:tblGrid>
                <a:gridCol w="1405080"/>
                <a:gridCol w="3146400"/>
                <a:gridCol w="3144600"/>
              </a:tblGrid>
              <a:tr h="510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kary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kary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7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-10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-100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 plant cell (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not animal cell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nuclear membran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ue nucleus exists with nuclear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 fibre in the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nucleoi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region (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lasmids in some case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 Chromatin (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DNA and protei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pecialize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18" name="Rectangle 17"/>
          <p:cNvSpPr/>
          <p:nvPr/>
        </p:nvSpPr>
        <p:spPr>
          <a:xfrm>
            <a:off x="304920" y="6094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omparison between Prokaryotes and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9"/>
          <p:cNvGrpSpPr/>
          <p:nvPr/>
        </p:nvGrpSpPr>
        <p:grpSpPr>
          <a:xfrm>
            <a:off x="2133720" y="2438280"/>
            <a:ext cx="4724280" cy="914400"/>
            <a:chOff x="2133720" y="2438280"/>
            <a:chExt cx="4724280" cy="914400"/>
          </a:xfrm>
        </p:grpSpPr>
        <p:sp>
          <p:nvSpPr>
            <p:cNvPr id="821" name="Line 5"/>
            <p:cNvSpPr/>
            <p:nvPr/>
          </p:nvSpPr>
          <p:spPr>
            <a:xfrm>
              <a:off x="445932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6"/>
            <p:cNvSpPr/>
            <p:nvPr/>
          </p:nvSpPr>
          <p:spPr>
            <a:xfrm>
              <a:off x="2133720" y="2895480"/>
              <a:ext cx="472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8"/>
            <p:cNvSpPr/>
            <p:nvPr/>
          </p:nvSpPr>
          <p:spPr>
            <a:xfrm>
              <a:off x="68580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Oval 10"/>
          <p:cNvSpPr/>
          <p:nvPr/>
        </p:nvSpPr>
        <p:spPr>
          <a:xfrm>
            <a:off x="96192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nstantia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1"/>
          <p:cNvSpPr/>
          <p:nvPr/>
        </p:nvSpPr>
        <p:spPr>
          <a:xfrm>
            <a:off x="568008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nstantia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2"/>
          <p:cNvSpPr/>
          <p:nvPr/>
        </p:nvSpPr>
        <p:spPr>
          <a:xfrm>
            <a:off x="5257800" y="462276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Exist in extr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environments 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</a:rPr>
              <a:t>البيئات القاس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(hot and salt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3"/>
          <p:cNvSpPr/>
          <p:nvPr/>
        </p:nvSpPr>
        <p:spPr>
          <a:xfrm>
            <a:off x="152280" y="4684680"/>
            <a:ext cx="3962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Exist in most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4"/>
          <p:cNvSpPr/>
          <p:nvPr/>
        </p:nvSpPr>
        <p:spPr>
          <a:xfrm>
            <a:off x="380880" y="573084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are differing in some other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ructur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 biochemical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 physiologic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</a:rPr>
              <a:t>صفات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7"/>
          <p:cNvSpPr/>
          <p:nvPr/>
        </p:nvSpPr>
        <p:spPr>
          <a:xfrm>
            <a:off x="1905120" y="762120"/>
            <a:ext cx="5333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8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543560"/>
          </a:xfrm>
          <a:prstGeom prst="rect">
            <a:avLst/>
          </a:prstGeom>
          <a:ln w="0">
            <a:noFill/>
          </a:ln>
        </p:spPr>
      </p:pic>
      <p:sp>
        <p:nvSpPr>
          <p:cNvPr id="833" name="Line 4"/>
          <p:cNvSpPr/>
          <p:nvPr/>
        </p:nvSpPr>
        <p:spPr>
          <a:xfrm>
            <a:off x="685800" y="1674720"/>
            <a:ext cx="775188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3276720" y="9144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  <a:ea typeface="Arial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4"/>
          <p:cNvSpPr/>
          <p:nvPr/>
        </p:nvSpPr>
        <p:spPr>
          <a:xfrm>
            <a:off x="533520" y="6080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prokaryotic cell is much simpler in structure, lacking a nucleus and the other membrane-enclosed organelles of the eukaryotic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533520" y="866880"/>
            <a:ext cx="8001000" cy="5000400"/>
          </a:xfrm>
          <a:prstGeom prst="rect">
            <a:avLst/>
          </a:prstGeom>
          <a:ln w="0">
            <a:noFill/>
          </a:ln>
        </p:spPr>
      </p:pic>
      <p:sp>
        <p:nvSpPr>
          <p:cNvPr id="837" name="Text Box 6"/>
          <p:cNvSpPr/>
          <p:nvPr/>
        </p:nvSpPr>
        <p:spPr>
          <a:xfrm>
            <a:off x="4114800" y="255888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7"/>
          <p:cNvSpPr/>
          <p:nvPr/>
        </p:nvSpPr>
        <p:spPr>
          <a:xfrm>
            <a:off x="4343400" y="301608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8"/>
          <p:cNvSpPr/>
          <p:nvPr/>
        </p:nvSpPr>
        <p:spPr>
          <a:xfrm>
            <a:off x="3733920" y="1568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9"/>
          <p:cNvSpPr/>
          <p:nvPr/>
        </p:nvSpPr>
        <p:spPr>
          <a:xfrm>
            <a:off x="4038480" y="21016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0"/>
          <p:cNvSpPr/>
          <p:nvPr/>
        </p:nvSpPr>
        <p:spPr>
          <a:xfrm>
            <a:off x="4724280" y="35812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5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3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6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59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2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5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68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3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Dell</cp:lastModifiedBy>
  <dcterms:modified xsi:type="dcterms:W3CDTF">2015-09-09T03:35:42Z</dcterms:modified>
  <cp:revision>308</cp:revision>
  <dc:subject/>
  <dc:title>The Cell Organelles</dc:title>
</cp:coreProperties>
</file>