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dt" idx="4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 type="ftr" idx="5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6"/>
          <p:cNvSpPr>
            <a:spLocks noGrp="1"/>
          </p:cNvSpPr>
          <p:nvPr>
            <p:ph type="sldNum" idx="5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4B6C7-288E-44CD-B147-C933B6ACBF6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62BD7-30C8-454B-A6C4-BC8C6A26AD8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447C-6E97-4F3E-AD54-AB208CDB4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31E6-5DBB-471B-8F18-42837DA5C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753DBB-3C79-449F-A9E4-D9E784791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648416-2038-4181-952E-BD5BD7833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EBA5DC-1626-4282-9F3F-73FA43D68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7E44CB-595D-4272-8C05-4B1D7C124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922ED0-9A8F-4373-B2E7-D63A2F44B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9536BC-3CCB-4892-8662-F469E6145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B37FA9-981C-4280-8B2F-A9ECDF993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F0B1DC-12DE-4FC1-9AC7-E103EDB50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2ADFDA-C690-4EAC-AD6B-2C8E65202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85C318-C9A4-48D6-A1DF-8D1FC0AF9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496F-6204-49A9-830E-17BDF2E21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3647B5-E11E-48E4-9E3E-8CA70B956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6FE925-5D70-418C-93EC-1D9664717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B84160-0692-4C7E-8415-AF78BA63A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35F0FF-6443-4975-838E-81CFC19C2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A44350-FAD8-4EB9-B78A-A853A0953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229380-7305-4212-ACB2-922B4A83F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72BE14-589E-48EC-9047-A46D7760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FB67FD-5E03-4E3A-A29B-7C84480D8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30C069-F745-4AA2-8C2E-5D27FDE37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462CFF-F5A0-4829-A7A0-6E8720C12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E276-74D3-4D81-8487-17D110779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CBB370-E9D6-4325-AB75-80CB29514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6BD75D-9F2D-42B2-8C28-B467154E3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CB9A13-985F-43F6-ABEE-0C34A510E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29D9EB-19D9-460F-8C86-4E2501E2E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930F71-CB03-408E-B2CD-F1EAF5489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D5AF90-D9B3-457F-B9EA-2B95A4BA5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C11143-EA9F-4571-BA4A-AE6DACBB6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EA820C-9553-45EB-9268-D75A5B03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71C2E1-F941-4721-B0D2-C81A14E32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98B113-99C9-4D51-9226-42E9FD3D8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98A1A-19CC-4CBE-AF33-8CA762C7D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C5F39F-6988-4740-B27D-2A0C17BF1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74BFA8-E716-4AA8-AAE9-D4D7B782D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995957-5824-438A-8998-8BA56693A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D12938-8A6D-4FDA-B8AB-F83BCE481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B3C74A-0D7E-486C-90AE-10B9B28CD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CE03CC-A9E1-4DD6-8BB1-E9FFEF37D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197651-03D6-4437-9CE0-9B71DAEA4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93C412-8BBB-41F2-A090-116EDC8FD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2651EB-6ADF-4F90-B883-F6001FBC8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CD77CF-A9FA-413A-91E7-8636293D4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2002B-BAC0-4E4A-8EBB-08D273E52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CCB91C-F8CD-42DE-95CF-AF4BA129E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096D6F-61D7-4D96-B7F4-0B418766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243D62-34B7-4397-A8E0-CBCC2EF89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439EAC-204B-4BF7-B568-47D711720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C766C3-7619-4776-8127-B44EC6256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782E3D-113B-4CC3-A828-3C2D5CDD5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BC68AC-FDE0-4ED9-B19F-9CDEA70DD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BEBBE5-A1FF-45EF-93E2-423BE0FF9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811E18-D149-4CDE-9D12-7480F0727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165803-CBB8-4238-A622-25B128860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DB00E-1D17-4234-B764-2D3F99A63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60854B-4396-4213-9596-847361FF7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465649-C5A9-4462-81AF-18573B8B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793505-B221-49E6-B512-D0E72D3F4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57B6C0-DE86-4EF5-8FAB-E2FDE5C69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FB779A-82D2-49F0-8A27-256CE4A36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DAA9FD-400D-4779-9D9B-EAF2E22F8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EBE4EE-C779-4877-AD7A-DEE594644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FC8C2E-2890-4D4D-A146-AAEEFBE96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DCAB56-E3B1-49E5-B8DD-337892BEB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502F09-E110-4D69-8586-0E0BAFD48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FC2C4-A111-415F-BEB4-60A9A0AB8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7C68AB-DFD6-48FD-9661-FF86995DF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EB7C08-3CEA-4F7F-A1EB-9A3AE003B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D00029-5D65-460E-9DA1-30A17AC83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2FFAD4-A48C-41F3-8512-652D1C03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3A3A6F-EC8C-4993-A716-41C6FF20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727E2E-06FF-45F8-A690-2A17F62AD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6EE242-933B-44BF-B2BF-AFDAA3E43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F0C5BE-E0FC-49C6-968F-D680CFA02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689B27-3459-48FF-A02C-F43971275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DDBC88-841E-44D0-8F16-5474AEBBB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E2F90-F2C3-472B-AFA2-010279E27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4CACA6-CEAD-4C9A-B224-44E379F77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C15CB9-17A1-4FE0-A65B-F67CB7D07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2B5BA4-C8EB-4C0C-9A66-07147C60F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66B8B4-D4C2-4B77-B564-261302100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AD4B97-22A3-4AB1-9EF9-5E5D905D6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0067D3-67F8-4065-B014-A13035E7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142D60-00D4-47E9-82B7-942A45001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670582-6A48-4ACF-A5E0-7FDDD0DF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CCF902-4281-48E0-A05B-EA49FFC9F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784909-E280-4C0A-BB30-783B85F19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916B2-7A16-41A3-9337-42D2C0FA0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002908-13B6-4B3A-8D3E-26872238B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03C351-FE69-440B-8525-1860EEB0C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C1BAB5-B81B-4C27-8A94-3DF96C602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757662-9A41-4983-88F8-BB2490314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1DC974-5DED-419E-95B7-2B6C504DA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C8BFD4-DBE4-45BB-86A5-AD3E360AA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59485B-423D-4ECF-BA03-A99539AE9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D4E55E-D114-4FEE-899E-2559D13F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5E8B29-4553-4A81-91A3-4136A244E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CE6D1D-E3A0-4212-AE09-D4B7D8D5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F3480-5258-4D7A-8E54-93FB3543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9121DB-921E-4765-88C8-4F674BEA4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E61936-71A0-46CB-B823-5CCAF0AEB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C45A17-58A6-4188-AC6C-D74A4056E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2B7A-7A7B-45ED-847B-3C6E2275A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45B3A-15BB-4580-A65C-7ECADEF56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2489A-FB6A-4C90-9B79-D391EB4C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B7B20-E42C-45C0-BF0F-A6FE96401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639C7-1285-4EAB-A567-213C9D15D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7EE4E-DACE-403B-A096-2FE8CC969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85B7C-53D2-4014-BBBB-52E35219C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34EC3-A14E-418A-8B63-2193023AB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A0AC1-7B9A-4898-A800-E604A2CED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55590-F328-4D6B-998B-659374A52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4E688-4DB4-40D9-864C-3C07AFBAF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1587-7CF1-4F49-AECD-6582C8E8B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D958B-D74E-4551-821B-8A2D753FF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423D8-BFDF-403F-9525-FA61FE66A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71CE0-4ED6-43D9-8D52-E07B2EB5E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572FC-96A0-4074-9C93-E6F0760B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1E958-09C3-43E7-AA59-5E70AE478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C0FE9-9ED1-43B9-BFE4-D49BCCEAB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6EE39-3864-4891-BD73-A66C7BE58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87C4F-19F2-48A5-9A4C-518F4CD7C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FF834-008B-412A-901C-2F1A494D4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1EAD7-2FBA-4A41-88D9-B910F762C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D7DD-8F0E-4CAC-A293-A98257F5D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7BD0B-4DED-4DDF-AAB8-2028275EB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31ED9-7C37-437D-90FA-84B96DBD6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67B74-C939-43BB-A853-37D256D99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934B1-D5D8-4919-B9B7-7B1EE2FF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830AC-D5D7-4043-BBBD-27F9D631D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2FB6A-1B00-4065-A80D-1BEE547FE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F560A-88A7-4D16-AD60-E15A81B7D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2EBF0-23BE-43E4-9F6A-EBD016BE4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A5B29-DFC7-4CD1-A0AB-92DD13274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31FCFD-9349-4D96-BFB5-69DFAD3F5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E9EE-8476-4F71-BB29-20E5D83DA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A5D75-A3C4-4424-9BC1-AA4E7685E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720F4-F365-4C5D-949C-B59884482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45E3F-C672-4559-9DC1-F9940ECE0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CBA4E1-7937-4676-8BA4-A4627A2F0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1F446E-1986-401F-BE66-F4C26D8E0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D5E5DD-55CF-433E-8581-307FA40D4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8BFBC-D739-4897-9DE3-807609E0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515A54-9ADB-4698-A59D-374EB6DC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E97E0B-68FA-4EEA-B87E-E33BF35C3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78D93-9958-476A-9C19-DA17A19B5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0F91-962B-49CC-8C7F-E70D22739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4B3F3-B885-4E31-A9AF-9454E6DCC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15D5AB-8966-466E-92E0-E211B56B2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974B13-1EB1-40B7-A031-C1BD85D03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D07BBB-976A-47BB-9BF8-7436AE63E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1C17D1-1032-43F6-9E37-EF3033089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56465C-7B9C-4750-8829-E18AEEA5F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EB0739-2793-419D-9C46-E27166EE3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DD6799-6A47-4518-893C-B087D5263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059285-1970-4D17-B338-012788647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2202D0-8E33-4496-8032-239DD83E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361A-F035-4AD0-B5C6-0E87167DE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E144E0-AF8F-4EE9-8251-E2853D806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2D0958-6930-4EA6-AD5A-5FA3CF786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755084-6F5A-488E-8EE3-E883C150B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D35E4B-E6A1-4711-BA38-032AB989E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5D56F8-C289-4F0C-9A4B-13728DBB7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5033D6-41D1-4189-94CC-4D55E53B0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CA88C8-62AE-4D20-9D26-B4822A89D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7CA9C8-C65B-420D-BD53-EE6E622CA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AA03C2-A3C9-46C4-9900-3F89E0EAC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73B7F3-596D-43B3-AC07-55BE918B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BB66-9E72-4292-88FE-7382E9BBD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07EDB6-0684-4F11-9145-A4AC3E5C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E7F863-9E0E-4269-9B15-1DF2BDD6B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5E91BB-0F76-479C-9B84-7E9C38190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40C831-EFAA-451C-9BDC-A295EBD9D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9DCCF3-3A58-48A3-9EDA-079086CEA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D80168-98B8-46F1-BA76-D9471C4C5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B7C3F2-3976-4029-8E1F-A88864AA5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606F1D-587D-4411-AB7D-BB09469A4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BFEBD1-A22C-4A36-B903-C9B563C32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FBC930-3BEF-4EBA-8A55-30165A533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1F8C-56B8-4958-8C8D-F0AD1152E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4E6C16-7A57-4F98-8CF3-F7E7A52EE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C38CC7-BA58-4FF7-9E62-A9654C25D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D1D2B6-D842-4666-A13F-D914B6EE4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67AAC4-385D-40E1-9585-1B9DC0263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B70B9B-DAF1-4591-A1B0-4A50717BD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38E847-1FAC-4E52-BB2E-618FA8FFB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A7BB46-E61C-4AE6-85AD-92922215B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0158B4-8633-4059-ACF2-14AAEEFB6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8C85A5-9E06-44AC-868C-38098B585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0EC741-490C-47BA-8554-B7A3CB095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DBE5D-6BAA-4303-98CD-632B6F83BF4E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44C90-40CA-4D0F-AF6D-C23C58F90FDD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0E122-D12A-4A46-A2CD-72740D173FC7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24D5C-4116-4090-BE21-25AE76DE6ADB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9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F53DA-2C0C-49A6-BE9D-DE77DEE97463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4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6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 type="ftr" idx="4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 type="sldNum" idx="4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3349C-E82C-40EE-A1B2-11FD59565A13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9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6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7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 type="ftr" idx="4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 type="sldNum" idx="4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7BBA3-A488-4615-98DB-7C8290A568EE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 type="ftr" idx="4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 type="sldNum" idx="48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0132C-92E6-4563-979F-3DFE95E71319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31F62-B531-4B5B-A556-BC7D2CA1FB0F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4182E-3C22-4CDD-9A24-E4160B0E88A4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F41D2-C675-4318-AFE0-F3161674CCAF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44D61-9C8D-400E-888C-016212B70069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4374E-8218-45AF-B3D2-D3F3A29A4E14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3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0FF9E-E012-4A82-AB7A-1BD6737F1213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3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2E51F-9ABE-43C2-915B-7B844A217EBF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7E51A-7CDF-4AAE-984A-D04C58BF9018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380880" y="1599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nstantia"/>
              </a:rPr>
              <a:t>The Cell Theory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380520" y="236196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30000"/>
              </a:lnSpc>
              <a:spcBef>
                <a:spcPts val="476"/>
              </a:spcBef>
              <a:buClr>
                <a:srgbClr val="00b05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In 1838, the German botanist Matthias Schleiden concluded that all plants were composed of cells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30000"/>
              </a:lnSpc>
              <a:spcBef>
                <a:spcPts val="476"/>
              </a:spcBef>
              <a:buClr>
                <a:srgbClr val="00b05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In 1839, Theodor Schwann concluded the same thing for animals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30000"/>
              </a:lnSpc>
              <a:spcBef>
                <a:spcPts val="476"/>
              </a:spcBef>
              <a:buClr>
                <a:srgbClr val="00b05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In 1855, Rudolf Virchow noted that all cells come from other cells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25"/>
              </a:spcBef>
              <a:buClr>
                <a:srgbClr val="66ff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The cell theory states that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40000"/>
              </a:lnSpc>
              <a:spcBef>
                <a:spcPts val="499"/>
              </a:spcBef>
              <a:buClr>
                <a:srgbClr val="0000ff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all living organisms are made of one or more cells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40000"/>
              </a:lnSpc>
              <a:spcBef>
                <a:spcPts val="499"/>
              </a:spcBef>
              <a:buClr>
                <a:srgbClr val="0000ff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cells are the basic units of structure and function, an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40000"/>
              </a:lnSpc>
              <a:spcBef>
                <a:spcPts val="499"/>
              </a:spcBef>
              <a:buClr>
                <a:srgbClr val="0000ff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cells come only from pre-existing cell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 cell is the smallest unit that can carry on all of the processes of lif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9" name="Rectangle 7"/>
          <p:cNvSpPr/>
          <p:nvPr/>
        </p:nvSpPr>
        <p:spPr>
          <a:xfrm>
            <a:off x="5737320" y="2071800"/>
            <a:ext cx="1839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2"/>
          <p:cNvSpPr/>
          <p:nvPr/>
        </p:nvSpPr>
        <p:spPr>
          <a:xfrm>
            <a:off x="1523880" y="371520"/>
            <a:ext cx="5867640" cy="825120"/>
          </a:xfrm>
          <a:prstGeom prst="rect">
            <a:avLst/>
          </a:prstGeom>
          <a:solidFill>
            <a:srgbClr val="009dd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Copperplate Gothic Bold"/>
                <a:ea typeface="Arial"/>
              </a:rPr>
              <a:t>Lecture 3: The Cel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 txBox="1"/>
          <p:nvPr/>
        </p:nvSpPr>
        <p:spPr>
          <a:xfrm>
            <a:off x="228600" y="1891800"/>
            <a:ext cx="86868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 eukaryotic cell has internal membranes, which partition </a:t>
            </a:r>
            <a:r>
              <a:rPr b="0" lang="ar-EG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تـُقـَســم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cell into compartments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أجزاء مستقلة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se membranes also participate in metabolism as many enzymes are built into membran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general structure of a biological membrane is a double layer </a:t>
            </a:r>
            <a:r>
              <a:rPr b="0" lang="ar-EG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ثنائ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ي</a:t>
            </a:r>
            <a:r>
              <a:rPr b="0" lang="ar-EG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الطبقات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f phospholipids and diverse proteins</a:t>
            </a:r>
            <a:r>
              <a:rPr b="0" lang="ar-EG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بروتينات متنوعة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ach type of membrane has a unique combination </a:t>
            </a:r>
            <a:r>
              <a:rPr b="0" lang="ar-EG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تركيب مـُمـَيـٍز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f lipids and proteins for its specific function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30080" indent="-342720" algn="just">
              <a:spcBef>
                <a:spcPts val="601"/>
              </a:spcBef>
              <a:buClr>
                <a:srgbClr val="339933"/>
              </a:buClr>
              <a:buSzPct val="85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or example, those in the membranes of mitochondria function in cellular respira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7" name="Line 5"/>
          <p:cNvSpPr/>
          <p:nvPr/>
        </p:nvSpPr>
        <p:spPr>
          <a:xfrm>
            <a:off x="152280" y="15238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Rectangle 17"/>
          <p:cNvSpPr/>
          <p:nvPr/>
        </p:nvSpPr>
        <p:spPr>
          <a:xfrm>
            <a:off x="3048120" y="685800"/>
            <a:ext cx="2971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pperplate Gothic Bold"/>
              </a:rPr>
              <a:t>Eukary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Text Box 2"/>
          <p:cNvSpPr/>
          <p:nvPr/>
        </p:nvSpPr>
        <p:spPr>
          <a:xfrm>
            <a:off x="3352680" y="1882800"/>
            <a:ext cx="2210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  <a:ea typeface="Arial"/>
              </a:rPr>
              <a:t>Eu: </a:t>
            </a:r>
            <a:r>
              <a:rPr b="1" lang="en-GB" sz="2000" spc="-1" strike="noStrike">
                <a:solidFill>
                  <a:srgbClr val="ff0000"/>
                </a:solidFill>
                <a:latin typeface="Constantia"/>
                <a:ea typeface="Arial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  <a:ea typeface="Arial"/>
              </a:rPr>
              <a:t>Karyon: </a:t>
            </a:r>
            <a:r>
              <a:rPr b="1" lang="en-GB" sz="2000" spc="-1" strike="noStrike">
                <a:solidFill>
                  <a:srgbClr val="ff0000"/>
                </a:solidFill>
                <a:latin typeface="Constantia"/>
                <a:ea typeface="Arial"/>
              </a:rPr>
              <a:t>Nucl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 Box 4"/>
          <p:cNvSpPr/>
          <p:nvPr/>
        </p:nvSpPr>
        <p:spPr>
          <a:xfrm>
            <a:off x="1230480" y="435456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nstantia"/>
              </a:rPr>
              <a:t>Animal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 Box 5"/>
          <p:cNvSpPr/>
          <p:nvPr/>
        </p:nvSpPr>
        <p:spPr>
          <a:xfrm>
            <a:off x="5398920" y="4373640"/>
            <a:ext cx="2133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nstantia"/>
              </a:rPr>
              <a:t>Plant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Group 6"/>
          <p:cNvGrpSpPr/>
          <p:nvPr/>
        </p:nvGrpSpPr>
        <p:grpSpPr>
          <a:xfrm>
            <a:off x="2514600" y="2895480"/>
            <a:ext cx="3962520" cy="1401120"/>
            <a:chOff x="2514600" y="2895480"/>
            <a:chExt cx="3962520" cy="1401120"/>
          </a:xfrm>
        </p:grpSpPr>
        <p:sp>
          <p:nvSpPr>
            <p:cNvPr id="893" name="Line 7"/>
            <p:cNvSpPr/>
            <p:nvPr/>
          </p:nvSpPr>
          <p:spPr>
            <a:xfrm>
              <a:off x="4419720" y="2895480"/>
              <a:ext cx="0" cy="800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Line 8"/>
            <p:cNvSpPr/>
            <p:nvPr/>
          </p:nvSpPr>
          <p:spPr>
            <a:xfrm>
              <a:off x="2514600" y="3696120"/>
              <a:ext cx="3962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Line 9"/>
            <p:cNvSpPr/>
            <p:nvPr/>
          </p:nvSpPr>
          <p:spPr>
            <a:xfrm flipH="1">
              <a:off x="2514600" y="3696120"/>
              <a:ext cx="12960" cy="60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Line 10"/>
            <p:cNvSpPr/>
            <p:nvPr/>
          </p:nvSpPr>
          <p:spPr>
            <a:xfrm flipH="1">
              <a:off x="6464160" y="3696120"/>
              <a:ext cx="12600" cy="60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7" name="Oval 11"/>
          <p:cNvSpPr/>
          <p:nvPr/>
        </p:nvSpPr>
        <p:spPr>
          <a:xfrm>
            <a:off x="3200400" y="1752480"/>
            <a:ext cx="2514600" cy="10670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 Box 13"/>
          <p:cNvSpPr/>
          <p:nvPr/>
        </p:nvSpPr>
        <p:spPr>
          <a:xfrm>
            <a:off x="76320" y="525780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nstantia"/>
              </a:rPr>
              <a:t>Compare between Animal and Plant ce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 Box 14"/>
          <p:cNvSpPr/>
          <p:nvPr/>
        </p:nvSpPr>
        <p:spPr>
          <a:xfrm>
            <a:off x="152280" y="5943600"/>
            <a:ext cx="762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nstantia"/>
              </a:rPr>
              <a:t>What are the functions of cell organelle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Rectangle 17"/>
          <p:cNvSpPr/>
          <p:nvPr/>
        </p:nvSpPr>
        <p:spPr>
          <a:xfrm>
            <a:off x="3048120" y="685800"/>
            <a:ext cx="2971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pperplate Gothic Bold"/>
              </a:rPr>
              <a:t>Eukary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1" name="Picture 3" descr=""/>
          <p:cNvPicPr/>
          <p:nvPr/>
        </p:nvPicPr>
        <p:blipFill>
          <a:blip r:embed="rId1"/>
          <a:srcRect l="0" t="0" r="0" b="3847"/>
          <a:stretch/>
        </p:blipFill>
        <p:spPr>
          <a:xfrm>
            <a:off x="558720" y="1219320"/>
            <a:ext cx="8051760" cy="5284800"/>
          </a:xfrm>
          <a:prstGeom prst="rect">
            <a:avLst/>
          </a:prstGeom>
          <a:ln w="0">
            <a:noFill/>
          </a:ln>
        </p:spPr>
      </p:pic>
      <p:sp>
        <p:nvSpPr>
          <p:cNvPr id="902" name="Text Box 10"/>
          <p:cNvSpPr/>
          <p:nvPr/>
        </p:nvSpPr>
        <p:spPr>
          <a:xfrm>
            <a:off x="5638680" y="533412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ميتوكوندري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 Box 11"/>
          <p:cNvSpPr/>
          <p:nvPr/>
        </p:nvSpPr>
        <p:spPr>
          <a:xfrm>
            <a:off x="6477120" y="49528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غشاء بلازم</a:t>
            </a:r>
            <a:r>
              <a:rPr b="1" lang="ar-SA" sz="1600" spc="-1" strike="noStrike">
                <a:solidFill>
                  <a:srgbClr val="ff0000"/>
                </a:solidFill>
                <a:latin typeface="Arial"/>
              </a:rPr>
              <a:t>ي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12"/>
          <p:cNvSpPr/>
          <p:nvPr/>
        </p:nvSpPr>
        <p:spPr>
          <a:xfrm>
            <a:off x="6553080" y="462276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حهاز جولـﭽـ</a:t>
            </a:r>
            <a:r>
              <a:rPr b="1" lang="ar-SA" sz="1600" spc="-1" strike="noStrike">
                <a:solidFill>
                  <a:srgbClr val="ff0000"/>
                </a:solidFill>
                <a:latin typeface="Arial"/>
              </a:rPr>
              <a:t>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13"/>
          <p:cNvSpPr/>
          <p:nvPr/>
        </p:nvSpPr>
        <p:spPr>
          <a:xfrm>
            <a:off x="6781680" y="393048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ريبوسو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14"/>
          <p:cNvSpPr/>
          <p:nvPr/>
        </p:nvSpPr>
        <p:spPr>
          <a:xfrm>
            <a:off x="1066680" y="632448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الهيكل الخلو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 Box 15"/>
          <p:cNvSpPr/>
          <p:nvPr/>
        </p:nvSpPr>
        <p:spPr>
          <a:xfrm>
            <a:off x="3733920" y="60642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جسم مُحل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 Box 17"/>
          <p:cNvSpPr/>
          <p:nvPr/>
        </p:nvSpPr>
        <p:spPr>
          <a:xfrm>
            <a:off x="762120" y="28195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جسم مركز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 Box 18"/>
          <p:cNvSpPr/>
          <p:nvPr/>
        </p:nvSpPr>
        <p:spPr>
          <a:xfrm>
            <a:off x="838080" y="182880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سوط حرك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 Box 19"/>
          <p:cNvSpPr/>
          <p:nvPr/>
        </p:nvSpPr>
        <p:spPr>
          <a:xfrm>
            <a:off x="1905120" y="103500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الشبكة الإندوبلازم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ext Box 20"/>
          <p:cNvSpPr/>
          <p:nvPr/>
        </p:nvSpPr>
        <p:spPr>
          <a:xfrm>
            <a:off x="7467480" y="144792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النوا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 Box 21"/>
          <p:cNvSpPr/>
          <p:nvPr/>
        </p:nvSpPr>
        <p:spPr>
          <a:xfrm>
            <a:off x="5562720" y="10666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0000"/>
                </a:solidFill>
                <a:latin typeface="Arial"/>
              </a:rPr>
              <a:t>الكروماتي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 Box 22"/>
          <p:cNvSpPr/>
          <p:nvPr/>
        </p:nvSpPr>
        <p:spPr>
          <a:xfrm>
            <a:off x="6248520" y="14479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نو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 Box 23"/>
          <p:cNvSpPr/>
          <p:nvPr/>
        </p:nvSpPr>
        <p:spPr>
          <a:xfrm>
            <a:off x="5638680" y="190512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0000"/>
                </a:solidFill>
                <a:latin typeface="Arial"/>
              </a:rPr>
              <a:t>الغلاف </a:t>
            </a: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النوو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 Box 24"/>
          <p:cNvSpPr/>
          <p:nvPr/>
        </p:nvSpPr>
        <p:spPr>
          <a:xfrm>
            <a:off x="838080" y="472428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حلمات دقيق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 Box 18"/>
          <p:cNvSpPr/>
          <p:nvPr/>
        </p:nvSpPr>
        <p:spPr>
          <a:xfrm>
            <a:off x="1828800" y="202572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0000"/>
                </a:solidFill>
                <a:latin typeface="Arial"/>
              </a:rPr>
              <a:t>خشن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ext Box 18"/>
          <p:cNvSpPr/>
          <p:nvPr/>
        </p:nvSpPr>
        <p:spPr>
          <a:xfrm>
            <a:off x="2666880" y="202572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0000"/>
                </a:solidFill>
                <a:latin typeface="Arial"/>
              </a:rPr>
              <a:t>ناعم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2417D-B7E9-4B67-BCF7-10CFF75ECD23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9" name="Picture 3" descr=""/>
          <p:cNvPicPr/>
          <p:nvPr/>
        </p:nvPicPr>
        <p:blipFill>
          <a:blip r:embed="rId1"/>
          <a:srcRect l="0" t="0" r="0" b="4658"/>
          <a:stretch/>
        </p:blipFill>
        <p:spPr>
          <a:xfrm>
            <a:off x="304920" y="831960"/>
            <a:ext cx="8458200" cy="5721120"/>
          </a:xfrm>
          <a:prstGeom prst="rect">
            <a:avLst/>
          </a:prstGeom>
          <a:ln w="0">
            <a:noFill/>
          </a:ln>
        </p:spPr>
      </p:pic>
      <p:sp>
        <p:nvSpPr>
          <p:cNvPr id="920" name="Text Box 11"/>
          <p:cNvSpPr/>
          <p:nvPr/>
        </p:nvSpPr>
        <p:spPr>
          <a:xfrm>
            <a:off x="6781680" y="288432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فجوة مركز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Text Box 12"/>
          <p:cNvSpPr/>
          <p:nvPr/>
        </p:nvSpPr>
        <p:spPr>
          <a:xfrm>
            <a:off x="6781680" y="530208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بلاستيدة خضرا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Text Box 13"/>
          <p:cNvSpPr/>
          <p:nvPr/>
        </p:nvSpPr>
        <p:spPr>
          <a:xfrm>
            <a:off x="4267080" y="617220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ثقوب بين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 Box 14"/>
          <p:cNvSpPr/>
          <p:nvPr/>
        </p:nvSpPr>
        <p:spPr>
          <a:xfrm>
            <a:off x="1219320" y="560700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الجدار الخلو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Oval 4"/>
          <p:cNvSpPr/>
          <p:nvPr/>
        </p:nvSpPr>
        <p:spPr>
          <a:xfrm>
            <a:off x="1371600" y="3276720"/>
            <a:ext cx="2438280" cy="1371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rokary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Oval 5"/>
          <p:cNvSpPr/>
          <p:nvPr/>
        </p:nvSpPr>
        <p:spPr>
          <a:xfrm>
            <a:off x="5867280" y="3276720"/>
            <a:ext cx="2286000" cy="1447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Eukary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6"/>
          <p:cNvSpPr/>
          <p:nvPr/>
        </p:nvSpPr>
        <p:spPr>
          <a:xfrm>
            <a:off x="2819520" y="990720"/>
            <a:ext cx="3733560" cy="990360"/>
          </a:xfrm>
          <a:prstGeom prst="rect">
            <a:avLst/>
          </a:prstGeom>
          <a:solidFill>
            <a:srgbClr val="00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Constantia"/>
              </a:rPr>
              <a:t>Types of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7"/>
          <p:cNvSpPr/>
          <p:nvPr/>
        </p:nvSpPr>
        <p:spPr>
          <a:xfrm>
            <a:off x="914400" y="50292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  <a:ea typeface="Arial"/>
              </a:rPr>
              <a:t>Bacteria and Archa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8"/>
          <p:cNvSpPr/>
          <p:nvPr/>
        </p:nvSpPr>
        <p:spPr>
          <a:xfrm>
            <a:off x="5562720" y="510552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All Protists, Fungi, Plants and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13"/>
          <p:cNvSpPr/>
          <p:nvPr/>
        </p:nvSpPr>
        <p:spPr>
          <a:xfrm>
            <a:off x="495360" y="2743200"/>
            <a:ext cx="171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Arial"/>
                <a:cs typeface="Arial"/>
              </a:rPr>
              <a:t>بدائية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 النوا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15"/>
          <p:cNvSpPr/>
          <p:nvPr/>
        </p:nvSpPr>
        <p:spPr>
          <a:xfrm>
            <a:off x="6858000" y="274320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حقيقية النوا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8610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nstantia"/>
              </a:rPr>
              <a:t>Prokaryotic and eukaryotic cell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151920" y="2438280"/>
            <a:ext cx="8915400" cy="525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ll cells are surrounded by a </a:t>
            </a:r>
            <a:r>
              <a:rPr b="0" i="1" lang="en-US" sz="2400" spc="-1" strike="noStrike">
                <a:solidFill>
                  <a:srgbClr val="ff0000"/>
                </a:solidFill>
                <a:latin typeface="Constantia"/>
              </a:rPr>
              <a:t>plasma membrane </a:t>
            </a:r>
            <a:r>
              <a:rPr b="0" lang="ar-EG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غشاء بلازمى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semi-fluid substance </a:t>
            </a:r>
            <a:r>
              <a:rPr b="0" lang="ar-EG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ادة النصف سائلة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ithin the cell is called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“cytosol”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ar-EG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سيتوبلازم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ntaining the cell organelles </a:t>
            </a:r>
            <a:r>
              <a:rPr b="0" lang="ar-EG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عِضيات الخلية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ll cells contain chromosomes which have genes in the form of DN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ll cells have tiny organelles </a:t>
            </a:r>
            <a:r>
              <a:rPr b="0" lang="ar-EG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عضيات صغيرة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alled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“</a:t>
            </a:r>
            <a:r>
              <a:rPr b="0" i="1" lang="en-US" sz="2400" spc="-1" strike="noStrike">
                <a:solidFill>
                  <a:srgbClr val="ff0000"/>
                </a:solidFill>
                <a:latin typeface="Constantia"/>
              </a:rPr>
              <a:t>Ribosomes”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that make protein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0" name="Line 4"/>
          <p:cNvSpPr/>
          <p:nvPr/>
        </p:nvSpPr>
        <p:spPr>
          <a:xfrm>
            <a:off x="152280" y="14479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6"/>
          <p:cNvSpPr/>
          <p:nvPr/>
        </p:nvSpPr>
        <p:spPr>
          <a:xfrm>
            <a:off x="2971800" y="1752480"/>
            <a:ext cx="41148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Constantia"/>
              </a:rPr>
              <a:t>A) Similarities</a:t>
            </a:r>
            <a:r>
              <a:rPr b="1" lang="en-US" sz="3200" spc="-1" strike="noStrike">
                <a:solidFill>
                  <a:srgbClr val="0000ff"/>
                </a:solidFill>
                <a:latin typeface="Constantia"/>
              </a:rPr>
              <a:t>  </a:t>
            </a:r>
            <a:r>
              <a:rPr b="0" lang="ar-EG" sz="2400" spc="-1" strike="noStrike">
                <a:solidFill>
                  <a:srgbClr val="0000ff"/>
                </a:solidFill>
                <a:latin typeface="Constantia"/>
                <a:cs typeface="Al-Mothnna"/>
              </a:rPr>
              <a:t>أوجه التشابه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  <a:ea typeface="Al-Mothn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"/>
          <p:cNvSpPr txBox="1"/>
          <p:nvPr/>
        </p:nvSpPr>
        <p:spPr>
          <a:xfrm>
            <a:off x="76320" y="2285640"/>
            <a:ext cx="8991360" cy="532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50000"/>
              </a:lnSpc>
              <a:spcBef>
                <a:spcPts val="55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 major difference </a:t>
            </a:r>
            <a:r>
              <a:rPr b="0" lang="ar-EG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الفرق الأساس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ي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between prokaryotic and eukaryotic cells is the location of chromosomes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 </a:t>
            </a:r>
            <a:r>
              <a:rPr b="0" lang="ar-EG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موضع الصبغيات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 algn="just">
              <a:lnSpc>
                <a:spcPct val="150000"/>
              </a:lnSpc>
              <a:spcBef>
                <a:spcPts val="550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n an eukaryotic cell, chromosomes are contained in a true nucleus</a:t>
            </a:r>
            <a:r>
              <a:rPr b="0" i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ar-EG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النواة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) with nuclear membrane 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غشاء نووي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 algn="just">
              <a:lnSpc>
                <a:spcPct val="150000"/>
              </a:lnSpc>
              <a:spcBef>
                <a:spcPts val="550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n a prokaryotic cell, the DNA is concentrated in th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onstantia"/>
              </a:rPr>
              <a:t>nucleoid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lang="ar-EG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شـبه نواة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) without a nuclear membrane separating it from the rest of the cell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 algn="just">
              <a:lnSpc>
                <a:spcPct val="150000"/>
              </a:lnSpc>
              <a:spcBef>
                <a:spcPts val="550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n prokaryotic cell, DNA is a single strand (</a:t>
            </a:r>
            <a:r>
              <a:rPr b="0" lang="ar-EG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أحادى الشريط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) or double strand (</a:t>
            </a:r>
            <a:r>
              <a:rPr b="0" lang="ar-EG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ثنائ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ي </a:t>
            </a:r>
            <a:r>
              <a:rPr b="0" lang="ar-EG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الشريط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), but in eukaryotic cell, DNA is double strand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3" name="Line 4"/>
          <p:cNvSpPr/>
          <p:nvPr/>
        </p:nvSpPr>
        <p:spPr>
          <a:xfrm>
            <a:off x="152280" y="14479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 Box 7"/>
          <p:cNvSpPr/>
          <p:nvPr/>
        </p:nvSpPr>
        <p:spPr>
          <a:xfrm>
            <a:off x="2514600" y="160020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Constantia"/>
              </a:rPr>
              <a:t>B) Differences</a:t>
            </a:r>
            <a:r>
              <a:rPr b="1" lang="en-US" sz="32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ar-EG" sz="2400" spc="-1" strike="noStrike">
                <a:solidFill>
                  <a:srgbClr val="0000ff"/>
                </a:solidFill>
                <a:latin typeface="Arial"/>
                <a:cs typeface="Al-Mothnna"/>
              </a:rPr>
              <a:t>أوجه الإختلا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8610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nstantia"/>
              </a:rPr>
              <a:t>Prokaryotic and eukaryotic cell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D0CC2-2992-4580-A7D7-00215212D67B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7" name=""/>
          <p:cNvGraphicFramePr/>
          <p:nvPr/>
        </p:nvGraphicFramePr>
        <p:xfrm>
          <a:off x="685800" y="1477800"/>
          <a:ext cx="7696080" cy="5075280"/>
        </p:xfrm>
        <a:graphic>
          <a:graphicData uri="http://schemas.openxmlformats.org/drawingml/2006/table">
            <a:tbl>
              <a:tblPr/>
              <a:tblGrid>
                <a:gridCol w="1405080"/>
                <a:gridCol w="3146400"/>
                <a:gridCol w="3144600"/>
              </a:tblGrid>
              <a:tr h="5104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er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rokaryo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ukaryo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47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-10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µm in diam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-100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µm in diam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ell w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xis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n plant cell (</a:t>
                      </a: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not animal cell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ucle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o nuclear membrane but Nucleo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rue nucleus exists with nuclear membra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006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s fibre in the </a:t>
                      </a:r>
                      <a:r>
                        <a:rPr b="0" lang="en-GB" sz="2000" spc="-1" strike="noStrike">
                          <a:solidFill>
                            <a:srgbClr val="0000ff"/>
                          </a:solidFill>
                          <a:latin typeface="Constantia"/>
                        </a:rPr>
                        <a:t>nucleoid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region (</a:t>
                      </a: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plasmids in some cases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s Chromatin (</a:t>
                      </a: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DNA and protein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006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pecializeorganel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ost of them are ab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ll are exis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ell divi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y binary fi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eiotic and/or Mitotic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818" name="Rectangle 17"/>
          <p:cNvSpPr/>
          <p:nvPr/>
        </p:nvSpPr>
        <p:spPr>
          <a:xfrm>
            <a:off x="304920" y="609480"/>
            <a:ext cx="8534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Comparison between Prokaryotes and Eukary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4"/>
          <p:cNvSpPr/>
          <p:nvPr/>
        </p:nvSpPr>
        <p:spPr>
          <a:xfrm>
            <a:off x="2895480" y="1828800"/>
            <a:ext cx="3353040" cy="60948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kary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0" name="Group 9"/>
          <p:cNvGrpSpPr/>
          <p:nvPr/>
        </p:nvGrpSpPr>
        <p:grpSpPr>
          <a:xfrm>
            <a:off x="2133720" y="2438280"/>
            <a:ext cx="4724280" cy="914400"/>
            <a:chOff x="2133720" y="2438280"/>
            <a:chExt cx="4724280" cy="914400"/>
          </a:xfrm>
        </p:grpSpPr>
        <p:sp>
          <p:nvSpPr>
            <p:cNvPr id="821" name="Line 5"/>
            <p:cNvSpPr/>
            <p:nvPr/>
          </p:nvSpPr>
          <p:spPr>
            <a:xfrm>
              <a:off x="4459320" y="24382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6"/>
            <p:cNvSpPr/>
            <p:nvPr/>
          </p:nvSpPr>
          <p:spPr>
            <a:xfrm>
              <a:off x="2133720" y="2895480"/>
              <a:ext cx="4724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7"/>
            <p:cNvSpPr/>
            <p:nvPr/>
          </p:nvSpPr>
          <p:spPr>
            <a:xfrm>
              <a:off x="2133720" y="28954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Line 8"/>
            <p:cNvSpPr/>
            <p:nvPr/>
          </p:nvSpPr>
          <p:spPr>
            <a:xfrm>
              <a:off x="6858000" y="28954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5" name="Oval 10"/>
          <p:cNvSpPr/>
          <p:nvPr/>
        </p:nvSpPr>
        <p:spPr>
          <a:xfrm>
            <a:off x="961920" y="3429000"/>
            <a:ext cx="236232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nstantia"/>
              </a:rPr>
              <a:t>Bacte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Oval 11"/>
          <p:cNvSpPr/>
          <p:nvPr/>
        </p:nvSpPr>
        <p:spPr>
          <a:xfrm>
            <a:off x="5680080" y="3429000"/>
            <a:ext cx="236232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nstantia"/>
              </a:rPr>
              <a:t>Archa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 Box 12"/>
          <p:cNvSpPr/>
          <p:nvPr/>
        </p:nvSpPr>
        <p:spPr>
          <a:xfrm>
            <a:off x="5257800" y="4622760"/>
            <a:ext cx="3200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nstantia"/>
              </a:rPr>
              <a:t>Exist in extre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nstantia"/>
              </a:rPr>
              <a:t>environments 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</a:rPr>
              <a:t>البيئات القاس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Constantia"/>
              </a:rPr>
              <a:t>(hot and salty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13"/>
          <p:cNvSpPr/>
          <p:nvPr/>
        </p:nvSpPr>
        <p:spPr>
          <a:xfrm>
            <a:off x="152280" y="4684680"/>
            <a:ext cx="396252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nstantia"/>
              </a:rPr>
              <a:t>Exist in most environ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14"/>
          <p:cNvSpPr/>
          <p:nvPr/>
        </p:nvSpPr>
        <p:spPr>
          <a:xfrm>
            <a:off x="380880" y="573084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They are differing in some other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structural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 biochemical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and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 physiological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characteristics </a:t>
            </a:r>
            <a:r>
              <a:rPr b="0" lang="ar-EG" sz="2400" spc="-1" strike="noStrike">
                <a:solidFill>
                  <a:srgbClr val="000000"/>
                </a:solidFill>
                <a:latin typeface="Constantia"/>
              </a:rPr>
              <a:t>صفات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Line 15"/>
          <p:cNvSpPr/>
          <p:nvPr/>
        </p:nvSpPr>
        <p:spPr>
          <a:xfrm>
            <a:off x="152280" y="16765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Rectangle 17"/>
          <p:cNvSpPr/>
          <p:nvPr/>
        </p:nvSpPr>
        <p:spPr>
          <a:xfrm>
            <a:off x="1905120" y="762120"/>
            <a:ext cx="53337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pperplate Gothic Bold"/>
              </a:rPr>
              <a:t>Types of Prokary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Picture 8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8229600" cy="4543560"/>
          </a:xfrm>
          <a:prstGeom prst="rect">
            <a:avLst/>
          </a:prstGeom>
          <a:ln w="0">
            <a:noFill/>
          </a:ln>
        </p:spPr>
      </p:pic>
      <p:sp>
        <p:nvSpPr>
          <p:cNvPr id="833" name="Line 4"/>
          <p:cNvSpPr/>
          <p:nvPr/>
        </p:nvSpPr>
        <p:spPr>
          <a:xfrm>
            <a:off x="685800" y="1674720"/>
            <a:ext cx="7751880" cy="180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3276720" y="914400"/>
            <a:ext cx="27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nstantia"/>
                <a:ea typeface="Arial"/>
              </a:rPr>
              <a:t>Bact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4"/>
          <p:cNvSpPr/>
          <p:nvPr/>
        </p:nvSpPr>
        <p:spPr>
          <a:xfrm>
            <a:off x="533520" y="608004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The prokaryotic cell is much simpler in structure, lacking a nucleus and the other membrane-enclosed organelles of the eukaryotic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6" name="Picture 3" descr=""/>
          <p:cNvPicPr/>
          <p:nvPr/>
        </p:nvPicPr>
        <p:blipFill>
          <a:blip r:embed="rId1"/>
          <a:srcRect l="0" t="0" r="0" b="3787"/>
          <a:stretch/>
        </p:blipFill>
        <p:spPr>
          <a:xfrm>
            <a:off x="533520" y="866880"/>
            <a:ext cx="8001000" cy="5000400"/>
          </a:xfrm>
          <a:prstGeom prst="rect">
            <a:avLst/>
          </a:prstGeom>
          <a:ln w="0">
            <a:noFill/>
          </a:ln>
        </p:spPr>
      </p:pic>
      <p:sp>
        <p:nvSpPr>
          <p:cNvPr id="837" name="Text Box 6"/>
          <p:cNvSpPr/>
          <p:nvPr/>
        </p:nvSpPr>
        <p:spPr>
          <a:xfrm>
            <a:off x="4114800" y="2558880"/>
            <a:ext cx="1193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ff"/>
                </a:solidFill>
                <a:latin typeface="Arial"/>
              </a:rPr>
              <a:t>غشاء بلازم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 Box 7"/>
          <p:cNvSpPr/>
          <p:nvPr/>
        </p:nvSpPr>
        <p:spPr>
          <a:xfrm>
            <a:off x="4343400" y="3016080"/>
            <a:ext cx="1193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ff"/>
                </a:solidFill>
                <a:latin typeface="Arial"/>
              </a:rPr>
              <a:t>الجدار الخلو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 Box 8"/>
          <p:cNvSpPr/>
          <p:nvPr/>
        </p:nvSpPr>
        <p:spPr>
          <a:xfrm>
            <a:off x="3733920" y="156852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ff"/>
                </a:solidFill>
                <a:latin typeface="Arial"/>
              </a:rPr>
              <a:t>شبه نوا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 Box 9"/>
          <p:cNvSpPr/>
          <p:nvPr/>
        </p:nvSpPr>
        <p:spPr>
          <a:xfrm>
            <a:off x="4038480" y="210168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ff"/>
                </a:solidFill>
                <a:latin typeface="Arial"/>
              </a:rPr>
              <a:t>الريبوزوما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10"/>
          <p:cNvSpPr/>
          <p:nvPr/>
        </p:nvSpPr>
        <p:spPr>
          <a:xfrm>
            <a:off x="4724280" y="358128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ff"/>
                </a:solidFill>
                <a:latin typeface="Arial"/>
              </a:rPr>
              <a:t>الكبسول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 Box 13"/>
          <p:cNvSpPr/>
          <p:nvPr/>
        </p:nvSpPr>
        <p:spPr>
          <a:xfrm>
            <a:off x="762120" y="396252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ff"/>
                </a:solidFill>
                <a:latin typeface="Arial"/>
              </a:rPr>
              <a:t>الأسوا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AutoShape 13"/>
          <p:cNvSpPr/>
          <p:nvPr/>
        </p:nvSpPr>
        <p:spPr>
          <a:xfrm>
            <a:off x="1574640" y="3003480"/>
            <a:ext cx="5867640" cy="2057400"/>
          </a:xfrm>
          <a:prstGeom prst="flowChartTerminator">
            <a:avLst/>
          </a:prstGeom>
          <a:gradFill rotWithShape="0">
            <a:gsLst>
              <a:gs pos="0">
                <a:srgbClr val="150015"/>
              </a:gs>
              <a:gs pos="50000">
                <a:srgbClr val="cc00cc"/>
              </a:gs>
              <a:gs pos="100000">
                <a:srgbClr val="150015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Group 8"/>
          <p:cNvGrpSpPr/>
          <p:nvPr/>
        </p:nvGrpSpPr>
        <p:grpSpPr>
          <a:xfrm>
            <a:off x="1523880" y="2940120"/>
            <a:ext cx="5943600" cy="2133360"/>
            <a:chOff x="1523880" y="2940120"/>
            <a:chExt cx="5943600" cy="2133360"/>
          </a:xfrm>
        </p:grpSpPr>
        <p:sp>
          <p:nvSpPr>
            <p:cNvPr id="845" name="AutoShape 7"/>
            <p:cNvSpPr/>
            <p:nvPr/>
          </p:nvSpPr>
          <p:spPr>
            <a:xfrm>
              <a:off x="1600200" y="2940120"/>
              <a:ext cx="5867280" cy="2057400"/>
            </a:xfrm>
            <a:prstGeom prst="flowChartTerminator">
              <a:avLst/>
            </a:prstGeom>
            <a:solidFill>
              <a:srgbClr val="cc00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AutoShape 5"/>
            <p:cNvSpPr/>
            <p:nvPr/>
          </p:nvSpPr>
          <p:spPr>
            <a:xfrm>
              <a:off x="1523880" y="3168720"/>
              <a:ext cx="5791320" cy="1904760"/>
            </a:xfrm>
            <a:prstGeom prst="flowChartTerminator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7" name="Text Box 4"/>
          <p:cNvSpPr/>
          <p:nvPr/>
        </p:nvSpPr>
        <p:spPr>
          <a:xfrm>
            <a:off x="228600" y="797040"/>
            <a:ext cx="380988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Prokaryotic C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AutoShape 6"/>
          <p:cNvSpPr/>
          <p:nvPr/>
        </p:nvSpPr>
        <p:spPr>
          <a:xfrm>
            <a:off x="1638360" y="3270240"/>
            <a:ext cx="5562720" cy="1676520"/>
          </a:xfrm>
          <a:prstGeom prst="flowChartTerminator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AutoShape 9"/>
          <p:cNvSpPr/>
          <p:nvPr/>
        </p:nvSpPr>
        <p:spPr>
          <a:xfrm>
            <a:off x="1739880" y="3359160"/>
            <a:ext cx="5359320" cy="1498680"/>
          </a:xfrm>
          <a:prstGeom prst="flowChartTerminator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AutoShape 10"/>
          <p:cNvSpPr/>
          <p:nvPr/>
        </p:nvSpPr>
        <p:spPr>
          <a:xfrm>
            <a:off x="1816200" y="3435480"/>
            <a:ext cx="5207040" cy="1346040"/>
          </a:xfrm>
          <a:prstGeom prst="flowChartTerminator">
            <a:avLst/>
          </a:prstGeom>
          <a:solidFill>
            <a:srgbClr val="66ff33"/>
          </a:solidFill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AutoShape 11"/>
          <p:cNvSpPr/>
          <p:nvPr/>
        </p:nvSpPr>
        <p:spPr>
          <a:xfrm>
            <a:off x="2806560" y="3673440"/>
            <a:ext cx="3517920" cy="776160"/>
          </a:xfrm>
          <a:prstGeom prst="cloudCallout">
            <a:avLst>
              <a:gd name="adj1" fmla="val -34564"/>
              <a:gd name="adj2" fmla="val -8689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2" name="Group 17"/>
          <p:cNvGrpSpPr/>
          <p:nvPr/>
        </p:nvGrpSpPr>
        <p:grpSpPr>
          <a:xfrm>
            <a:off x="6934320" y="1568520"/>
            <a:ext cx="1752480" cy="1523880"/>
            <a:chOff x="6934320" y="1568520"/>
            <a:chExt cx="1752480" cy="1523880"/>
          </a:xfrm>
        </p:grpSpPr>
        <p:sp>
          <p:nvSpPr>
            <p:cNvPr id="853" name="Line 15"/>
            <p:cNvSpPr/>
            <p:nvPr/>
          </p:nvSpPr>
          <p:spPr>
            <a:xfrm flipV="1">
              <a:off x="6934320" y="2178000"/>
              <a:ext cx="761760" cy="914400"/>
            </a:xfrm>
            <a:prstGeom prst="line">
              <a:avLst/>
            </a:prstGeom>
            <a:ln w="3816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Text Box 16"/>
            <p:cNvSpPr/>
            <p:nvPr/>
          </p:nvSpPr>
          <p:spPr>
            <a:xfrm>
              <a:off x="7010280" y="15685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cc00cc"/>
                  </a:solidFill>
                  <a:latin typeface="Arial"/>
                </a:rPr>
                <a:t>Capsu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5" name="Group 22"/>
          <p:cNvGrpSpPr/>
          <p:nvPr/>
        </p:nvGrpSpPr>
        <p:grpSpPr>
          <a:xfrm>
            <a:off x="4952880" y="1568520"/>
            <a:ext cx="1676520" cy="1675800"/>
            <a:chOff x="4952880" y="1568520"/>
            <a:chExt cx="1676520" cy="1675800"/>
          </a:xfrm>
        </p:grpSpPr>
        <p:sp>
          <p:nvSpPr>
            <p:cNvPr id="856" name="Line 20"/>
            <p:cNvSpPr/>
            <p:nvPr/>
          </p:nvSpPr>
          <p:spPr>
            <a:xfrm flipV="1">
              <a:off x="4952880" y="2177640"/>
              <a:ext cx="685800" cy="10666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Text Box 21"/>
            <p:cNvSpPr/>
            <p:nvPr/>
          </p:nvSpPr>
          <p:spPr>
            <a:xfrm>
              <a:off x="4952880" y="15685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3300"/>
                  </a:solidFill>
                  <a:latin typeface="Arial"/>
                </a:rPr>
                <a:t>Cell Wal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8" name="Group 25"/>
          <p:cNvGrpSpPr/>
          <p:nvPr/>
        </p:nvGrpSpPr>
        <p:grpSpPr>
          <a:xfrm>
            <a:off x="2438280" y="1568520"/>
            <a:ext cx="2057400" cy="1790280"/>
            <a:chOff x="2438280" y="1568520"/>
            <a:chExt cx="2057400" cy="1790280"/>
          </a:xfrm>
        </p:grpSpPr>
        <p:sp>
          <p:nvSpPr>
            <p:cNvPr id="859" name="Line 23"/>
            <p:cNvSpPr/>
            <p:nvPr/>
          </p:nvSpPr>
          <p:spPr>
            <a:xfrm flipV="1">
              <a:off x="2819520" y="2215800"/>
              <a:ext cx="457200" cy="11430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Text Box 24"/>
            <p:cNvSpPr/>
            <p:nvPr/>
          </p:nvSpPr>
          <p:spPr>
            <a:xfrm>
              <a:off x="2438280" y="1568520"/>
              <a:ext cx="205740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ff"/>
                  </a:solidFill>
                  <a:latin typeface="Arial"/>
                </a:rPr>
                <a:t>Plasma membran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1" name="Group 28"/>
          <p:cNvGrpSpPr/>
          <p:nvPr/>
        </p:nvGrpSpPr>
        <p:grpSpPr>
          <a:xfrm>
            <a:off x="4876920" y="4540320"/>
            <a:ext cx="2057400" cy="2013840"/>
            <a:chOff x="4876920" y="4540320"/>
            <a:chExt cx="2057400" cy="2013840"/>
          </a:xfrm>
        </p:grpSpPr>
        <p:sp>
          <p:nvSpPr>
            <p:cNvPr id="862" name="Line 26"/>
            <p:cNvSpPr/>
            <p:nvPr/>
          </p:nvSpPr>
          <p:spPr>
            <a:xfrm flipH="1">
              <a:off x="5791320" y="4540320"/>
              <a:ext cx="304560" cy="114300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Text Box 27"/>
            <p:cNvSpPr/>
            <p:nvPr/>
          </p:nvSpPr>
          <p:spPr>
            <a:xfrm>
              <a:off x="4876920" y="5607000"/>
              <a:ext cx="2057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9900"/>
                  </a:solidFill>
                  <a:latin typeface="Arial"/>
                </a:rPr>
                <a:t>Cytoplasm (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Cytosol</a:t>
              </a:r>
              <a:r>
                <a:rPr b="1" lang="en-GB" sz="2800" spc="-1" strike="noStrike">
                  <a:solidFill>
                    <a:srgbClr val="009900"/>
                  </a:solidFill>
                  <a:latin typeface="Arial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4" name="Group 32"/>
          <p:cNvGrpSpPr/>
          <p:nvPr/>
        </p:nvGrpSpPr>
        <p:grpSpPr>
          <a:xfrm>
            <a:off x="2895480" y="4083120"/>
            <a:ext cx="2057400" cy="2044440"/>
            <a:chOff x="2895480" y="4083120"/>
            <a:chExt cx="2057400" cy="2044440"/>
          </a:xfrm>
        </p:grpSpPr>
        <p:sp>
          <p:nvSpPr>
            <p:cNvPr id="865" name="Line 30"/>
            <p:cNvSpPr/>
            <p:nvPr/>
          </p:nvSpPr>
          <p:spPr>
            <a:xfrm flipH="1">
              <a:off x="3809520" y="4083120"/>
              <a:ext cx="68580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Text Box 31"/>
            <p:cNvSpPr/>
            <p:nvPr/>
          </p:nvSpPr>
          <p:spPr>
            <a:xfrm>
              <a:off x="2895480" y="560700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Nucleo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7" name="Group 53"/>
          <p:cNvGrpSpPr/>
          <p:nvPr/>
        </p:nvGrpSpPr>
        <p:grpSpPr>
          <a:xfrm>
            <a:off x="2133720" y="3535200"/>
            <a:ext cx="4495320" cy="1219320"/>
            <a:chOff x="2133720" y="3535200"/>
            <a:chExt cx="4495320" cy="1219320"/>
          </a:xfrm>
        </p:grpSpPr>
        <p:sp>
          <p:nvSpPr>
            <p:cNvPr id="868" name="Oval 39"/>
            <p:cNvSpPr/>
            <p:nvPr/>
          </p:nvSpPr>
          <p:spPr>
            <a:xfrm>
              <a:off x="2133720" y="368748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Oval 40"/>
            <p:cNvSpPr/>
            <p:nvPr/>
          </p:nvSpPr>
          <p:spPr>
            <a:xfrm>
              <a:off x="2438280" y="437328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Oval 41"/>
            <p:cNvSpPr/>
            <p:nvPr/>
          </p:nvSpPr>
          <p:spPr>
            <a:xfrm>
              <a:off x="2209680" y="4068720"/>
              <a:ext cx="15192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Oval 42"/>
            <p:cNvSpPr/>
            <p:nvPr/>
          </p:nvSpPr>
          <p:spPr>
            <a:xfrm>
              <a:off x="4952880" y="46782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Oval 43"/>
            <p:cNvSpPr/>
            <p:nvPr/>
          </p:nvSpPr>
          <p:spPr>
            <a:xfrm>
              <a:off x="3657600" y="4525920"/>
              <a:ext cx="15192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Oval 44"/>
            <p:cNvSpPr/>
            <p:nvPr/>
          </p:nvSpPr>
          <p:spPr>
            <a:xfrm>
              <a:off x="3047760" y="460188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Oval 45"/>
            <p:cNvSpPr/>
            <p:nvPr/>
          </p:nvSpPr>
          <p:spPr>
            <a:xfrm>
              <a:off x="2743200" y="35352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Oval 46"/>
            <p:cNvSpPr/>
            <p:nvPr/>
          </p:nvSpPr>
          <p:spPr>
            <a:xfrm>
              <a:off x="5181480" y="35352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Oval 47"/>
            <p:cNvSpPr/>
            <p:nvPr/>
          </p:nvSpPr>
          <p:spPr>
            <a:xfrm>
              <a:off x="4419360" y="353520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Oval 48"/>
            <p:cNvSpPr/>
            <p:nvPr/>
          </p:nvSpPr>
          <p:spPr>
            <a:xfrm>
              <a:off x="3581280" y="35352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Oval 49"/>
            <p:cNvSpPr/>
            <p:nvPr/>
          </p:nvSpPr>
          <p:spPr>
            <a:xfrm>
              <a:off x="6476760" y="422100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Oval 50"/>
            <p:cNvSpPr/>
            <p:nvPr/>
          </p:nvSpPr>
          <p:spPr>
            <a:xfrm>
              <a:off x="6476760" y="3840120"/>
              <a:ext cx="15228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Oval 51"/>
            <p:cNvSpPr/>
            <p:nvPr/>
          </p:nvSpPr>
          <p:spPr>
            <a:xfrm>
              <a:off x="5562360" y="4525920"/>
              <a:ext cx="15228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Oval 52"/>
            <p:cNvSpPr/>
            <p:nvPr/>
          </p:nvSpPr>
          <p:spPr>
            <a:xfrm>
              <a:off x="6019560" y="353520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2" name="Group 58"/>
          <p:cNvGrpSpPr/>
          <p:nvPr/>
        </p:nvGrpSpPr>
        <p:grpSpPr>
          <a:xfrm>
            <a:off x="304920" y="4144680"/>
            <a:ext cx="2146320" cy="1816200"/>
            <a:chOff x="304920" y="4144680"/>
            <a:chExt cx="2146320" cy="1816200"/>
          </a:xfrm>
        </p:grpSpPr>
        <p:sp>
          <p:nvSpPr>
            <p:cNvPr id="883" name="Text Box 54"/>
            <p:cNvSpPr/>
            <p:nvPr/>
          </p:nvSpPr>
          <p:spPr>
            <a:xfrm>
              <a:off x="304920" y="544032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Ribosom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Line 55"/>
            <p:cNvSpPr/>
            <p:nvPr/>
          </p:nvSpPr>
          <p:spPr>
            <a:xfrm flipV="1">
              <a:off x="1384560" y="4437000"/>
              <a:ext cx="1066680" cy="11426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Line 57"/>
            <p:cNvSpPr/>
            <p:nvPr/>
          </p:nvSpPr>
          <p:spPr>
            <a:xfrm flipV="1">
              <a:off x="1371960" y="4144680"/>
              <a:ext cx="838080" cy="1447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newsflash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1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12:07:29Z</dcterms:created>
  <dc:creator>Ash Ahm</dc:creator>
  <dc:description/>
  <dc:language>en-US</dc:language>
  <cp:lastModifiedBy>Dell</cp:lastModifiedBy>
  <dcterms:modified xsi:type="dcterms:W3CDTF">2015-09-09T03:35:42Z</dcterms:modified>
  <cp:revision>308</cp:revision>
  <dc:subject/>
  <dc:title>The Cell Organelles</dc:title>
</cp:coreProperties>
</file>