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0D2-E426-48ED-B6D8-89461A180C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EF0-292A-4583-A152-E0079D0562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83D-EF5A-4D5E-84DD-7C06D8FD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B90-2441-482B-A253-85FC0629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9A336-A93A-4B9B-A935-826C7AF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21864-6BD3-4B15-89CB-4328565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348C3-73C7-4465-A755-C8C5C770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D99B9-7333-4D81-AF02-90F3275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EA3C4-42AB-4260-8530-104BA675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32DEF-9D5A-441B-BBE5-1958B89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3A8D-74D5-48C8-96F9-EBCE58A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A2A47-DADC-421E-BBEE-65AE285D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21AA-BB0E-4DCD-9CD6-6EDF388F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28280-8C05-4E4E-BEE2-304F7BCB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96B-E5F6-4C87-8B02-3E9358B3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A5807-ED79-491B-BA35-1BFB14FF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D56F0-D34D-4893-9D79-85B12BEE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C1EB-EA15-4FA9-BFED-71DE57C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B2DD7-5BE6-4C99-A52B-A1C76D20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6AFF4-F8F7-48AC-9F1B-20B39D5B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7D30-93DF-4AB2-89A4-410E5A6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267F-3C6F-47BF-8DEF-4CFFE9B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002D-9BB0-460A-8B8D-BB07BFB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D98E7-5C3E-4854-AA3F-0C60CB13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D2554-D83C-427E-A6F6-BB7A9738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40A-696D-4B19-BB7D-CDB1C008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A62A-B025-43FD-886F-DCCF8614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D76D-2399-4515-9DEA-156A9408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ABDA9-BB89-4B8F-B259-6D0D6C20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55C53-F9B2-4BC0-A5FC-312266A4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B0040-11B6-46FF-A6EE-2A8AF4CF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5FF3B-AE56-4EB3-956D-802F33F2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152A6-4C99-47DD-AFA1-10A87CD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1134-07FD-41CA-8A55-42D0DF0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8BFA2-8D9F-4EC9-ADA7-BFCF8885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D27E-2EB3-4534-A54C-A9BEFCB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5FE2-4651-4A8E-9B24-99FAEA93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C3C27-6D3B-4600-B7A8-A55F7D5D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BF58B-8C09-4C8B-B4D7-13BB05B4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FA604-4A06-4868-BB18-531CC1E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C7481-B20B-4DD9-8AE2-68E47F9A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9CA10-43FC-4176-9415-D011A91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C46B2-6593-4481-9568-D21F03B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57DD3-3E67-4E65-AB17-A1DC1ED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987A0-AE0D-4DDB-A009-7178217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DFD75-4559-417F-82C1-69CE0F1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9556-816D-44FA-8A14-19EF0EC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619-FA91-4F40-B2D4-D6E269A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E8E1E-6E16-42F9-A311-9866EFC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84F68-CBC2-4361-BE48-7E85958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CB69-7ED0-4B32-BEA0-AE539E5B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CAC52-6207-41AE-9FFC-160B325F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E5F4-B18F-4385-BA33-CEBC801B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8FDB0-13AA-4331-9FE2-852C3597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EB8BA-53C6-4804-A6C8-66552483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5BD50-334E-401F-84A5-8F6D974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24CAE-617D-4CE3-8662-F31EC76A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64910-DAF8-4312-9E92-3EF74291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AE74-3F17-4BDD-AE6E-B417017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03DFC-EE42-40D1-97D4-C278634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B3C59-2BC7-41F7-85B6-5DB7EF2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AB455-02C5-4672-BF10-0DB1FF5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3033A-5788-40DC-A1EA-6631DC8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823CB-9D71-473B-8833-FA7795D8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161FF-2B65-477A-8329-DC513700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B8A38-ED37-499B-BDCF-81F016D1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C8E56-8EFC-4973-A17F-6954948B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BB3D3-EE13-4407-BD80-813A1810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34776-C079-41B6-A1E2-0148911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9631-8306-4A9A-9991-FA11120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E54B7-A23E-4144-A16F-C3F63A29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837E5-6F78-437E-B596-1CF828A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409C6-4E3F-43CE-B456-719E90B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9DCA6-20EC-4047-9473-D9EF5ED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90669-04D2-4546-A178-23E4D12E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27BEB-72D2-49D3-BAE3-BC671C0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69386-E0A5-49BA-93DA-2625ABF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B02E9-3743-4AE8-A371-43BA96C6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9A959-76DC-46C8-831A-00CEDB57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A3866-BDF7-497C-A909-847A0C67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B8C-6B61-4B79-92D4-8261694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223DE-5B1E-4FDE-A725-5E0D4522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0D17A-5E4A-4A4D-B9B4-9A43315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856DE-3F73-4130-8985-CEF0C9D2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0400F-115C-44A0-B744-D381228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3C228-508D-424B-855B-1C47B2F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CF4E9-3162-49BD-AEEA-ECE0A0EE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FC564-D2BA-4590-8826-711960D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38BE8-5BB5-4306-9F90-F998FC1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7DF44-E0F9-4FA0-9D0F-160311F9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5DEB1-C007-435E-B704-F439D9FF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727-728E-4F88-8B4A-1C8074E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4EB02-28D1-4C62-AE3B-DA754FF0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CBC3F-FABD-4AAD-9D04-CCA780ED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E8047-7B4A-4C71-835F-C8DCAD05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0E72C-A038-482F-8E5D-1A20A777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EB3FD-45E6-416A-AF71-716A11E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468BE-530D-4423-92D5-74CD08EF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75142-40F9-46A5-BD62-B69DE10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DFBCC-5A5A-4E55-9995-ED8F88E6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CE472-548B-46C3-A3BE-89C2B4D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922A9-FD0A-48EE-A7A8-97E1C68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E00-88A3-40CB-956D-F1038041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5B521-AB12-44BE-A543-6D3644B5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64664-3684-4E59-8356-BA41494E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B4611-AAFF-4765-9D47-8CCCCB85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52F-00A1-4112-9DEE-72271AB1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652E-436A-49D9-9849-410DBD3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5DB-A0A7-4248-A106-06C9437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6FB-A257-4CD5-BF3B-36E0102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E200-744C-4764-B9C1-C8BF9F42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F95C-8466-4EE8-843D-C68BC21F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393A-2D33-4733-9047-9DA0534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55BF-7AC3-453C-A946-39E4144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0866-A5AB-48D1-BEB3-44708360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5548-9AC1-4B42-8FBC-65F01D2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10C0-D099-458B-88C0-8359DBD7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EC4-0093-4D75-AFE5-F140ACE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A30E-2892-49CD-8BC2-1EDD100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3313-DD94-476D-A21C-8C76BA0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9FCA-4055-4874-A846-FDD26188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16DD-F856-46A3-852B-10CD8D6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9472-166C-40A2-BA5A-784880C1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21E2-7822-498C-99FD-4926F64D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3819-5625-4B30-B743-8A8E1A7E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B0AE-468D-4920-9E25-E7E5C81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C320-7783-4DC6-8011-EE8CE0E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E35B-38D3-47A7-9C79-53085221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AF7-55DA-4ED3-98CB-A6604F8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812C-CC6E-4767-A88B-A2E43BA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0027-6B3B-47BE-A910-8FBAB09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9F7E-8EB3-4793-96CC-B7E8F8C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F22E-F456-44AA-BE1D-DA1D330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3783-0B56-453C-B3FB-95DD530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A667-7C73-4B91-AA7B-EABE89D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4A79-9C47-4B3C-AD70-55683288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A9001-852E-4E78-8CE3-A4088406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43BD-94F5-48DA-B0BD-4D8E3EC5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8AC62-D500-4EE9-9DAA-12B7773A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219-BB39-4BE7-880F-393AF5F2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B603-FA8B-41D7-B748-45334DE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B845-8B0B-4697-BDD6-412ED32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4D5D-6EEB-4E10-ABE9-C3F935C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7582A-C69D-465D-8991-44F11FEB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A650F-B85F-41B4-BAD0-7D341C0E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8560-A9EC-426E-9227-065FE29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A4D35-37AE-4CFC-A7C9-CC8B92A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4C1E-B41D-4F73-99FC-6C3FF87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E14E1-129E-4865-8FDE-D346A21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A092-415E-4A3A-A83C-3F20C291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384-ABE9-4FF8-A9A0-2FB56B3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7D7C-1A1C-4FCA-977B-305F4A24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01AE-78AF-4B88-AF6F-7AF53E2C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329C1-BA01-4C62-98E8-8EBBA6D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5B21B-A5EE-45F3-AF59-EB5B1CAE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9E7E-86AB-499F-8797-892B74C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D220-08FA-4DDB-8775-8586210C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D1F8-FD33-4FA8-BE6F-F34897A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CCEB-0192-4FEC-B986-19727058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34CB-7262-42B5-A375-22D1FB1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4E1E-B152-4F48-BF28-6448FDF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071-626B-400A-BE49-B3ACFE7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149C6-EACA-4AFC-9D4B-953A3007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83A9-2354-4783-B1F8-8B023D68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1D3A-1A47-4CBB-BD37-5EA035B0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3F0F-CB31-4E07-8336-A8F9E724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B97D-A9EC-48F6-A0C4-ED4A018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DD77B-9D10-4DF6-9828-CA23F995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4A02-6B88-48BD-B135-E495C831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62BB-8854-4FC5-8C8B-D1F253FA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07811-F47F-4B88-9DC3-E04D5DC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08A9-6242-4673-9D81-8873C626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971-6DD7-4C06-AA3A-DEF1F59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7972E-55C1-46D5-AC58-48F6FD4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F519-DBD3-4E9D-B732-714870D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28EAE-9914-4904-B93D-A0016F70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D0160-F6D7-47E2-8168-6A1E6A04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01C6-ABF3-419F-9290-22AF9459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C600-471E-4836-A960-8AD36D74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A5AF-ECD2-49A7-A9BA-9BF6665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BEC94-DF45-492E-BC8F-D66F1AF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E1652-451E-4FDD-82A2-4FDC9EA1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A4167-7421-4268-85E0-B55D6A4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C2B-FBA9-497E-85A1-E4E5AF9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EE49-D438-4A27-B4DB-B9473AF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9CC67-46A5-4A68-AE2E-C760672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49468-7CA6-4A44-815B-393297E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6533-E109-4B72-AE94-9DECD46A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4A43-2FFF-4C5C-93C3-079C7D96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4EB9F-4AAC-4B1C-8087-47F9DD4D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0AA4-80EB-4A45-86E4-65C2464F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99FCB-C0D0-417B-86BC-E25260C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BDD3-049D-4B61-A941-CDBA13E0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3055D-4178-4AEF-9AF8-DDAB580B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C24-33ED-495B-8011-D0DAFD42104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20C-4CBF-4A15-A114-9724C317D7D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B2C-72FB-4AF9-B196-9C18B27466F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069-E4AF-4AA8-939F-A8D6B93E079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FA67-21E0-48B4-8414-AA5AD194316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DA9-E6CC-4300-9857-F541EBE04C0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766-0413-4E80-B3FF-D62F35BE322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8933-7355-4E2D-A19E-16B4381F3FA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3F8F-74EB-4F02-B79D-1AF7B26D103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51C-CC06-4FB9-921A-428A83E9BF7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08A-9993-4974-A554-163213DC22B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279-62CE-42F5-BA63-23D472BA0DB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3746-A926-4D0A-9C03-2F339F2ED54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2B36-33A3-43A3-A498-BD3FD1FB58C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8C0-31B9-40A4-AF42-2AB8264E03A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423-7D93-4C5B-B059-F088AEC7E87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E14-FE95-4ACE-ACEA-BBD3193ADF5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78120"/>
            <a:ext cx="6431040" cy="156024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د أشرف مشالي</cp:lastModifiedBy>
  <dcterms:modified xsi:type="dcterms:W3CDTF">2013-09-01T08:10:27Z</dcterms:modified>
  <cp:revision>271</cp:revision>
  <dc:subject/>
  <dc:title>The Cell Organelles</dc:title>
</cp:coreProperties>
</file>