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AFCD-FFEB-4987-B48B-4D723C498A8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CEBE-1611-4C86-BF24-6601839EB8F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E1BE-EDDB-491E-8D0D-9C394272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CF33-F825-43F5-81B8-3B4714E1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F8EE7-8819-402E-9E8F-0AC78451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4E651-25B7-421E-A118-F0992966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7D79A-1763-4058-9629-7A5AB954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8688C-651B-41DE-BE40-1AEE1FC5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9A492-320A-40C6-8370-CA595849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DAA5D-9076-4F39-A582-EEFB7AEF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14CEE-F276-4138-B0A5-952D509E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B1B63-CF6D-4A7F-9C3F-C2FF6945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EF5BC-8702-4C79-9CC5-D94DE634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9FB6B-2358-431E-8233-10F8C3FA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A467-34EC-4F6E-8509-D8C827B7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68261-24EF-4CEC-80D3-6F9067D5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83C2B-3C24-4D5D-A20A-A1B25CA0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6703B-F186-470D-8DF3-3A31BC17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F7B82-896A-4F3D-8A47-20EF1449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8A555-7526-43BC-BA2B-68AED788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9DA32-4F61-40FD-A024-F5EC3402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2EBA8-ACBB-42E3-B42F-C2077C6C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C349D-C80A-4254-A2C8-BEBAD3C2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5C43B-F256-4D91-9808-4876A7AD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76575-47B8-4003-BAA2-6FEA671C0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068C-AB13-41AE-81FD-43466712B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0AEF7-B186-44D2-BC74-DB73F496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D2509-5E23-49E5-ACA2-FBF3A45B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C0617-EF81-4EED-A26E-1A9AD630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CA868-8522-4862-AE08-8AA0F8D7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DACEB-B106-4963-8013-94C60711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28FD8-6E41-4318-8742-E25D3B50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6F9E6-137F-4C1B-8882-FADF3B4E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44A6E-A398-4A96-B951-10602CA8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BD928-2810-4B90-AFB5-A0A203F6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1D1F8-0C71-45F0-B291-A0387FBD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8482-1D16-4BDA-A5ED-0CD86DC2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AC6F3-11D6-43D9-A5EC-78BBF8F7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5A5E6-C312-489C-A0C2-CF3F9878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17A9F-17D9-4B11-930E-10D1E768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670DE-57E4-4F64-BD41-4A432ED8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14243-57BA-4E81-B43D-9209D22B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E1128-27E2-4643-9248-51C1BC68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D45E6-29D3-410D-A80A-BC1CD3F7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D296C-D1EE-4227-A19A-54D16EFC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4C566-8286-4798-95BE-B57D5147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238B7-C2D9-4FF1-8CE1-FBD72F4F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1A65-423B-4432-B653-DD432DDF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7B06A-7461-4C3B-B8DB-8EAABD17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16752-D261-40F1-9C20-45FCB239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E011F-5BC9-4E73-A5C4-0AB63334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BDA5F-88F1-449B-8207-9EFAD243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6C41B-1D79-4C19-A0E6-3A150488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4A806-F061-4C31-80CA-DE7BEDE6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218AA0-DA8E-473B-8E26-EF571721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74887D-6C91-4DCC-93EF-D6F50EEF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76F54-6BEE-4E33-9BFF-0382A9D7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DD1090-4C61-4C49-90DA-6B1A4536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83EE-5025-4DE3-90BC-B6710E1A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80AFF9-0578-4D24-A3E2-9CA15C5F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DD8E7A-06CD-4717-8F4B-99AF196F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5FE0B9-340D-4D13-A876-DCC3498C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0D6F61-4DE3-4746-9DE9-C688E9CC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E24713-5ABC-4C0D-B917-173B0C80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382075-7864-45A6-991E-92FCD933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BA4B6F-C3AB-4EC4-8072-CBA34087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6F83D3-2F3E-4F23-8821-B2DAB02E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F559A1-372B-4C70-9CB4-8222EFF7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E4B1D3-7DD8-4974-8AFC-DCF085A9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A7AF-328F-4857-BFEA-3591D9D3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C8CA68-12A4-4011-AAFB-3D67D604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C53775-46E4-4E38-B751-064368C0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3E6966-B2BE-422A-8859-365E0214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445A8E-8926-4CB0-A545-DC4EBE5A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9B316D-B291-497A-BD40-FCFDC85F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3A9723-532B-4EAE-B526-5FBCB356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E9BD23-946E-4C4B-AF1A-EB4C4E0C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8EA3B9-FAA7-41F3-B125-63D6F926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8A6D78-74E2-475E-A6D4-A069ED96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FA019B-95C1-4703-ACE8-F8C60C32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ADFD-46C8-44C9-970A-9DD23583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51CD32-5ABB-429A-93F0-B4D8F5FF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E875D1-D44C-4443-A63C-BBBAE4C3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879FD0-7CD6-4733-86A9-2ED37C89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670EF2-7308-4483-9B59-51703056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3BFC16-9FA8-4A7C-BCBE-ABB13E1E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E89DB1-1A9E-4072-9007-C0BCBB74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CBD73D-E8B8-4E1B-A32A-75A1386A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602EAB-D1E2-477B-B31C-AA4D11EB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703939-345F-435F-944A-AD5758AB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BE34B6-DC8B-4140-9B5D-667888C9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5845-175D-4BD1-98DE-53B8BA0F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4B662D-29CC-4246-81BA-A12DB8E6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D81E46-C5A6-435F-A3A4-E2303F21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D11D3F-8F0C-4C06-B962-498CE0E0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D3A0C6-B886-4988-9F3B-BFE79099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B9454F-001A-4887-A77A-BD03C081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5908E6-F76A-4011-A113-46A0B59F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48B29B-263D-4E97-81BD-33D02568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CD9575-F154-49F9-B004-C91D3C24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7716C5-91ED-4EE5-B527-E42F0878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0FCF55-0581-4522-B554-E49E12BC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D12F-A3C6-4031-8319-B8388E8F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322876-CD6B-4079-9139-A4B6EECF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043384-A8EB-4366-9F3E-6041FDFB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BBB113-E03C-4870-BD92-F50F8578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E8AA-A03D-4C19-888D-95CD6635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03FE-310B-4EF8-9A39-46ABF056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4050-04A2-4F36-A78B-60E40B33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7B05-D0CD-4327-BCB2-C0F3C349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6A49-98D2-4C14-A3A0-6F4FBC2D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CD09-C896-4896-B870-F0033BCB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63144-E6AF-45E8-AA3D-9991D27F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F4E3F-62A0-4902-BE6F-7F140BFB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36930-3EF3-4E57-BE17-FA7A6679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4A240-753D-45D3-8A48-195CDFB5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D06B5-674E-434D-95AC-47AB9036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01F6-314D-41E8-8E7A-02BC391A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9EA5D-D85B-459F-BF4A-2214EE3B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FF15E-7ED3-46DA-8796-722F7A1B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FCF38-80AF-46BB-971D-3121752A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39B1C-C416-4F5D-8319-8B7ABF9F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36ECB-6395-4FAF-9B51-E3018EA8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2663D-B124-4A40-A5C3-B08A680F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C9C2A-8519-44A8-AE34-C0AFB022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F7D74-B771-4A0D-8067-9C9C8D82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634CD-5CEC-4EE5-A5E7-4D5152EB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29EEE-FFF3-44F3-A3E7-E4E7F0B9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7D3A-EEE6-4596-9CDA-53693EB2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39F06-D25D-4058-A8C5-86BDC610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D980B-5388-4C9E-8941-D321A356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34960-B3B2-4D3E-B997-04366AD2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87CFC-0BCE-4ED4-AF61-F6220E1F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88F5F-C988-45E1-B6F2-1AAE4C82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FBACF-FB35-4297-B955-BD70FEA6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785B2-4EA1-4263-B830-ABCD8BD9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FEF75-79D9-45E0-BAF6-E9CE04D5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DBC79-5D3B-4A50-900B-CBCEF93B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26DA6-F937-4647-9817-F4309DF9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212C-DFC7-4E84-943F-F2ECA67D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DB57F-9385-4A23-BEFF-C053ED79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480FF-8A73-4126-AC4E-A43F4CA8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608AB-BFD8-4E71-A1FD-EB265AD1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53195-550F-4477-ADAD-19DABC15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C9FAF-6F78-4EA5-9BF5-C55D0851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202EE-6318-4FB5-961B-C5BDEB63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A2274-B451-437C-A9D6-DC1DE1E3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5213D-BB4F-4B96-B413-2A2D61C7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E7F81-EFA0-4524-8FD5-307BF399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71B2D-E028-42ED-87C8-75A2CE41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20BA-165B-4923-A1C8-4E3B4856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B974B-E75E-4BC8-AB29-DD76519A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F883C-8EEE-4442-BD04-BD39A147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B2C12-2103-4669-B0E5-270F8456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83C41-0198-4088-BA5A-15703E27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F06A2-D9EF-4B51-B892-1D52F5B7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2ABD3-5E86-4242-B4E2-F522507E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69453-9CE9-402E-B1B2-ED85B5AB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468EA-B0A8-4B48-B93D-0E195A85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119C2-7416-49D8-8FE9-4987CC2A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B8055-2536-428B-B111-619D1170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863C-B20A-4E93-A130-9A6FDA24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E480A-602E-4971-88B7-287C863B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DD399-2DF4-43D1-BAB7-630CB5DE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EFD0C-484B-453B-A513-9A6787F0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B4018-0D84-4D24-B275-2942BDF5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DF337-0DF1-4E56-A210-1C3ABF20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0A572-3A77-4F2E-9823-6EEDADCF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8C986-2B44-492D-AB3B-363F59BA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7B7FC-61E9-4942-93A8-D0050BFE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C6FFD-F0CB-478E-ABA5-AACC7234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0EBFC-0B4A-4BF4-8C79-F2458B50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7715-928E-468C-8E12-16451E20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89142-E097-4C12-987D-36005952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D7939-B9D7-4A74-B534-E982E4D8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30B67-D26F-4617-8F24-009DFDF1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6F04C-75A3-4B12-A109-45D9DEE7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46039-7728-472A-BCF4-F0A49810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3AA41-1F3C-4B54-8A5A-62257EEC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FB610-1EAA-40E1-9E15-249361CB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C6A32-5CE2-4465-9439-0FD5AA68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9F86C-496B-468D-B39D-B44C4E6C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9E639-84A5-4651-BBCC-8D37C2D5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46C3-0547-4514-A684-687D29BA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87BD7-5A7D-4E0F-9387-1688D436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1641B-BA18-4EA8-8BAE-D6212A41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DF82A-9B12-4E34-A303-446C8355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D108A-C5CC-4028-A4F4-4C331219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95BFA-564F-4BE9-B1F2-BA4E840F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4C045-F589-41EB-BBBD-4E21E984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E6376-1C2E-4893-AF75-E4B87917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1385B-158E-44C3-9873-9F586D8C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49728-4BCE-4E7A-9CE8-36E25333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D7BE6-ACC4-4F3B-A354-8BA9DE93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33B3-A664-4C7B-83E6-5014FAA641D5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C788-98BC-412E-B639-89287A37A1DB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8C81-413B-4182-B488-2F7D273524CC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ED5A-28D9-461C-AE57-ABDFA5C57101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23B0-12EC-4F93-9967-2ADF3BD8BCE2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5E22-9D44-43AD-86B3-E349AB8352FF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C667-7F4B-4549-BDE5-A35DF315D2D0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97C0-7F31-4F5F-8B15-E06D228195BE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330E-15A4-4D1B-9CCE-E66B6B28BF52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6CA5-4791-4F56-B19F-84F76E6A2DB2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F533-65EB-4E9A-9BB4-40080CD0BC98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3469-A77A-4849-835F-B8EDA11007FF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777E-FE63-45A9-A77F-6D21048AF011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796A-9E9F-4E9F-A7D1-3134D2FAABE0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1E29-5136-4839-8FCE-58681B331B9E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2D29-103B-4BC3-8023-DDC63BB79BD0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80520" y="1599840"/>
            <a:ext cx="266724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he Cell Theor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8088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38, the German botanist Matthias Schleiden concluded that all plants were composed of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39, Theodor Schwann concluded the same thing for anima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55, Rudolf Virchow noted that all cells come from other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he cell theory states that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ll living organisms are made of one or more cell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ells are the basic units of structure and function, a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ells come only from pre-existing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cell is the smallest unit that can carry on all of the processes of lif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Rectangle 7"/>
          <p:cNvSpPr/>
          <p:nvPr/>
        </p:nvSpPr>
        <p:spPr>
          <a:xfrm>
            <a:off x="5737320" y="207180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"/>
          <p:cNvSpPr/>
          <p:nvPr/>
        </p:nvSpPr>
        <p:spPr>
          <a:xfrm>
            <a:off x="1447920" y="22860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3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Text Box 2"/>
          <p:cNvSpPr/>
          <p:nvPr/>
        </p:nvSpPr>
        <p:spPr>
          <a:xfrm>
            <a:off x="3581280" y="1811160"/>
            <a:ext cx="2210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: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aryon: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3"/>
          <p:cNvSpPr/>
          <p:nvPr/>
        </p:nvSpPr>
        <p:spPr>
          <a:xfrm>
            <a:off x="2666880" y="8380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-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4"/>
          <p:cNvSpPr/>
          <p:nvPr/>
        </p:nvSpPr>
        <p:spPr>
          <a:xfrm>
            <a:off x="1523880" y="43736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5"/>
          <p:cNvSpPr/>
          <p:nvPr/>
        </p:nvSpPr>
        <p:spPr>
          <a:xfrm>
            <a:off x="5715000" y="4297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Group 6"/>
          <p:cNvGrpSpPr/>
          <p:nvPr/>
        </p:nvGrpSpPr>
        <p:grpSpPr>
          <a:xfrm>
            <a:off x="2743200" y="2895480"/>
            <a:ext cx="3962520" cy="1401120"/>
            <a:chOff x="2743200" y="2895480"/>
            <a:chExt cx="3962520" cy="1401120"/>
          </a:xfrm>
        </p:grpSpPr>
        <p:sp>
          <p:nvSpPr>
            <p:cNvPr id="896" name="Line 7"/>
            <p:cNvSpPr/>
            <p:nvPr/>
          </p:nvSpPr>
          <p:spPr>
            <a:xfrm>
              <a:off x="4648320" y="289548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8"/>
            <p:cNvSpPr/>
            <p:nvPr/>
          </p:nvSpPr>
          <p:spPr>
            <a:xfrm>
              <a:off x="2743200" y="369612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9"/>
            <p:cNvSpPr/>
            <p:nvPr/>
          </p:nvSpPr>
          <p:spPr>
            <a:xfrm flipH="1">
              <a:off x="2743200" y="369612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10"/>
            <p:cNvSpPr/>
            <p:nvPr/>
          </p:nvSpPr>
          <p:spPr>
            <a:xfrm flipH="1">
              <a:off x="6692760" y="369612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Oval 11"/>
          <p:cNvSpPr/>
          <p:nvPr/>
        </p:nvSpPr>
        <p:spPr>
          <a:xfrm>
            <a:off x="3429000" y="1752480"/>
            <a:ext cx="2514600" cy="10670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3"/>
          <p:cNvSpPr/>
          <p:nvPr/>
        </p:nvSpPr>
        <p:spPr>
          <a:xfrm>
            <a:off x="76320" y="54100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Compare between Animal and Plant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4"/>
          <p:cNvSpPr/>
          <p:nvPr/>
        </p:nvSpPr>
        <p:spPr>
          <a:xfrm>
            <a:off x="152280" y="61261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What are the functions of cell organ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3" descr=""/>
          <p:cNvPicPr/>
          <p:nvPr/>
        </p:nvPicPr>
        <p:blipFill>
          <a:blip r:embed="rId1"/>
          <a:srcRect l="0" t="0" r="0" b="3847"/>
          <a:stretch/>
        </p:blipFill>
        <p:spPr>
          <a:xfrm>
            <a:off x="152280" y="888840"/>
            <a:ext cx="8858520" cy="581364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6"/>
          <p:cNvSpPr/>
          <p:nvPr/>
        </p:nvSpPr>
        <p:spPr>
          <a:xfrm>
            <a:off x="3886200" y="5994360"/>
            <a:ext cx="990720" cy="304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8"/>
          <p:cNvSpPr/>
          <p:nvPr/>
        </p:nvSpPr>
        <p:spPr>
          <a:xfrm>
            <a:off x="685800" y="1879560"/>
            <a:ext cx="990720" cy="304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0"/>
          <p:cNvSpPr/>
          <p:nvPr/>
        </p:nvSpPr>
        <p:spPr>
          <a:xfrm>
            <a:off x="5791320" y="546084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ميتوكوندري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1"/>
          <p:cNvSpPr/>
          <p:nvPr/>
        </p:nvSpPr>
        <p:spPr>
          <a:xfrm>
            <a:off x="6781680" y="50799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غشاء بلازم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2"/>
          <p:cNvSpPr/>
          <p:nvPr/>
        </p:nvSpPr>
        <p:spPr>
          <a:xfrm>
            <a:off x="6781680" y="46227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هاز جولـﭽـ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3"/>
          <p:cNvSpPr/>
          <p:nvPr/>
        </p:nvSpPr>
        <p:spPr>
          <a:xfrm>
            <a:off x="7162920" y="393696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ريبوس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4"/>
          <p:cNvSpPr/>
          <p:nvPr/>
        </p:nvSpPr>
        <p:spPr>
          <a:xfrm>
            <a:off x="838080" y="64515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هيكل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5"/>
          <p:cNvSpPr/>
          <p:nvPr/>
        </p:nvSpPr>
        <p:spPr>
          <a:xfrm>
            <a:off x="3733920" y="6299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ُحل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7"/>
          <p:cNvSpPr/>
          <p:nvPr/>
        </p:nvSpPr>
        <p:spPr>
          <a:xfrm>
            <a:off x="457200" y="30988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ركز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8"/>
          <p:cNvSpPr/>
          <p:nvPr/>
        </p:nvSpPr>
        <p:spPr>
          <a:xfrm>
            <a:off x="533520" y="21844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سوط حرك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9"/>
          <p:cNvSpPr/>
          <p:nvPr/>
        </p:nvSpPr>
        <p:spPr>
          <a:xfrm>
            <a:off x="1676520" y="8128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شبكة الإندوبلازم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0"/>
          <p:cNvSpPr/>
          <p:nvPr/>
        </p:nvSpPr>
        <p:spPr>
          <a:xfrm>
            <a:off x="7112160" y="1384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نوا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1"/>
          <p:cNvSpPr/>
          <p:nvPr/>
        </p:nvSpPr>
        <p:spPr>
          <a:xfrm>
            <a:off x="5435640" y="7621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مادة الوراث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22"/>
          <p:cNvSpPr/>
          <p:nvPr/>
        </p:nvSpPr>
        <p:spPr>
          <a:xfrm>
            <a:off x="6400800" y="11937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نو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3"/>
          <p:cNvSpPr/>
          <p:nvPr/>
        </p:nvSpPr>
        <p:spPr>
          <a:xfrm>
            <a:off x="5702400" y="15876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نو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4"/>
          <p:cNvSpPr/>
          <p:nvPr/>
        </p:nvSpPr>
        <p:spPr>
          <a:xfrm>
            <a:off x="533520" y="520056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لمات دقيق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A58B-3B6B-47A8-A95A-235C7BFE659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76320" y="750960"/>
            <a:ext cx="8915400" cy="6030720"/>
          </a:xfrm>
          <a:prstGeom prst="rect">
            <a:avLst/>
          </a:prstGeom>
          <a:ln w="0">
            <a:noFill/>
          </a:ln>
        </p:spPr>
      </p:pic>
      <p:grpSp>
        <p:nvGrpSpPr>
          <p:cNvPr id="922" name="Group 10"/>
          <p:cNvGrpSpPr/>
          <p:nvPr/>
        </p:nvGrpSpPr>
        <p:grpSpPr>
          <a:xfrm>
            <a:off x="2362320" y="2935440"/>
            <a:ext cx="4685760" cy="3504960"/>
            <a:chOff x="2362320" y="2935440"/>
            <a:chExt cx="4685760" cy="3504960"/>
          </a:xfrm>
        </p:grpSpPr>
        <p:sp>
          <p:nvSpPr>
            <p:cNvPr id="923" name="Rectangle 6"/>
            <p:cNvSpPr/>
            <p:nvPr/>
          </p:nvSpPr>
          <p:spPr>
            <a:xfrm>
              <a:off x="4190760" y="6135840"/>
              <a:ext cx="144756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7"/>
            <p:cNvSpPr/>
            <p:nvPr/>
          </p:nvSpPr>
          <p:spPr>
            <a:xfrm>
              <a:off x="5841720" y="5526000"/>
              <a:ext cx="114264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8"/>
            <p:cNvSpPr/>
            <p:nvPr/>
          </p:nvSpPr>
          <p:spPr>
            <a:xfrm>
              <a:off x="5600520" y="2935440"/>
              <a:ext cx="144756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9"/>
            <p:cNvSpPr/>
            <p:nvPr/>
          </p:nvSpPr>
          <p:spPr>
            <a:xfrm>
              <a:off x="2362320" y="5780160"/>
              <a:ext cx="91404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Text Box 11"/>
          <p:cNvSpPr/>
          <p:nvPr/>
        </p:nvSpPr>
        <p:spPr>
          <a:xfrm>
            <a:off x="6858000" y="2884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فجوة مركز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2"/>
          <p:cNvSpPr/>
          <p:nvPr/>
        </p:nvSpPr>
        <p:spPr>
          <a:xfrm>
            <a:off x="6934320" y="55134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بلاستيدة خضرا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3"/>
          <p:cNvSpPr/>
          <p:nvPr/>
        </p:nvSpPr>
        <p:spPr>
          <a:xfrm>
            <a:off x="4191120" y="6434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ثقوب بين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4"/>
          <p:cNvSpPr/>
          <p:nvPr/>
        </p:nvSpPr>
        <p:spPr>
          <a:xfrm>
            <a:off x="1066680" y="57801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Rectangle 2" descr=""/>
          <p:cNvPicPr/>
          <p:nvPr/>
        </p:nvPicPr>
        <p:blipFill>
          <a:blip r:embed="rId1"/>
          <a:stretch/>
        </p:blipFill>
        <p:spPr>
          <a:xfrm>
            <a:off x="231840" y="1878120"/>
            <a:ext cx="6431040" cy="1560240"/>
          </a:xfrm>
          <a:prstGeom prst="rect">
            <a:avLst/>
          </a:prstGeom>
          <a:ln w="0">
            <a:noFill/>
          </a:ln>
        </p:spPr>
      </p:pic>
      <p:sp>
        <p:nvSpPr>
          <p:cNvPr id="932" name="Text Box 6"/>
          <p:cNvSpPr/>
          <p:nvPr/>
        </p:nvSpPr>
        <p:spPr>
          <a:xfrm>
            <a:off x="4343400" y="3809880"/>
            <a:ext cx="3429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660066"/>
                </a:solidFill>
                <a:latin typeface="Arial"/>
                <a:cs typeface="Al-Mothnna"/>
              </a:rPr>
              <a:t>عضيــات الخليـــــــــ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ontains the cell’s genetic library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حتوى الـﭽينى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152280" y="2244240"/>
            <a:ext cx="8686800" cy="422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us contains most of the genes in an eukaryotic c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us is separated from the cytoplasm by a double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شاء مزدوج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nstantia"/>
              </a:rPr>
              <a:t>nuclear membran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nuclear membran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ontains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or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قو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allow large macromolecules and particles to pass through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ar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لاف النووى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s maintaining the shape of the nucle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5" name="Line 5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4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1066680" y="0"/>
            <a:ext cx="67820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304560" y="1012320"/>
            <a:ext cx="8381880" cy="55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خيوط الكروماتين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hich is the DNA associated with prote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hen the cell prepares to divide, the chromatin fibers coil up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لتف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be seen as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ach eukaryotic species has a characteristic number of chromosome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رقم مُمَيـٍز من الكروموسوم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but sex cells (eggs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2"/>
          <p:cNvSpPr/>
          <p:nvPr/>
        </p:nvSpPr>
        <p:spPr>
          <a:xfrm>
            <a:off x="380880" y="852480"/>
            <a:ext cx="37339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"/>
          <p:cNvSpPr/>
          <p:nvPr/>
        </p:nvSpPr>
        <p:spPr>
          <a:xfrm>
            <a:off x="1828800" y="191916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The Organism’s Basic Unit of Structure and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4"/>
          <p:cNvSpPr/>
          <p:nvPr/>
        </p:nvSpPr>
        <p:spPr>
          <a:xfrm>
            <a:off x="1066680" y="359568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5"/>
          <p:cNvSpPr/>
          <p:nvPr/>
        </p:nvSpPr>
        <p:spPr>
          <a:xfrm>
            <a:off x="6172200" y="351936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6"/>
          <p:cNvSpPr/>
          <p:nvPr/>
        </p:nvSpPr>
        <p:spPr>
          <a:xfrm>
            <a:off x="3352680" y="2376360"/>
            <a:ext cx="281952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685800" y="5195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5943600" y="511956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2"/>
          <p:cNvSpPr/>
          <p:nvPr/>
        </p:nvSpPr>
        <p:spPr>
          <a:xfrm>
            <a:off x="4419720" y="12333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ellula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Small ro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13"/>
          <p:cNvSpPr/>
          <p:nvPr/>
        </p:nvSpPr>
        <p:spPr>
          <a:xfrm>
            <a:off x="152280" y="344340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بدا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4"/>
          <p:cNvSpPr/>
          <p:nvPr/>
        </p:nvSpPr>
        <p:spPr>
          <a:xfrm>
            <a:off x="685800" y="557676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كائنات الدقي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5"/>
          <p:cNvSpPr/>
          <p:nvPr/>
        </p:nvSpPr>
        <p:spPr>
          <a:xfrm>
            <a:off x="7086600" y="3214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متقد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65" dur="1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1).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Pro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eu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cells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    differ in size and complexity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151920" y="2698920"/>
            <a:ext cx="8915400" cy="51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are surrounded by a </a:t>
            </a:r>
            <a:r>
              <a:rPr b="1" i="1" lang="en-US" sz="2000" spc="-1" strike="noStrike">
                <a:solidFill>
                  <a:srgbClr val="ff0000"/>
                </a:solidFill>
                <a:latin typeface="Constantia"/>
              </a:rPr>
              <a:t>plasma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شاء بلازمى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emi-fluid substanc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ادة النصف سائل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يتوبلازم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ntaining the cell organelles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ِضيات الخل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have tiny organelles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ضيات صغير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Constantia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6"/>
          <p:cNvSpPr/>
          <p:nvPr/>
        </p:nvSpPr>
        <p:spPr>
          <a:xfrm>
            <a:off x="2514600" y="201132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تشا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1).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Pro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eu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cells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    differ in size and complexity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76320" y="2701440"/>
            <a:ext cx="8991360" cy="54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74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 major difference </a:t>
            </a:r>
            <a:r>
              <a:rPr b="1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رق الأساسى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etween prokaryotic and eukaryotic cells is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location of chromosomes</a:t>
            </a:r>
            <a:r>
              <a:rPr b="1" lang="en-US" sz="3100" spc="-1" strike="noStrike">
                <a:solidFill>
                  <a:srgbClr val="ff33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وضع الصبغيات</a:t>
            </a: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77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an eukaryotic cell, chromosomes are contained in a true </a:t>
            </a: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nucleu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(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واة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a prokaryotic cell, the DNA is concentrated in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nucle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ـبه نوا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without a membrane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دون غـشاء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separating it from the rest of the cell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prokaryotic cell, DNA is a single strand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حادى الشريط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or double strand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نائى الشريط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DNA. But in eukaryotic cell, DNA is double stran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7"/>
          <p:cNvSpPr/>
          <p:nvPr/>
        </p:nvSpPr>
        <p:spPr>
          <a:xfrm>
            <a:off x="2514600" y="1782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4"/>
          <p:cNvSpPr/>
          <p:nvPr/>
        </p:nvSpPr>
        <p:spPr>
          <a:xfrm>
            <a:off x="2895480" y="1828800"/>
            <a:ext cx="335304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9"/>
          <p:cNvGrpSpPr/>
          <p:nvPr/>
        </p:nvGrpSpPr>
        <p:grpSpPr>
          <a:xfrm>
            <a:off x="2133720" y="2438280"/>
            <a:ext cx="4952880" cy="914400"/>
            <a:chOff x="2133720" y="2438280"/>
            <a:chExt cx="4952880" cy="914400"/>
          </a:xfrm>
        </p:grpSpPr>
        <p:sp>
          <p:nvSpPr>
            <p:cNvPr id="822" name="Line 5"/>
            <p:cNvSpPr/>
            <p:nvPr/>
          </p:nvSpPr>
          <p:spPr>
            <a:xfrm>
              <a:off x="4572000" y="24382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6"/>
            <p:cNvSpPr/>
            <p:nvPr/>
          </p:nvSpPr>
          <p:spPr>
            <a:xfrm>
              <a:off x="2133720" y="28954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7"/>
            <p:cNvSpPr/>
            <p:nvPr/>
          </p:nvSpPr>
          <p:spPr>
            <a:xfrm>
              <a:off x="213372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8"/>
            <p:cNvSpPr/>
            <p:nvPr/>
          </p:nvSpPr>
          <p:spPr>
            <a:xfrm>
              <a:off x="708660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Oval 10"/>
          <p:cNvSpPr/>
          <p:nvPr/>
        </p:nvSpPr>
        <p:spPr>
          <a:xfrm>
            <a:off x="990720" y="3429000"/>
            <a:ext cx="236196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1"/>
          <p:cNvSpPr/>
          <p:nvPr/>
        </p:nvSpPr>
        <p:spPr>
          <a:xfrm>
            <a:off x="5943600" y="3429000"/>
            <a:ext cx="236232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2"/>
          <p:cNvSpPr/>
          <p:nvPr/>
        </p:nvSpPr>
        <p:spPr>
          <a:xfrm>
            <a:off x="4952880" y="4513320"/>
            <a:ext cx="3810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xist in extreme environment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يئات القاسي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hot and salt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3"/>
          <p:cNvSpPr/>
          <p:nvPr/>
        </p:nvSpPr>
        <p:spPr>
          <a:xfrm>
            <a:off x="838080" y="4565520"/>
            <a:ext cx="2667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xist in most environ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4"/>
          <p:cNvSpPr/>
          <p:nvPr/>
        </p:nvSpPr>
        <p:spPr>
          <a:xfrm>
            <a:off x="380880" y="52578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are differing in some other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tructur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biochemic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physiologic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haracteristic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5"/>
          <p:cNvSpPr/>
          <p:nvPr/>
        </p:nvSpPr>
        <p:spPr>
          <a:xfrm>
            <a:off x="152280" y="16765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7"/>
          <p:cNvSpPr/>
          <p:nvPr/>
        </p:nvSpPr>
        <p:spPr>
          <a:xfrm>
            <a:off x="2438280" y="762120"/>
            <a:ext cx="5334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pperplate Gothic Bold"/>
              </a:rPr>
              <a:t>Types of Prokary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8" descr=""/>
          <p:cNvPicPr/>
          <p:nvPr/>
        </p:nvPicPr>
        <p:blipFill>
          <a:blip r:embed="rId1"/>
          <a:stretch/>
        </p:blipFill>
        <p:spPr>
          <a:xfrm>
            <a:off x="0" y="1809720"/>
            <a:ext cx="9144000" cy="5048280"/>
          </a:xfrm>
          <a:prstGeom prst="rect">
            <a:avLst/>
          </a:prstGeom>
          <a:ln w="0">
            <a:noFill/>
          </a:ln>
        </p:spPr>
      </p:pic>
      <p:sp>
        <p:nvSpPr>
          <p:cNvPr id="834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6"/>
          <p:cNvSpPr/>
          <p:nvPr/>
        </p:nvSpPr>
        <p:spPr>
          <a:xfrm>
            <a:off x="3962520" y="9907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380880" y="7254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pperplate Gothic Bold"/>
              </a:rPr>
              <a:t>A)-Prokary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4"/>
          <p:cNvSpPr/>
          <p:nvPr/>
        </p:nvSpPr>
        <p:spPr>
          <a:xfrm>
            <a:off x="1981080" y="5927760"/>
            <a:ext cx="6400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4  The prokaryotic cell is much simpler in structure, lacking a nucleus and the other membrane-enclosed organelles of the eukaryotic cel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3" descr=""/>
          <p:cNvPicPr/>
          <p:nvPr/>
        </p:nvPicPr>
        <p:blipFill>
          <a:blip r:embed="rId1"/>
          <a:srcRect l="0" t="0" r="0" b="3787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6"/>
          <p:cNvSpPr/>
          <p:nvPr/>
        </p:nvSpPr>
        <p:spPr>
          <a:xfrm>
            <a:off x="4343400" y="2387520"/>
            <a:ext cx="119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غشاء بلازم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7"/>
          <p:cNvSpPr/>
          <p:nvPr/>
        </p:nvSpPr>
        <p:spPr>
          <a:xfrm>
            <a:off x="4444920" y="2921040"/>
            <a:ext cx="119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جدار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8"/>
          <p:cNvSpPr/>
          <p:nvPr/>
        </p:nvSpPr>
        <p:spPr>
          <a:xfrm>
            <a:off x="3733920" y="129528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شبه نوا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9"/>
          <p:cNvSpPr/>
          <p:nvPr/>
        </p:nvSpPr>
        <p:spPr>
          <a:xfrm>
            <a:off x="4114800" y="18288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ريبوزوما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0"/>
          <p:cNvSpPr/>
          <p:nvPr/>
        </p:nvSpPr>
        <p:spPr>
          <a:xfrm>
            <a:off x="4952880" y="35496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كبسول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3"/>
          <p:cNvSpPr/>
          <p:nvPr/>
        </p:nvSpPr>
        <p:spPr>
          <a:xfrm>
            <a:off x="762120" y="39625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أسوا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AutoShape 13"/>
          <p:cNvSpPr/>
          <p:nvPr/>
        </p:nvSpPr>
        <p:spPr>
          <a:xfrm>
            <a:off x="1574640" y="30034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8"/>
          <p:cNvGrpSpPr/>
          <p:nvPr/>
        </p:nvGrpSpPr>
        <p:grpSpPr>
          <a:xfrm>
            <a:off x="1523880" y="2940120"/>
            <a:ext cx="5943600" cy="2133360"/>
            <a:chOff x="1523880" y="2940120"/>
            <a:chExt cx="5943600" cy="2133360"/>
          </a:xfrm>
        </p:grpSpPr>
        <p:sp>
          <p:nvSpPr>
            <p:cNvPr id="847" name="AutoShape 7"/>
            <p:cNvSpPr/>
            <p:nvPr/>
          </p:nvSpPr>
          <p:spPr>
            <a:xfrm>
              <a:off x="1600200" y="29401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AutoShape 5"/>
            <p:cNvSpPr/>
            <p:nvPr/>
          </p:nvSpPr>
          <p:spPr>
            <a:xfrm>
              <a:off x="1523880" y="31687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Text Box 4"/>
          <p:cNvSpPr/>
          <p:nvPr/>
        </p:nvSpPr>
        <p:spPr>
          <a:xfrm>
            <a:off x="228600" y="797040"/>
            <a:ext cx="38098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6"/>
          <p:cNvSpPr/>
          <p:nvPr/>
        </p:nvSpPr>
        <p:spPr>
          <a:xfrm>
            <a:off x="1638360" y="32702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9"/>
          <p:cNvSpPr/>
          <p:nvPr/>
        </p:nvSpPr>
        <p:spPr>
          <a:xfrm>
            <a:off x="1739880" y="33591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10"/>
          <p:cNvSpPr/>
          <p:nvPr/>
        </p:nvSpPr>
        <p:spPr>
          <a:xfrm>
            <a:off x="1816200" y="34354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11"/>
          <p:cNvSpPr/>
          <p:nvPr/>
        </p:nvSpPr>
        <p:spPr>
          <a:xfrm>
            <a:off x="2806560" y="36734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17"/>
          <p:cNvGrpSpPr/>
          <p:nvPr/>
        </p:nvGrpSpPr>
        <p:grpSpPr>
          <a:xfrm>
            <a:off x="6934320" y="1568520"/>
            <a:ext cx="1752480" cy="1523880"/>
            <a:chOff x="6934320" y="1568520"/>
            <a:chExt cx="1752480" cy="1523880"/>
          </a:xfrm>
        </p:grpSpPr>
        <p:sp>
          <p:nvSpPr>
            <p:cNvPr id="855" name="Line 15"/>
            <p:cNvSpPr/>
            <p:nvPr/>
          </p:nvSpPr>
          <p:spPr>
            <a:xfrm flipV="1">
              <a:off x="6934320" y="21780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16"/>
            <p:cNvSpPr/>
            <p:nvPr/>
          </p:nvSpPr>
          <p:spPr>
            <a:xfrm>
              <a:off x="7010280" y="15685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Group 22"/>
          <p:cNvGrpSpPr/>
          <p:nvPr/>
        </p:nvGrpSpPr>
        <p:grpSpPr>
          <a:xfrm>
            <a:off x="4952880" y="1568520"/>
            <a:ext cx="1676520" cy="1675800"/>
            <a:chOff x="4952880" y="1568520"/>
            <a:chExt cx="1676520" cy="1675800"/>
          </a:xfrm>
        </p:grpSpPr>
        <p:sp>
          <p:nvSpPr>
            <p:cNvPr id="858" name="Line 20"/>
            <p:cNvSpPr/>
            <p:nvPr/>
          </p:nvSpPr>
          <p:spPr>
            <a:xfrm flipV="1">
              <a:off x="4952880" y="21776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21"/>
            <p:cNvSpPr/>
            <p:nvPr/>
          </p:nvSpPr>
          <p:spPr>
            <a:xfrm>
              <a:off x="4952880" y="15685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Group 25"/>
          <p:cNvGrpSpPr/>
          <p:nvPr/>
        </p:nvGrpSpPr>
        <p:grpSpPr>
          <a:xfrm>
            <a:off x="2438280" y="1568520"/>
            <a:ext cx="2057400" cy="1790280"/>
            <a:chOff x="2438280" y="1568520"/>
            <a:chExt cx="2057400" cy="1790280"/>
          </a:xfrm>
        </p:grpSpPr>
        <p:sp>
          <p:nvSpPr>
            <p:cNvPr id="861" name="Line 23"/>
            <p:cNvSpPr/>
            <p:nvPr/>
          </p:nvSpPr>
          <p:spPr>
            <a:xfrm flipV="1">
              <a:off x="2819520" y="22158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Text Box 24"/>
            <p:cNvSpPr/>
            <p:nvPr/>
          </p:nvSpPr>
          <p:spPr>
            <a:xfrm>
              <a:off x="2438280" y="15685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28"/>
          <p:cNvGrpSpPr/>
          <p:nvPr/>
        </p:nvGrpSpPr>
        <p:grpSpPr>
          <a:xfrm>
            <a:off x="4876920" y="4540320"/>
            <a:ext cx="2057400" cy="2013840"/>
            <a:chOff x="4876920" y="4540320"/>
            <a:chExt cx="2057400" cy="2013840"/>
          </a:xfrm>
        </p:grpSpPr>
        <p:sp>
          <p:nvSpPr>
            <p:cNvPr id="864" name="Line 26"/>
            <p:cNvSpPr/>
            <p:nvPr/>
          </p:nvSpPr>
          <p:spPr>
            <a:xfrm flipH="1">
              <a:off x="5791320" y="45403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27"/>
            <p:cNvSpPr/>
            <p:nvPr/>
          </p:nvSpPr>
          <p:spPr>
            <a:xfrm>
              <a:off x="4876920" y="56070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32"/>
          <p:cNvGrpSpPr/>
          <p:nvPr/>
        </p:nvGrpSpPr>
        <p:grpSpPr>
          <a:xfrm>
            <a:off x="2895480" y="4083120"/>
            <a:ext cx="2057400" cy="2044440"/>
            <a:chOff x="2895480" y="4083120"/>
            <a:chExt cx="2057400" cy="2044440"/>
          </a:xfrm>
        </p:grpSpPr>
        <p:sp>
          <p:nvSpPr>
            <p:cNvPr id="867" name="Line 30"/>
            <p:cNvSpPr/>
            <p:nvPr/>
          </p:nvSpPr>
          <p:spPr>
            <a:xfrm flipH="1">
              <a:off x="3809520" y="40831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31"/>
            <p:cNvSpPr/>
            <p:nvPr/>
          </p:nvSpPr>
          <p:spPr>
            <a:xfrm>
              <a:off x="2895480" y="56070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53"/>
          <p:cNvGrpSpPr/>
          <p:nvPr/>
        </p:nvGrpSpPr>
        <p:grpSpPr>
          <a:xfrm>
            <a:off x="2133720" y="3535200"/>
            <a:ext cx="4495320" cy="1219320"/>
            <a:chOff x="2133720" y="3535200"/>
            <a:chExt cx="4495320" cy="1219320"/>
          </a:xfrm>
        </p:grpSpPr>
        <p:sp>
          <p:nvSpPr>
            <p:cNvPr id="870" name="Oval 39"/>
            <p:cNvSpPr/>
            <p:nvPr/>
          </p:nvSpPr>
          <p:spPr>
            <a:xfrm>
              <a:off x="2133720" y="36874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40"/>
            <p:cNvSpPr/>
            <p:nvPr/>
          </p:nvSpPr>
          <p:spPr>
            <a:xfrm>
              <a:off x="2438280" y="43732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41"/>
            <p:cNvSpPr/>
            <p:nvPr/>
          </p:nvSpPr>
          <p:spPr>
            <a:xfrm>
              <a:off x="2209680" y="40687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42"/>
            <p:cNvSpPr/>
            <p:nvPr/>
          </p:nvSpPr>
          <p:spPr>
            <a:xfrm>
              <a:off x="4952880" y="4678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43"/>
            <p:cNvSpPr/>
            <p:nvPr/>
          </p:nvSpPr>
          <p:spPr>
            <a:xfrm>
              <a:off x="3657600" y="45259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44"/>
            <p:cNvSpPr/>
            <p:nvPr/>
          </p:nvSpPr>
          <p:spPr>
            <a:xfrm>
              <a:off x="3047760" y="4601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45"/>
            <p:cNvSpPr/>
            <p:nvPr/>
          </p:nvSpPr>
          <p:spPr>
            <a:xfrm>
              <a:off x="274320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46"/>
            <p:cNvSpPr/>
            <p:nvPr/>
          </p:nvSpPr>
          <p:spPr>
            <a:xfrm>
              <a:off x="518148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47"/>
            <p:cNvSpPr/>
            <p:nvPr/>
          </p:nvSpPr>
          <p:spPr>
            <a:xfrm>
              <a:off x="4419360" y="35352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48"/>
            <p:cNvSpPr/>
            <p:nvPr/>
          </p:nvSpPr>
          <p:spPr>
            <a:xfrm>
              <a:off x="358128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49"/>
            <p:cNvSpPr/>
            <p:nvPr/>
          </p:nvSpPr>
          <p:spPr>
            <a:xfrm>
              <a:off x="6476760" y="42210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50"/>
            <p:cNvSpPr/>
            <p:nvPr/>
          </p:nvSpPr>
          <p:spPr>
            <a:xfrm>
              <a:off x="6476760" y="38401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51"/>
            <p:cNvSpPr/>
            <p:nvPr/>
          </p:nvSpPr>
          <p:spPr>
            <a:xfrm>
              <a:off x="5562360" y="45259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52"/>
            <p:cNvSpPr/>
            <p:nvPr/>
          </p:nvSpPr>
          <p:spPr>
            <a:xfrm>
              <a:off x="6019560" y="35352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Group 58"/>
          <p:cNvGrpSpPr/>
          <p:nvPr/>
        </p:nvGrpSpPr>
        <p:grpSpPr>
          <a:xfrm>
            <a:off x="304920" y="4144680"/>
            <a:ext cx="2146320" cy="1816200"/>
            <a:chOff x="304920" y="4144680"/>
            <a:chExt cx="2146320" cy="1816200"/>
          </a:xfrm>
        </p:grpSpPr>
        <p:sp>
          <p:nvSpPr>
            <p:cNvPr id="885" name="Text Box 54"/>
            <p:cNvSpPr/>
            <p:nvPr/>
          </p:nvSpPr>
          <p:spPr>
            <a:xfrm>
              <a:off x="304920" y="54403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 flipV="1">
              <a:off x="1384560" y="44370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Line 57"/>
            <p:cNvSpPr/>
            <p:nvPr/>
          </p:nvSpPr>
          <p:spPr>
            <a:xfrm flipV="1">
              <a:off x="1371960" y="41446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- Eukaryot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228600" y="1892160"/>
            <a:ext cx="8686800" cy="40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eukaryotic cell has internal membranes, which parti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ـُقـَســم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cell into compartment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عضاء وظيف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se membranes also participate in metabolism as many enzymes are built into membran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general structure of a biological membrane is a double layer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نائى الطبقا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phospholipids and diverse protein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روتينات متنوع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ach type of membrane has a unique combina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ركيب مـُمـَيـٍز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lipids and proteins for its specific func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د أشرف مشالي</cp:lastModifiedBy>
  <dcterms:modified xsi:type="dcterms:W3CDTF">2013-09-01T08:10:27Z</dcterms:modified>
  <cp:revision>271</cp:revision>
  <dc:subject/>
  <dc:title>The Cell Organelles</dc:title>
</cp:coreProperties>
</file>