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22D2-D85C-41BF-94D1-AFD5E5B45B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6845-1C37-456F-A043-5D113553C2E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733-4ABA-4D36-9DBA-FB071E1E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727-8723-44AC-A7B3-7F23586F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7BC78-DFAC-49E2-A982-3B70DBD4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B7A84-F507-4070-B793-92323993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42970-9833-4C5A-95C8-086149EF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757D3-9A7B-48EE-A407-44BD815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3C90C-BCCC-47B2-AA54-3522A290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F2BE9-2DC3-443B-BCC0-D38908A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EF379-488C-4682-939F-20BA81D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FE801-3A4A-4AE6-9602-59D495A3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BB5B3-205E-4198-AC33-97D78750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B58AD-0415-4314-8777-67640775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5D5-27D6-423F-B43B-BE7C6410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20063-79DB-4C8B-A6C9-5B0CAFEE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B5175-A2A4-4953-B8F4-1E5415B4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62780-15E2-4AEC-BBFD-68FECC50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11BDF-6752-4366-84F9-DAA00472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35706-7D71-4DB3-A8A6-D0A53A0C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F1970-4E20-44C1-86C1-434F30B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7918A-15F6-4388-B342-9861D99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C5405-61DB-4310-9530-6CC142A4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638B3-4CDB-4BA6-912F-42530786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7181C-3DF0-4737-829B-CF8A9852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81E-9C3C-45D3-8612-258B1F31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3C189-618B-4E7F-AF3E-1B078A86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52C04-A5FC-4E8A-AD04-FE770A91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C8A6E-1DAB-49B5-93DA-AC1829C8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95AB4-4BF9-4097-A72F-2B1B0349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1E6D6-36FA-411C-92D5-42886278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7630-A774-4FC9-BE21-E5E5BDC1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F9D20-E2A4-4FED-96C9-1C47986B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26F4E-4F15-47B3-8329-5E1D7D2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9D0EB-ABE2-41F9-9837-53DC38F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85FC1-C7B5-4F63-8E11-D6B4273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DA26-176F-4807-B9EB-D13A276E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89482-D934-49BB-92F0-A874CFF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60E04-0B33-4C46-AC0F-91D1A25E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2BF18-10CA-46DF-BC68-59F91125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641A9-9F79-49E2-98C6-1BA97914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D009A-7D54-4E69-9A7A-13AB922C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1A871-6F03-40FD-9048-AB202D35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ACF88-438C-40F8-9C11-BB6B129E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71102-AC9F-4271-9B45-C56F02FA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641D8-7C3F-456C-AEE7-EE7EF9F1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7FE5C-06CC-4F80-A6FE-04C4F9A8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DE8F-F104-4219-9AEC-B81659AF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2369F-9217-49E8-B3FA-470A0785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3F63F-E0C1-40FA-A157-F7127084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31140-7D7B-4BE5-B94E-BE67990C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7DCC3-E619-4BB4-9F1B-7A40FBCF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1320E-65E9-42C1-BDD5-FB902632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927BF-4D5C-41D3-B502-91FC1043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0F2D4-7E90-4C1D-8344-5FC221BF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C94F5-5B2B-4A84-8083-0BE015E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185CC-507C-43C6-A113-CCBCE223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567BC-BFB0-473A-A0D2-893230DD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3C6A-6382-48F5-AA59-92B7AC93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928D7-7085-46B5-99BC-85F8315F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B65CC-957A-4CD9-9828-2E09A1F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4D1C7-A51C-4BC1-BF22-51CF701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BE36C-7BA3-4977-9673-F4F4C6B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6D62E-E911-428A-B7FE-41CA442B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0CE57-AC21-4D97-BE15-303A45D4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9F76A-C12D-4F9A-96CA-598FF43F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1B11B-5E8E-48AB-934C-5B6AB73D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B019D-507C-4E7F-8904-231EC4D4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52842-0965-4DEA-AACF-694D5AFB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26AC-5B22-4A66-B28C-DA53A674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ADDE8-C535-444D-9B59-FF710053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FC481-43EE-4612-B29D-A5F86DB7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50F09-AB28-4580-9B33-97ADBC81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B05C4-39F2-4AB0-84EA-CBCAAF41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729C2-C0B2-44DA-A95C-D83C8ED3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6829A-4D9D-4EC5-BB20-BCD8547D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6C877-EBF5-4257-A08F-07268684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FEFA8-F5C5-47DF-95BC-6C855E54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77C2D-5AAE-4ED0-93A4-A3206E88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58162-1D28-476D-BB78-45CB8F92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F684-2A5B-4ACA-ACB7-8E1CF076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14998-B357-4AD4-84EE-A604C6FF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E5E2C-AB7C-4973-A232-1733FFAD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79CB1-8D53-4171-A018-25EC1972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2F27A-01FC-4EB9-9C43-8C94F823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E5684-4369-4152-A287-F25B6A68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86AF2-5C18-4914-AD65-CE1E839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66F7E-98E2-498B-B28D-30E8FC11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C1509-C97D-4BC5-8EE5-2A41AB3E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F33D5-80DC-47FE-990B-40F4FFEB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7206B-6414-4913-AF61-65747BBC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E367-E2BF-44CF-A4D8-3292493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87316-7301-4520-A7EA-E28A5CE7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93EAB-937A-4BCB-BE34-4396AF95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EAB1C-0CE9-4F30-AADC-836EDDFE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FF84C-BD78-4092-9057-44D7B032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8CA98-25A1-4022-8218-AB0CC8E0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65CB2-0C23-45FB-94DA-158CB076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0FD7D-1E00-48DA-B1B9-39F95E8B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8F0B4-40B3-4A8D-B05B-CD90A0C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AF5FC-1D5A-4EAC-8DC1-79946486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C953F-BAB8-45AA-B698-332A7D5E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C058-A4BA-4A1D-8A18-2F167D4D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38881-319C-42C5-B518-15CA0211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94EBC-8D19-42E4-BFAE-23D43984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33727-7721-4169-960D-FFB85CAC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F16-C387-4A96-9FE3-48AFD2E9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862C-2E73-48FD-9570-3B0CDC1E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DC54-2F59-45C1-855A-AE45A4D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201D-5CE3-4B54-BB24-9802433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7493-0DCF-4883-B0BF-7443E511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D75B-E8BD-4093-8E3C-E91C0B6C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2A37-9EA0-4F1B-9809-19A2FEDF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6C03E-EC1A-4160-989C-E4606D5A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1CF6-E2E3-42D1-8EC0-ACB3C3EA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5227-825A-4C55-B238-FEEAC5C7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F2E5-FECC-4C45-ADFA-CD523B58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1CC-8B36-466F-A2A8-E633CEB4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F574-2B5B-459D-A06B-A14C5A45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E143-00AF-46D8-80EE-A9A3F85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28B5-B429-4E08-AD1D-55C5A597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92A7-63F3-4E62-BDE8-D6EAAC2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7C12-E7AB-4DC7-851F-DCEBAC9B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13E3-6B42-451C-8E87-F52F07F2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19D1-66B4-4F8C-BFEE-EB08A051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0D437-9C25-457D-8B17-98321244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E9D3-E3EE-4CAE-97A6-AC5915F6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4296F-FA53-4923-A00E-10A67595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613-CA52-46EB-8837-154115B4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2C68-D352-4C82-8F14-8FFB6148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4D30-5B1D-4D81-9FCB-C0EBFD58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0652-64AC-433E-B92E-BE0108D8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E422-FFDF-45AA-BD97-52C9AB06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8A99-CE50-4320-8687-C56F554A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67E0-58D5-4992-97D7-FC61A2E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6BA99-8C00-46A6-882A-753A6851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F801-B502-45EF-A0BF-D9B59350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FA00-ED82-4462-BC5B-B314E33C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1614-AE6F-473F-9B5C-1AD691F3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C47-6D9B-4D77-9E3F-3DDE632C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830C-9C3E-47FD-A4C2-493B36AF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031C2-8A20-4297-8A4F-5FFFC5AE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B76E9-2ADA-4596-9409-4EB29CDC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1BD7-DBEB-4F3F-8E1F-2EE98BD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39D62-480B-48AB-BD72-1F82FA92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9D7E-F6D3-45ED-88FA-07CCB5F8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0A14A-3FC0-41F9-91B4-F5EFFE02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8779B-BFBC-483A-B928-1FD40249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65E3-6E72-4809-9601-DB8CC970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6455F-F5B8-4DE3-B261-77416A92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46F-392C-4212-BAB5-A263BB12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5AE6-9E31-4B10-B73F-E994C186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513F-670C-45D0-819C-C29861A2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91233-3EBA-41DE-B168-7CE06A6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1ABF6-06BE-4486-BEB6-6BCBA751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9EC0-E5EF-40AF-B5C5-D67EEE93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9DEF2-957F-4DC2-B3B8-0EEC8DA0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7081F-9A36-48C6-8254-B3725A4C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A0A63-C1B4-4E21-9855-090491B1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10E3B-C263-40ED-B33A-92396C17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A021E-366C-48C3-A9B9-E0D0FE23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F5B-1CF3-418D-950D-741DFEEB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2B6B5-DC8E-4699-B304-3C9A2BFA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45351-4C31-4DA1-929F-6B6147E5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8F432-DFE9-49BA-88AA-6E41AF16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0529D-2DCF-43CA-B4DC-157F385B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147F2-E883-4124-812E-3C2374D1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31EE3-F314-4BEF-9AB9-7C8F0320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D18E7-1B25-4011-B00E-4474A87F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1817F-9615-43CD-BDC9-29212B0C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307A9-5E61-4C6F-B8E3-8D769089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6BF3-3AEA-4800-AD39-0D3919C5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A4E-FDE9-4220-A1C4-8F298EEF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B586C-AF16-4628-98BD-147DF88D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FF475-79C9-4C36-9403-3DF0FC73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32B2C-D8E9-4D40-98A3-204D16B4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6B891-7103-4442-A129-C7AC97D0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DC3DE-427A-4A4A-8D85-0FE6352F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68007-7891-4EDD-88D3-EDFB38B7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B9448-4A91-4126-A9D5-7212F7EB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9851D-6594-4B73-9574-8232CD00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07E6D-FCB0-41EB-86AA-7659F153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FEE5-8FB1-4BC2-B836-B8112766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974-C457-4F5D-A1ED-25476B32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F3D43-8CFF-4DBC-B976-3026E132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AC395-97F1-4307-84D7-2E92A9BB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E59FD-6B59-46F2-8B48-8AB56CE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08D67-8EE7-4A93-82EC-959663B0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854C-A816-41ED-9A67-FCEF2829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7F9A6-9356-440F-8DB5-56EF832A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D585-CA7B-46B5-B8F4-7A496B4A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B651C-8021-4445-BA3D-8E91B940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B7C46-9977-4C8F-A078-8CB02130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68491-C40E-4C15-9F6A-015516D8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169-09BA-4063-B241-04EFD9B058B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AAD5-1400-4E4A-940E-F9268FDC9C47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A20E-ACE2-48CC-B9A1-5A8C78DA0F2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521D-B303-4853-9B0C-87DD17D5CC7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C150-9F4D-4175-89C6-96B285C921A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830A-5EBB-41E8-99F6-E3F22FEA9F1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0B6C-35E0-44E0-AD11-1FA0BF60E1E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B83E-5279-4E1A-90FB-849EFA0C6D0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F69D-6FD5-4DA3-8B8B-AE200F70055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F71C-9772-4F2F-842A-3273F87A923C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C23F-F25B-45CF-A62A-9E51913E21A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08A2-C41B-4E7D-9693-F3A3A9426B8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647B-87A8-4304-937C-74877A3C79F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6FB1-590F-4CC6-98C3-F1CC1D3636A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754E-352F-4723-9CF0-6EA2AD30476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3AA4-B0A1-436F-A6A7-235BDF92522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8552-8AF9-4459-BE2D-EDB558C82DE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10:27Z</dcterms:modified>
  <cp:revision>271</cp:revision>
  <dc:subject/>
  <dc:title>The Cell Organelles</dc:title>
</cp:coreProperties>
</file>