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4CC5-F954-40EE-A7A0-B4B966D65D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DDD2-0EE5-4B40-B3EF-9B47544400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B23-C1BC-4837-83AC-E88F18A4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A35-DECB-4390-A579-7B2E8123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FFF1F-6F85-491C-8938-E69C33A3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327CC-E72D-4B5A-BABE-3A649AD7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3D218-29F1-4644-A240-1BC13D06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E1CC2-9899-4F01-B20C-F7DF4F4D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4B583-D620-413B-9CED-4F2A65AF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9B87A-1765-44E1-B488-CAD69F17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59F7F-207A-4329-A277-42EEB39F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923F2-1014-46BB-8741-274A50D1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41F48-177E-4AA7-ABAA-019D46BF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727CF-048A-4B87-B3A5-301B7CAD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6EA-ECB4-4B70-BF54-34CF5118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28514-D22B-48C0-9AD0-163195DA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3349F-FC38-4B54-A97C-3C5F2C56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D06DA-7B1F-41B5-811D-6EC6F1E1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444D8-35F5-4257-ADC7-84C00DDF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7F9E8-929E-45CC-B278-45F792D6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50A1A-55F7-40C0-949F-B0B8BF89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2B069-0315-452D-9186-115C8C09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CD2BB-2697-4411-AC01-3FD7199E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EC01D-727B-43E2-B832-FA879520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CAE14-B607-4CD7-B8D1-5C885832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118-8C2E-49CB-8453-F7E1A91F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05348-B5EE-4000-97F4-D9918944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A36F5-ABF4-4EF3-B061-6F8179C8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2AE42-3AE1-4DC1-9E88-97AF7D0F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CD3C8-09F7-4436-B3F4-C49C281F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DE6B3-795B-4D49-AB38-3C222C08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B4FA6-5C8A-4496-A8DC-F944F34F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9F618-EB4D-4937-8C57-AB1B3B64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32EBE-DF31-452D-8562-B2E779FF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FDB0C-E375-4F93-894D-720F466C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E5F4D-BBDA-4661-8553-E16E682D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7A41-783B-4F15-99DF-33877DB1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DDDD4-325E-4C19-A3C8-30F0A47D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33EBA-8DEB-4807-B3B9-3CD6BFA1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55E12-01BC-455D-A8D9-4D8B5DF9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2A6F8-18D2-44A8-942E-D8D26387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FD508-EF1F-493E-86ED-DE3A0FBC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6D0F3-9986-4B52-AE76-37F8AC8F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8A8C8-226B-465A-96A3-CB715D08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5BD39-2CFE-4563-ABBF-BBCF0C2F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91C28-546F-4998-8B01-F7C899AC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D4FA7-00C4-4054-B044-7C12124B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5D73-BEA1-41E4-B550-1E28638A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05DE6-B411-45FE-9711-85C3E209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2F849-D212-450C-BA23-86DF2AD8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1CF22-AE46-45A6-B253-65C59557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1FDE0-097E-482E-8462-B6880F25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0B40F-AA77-48B0-9E1D-27233002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3E7A6-EE22-496F-8CF6-C4C2B3D6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0C44E-9978-4A02-B5D7-1F013632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C8A1C-2BF8-45E7-A5E9-7160F742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032C4-0F9E-4B00-BB43-80EDB73A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1B05E-B4B1-4D8B-B749-598C6C9D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5042-031B-4241-88AB-F4374666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29448-573A-4D14-A798-81DEDE77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E0730-E2AD-41F4-B231-EE0AE4E2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3CA9A-B6F4-4822-B0A8-00A5088D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A985B-9E47-4549-A07F-6D670E3B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993BD-3123-4610-9200-C871CFE9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A9057-52BD-4CF7-95E9-9F5EEC41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7B431-5C4D-4751-897D-F948D7F7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1C31A-3F49-461E-8209-CDA4F7F0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1B868-79A8-4248-BAC3-48D6E676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D4AED1-74BE-43DB-8D58-65308CEF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B25C-880E-4AA0-942C-FC5C2770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3D80F-B15F-4996-8982-41026E49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CA9F8-2EA9-4049-8299-8DD3E9EC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7160D-D71A-4E1C-B4A5-D6237535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26B4D-08A6-4042-B481-4321124D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3128BB-5E96-40BB-95D6-8B32833B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0F727-DCA7-41A8-AA7B-578EED0D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0294D-FDB2-4F7C-8DC6-A8D7181A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F4CE3-590F-494A-A8B2-C5912F32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C116D-55DB-4204-B452-250A232B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A7536-1450-4DB6-B460-7A4440C9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6ABD-66F8-4526-8857-5BE01987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02FCF-F2DD-4074-9C1F-7611FEC1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CA11C-FC45-4B8B-9CA5-90CE2B98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5FE641-0761-4275-A07A-E1F7719D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D8AF3-9089-46FC-9EEC-917AE392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DA0E8-DFAC-44D1-8D34-2459E549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43168-86CD-4125-8849-7A30D1C5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49D706-2F0B-46CE-ACED-D8F252C9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2A59FE-14AA-420D-9969-BE4E1CED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5CE61-8927-4174-BDEB-BB0B3380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D7571-E3F1-4464-8544-968B8669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8085-3C22-4E97-83A6-2194031F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C7F84-6565-46D8-B3C6-764873A0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C84631-C213-49AF-A994-7AF787A3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A01A3-2406-4A2C-AA20-A6C78972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E5512C-AE3C-42BC-9C04-561D7746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87569-F1AC-480C-AA2C-7BBA013E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261F81-133E-4F49-9BDF-C36EE59F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9BBB7-207D-488A-81BE-7F8612DB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C4D28-AE24-41C5-B2EF-174FB770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55EF5-185F-47DC-9E82-EF24E218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341415-2F21-4D02-B58E-08EA9A0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C414-08E2-4F40-B532-B77D4F72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C9FDD-D568-4EC2-8BAD-A144D5B5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73ACE4-A58E-42DC-9DC4-9A8397BE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CAA99-CA3A-40DB-A22D-9E77921B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4EB-1F63-400F-B86E-58746F2E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2B7D-44E5-4918-A274-DB32F790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1CC6-23A5-440B-AB26-C8CEF276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ADF2-D78C-4FA2-86CB-EC139112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062A-5239-4482-B53F-134E713F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4175-44AB-4DB5-A443-4B836EEA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DD3B-B2F5-4B79-9045-F29DE091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8C96-A320-4D78-95BD-9C8675C0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E6580-BC7F-4513-8924-71AD7BC8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83783-1C87-4326-975C-98A64FED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9F9B4-421C-43A8-9C59-325620C7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B7D-DA36-4AE3-828B-A435900A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B2748-6BA5-4641-9D23-3BB92F1E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7C2B-DFF9-48B4-AFC3-1C5C62D6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BE93-3CFF-4E21-ACCC-97CE037C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C54C-DF7A-4E83-B147-95FCD6BE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8417-8548-4BEA-926A-F7A5D716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3F17B-217A-4046-AB76-FB50C2DB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F7D8-31AD-44E1-BA17-E7DDBFB3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CF86B-973D-4994-B3AA-E22BC24A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0132-2FC5-433A-B734-3933B7B7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92C2D-89F8-46A0-B9AC-F12CD70E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6F4-8EE8-4C9B-949E-EC3F2466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3CD6-B7EC-4886-BFB8-6437CA5A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488B3-6883-4190-B948-FBF59E5D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2F851-F756-4CA9-8357-90823C46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EC37C-E4B1-4682-804F-34CE6E07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6855A-E676-4DBB-BFDB-F50F5B2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33227-117C-4FBE-B505-677A765F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106C0-3A46-4707-B7C5-FD2B88C7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B50F3-D4E3-4559-B171-5C57E789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C1BD3-3603-4B02-ABA5-5F9D3808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01E61-8B30-4662-9D02-B9F82D59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97E-A06F-4740-9D46-F9C036D1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3FFD7-0FBC-419C-9FD7-31437093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0405F-B8B6-4979-84FC-BFB28D41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75A54-E20A-4677-B1EC-995C02D2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64375-8B86-4EBF-AA19-0E766C2B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44D12-D1E9-4C2E-9B9D-5904852F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40FCF-70A4-470F-8264-E0B8CF2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4562D-4DC9-4C93-AECE-BD32232B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0E964-EDD6-45EA-A1AD-EF241BAA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407C0-DC4D-4A7C-A31B-757B2576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8CA9C-6277-4139-BFEC-BC3BAC6D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D39-B965-42BE-8E74-C549257D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58D40-72CE-4760-BC1E-A334C564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0D0BC-7EA3-47F6-A1F8-23B48879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BFE5C-83B3-4F81-9D59-84A0B960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C22C4-845F-4802-B1FB-7E385863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161F2-58E7-46DD-ADAB-DD2C556E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01871-F6B6-4AE6-9B3D-10E89E85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67E6A-037E-4A4A-A495-08AE092C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9FE8F-E5E1-49E9-8BCC-D75B72A3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13B77-792F-49CE-B54D-116185DD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615EC-CFB8-4467-8684-050BA2E9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5B6-685E-4CBD-8A26-753F4918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BFE60-839F-498E-BC89-51531066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9B6BB-6080-40F9-9F27-807CF58A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631C9-2D75-4443-ABCC-67B6F259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493FE-9CA4-417D-9B49-3AC913CC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88BC9-A9B3-40F0-9577-2EEF6EC7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50689-7098-4FD0-AD6E-0BFD66D0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DE41C-565B-45BD-BB75-399E52B7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88833-3798-4826-8719-98D56852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77943-3565-4281-ABD7-B64BE03F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9ED73-E446-4DF3-97DD-F3E9CE9E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415-AC31-4A22-9068-11C18C8F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F97B1-77D1-4F2E-9F95-A1940911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FFD03-E22F-46BE-8F3C-35514E4F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E8905-8980-4C60-AC39-F8C98403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9EBB5-C927-4800-B1F6-46506467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3B314-31AE-465A-A942-892B35C0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D0E91-0153-4900-B6CC-79D927B6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95AB3-11CC-4760-8F23-A85FD52B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E5E5B-7CF2-4AD8-8A04-60DAB601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2AB4E-69BD-461B-BBEE-6136AFD5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2C7DF-51A8-48AE-AC2E-0213D494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16F-61CE-4D57-AE99-986A34B5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5FFF2-EEF8-4C75-B40F-8A6781A7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3A13C-2343-43C0-BFB2-32D45338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91AAE-974F-4E8D-9D4A-5B5316E8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69E00-2544-4204-ABCD-AF9E702B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23F6E-6062-4564-8783-98736A9D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3AC44-4093-4B0F-A2EA-4CD03E69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946B9-07E9-46EA-87E1-9F80557D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D6AEC-1BF9-476E-884A-90224505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1E2D7-688F-4A22-A521-79A73422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6A844-C471-41E0-8D38-C355BE5F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EE07-6FE9-43A0-87C5-85A0612A047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90BA-E49F-408A-8805-433D7433589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953B-225F-4C53-A4DB-170550A5060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59FE-DC2F-42B2-B293-C718250F12B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3925-7DDF-46AE-90D0-C15BB721C59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B55A-EB40-4A27-B084-DD2005C291E7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0425-92D4-47F8-B2E6-8FB0770C22B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8844-2D34-473F-BDC8-B937907F047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5299-8A71-4E95-A4F2-40FF735222F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2279-C815-4440-94BF-E506E31A3AB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0C28-CE49-4654-AD3F-DF315FCE639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1FBF-5B67-44CF-BBD2-794F4F334C48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CC57-B0E1-4A29-83BB-922051BF509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8E21-4858-4B47-A83E-74CBC3DFB1E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CB64-D012-4195-9057-B937A4EFAA0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DE27-2613-4FDA-A349-585BA9EE52A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26672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 Cel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447920" y="22860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3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3581280" y="181116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2666880" y="838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52388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5715000" y="4297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2743200" y="2895480"/>
            <a:ext cx="3962520" cy="1401120"/>
            <a:chOff x="2743200" y="2895480"/>
            <a:chExt cx="3962520" cy="1401120"/>
          </a:xfrm>
        </p:grpSpPr>
        <p:sp>
          <p:nvSpPr>
            <p:cNvPr id="896" name="Line 7"/>
            <p:cNvSpPr/>
            <p:nvPr/>
          </p:nvSpPr>
          <p:spPr>
            <a:xfrm>
              <a:off x="46483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27432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 flipH="1">
              <a:off x="27432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 flipH="1">
              <a:off x="66927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11"/>
          <p:cNvSpPr/>
          <p:nvPr/>
        </p:nvSpPr>
        <p:spPr>
          <a:xfrm>
            <a:off x="34290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"/>
          <p:cNvSpPr/>
          <p:nvPr/>
        </p:nvSpPr>
        <p:spPr>
          <a:xfrm>
            <a:off x="76320" y="5410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4"/>
          <p:cNvSpPr/>
          <p:nvPr/>
        </p:nvSpPr>
        <p:spPr>
          <a:xfrm>
            <a:off x="152280" y="6126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88840"/>
            <a:ext cx="8858520" cy="58136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6"/>
          <p:cNvSpPr/>
          <p:nvPr/>
        </p:nvSpPr>
        <p:spPr>
          <a:xfrm>
            <a:off x="3886200" y="59943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85800" y="18795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5791320" y="54608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6781680" y="507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67816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7162920" y="39369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838080" y="64515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733920" y="6299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457200" y="3098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533520" y="2184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9"/>
          <p:cNvSpPr/>
          <p:nvPr/>
        </p:nvSpPr>
        <p:spPr>
          <a:xfrm>
            <a:off x="1676520" y="8128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0"/>
          <p:cNvSpPr/>
          <p:nvPr/>
        </p:nvSpPr>
        <p:spPr>
          <a:xfrm>
            <a:off x="7112160" y="138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1"/>
          <p:cNvSpPr/>
          <p:nvPr/>
        </p:nvSpPr>
        <p:spPr>
          <a:xfrm>
            <a:off x="5435640" y="762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2"/>
          <p:cNvSpPr/>
          <p:nvPr/>
        </p:nvSpPr>
        <p:spPr>
          <a:xfrm>
            <a:off x="6400800" y="1193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3"/>
          <p:cNvSpPr/>
          <p:nvPr/>
        </p:nvSpPr>
        <p:spPr>
          <a:xfrm>
            <a:off x="5702400" y="158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4"/>
          <p:cNvSpPr/>
          <p:nvPr/>
        </p:nvSpPr>
        <p:spPr>
          <a:xfrm>
            <a:off x="533520" y="52005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0748-9CD9-439E-BE30-56328686C6C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750960"/>
            <a:ext cx="8915400" cy="6030720"/>
          </a:xfrm>
          <a:prstGeom prst="rect">
            <a:avLst/>
          </a:prstGeom>
          <a:ln w="0">
            <a:noFill/>
          </a:ln>
        </p:spPr>
      </p:pic>
      <p:grpSp>
        <p:nvGrpSpPr>
          <p:cNvPr id="922" name="Group 10"/>
          <p:cNvGrpSpPr/>
          <p:nvPr/>
        </p:nvGrpSpPr>
        <p:grpSpPr>
          <a:xfrm>
            <a:off x="2362320" y="2935440"/>
            <a:ext cx="4685760" cy="3504960"/>
            <a:chOff x="2362320" y="2935440"/>
            <a:chExt cx="4685760" cy="3504960"/>
          </a:xfrm>
        </p:grpSpPr>
        <p:sp>
          <p:nvSpPr>
            <p:cNvPr id="923" name="Rectangle 6"/>
            <p:cNvSpPr/>
            <p:nvPr/>
          </p:nvSpPr>
          <p:spPr>
            <a:xfrm>
              <a:off x="4190760" y="61358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"/>
            <p:cNvSpPr/>
            <p:nvPr/>
          </p:nvSpPr>
          <p:spPr>
            <a:xfrm>
              <a:off x="5841720" y="5526000"/>
              <a:ext cx="11426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"/>
            <p:cNvSpPr/>
            <p:nvPr/>
          </p:nvSpPr>
          <p:spPr>
            <a:xfrm>
              <a:off x="5600520" y="29354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"/>
            <p:cNvSpPr/>
            <p:nvPr/>
          </p:nvSpPr>
          <p:spPr>
            <a:xfrm>
              <a:off x="2362320" y="5780160"/>
              <a:ext cx="9140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11"/>
          <p:cNvSpPr/>
          <p:nvPr/>
        </p:nvSpPr>
        <p:spPr>
          <a:xfrm>
            <a:off x="6858000" y="2884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934320" y="55134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4191120" y="643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4"/>
          <p:cNvSpPr/>
          <p:nvPr/>
        </p:nvSpPr>
        <p:spPr>
          <a:xfrm>
            <a:off x="1066680" y="57801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Rectangle 2" descr=""/>
          <p:cNvPicPr/>
          <p:nvPr/>
        </p:nvPicPr>
        <p:blipFill>
          <a:blip r:embed="rId1"/>
          <a:stretch/>
        </p:blipFill>
        <p:spPr>
          <a:xfrm>
            <a:off x="231840" y="1878120"/>
            <a:ext cx="6431040" cy="156024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6"/>
          <p:cNvSpPr/>
          <p:nvPr/>
        </p:nvSpPr>
        <p:spPr>
          <a:xfrm>
            <a:off x="4343400" y="3809880"/>
            <a:ext cx="3429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660066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ains the cell’s genetic library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توى الـﭽينى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52280" y="2244240"/>
            <a:ext cx="8686800" cy="42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4560" y="1012320"/>
            <a:ext cx="8381880" cy="55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ت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but sex cells (egg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380880" y="85248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828800" y="1919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1066680" y="359568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6172200" y="351936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352680" y="237636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85800" y="51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5943600" y="51195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4419720" y="1233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15228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685800" y="55767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7086600" y="32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65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1920" y="2698920"/>
            <a:ext cx="8915400" cy="51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514600" y="201132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6320" y="2701440"/>
            <a:ext cx="8991360" cy="54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7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514600" y="178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822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43828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83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962520" y="990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0880" y="725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A)-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1981080" y="5927760"/>
            <a:ext cx="6400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4  The prokaryotic cell is much simpler in structure, lacking a nucleus and the other membrane-enclosed organelles of the eukaryotic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"/>
          <p:cNvSpPr/>
          <p:nvPr/>
        </p:nvSpPr>
        <p:spPr>
          <a:xfrm>
            <a:off x="4343400" y="238752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4444920" y="292104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3733920" y="129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411480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4952880" y="3549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7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5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8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61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4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7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70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5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- Eukaryot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28600" y="189216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4-08-27T10:09:52Z</dcterms:modified>
  <cp:revision>271</cp:revision>
  <dc:subject/>
  <dc:title>The Cell Organelles</dc:title>
</cp:coreProperties>
</file>