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B828-5797-4CB9-80D1-15E4E70243D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2464-B746-45CD-8051-A6A8A408371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BAA7-F2A5-42D4-9AAA-E483E1C35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481E-0253-4BCA-903C-D16B013A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F7118-2617-4D98-BE0A-E3D7ACAA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0A2BDB-0F8A-4D1A-BDAE-A82CE02E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6CA0FF-F8F8-48FA-9685-B118B61E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544C03-5746-485B-9188-42CAAC8A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C7441F-4C14-42DD-8FAF-B20F0658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23C774-EAA2-4044-86D6-D2F33BB2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7014E6-0E04-4189-BDA9-479F850C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580AB0-9354-4720-B2F7-BA15EB4CA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33A965-DD47-4171-869F-639860E21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A1D27C-3364-4CB1-928C-30D902332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C50E-2841-4180-82FD-D9A9B14DA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509979-E09E-4B6F-AE62-DD58D926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F41E58-4731-4190-9E0A-DEDEC86C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5B2890-D6D4-4385-B710-40DC6EDF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2BDCBD-61F6-4244-95DE-C4CA7867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39C521-88D2-42D4-B46D-4D09EA14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EB9065-BEFF-4206-9060-69C22DBC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DB8240-0874-4C11-8B9E-51C7C056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641883-88D4-4189-BA35-B1EE0613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811124-F7D8-43C4-8791-90789D87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8ABA49-EA4A-41D5-9359-F2949B7FA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3A3A-A877-4540-A868-C71F415BA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099C53-CADA-477C-BAE0-A1927C665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675BA-3CDB-41CB-B6DC-C35EDA4D9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D74C7-EA52-439A-8558-3439F155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C1527-DEBC-4C62-BF6B-BDD288E8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F8CCAF-D12E-4252-85B4-B5DB6F37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3BE46-0AB1-4882-90D8-154926A2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0D4B2-F5B9-42F0-AA87-D909F08E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7EE6C7-2199-4C8F-B11B-CD529DD6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563A1-46C1-4A84-9689-5C996A4B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77E7D2-FA97-4FB5-9C66-C1DDF578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E3DC-7822-49E3-8EFE-3A7AE8D00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49C9C-7573-48CD-96A3-C350BCEC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453C5-BFB5-4C31-92E8-DBD21C345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D6F73-7721-4987-B2EC-C44833DB1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FC4302-6AFB-4D94-9C06-E09A0AF77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B51867-33BB-4C5F-8101-0A547C63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81D44B-BAB1-49B5-9ECE-88D2291A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A5872F-CEBF-434A-8D62-3AC5296F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427AD6-8685-48F4-ABCB-1CF01FC5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4FE579-BBA3-48C1-8724-F10E1688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FB2FBB-127A-4A6D-9779-37ECCA45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5808E-BF98-410B-BB8F-736D292C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1F0148-5B70-4398-B452-C1DBFD2D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5C5221-576C-4F5D-88B5-91425051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E99788-553D-4F97-8259-3EDB2D54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46D41D-C147-4034-936E-951E3F9BE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F73659-9606-4B13-89EA-3F35581C3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079BEB-9CB7-43B0-9124-2E6E780C8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4AEEF2-7DED-4CB4-833E-853C8F0B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E73019-48AB-450A-91D1-96797948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C7D1BA-3BB6-4A6D-B9F6-32E7B896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29CA46-0619-4CA5-8311-C9AC7916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C58E-7B7D-4A80-BCBE-1859D17E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C1CD04-B79A-431F-A5E1-E4A770C5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B5EBA9-0CD2-476E-9BAC-32BD612F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8DC8B1-DF4F-4C81-8DB8-008614BA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96D36C-B077-44E7-A19C-5408DA08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1A5900-A9B1-4950-B25C-9D163766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3B6B05-CBB2-44DD-82BB-FAD6BEAB6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815BF9-978D-497D-992E-40CC8AA2E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FE9F91-DCD6-46DA-8B2D-81F8EA720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B5967B-C018-4FB0-A452-ECC3CF41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4BDEC2-3D31-4339-BCAC-2B086A0D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432A-7936-4E5D-985D-0AB3F3173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088D91-079A-4DC4-91D2-639B9C1D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CA9767-9B11-4154-80D9-C0174FE5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3F414F-7BC6-4486-B98D-9681BAC4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6440EA-A2FC-4DBE-8137-7BEEEEDE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8C75F8-548A-4EF0-8E3B-4D2F00F0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851776-E56A-4FBA-B234-B3F6EB61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0AE773-F50F-4142-960F-F53C1E0D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DC91ED-50AE-401F-9D2E-E04DDB457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25C34B-801D-417C-AE47-0F3F6A007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7F19F4-2EE2-489D-B5FD-E7883E05A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C914-77E2-48A3-AD6A-13367AC9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F18137-71FB-4F85-8662-8429AF4D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646DD9-7C24-478F-B3A0-112C877C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9A9F24-BA49-44C7-B7CB-64FBBA79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3E9727-E6E2-49AE-9502-5C5402B2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EDF420-24B4-4B33-9712-E779BF7D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3DA4CD-35F2-42DD-BF91-2FE70842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603162-48BB-4E01-9EEB-D99F15A0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83D784-74E9-4C87-9520-881641D0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5F74A5-7617-45EB-BC24-955FA5EC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72D7B5-612D-435D-8566-C719641F4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A435-7EAF-4714-88BB-9EE1E183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66E425-B1E8-40D9-BFA6-90CBA911B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361E66-F08C-4808-B38E-0850F1C52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00B29A-DDDC-4D5F-A52A-5304AFB7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4D7B1F-D9A6-48BC-B4CC-50706498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5C0EDC-EB2B-49BA-9A38-C60FE4D5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CB6080-1EBF-48F0-9F66-92ECEC6B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6BB106-67F6-4C17-9914-CD1281EC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C2AE0F-2A23-42A8-8327-23ABC260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97611E-3835-461F-8BF4-1CDBC4C4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AC4BB2-85BA-4C34-9E52-E904DB3F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9E6B-607C-4FFD-8F03-A02A9C1A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D29A71-2E6F-4F07-B57D-2F9E4B42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A7692E-4AC7-4D0A-9B13-70B20A018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6594CD-34D3-48DB-A865-0F8717206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593F-DBB8-4F67-9354-BBA50639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93AD-C939-4C62-AE8B-4BE4A0D2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421FF-3A8F-4490-81E0-982E84DF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4F3B-4DFA-464B-B20F-BDAD3B1A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CFFF-9465-4822-A01F-5FF4EA139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6813-CECF-4108-AF3C-11E6B0DDA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7E2D5-A00A-4410-80C4-A9E07D6A9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C165C-A43A-46BC-8DB9-DFDE5AB2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16F2D-6765-46D5-BC92-BA9D1034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03509-3FF1-4D77-89D5-208D6E26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687EF-F3DF-4ED5-A5D3-2FAA2109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04B5-D76C-44CF-94B4-0773D549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7B8D2-3F5A-4954-8071-5C941913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876C0-158C-4EB2-9701-7B6880F4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13DDE-6F1D-43C7-AC3B-172652C0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5B108-836C-4AFC-AC70-703881D8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543AC-4777-4B2C-AF8E-E47AC35F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2EF2F-EE6E-47FF-B73E-5EA6238E2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3FBB6-E505-4D8B-B7A1-19ADBA7E9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03A04-D1BC-4D8A-AFD3-4960E8ACD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9E8DC-3A88-40E9-BDA6-6378B2D7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4173C-2737-4552-9A17-526E1CB0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73C0-CDD1-4D1E-BF0E-5E8B32EE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02007-A138-43E7-94D1-6139F81A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1D574-2FE2-40DC-82BF-942A0E37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C224F-F692-43A5-997E-F56266B4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69A85-2D18-474E-8019-340950F8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A3080-13DB-4A63-9DC7-530356EC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572ED-282C-4FE3-A9B1-B0C6B405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3E4B1-860D-45F7-8E29-C98EDA7B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4690B-5B16-41A7-A41F-EBA308565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A74A2-CCBC-4D9D-A611-A21B5D3DB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96E95-FFF8-40F1-9344-7D4F7DD72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A941-0F5D-4511-B3BD-E1E3289C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50E20-6D23-453D-9A38-DB01A10E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D6217-A66A-4794-9A71-61878DB1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777C5-B2B9-42DD-9D7B-EC4D301A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24B3C-76F8-412D-BC03-41218F97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A1253-2835-41DF-92F4-BC21D87D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971C0-4FCA-4FFD-B552-13144B7F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CF24B-63A5-48C7-B9E3-33A150D6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80586-467D-48FC-AE07-5261896F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E9356-E6EF-4B83-8AAE-62CB4FA8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F14EF-2804-4CFD-AF79-6A73AE899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7C0B-2E9E-446C-B7D3-FC580431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DFC02-D775-4872-9BA4-8A9C03866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86485-546B-4BEC-8FB4-FC75A060C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62900-49D4-40D5-9097-7BAE0719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2BE42-72CB-4CCA-B831-5A239CF6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08F87-203E-48BB-A681-1BFDE8C3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4D6EE-91C4-421C-8B28-1F96BDD9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84D25-FC91-4FAF-A9F2-D9501A2D0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33A2A-87EA-46A0-B5D7-887FA944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0ED1F-48AC-45EC-8A1B-6B1561DC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062E2-23CF-46BF-9568-BDD8BA95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841A-3933-4C25-A886-ECA605A3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56ABE-288B-465A-B09C-76AA9E3A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8DFBB-E6A6-48B1-AB9A-F49CC7643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98949-331D-4599-83A7-51B17AB5E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5E8D6-7481-4682-86D9-85EB81F11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1EFF5-68C5-49F4-8566-FD37DBE1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1E9BE-E2C1-463C-AFC9-1252A843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0141C-BB07-45FD-AA25-041BAD98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B0844-53A4-4790-B17C-3909A2D1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BACD7-F891-49AB-968C-DEBF0AE4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B8512-9A54-4141-A20A-A575CD65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4663-DDCC-40AA-997F-00A85488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A90BD-B7AC-4EDE-A14C-DD8C6AA7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864E7-2CC6-4806-BDF5-B75B38DB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991AC-43EB-4D88-9AF7-401F4F8A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6ED91-E66C-4E46-81E1-BD2DBAD59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A3612-397C-49AD-BA73-CF1F884F6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C6942-07E1-48C0-8ED5-6FE4D745C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02284-E15F-4EC2-998D-1B37A616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AD26F-4483-49AB-9395-AB8AFC99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3A1AA-545C-4C2A-9964-E705DA86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4336C-DA42-4239-8161-97465195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6255-2B7F-4C8A-B724-BFF3E003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30B0C-D738-4D00-AA68-9DF9C3CB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E0B02-2BDE-4FB8-B9C1-082905A3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6C73C-D477-40AE-96D1-7A981EDC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55DC4-7897-404D-A7F7-B6B32604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551A6-E809-44E6-8986-A2FB6BE2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496B9-09E2-44FB-B984-CCEDB2308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E0E77-F54F-4F7E-AE8F-C4EE9BCCE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B12AAF-4A43-45EE-AB49-2FB5E735E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356436-3448-4DDF-B828-3F2B96C6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FDF70C-2156-4882-9F54-4B820414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1747-27D5-4AFC-B966-BC4CB8006FEF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63A2-8C3C-47D8-B2DE-03B2DA1E6FD8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B977-709F-44A8-B4EC-E517F81B6542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DB38-52FA-475A-92BD-7F52C55CE30B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0402-418E-4380-B6DB-622F568BDE25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2F58-0197-4DCA-A2F6-FA63A01C1B75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B569-3432-4816-9F6A-77CAE6371A17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4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5CC4-05B9-4F9C-96E5-9351A8D4932B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5CB9-98A7-42C3-9B83-4F8AE2EF5B16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B017-E5C4-49B0-9210-53BC711FB1AA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4369-EB4A-41C6-8CB6-AA32C78D79B5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2E1D-2E79-4BB4-B795-A7EC30396EC1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D5B6-EE22-4B45-B054-18952249C9C7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067C-D4AF-481F-88C8-946C20ABFBDC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274D-E3E7-43AB-BDD3-E7B03FBF460B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9A86-608E-49D5-B112-5C950119E32A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80520" y="1599840"/>
            <a:ext cx="266724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The Cell Theory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380880" y="2361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1838, the German botanist Matthias Schleiden concluded that all plants were composed of cel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1839, Theodor Schwann concluded the same thing for anima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1855, Rudolf Virchow noted that all cells come from other cel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The cell theory states that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all living organisms are made of one or more cells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cells are the basic units of structure and function, an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cells come only from pre-existing cel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 cell is the smallest unit that can carry on all of the processes of lif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9" name="Rectangle 7"/>
          <p:cNvSpPr/>
          <p:nvPr/>
        </p:nvSpPr>
        <p:spPr>
          <a:xfrm>
            <a:off x="5737320" y="2071800"/>
            <a:ext cx="183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2"/>
          <p:cNvSpPr/>
          <p:nvPr/>
        </p:nvSpPr>
        <p:spPr>
          <a:xfrm>
            <a:off x="1447920" y="228600"/>
            <a:ext cx="6629400" cy="916920"/>
          </a:xfrm>
          <a:prstGeom prst="rect">
            <a:avLst/>
          </a:prstGeom>
          <a:solidFill>
            <a:srgbClr val="009dd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Copperplate Gothic Bold"/>
              </a:rPr>
              <a:t>Lecture 3: The Ce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Text Box 2"/>
          <p:cNvSpPr/>
          <p:nvPr/>
        </p:nvSpPr>
        <p:spPr>
          <a:xfrm>
            <a:off x="3581280" y="1811160"/>
            <a:ext cx="2210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u: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aryon: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3"/>
          <p:cNvSpPr/>
          <p:nvPr/>
        </p:nvSpPr>
        <p:spPr>
          <a:xfrm>
            <a:off x="2666880" y="83808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- Eu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4"/>
          <p:cNvSpPr/>
          <p:nvPr/>
        </p:nvSpPr>
        <p:spPr>
          <a:xfrm>
            <a:off x="1523880" y="437364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Animal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5"/>
          <p:cNvSpPr/>
          <p:nvPr/>
        </p:nvSpPr>
        <p:spPr>
          <a:xfrm>
            <a:off x="5715000" y="42973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Plant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5" name="Group 6"/>
          <p:cNvGrpSpPr/>
          <p:nvPr/>
        </p:nvGrpSpPr>
        <p:grpSpPr>
          <a:xfrm>
            <a:off x="2743200" y="2895480"/>
            <a:ext cx="3962520" cy="1401120"/>
            <a:chOff x="2743200" y="2895480"/>
            <a:chExt cx="3962520" cy="1401120"/>
          </a:xfrm>
        </p:grpSpPr>
        <p:sp>
          <p:nvSpPr>
            <p:cNvPr id="896" name="Line 7"/>
            <p:cNvSpPr/>
            <p:nvPr/>
          </p:nvSpPr>
          <p:spPr>
            <a:xfrm>
              <a:off x="4648320" y="2895480"/>
              <a:ext cx="0" cy="800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Line 8"/>
            <p:cNvSpPr/>
            <p:nvPr/>
          </p:nvSpPr>
          <p:spPr>
            <a:xfrm>
              <a:off x="2743200" y="3696120"/>
              <a:ext cx="396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Line 9"/>
            <p:cNvSpPr/>
            <p:nvPr/>
          </p:nvSpPr>
          <p:spPr>
            <a:xfrm flipH="1">
              <a:off x="2743200" y="3696120"/>
              <a:ext cx="1296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Line 10"/>
            <p:cNvSpPr/>
            <p:nvPr/>
          </p:nvSpPr>
          <p:spPr>
            <a:xfrm flipH="1">
              <a:off x="6692760" y="3696120"/>
              <a:ext cx="1260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Oval 11"/>
          <p:cNvSpPr/>
          <p:nvPr/>
        </p:nvSpPr>
        <p:spPr>
          <a:xfrm>
            <a:off x="3429000" y="1752480"/>
            <a:ext cx="2514600" cy="10670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3"/>
          <p:cNvSpPr/>
          <p:nvPr/>
        </p:nvSpPr>
        <p:spPr>
          <a:xfrm>
            <a:off x="76320" y="54100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act"/>
              </a:rPr>
              <a:t>Compare between Animal and Plant c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4"/>
          <p:cNvSpPr/>
          <p:nvPr/>
        </p:nvSpPr>
        <p:spPr>
          <a:xfrm>
            <a:off x="152280" y="61261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act"/>
              </a:rPr>
              <a:t>What are the functions of cell organell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Picture 3" descr=""/>
          <p:cNvPicPr/>
          <p:nvPr/>
        </p:nvPicPr>
        <p:blipFill>
          <a:blip r:embed="rId1"/>
          <a:srcRect l="0" t="0" r="0" b="3847"/>
          <a:stretch/>
        </p:blipFill>
        <p:spPr>
          <a:xfrm>
            <a:off x="152280" y="888840"/>
            <a:ext cx="8858520" cy="5813640"/>
          </a:xfrm>
          <a:prstGeom prst="rect">
            <a:avLst/>
          </a:prstGeom>
          <a:ln w="0">
            <a:noFill/>
          </a:ln>
        </p:spPr>
      </p:pic>
      <p:sp>
        <p:nvSpPr>
          <p:cNvPr id="904" name="Rectangle 6"/>
          <p:cNvSpPr/>
          <p:nvPr/>
        </p:nvSpPr>
        <p:spPr>
          <a:xfrm>
            <a:off x="3886200" y="5994360"/>
            <a:ext cx="990720" cy="3049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8"/>
          <p:cNvSpPr/>
          <p:nvPr/>
        </p:nvSpPr>
        <p:spPr>
          <a:xfrm>
            <a:off x="685800" y="1879560"/>
            <a:ext cx="990720" cy="3049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10"/>
          <p:cNvSpPr/>
          <p:nvPr/>
        </p:nvSpPr>
        <p:spPr>
          <a:xfrm>
            <a:off x="5791320" y="546084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ميتوكوندري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11"/>
          <p:cNvSpPr/>
          <p:nvPr/>
        </p:nvSpPr>
        <p:spPr>
          <a:xfrm>
            <a:off x="6781680" y="507996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غشاء بلازم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12"/>
          <p:cNvSpPr/>
          <p:nvPr/>
        </p:nvSpPr>
        <p:spPr>
          <a:xfrm>
            <a:off x="6781680" y="462276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حهاز جولـﭽـ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13"/>
          <p:cNvSpPr/>
          <p:nvPr/>
        </p:nvSpPr>
        <p:spPr>
          <a:xfrm>
            <a:off x="7162920" y="393696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ريبوسو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14"/>
          <p:cNvSpPr/>
          <p:nvPr/>
        </p:nvSpPr>
        <p:spPr>
          <a:xfrm>
            <a:off x="838080" y="645156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هيكل الخل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15"/>
          <p:cNvSpPr/>
          <p:nvPr/>
        </p:nvSpPr>
        <p:spPr>
          <a:xfrm>
            <a:off x="3733920" y="6299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جسم مُحل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17"/>
          <p:cNvSpPr/>
          <p:nvPr/>
        </p:nvSpPr>
        <p:spPr>
          <a:xfrm>
            <a:off x="457200" y="30988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جسم مركز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18"/>
          <p:cNvSpPr/>
          <p:nvPr/>
        </p:nvSpPr>
        <p:spPr>
          <a:xfrm>
            <a:off x="533520" y="21844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سوط حرك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19"/>
          <p:cNvSpPr/>
          <p:nvPr/>
        </p:nvSpPr>
        <p:spPr>
          <a:xfrm>
            <a:off x="1676520" y="8128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شبكة الإندوبلازم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20"/>
          <p:cNvSpPr/>
          <p:nvPr/>
        </p:nvSpPr>
        <p:spPr>
          <a:xfrm>
            <a:off x="7112160" y="13842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نوا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21"/>
          <p:cNvSpPr/>
          <p:nvPr/>
        </p:nvSpPr>
        <p:spPr>
          <a:xfrm>
            <a:off x="5435640" y="7621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مادة الوراث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22"/>
          <p:cNvSpPr/>
          <p:nvPr/>
        </p:nvSpPr>
        <p:spPr>
          <a:xfrm>
            <a:off x="6400800" y="119376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نو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23"/>
          <p:cNvSpPr/>
          <p:nvPr/>
        </p:nvSpPr>
        <p:spPr>
          <a:xfrm>
            <a:off x="5702400" y="15876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جدار النو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24"/>
          <p:cNvSpPr/>
          <p:nvPr/>
        </p:nvSpPr>
        <p:spPr>
          <a:xfrm>
            <a:off x="533520" y="520056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حلمات دقيق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D216-3BAD-4713-A0A5-56F82F5FAF9C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1" name="Picture 3" descr=""/>
          <p:cNvPicPr/>
          <p:nvPr/>
        </p:nvPicPr>
        <p:blipFill>
          <a:blip r:embed="rId1"/>
          <a:srcRect l="0" t="0" r="0" b="4658"/>
          <a:stretch/>
        </p:blipFill>
        <p:spPr>
          <a:xfrm>
            <a:off x="76320" y="750960"/>
            <a:ext cx="8915400" cy="6030720"/>
          </a:xfrm>
          <a:prstGeom prst="rect">
            <a:avLst/>
          </a:prstGeom>
          <a:ln w="0">
            <a:noFill/>
          </a:ln>
        </p:spPr>
      </p:pic>
      <p:grpSp>
        <p:nvGrpSpPr>
          <p:cNvPr id="922" name="Group 10"/>
          <p:cNvGrpSpPr/>
          <p:nvPr/>
        </p:nvGrpSpPr>
        <p:grpSpPr>
          <a:xfrm>
            <a:off x="2362320" y="2935440"/>
            <a:ext cx="4685760" cy="3504960"/>
            <a:chOff x="2362320" y="2935440"/>
            <a:chExt cx="4685760" cy="3504960"/>
          </a:xfrm>
        </p:grpSpPr>
        <p:sp>
          <p:nvSpPr>
            <p:cNvPr id="923" name="Rectangle 6"/>
            <p:cNvSpPr/>
            <p:nvPr/>
          </p:nvSpPr>
          <p:spPr>
            <a:xfrm>
              <a:off x="4190760" y="6135840"/>
              <a:ext cx="144756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7"/>
            <p:cNvSpPr/>
            <p:nvPr/>
          </p:nvSpPr>
          <p:spPr>
            <a:xfrm>
              <a:off x="5841720" y="5526000"/>
              <a:ext cx="114264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8"/>
            <p:cNvSpPr/>
            <p:nvPr/>
          </p:nvSpPr>
          <p:spPr>
            <a:xfrm>
              <a:off x="5600520" y="2935440"/>
              <a:ext cx="144756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9"/>
            <p:cNvSpPr/>
            <p:nvPr/>
          </p:nvSpPr>
          <p:spPr>
            <a:xfrm>
              <a:off x="2362320" y="5780160"/>
              <a:ext cx="91404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7" name="Text Box 11"/>
          <p:cNvSpPr/>
          <p:nvPr/>
        </p:nvSpPr>
        <p:spPr>
          <a:xfrm>
            <a:off x="6858000" y="28843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فجوة مركز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12"/>
          <p:cNvSpPr/>
          <p:nvPr/>
        </p:nvSpPr>
        <p:spPr>
          <a:xfrm>
            <a:off x="6934320" y="55134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بلاستيدة خضرا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13"/>
          <p:cNvSpPr/>
          <p:nvPr/>
        </p:nvSpPr>
        <p:spPr>
          <a:xfrm>
            <a:off x="4191120" y="6434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ثقوب بين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14"/>
          <p:cNvSpPr/>
          <p:nvPr/>
        </p:nvSpPr>
        <p:spPr>
          <a:xfrm>
            <a:off x="1066680" y="578016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جدار الخل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6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Rectangle 2" descr=""/>
          <p:cNvPicPr/>
          <p:nvPr/>
        </p:nvPicPr>
        <p:blipFill>
          <a:blip r:embed="rId1"/>
          <a:stretch/>
        </p:blipFill>
        <p:spPr>
          <a:xfrm>
            <a:off x="231840" y="1878120"/>
            <a:ext cx="6431040" cy="1560240"/>
          </a:xfrm>
          <a:prstGeom prst="rect">
            <a:avLst/>
          </a:prstGeom>
          <a:ln w="0">
            <a:noFill/>
          </a:ln>
        </p:spPr>
      </p:pic>
      <p:sp>
        <p:nvSpPr>
          <p:cNvPr id="932" name="Text Box 6"/>
          <p:cNvSpPr/>
          <p:nvPr/>
        </p:nvSpPr>
        <p:spPr>
          <a:xfrm>
            <a:off x="4343400" y="3809880"/>
            <a:ext cx="3429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000" spc="-1" strike="noStrike">
                <a:solidFill>
                  <a:srgbClr val="660066"/>
                </a:solidFill>
                <a:latin typeface="Arial"/>
                <a:cs typeface="Al-Mothnna"/>
              </a:rPr>
              <a:t>عضيــات الخليـــــــــ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1. The nucleus: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Contains the cell’s genetic library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محتوى الـﭽينى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152280" y="2244240"/>
            <a:ext cx="8686800" cy="422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nucleus contains most of the genes in an eukaryotic cel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nucleus is separated from the cytoplasm by a double membrane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غشاء مزدوج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called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nstantia"/>
              </a:rPr>
              <a:t>nuclear membran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nuclear membran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contains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pore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ثقوب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at allow large macromolecules and particles to pass through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nuclear membrane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غلاف النووى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s maintaining the shape of the nucle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5" name="Line 5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Picture 4" descr=""/>
          <p:cNvPicPr/>
          <p:nvPr/>
        </p:nvPicPr>
        <p:blipFill>
          <a:blip r:embed="rId1"/>
          <a:srcRect l="3497" t="0" r="0" b="9000"/>
          <a:stretch/>
        </p:blipFill>
        <p:spPr>
          <a:xfrm>
            <a:off x="1066680" y="0"/>
            <a:ext cx="67820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 txBox="1"/>
          <p:nvPr/>
        </p:nvSpPr>
        <p:spPr>
          <a:xfrm>
            <a:off x="304560" y="1012320"/>
            <a:ext cx="8381880" cy="55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nucleus contains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“chromatin fiber”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خيوط الكروماتين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hich is the DNA associated with protei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hen the cell prepares to divide, the chromatin fibers coil up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لتف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o be seen as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“chromosomes”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Each eukaryotic species has a characteristic number of chromosomes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رقم مُمَيـٍز من الكروموسومات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typical human cell has </a:t>
            </a:r>
            <a:r>
              <a:rPr b="0" lang="en-US" sz="1800" spc="-1" strike="noStrike">
                <a:solidFill>
                  <a:srgbClr val="0000ff"/>
                </a:solidFill>
                <a:latin typeface="Constantia"/>
              </a:rPr>
              <a:t>46 chromosome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but sex cells (eggs an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sperm) have only </a:t>
            </a:r>
            <a:r>
              <a:rPr b="0" lang="en-US" sz="1800" spc="-1" strike="noStrike">
                <a:solidFill>
                  <a:srgbClr val="0000ff"/>
                </a:solidFill>
                <a:latin typeface="Constantia"/>
              </a:rPr>
              <a:t>23 chromosome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nucleus directs protein synthesis by synthesizing messenger RNA (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mRN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mRNA travels to the cytoplasm and combines with ribosomes to translate its genetic message into the primary structure of a specific protei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is a dark region involved in production of ribosom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Text Box 2"/>
          <p:cNvSpPr/>
          <p:nvPr/>
        </p:nvSpPr>
        <p:spPr>
          <a:xfrm>
            <a:off x="380880" y="852480"/>
            <a:ext cx="37339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Copperplate Gothic Bold"/>
              </a:rPr>
              <a:t>The Ce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3"/>
          <p:cNvSpPr/>
          <p:nvPr/>
        </p:nvSpPr>
        <p:spPr>
          <a:xfrm>
            <a:off x="1828800" y="191916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The Organism’s Basic Unit of Structure and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Oval 4"/>
          <p:cNvSpPr/>
          <p:nvPr/>
        </p:nvSpPr>
        <p:spPr>
          <a:xfrm>
            <a:off x="1066680" y="3595680"/>
            <a:ext cx="2286000" cy="1371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Oval 5"/>
          <p:cNvSpPr/>
          <p:nvPr/>
        </p:nvSpPr>
        <p:spPr>
          <a:xfrm>
            <a:off x="6172200" y="3519360"/>
            <a:ext cx="228600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Eu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6"/>
          <p:cNvSpPr/>
          <p:nvPr/>
        </p:nvSpPr>
        <p:spPr>
          <a:xfrm>
            <a:off x="3352680" y="2376360"/>
            <a:ext cx="2819520" cy="144792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of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7"/>
          <p:cNvSpPr/>
          <p:nvPr/>
        </p:nvSpPr>
        <p:spPr>
          <a:xfrm>
            <a:off x="685800" y="5195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cro-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8"/>
          <p:cNvSpPr/>
          <p:nvPr/>
        </p:nvSpPr>
        <p:spPr>
          <a:xfrm>
            <a:off x="5943600" y="511956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ll other forms 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12"/>
          <p:cNvSpPr/>
          <p:nvPr/>
        </p:nvSpPr>
        <p:spPr>
          <a:xfrm>
            <a:off x="4419720" y="123336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Cellula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(Small ro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13"/>
          <p:cNvSpPr/>
          <p:nvPr/>
        </p:nvSpPr>
        <p:spPr>
          <a:xfrm>
            <a:off x="152280" y="3443400"/>
            <a:ext cx="91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بدائ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14"/>
          <p:cNvSpPr/>
          <p:nvPr/>
        </p:nvSpPr>
        <p:spPr>
          <a:xfrm>
            <a:off x="685800" y="557676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الكائنات الدقيق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15"/>
          <p:cNvSpPr/>
          <p:nvPr/>
        </p:nvSpPr>
        <p:spPr>
          <a:xfrm>
            <a:off x="7086600" y="32148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متقدم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1.11111E-006 L 0.3125 0.39444 E">
                                      <p:cBhvr>
                                        <p:cTn id="65" dur="1000" fill="hold"/>
                                        <p:tgtEl>
                                          <p:spTgt spid="8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1).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Prokaryotic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and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eukaryotic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cells</a:t>
            </a:r>
            <a:br>
              <a:rPr sz="2600"/>
            </a:b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    differ in size and complexity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151920" y="2698920"/>
            <a:ext cx="8915400" cy="51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ll cells are surrounded by a </a:t>
            </a:r>
            <a:r>
              <a:rPr b="1" i="1" lang="en-US" sz="2000" spc="-1" strike="noStrike">
                <a:solidFill>
                  <a:srgbClr val="ff0000"/>
                </a:solidFill>
                <a:latin typeface="Constantia"/>
              </a:rPr>
              <a:t>plasma membrane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غشاء بلازمى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semi-fluid substance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ادة النصف سائل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ithin the cell is calle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“cytosol”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يتوبلازم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ontaining the cell organelles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عِضيات الخل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ll cells contain chromosomes which have genes in the form of DN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ll cells have tiny organelles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عضيات صغير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alle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Constantia"/>
              </a:rPr>
              <a:t>Ribosomes”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that make protei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4" name="Line 4"/>
          <p:cNvSpPr/>
          <p:nvPr/>
        </p:nvSpPr>
        <p:spPr>
          <a:xfrm>
            <a:off x="152280" y="14479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6"/>
          <p:cNvSpPr/>
          <p:nvPr/>
        </p:nvSpPr>
        <p:spPr>
          <a:xfrm>
            <a:off x="2514600" y="2011320"/>
            <a:ext cx="4114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Similarities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800080"/>
                </a:solidFill>
                <a:latin typeface="Arial"/>
                <a:cs typeface="Al-Mothnna"/>
              </a:rPr>
              <a:t>أوجه التشاب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1).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Prokaryotic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and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eukaryotic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cells</a:t>
            </a:r>
            <a:br>
              <a:rPr sz="2600"/>
            </a:b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    differ in size and complexity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76320" y="2701440"/>
            <a:ext cx="8991360" cy="540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74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 major difference </a:t>
            </a:r>
            <a:r>
              <a:rPr b="1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فرق الأساسى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between prokaryotic and eukaryotic cells is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location of chromosomes</a:t>
            </a:r>
            <a:r>
              <a:rPr b="1" lang="en-US" sz="3100" spc="-1" strike="noStrike">
                <a:solidFill>
                  <a:srgbClr val="ff3300"/>
                </a:solidFill>
                <a:latin typeface="Constantia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وضع الصبغيات</a:t>
            </a:r>
            <a:r>
              <a:rPr b="1" lang="en-US" sz="31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40000"/>
              </a:lnSpc>
              <a:spcBef>
                <a:spcPts val="77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40000"/>
              </a:lnSpc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 an eukaryotic cell, chromosomes are contained in a true </a:t>
            </a:r>
            <a:r>
              <a:rPr b="1" i="1" lang="en-US" sz="1800" spc="-1" strike="noStrike" u="sng">
                <a:solidFill>
                  <a:srgbClr val="0000ff"/>
                </a:solidFill>
                <a:uFillTx/>
                <a:latin typeface="Constantia"/>
              </a:rPr>
              <a:t>nucleu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(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النواة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40000"/>
              </a:lnSpc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 a prokaryotic cell, the DNA is concentrated in 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Constantia"/>
              </a:rPr>
              <a:t>nucleoi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شـبه نوا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without a membrane (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دون غـشاء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separating it from the rest of the cell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40000"/>
              </a:lnSpc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 prokaryotic cell, DNA is a single strand (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حادى الشريط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or double strand (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ثنائى الشريط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DNA. But in eukaryotic cell, DNA is double strand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8" name="Line 4"/>
          <p:cNvSpPr/>
          <p:nvPr/>
        </p:nvSpPr>
        <p:spPr>
          <a:xfrm>
            <a:off x="152280" y="14479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7"/>
          <p:cNvSpPr/>
          <p:nvPr/>
        </p:nvSpPr>
        <p:spPr>
          <a:xfrm>
            <a:off x="2514600" y="17827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Differences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800080"/>
                </a:solidFill>
                <a:latin typeface="Arial"/>
                <a:cs typeface="Al-Mothnna"/>
              </a:rPr>
              <a:t>أوجه الإختلا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8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4"/>
          <p:cNvSpPr/>
          <p:nvPr/>
        </p:nvSpPr>
        <p:spPr>
          <a:xfrm>
            <a:off x="2895480" y="1828800"/>
            <a:ext cx="335304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kary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Group 9"/>
          <p:cNvGrpSpPr/>
          <p:nvPr/>
        </p:nvGrpSpPr>
        <p:grpSpPr>
          <a:xfrm>
            <a:off x="2133720" y="2438280"/>
            <a:ext cx="4952880" cy="914400"/>
            <a:chOff x="2133720" y="2438280"/>
            <a:chExt cx="4952880" cy="914400"/>
          </a:xfrm>
        </p:grpSpPr>
        <p:sp>
          <p:nvSpPr>
            <p:cNvPr id="822" name="Line 5"/>
            <p:cNvSpPr/>
            <p:nvPr/>
          </p:nvSpPr>
          <p:spPr>
            <a:xfrm>
              <a:off x="4572000" y="24382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6"/>
            <p:cNvSpPr/>
            <p:nvPr/>
          </p:nvSpPr>
          <p:spPr>
            <a:xfrm>
              <a:off x="2133720" y="289548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Line 7"/>
            <p:cNvSpPr/>
            <p:nvPr/>
          </p:nvSpPr>
          <p:spPr>
            <a:xfrm>
              <a:off x="2133720" y="28954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8"/>
            <p:cNvSpPr/>
            <p:nvPr/>
          </p:nvSpPr>
          <p:spPr>
            <a:xfrm>
              <a:off x="7086600" y="28954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Oval 10"/>
          <p:cNvSpPr/>
          <p:nvPr/>
        </p:nvSpPr>
        <p:spPr>
          <a:xfrm>
            <a:off x="990720" y="3429000"/>
            <a:ext cx="236196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11"/>
          <p:cNvSpPr/>
          <p:nvPr/>
        </p:nvSpPr>
        <p:spPr>
          <a:xfrm>
            <a:off x="5943600" y="3429000"/>
            <a:ext cx="236232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rcha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12"/>
          <p:cNvSpPr/>
          <p:nvPr/>
        </p:nvSpPr>
        <p:spPr>
          <a:xfrm>
            <a:off x="4952880" y="4513320"/>
            <a:ext cx="3810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Exist in extreme environment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بيئات القاسي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hot and salt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13"/>
          <p:cNvSpPr/>
          <p:nvPr/>
        </p:nvSpPr>
        <p:spPr>
          <a:xfrm>
            <a:off x="838080" y="4565520"/>
            <a:ext cx="2667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Exist in most environ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14"/>
          <p:cNvSpPr/>
          <p:nvPr/>
        </p:nvSpPr>
        <p:spPr>
          <a:xfrm>
            <a:off x="380880" y="525780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y are differing in some other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structura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 biochemical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 physiologica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haracteristic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صفات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15"/>
          <p:cNvSpPr/>
          <p:nvPr/>
        </p:nvSpPr>
        <p:spPr>
          <a:xfrm>
            <a:off x="152280" y="16765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17"/>
          <p:cNvSpPr/>
          <p:nvPr/>
        </p:nvSpPr>
        <p:spPr>
          <a:xfrm>
            <a:off x="2438280" y="762120"/>
            <a:ext cx="5334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pperplate Gothic Bold"/>
              </a:rPr>
              <a:t>Types of Prokary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3" name="Picture 8" descr=""/>
          <p:cNvPicPr/>
          <p:nvPr/>
        </p:nvPicPr>
        <p:blipFill>
          <a:blip r:embed="rId1"/>
          <a:stretch/>
        </p:blipFill>
        <p:spPr>
          <a:xfrm>
            <a:off x="0" y="1809720"/>
            <a:ext cx="9144000" cy="5048280"/>
          </a:xfrm>
          <a:prstGeom prst="rect">
            <a:avLst/>
          </a:prstGeom>
          <a:ln w="0">
            <a:noFill/>
          </a:ln>
        </p:spPr>
      </p:pic>
      <p:sp>
        <p:nvSpPr>
          <p:cNvPr id="834" name="Line 4"/>
          <p:cNvSpPr/>
          <p:nvPr/>
        </p:nvSpPr>
        <p:spPr>
          <a:xfrm>
            <a:off x="1087560" y="1674720"/>
            <a:ext cx="7751520" cy="180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6"/>
          <p:cNvSpPr/>
          <p:nvPr/>
        </p:nvSpPr>
        <p:spPr>
          <a:xfrm>
            <a:off x="3962520" y="99072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Impact"/>
              </a:rPr>
              <a:t>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7"/>
          <p:cNvSpPr/>
          <p:nvPr/>
        </p:nvSpPr>
        <p:spPr>
          <a:xfrm>
            <a:off x="380880" y="7254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pperplate Gothic Bold"/>
              </a:rPr>
              <a:t>A)-Prokary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4"/>
          <p:cNvSpPr/>
          <p:nvPr/>
        </p:nvSpPr>
        <p:spPr>
          <a:xfrm>
            <a:off x="1981080" y="5927760"/>
            <a:ext cx="6400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4  The prokaryotic cell is much simpler in structure, lacking a nucleus and the other membrane-enclosed organelles of the eukaryotic cel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Picture 3" descr=""/>
          <p:cNvPicPr/>
          <p:nvPr/>
        </p:nvPicPr>
        <p:blipFill>
          <a:blip r:embed="rId1"/>
          <a:srcRect l="0" t="0" r="0" b="3787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39" name="Text Box 6"/>
          <p:cNvSpPr/>
          <p:nvPr/>
        </p:nvSpPr>
        <p:spPr>
          <a:xfrm>
            <a:off x="4343400" y="2387520"/>
            <a:ext cx="119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غشاء بلازم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7"/>
          <p:cNvSpPr/>
          <p:nvPr/>
        </p:nvSpPr>
        <p:spPr>
          <a:xfrm>
            <a:off x="4444920" y="2921040"/>
            <a:ext cx="119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جدار الخل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8"/>
          <p:cNvSpPr/>
          <p:nvPr/>
        </p:nvSpPr>
        <p:spPr>
          <a:xfrm>
            <a:off x="3733920" y="129528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شبه نوا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9"/>
          <p:cNvSpPr/>
          <p:nvPr/>
        </p:nvSpPr>
        <p:spPr>
          <a:xfrm>
            <a:off x="4114800" y="18288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ريبوزوما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10"/>
          <p:cNvSpPr/>
          <p:nvPr/>
        </p:nvSpPr>
        <p:spPr>
          <a:xfrm>
            <a:off x="4952880" y="35496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كبسول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13"/>
          <p:cNvSpPr/>
          <p:nvPr/>
        </p:nvSpPr>
        <p:spPr>
          <a:xfrm>
            <a:off x="762120" y="396252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أسوا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AutoShape 13"/>
          <p:cNvSpPr/>
          <p:nvPr/>
        </p:nvSpPr>
        <p:spPr>
          <a:xfrm>
            <a:off x="1574640" y="3003480"/>
            <a:ext cx="5867640" cy="2057400"/>
          </a:xfrm>
          <a:prstGeom prst="flowChartTerminator">
            <a:avLst/>
          </a:prstGeom>
          <a:gradFill rotWithShape="0">
            <a:gsLst>
              <a:gs pos="0">
                <a:srgbClr val="150015"/>
              </a:gs>
              <a:gs pos="50000">
                <a:srgbClr val="cc00cc"/>
              </a:gs>
              <a:gs pos="100000">
                <a:srgbClr val="150015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6" name="Group 8"/>
          <p:cNvGrpSpPr/>
          <p:nvPr/>
        </p:nvGrpSpPr>
        <p:grpSpPr>
          <a:xfrm>
            <a:off x="1523880" y="2940120"/>
            <a:ext cx="5943600" cy="2133360"/>
            <a:chOff x="1523880" y="2940120"/>
            <a:chExt cx="5943600" cy="2133360"/>
          </a:xfrm>
        </p:grpSpPr>
        <p:sp>
          <p:nvSpPr>
            <p:cNvPr id="847" name="AutoShape 7"/>
            <p:cNvSpPr/>
            <p:nvPr/>
          </p:nvSpPr>
          <p:spPr>
            <a:xfrm>
              <a:off x="1600200" y="2940120"/>
              <a:ext cx="5867280" cy="2057400"/>
            </a:xfrm>
            <a:prstGeom prst="flowChartTerminator">
              <a:avLst/>
            </a:prstGeom>
            <a:solidFill>
              <a:srgbClr val="cc00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AutoShape 5"/>
            <p:cNvSpPr/>
            <p:nvPr/>
          </p:nvSpPr>
          <p:spPr>
            <a:xfrm>
              <a:off x="1523880" y="3168720"/>
              <a:ext cx="5791320" cy="190476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9" name="Text Box 4"/>
          <p:cNvSpPr/>
          <p:nvPr/>
        </p:nvSpPr>
        <p:spPr>
          <a:xfrm>
            <a:off x="228600" y="797040"/>
            <a:ext cx="38098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Pro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AutoShape 6"/>
          <p:cNvSpPr/>
          <p:nvPr/>
        </p:nvSpPr>
        <p:spPr>
          <a:xfrm>
            <a:off x="1638360" y="3270240"/>
            <a:ext cx="5562720" cy="1676520"/>
          </a:xfrm>
          <a:prstGeom prst="flowChartTerminator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9"/>
          <p:cNvSpPr/>
          <p:nvPr/>
        </p:nvSpPr>
        <p:spPr>
          <a:xfrm>
            <a:off x="1739880" y="3359160"/>
            <a:ext cx="5359320" cy="149868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AutoShape 10"/>
          <p:cNvSpPr/>
          <p:nvPr/>
        </p:nvSpPr>
        <p:spPr>
          <a:xfrm>
            <a:off x="1816200" y="3435480"/>
            <a:ext cx="5207040" cy="1346040"/>
          </a:xfrm>
          <a:prstGeom prst="flowChartTerminator">
            <a:avLst/>
          </a:prstGeom>
          <a:solidFill>
            <a:srgbClr val="66ff33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AutoShape 11"/>
          <p:cNvSpPr/>
          <p:nvPr/>
        </p:nvSpPr>
        <p:spPr>
          <a:xfrm>
            <a:off x="2806560" y="3673440"/>
            <a:ext cx="3517920" cy="776160"/>
          </a:xfrm>
          <a:prstGeom prst="cloudCallout">
            <a:avLst>
              <a:gd name="adj1" fmla="val -34564"/>
              <a:gd name="adj2" fmla="val -868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Group 17"/>
          <p:cNvGrpSpPr/>
          <p:nvPr/>
        </p:nvGrpSpPr>
        <p:grpSpPr>
          <a:xfrm>
            <a:off x="6934320" y="1568520"/>
            <a:ext cx="1752480" cy="1523880"/>
            <a:chOff x="6934320" y="1568520"/>
            <a:chExt cx="1752480" cy="1523880"/>
          </a:xfrm>
        </p:grpSpPr>
        <p:sp>
          <p:nvSpPr>
            <p:cNvPr id="855" name="Line 15"/>
            <p:cNvSpPr/>
            <p:nvPr/>
          </p:nvSpPr>
          <p:spPr>
            <a:xfrm flipV="1">
              <a:off x="6934320" y="2178000"/>
              <a:ext cx="761760" cy="91440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Text Box 16"/>
            <p:cNvSpPr/>
            <p:nvPr/>
          </p:nvSpPr>
          <p:spPr>
            <a:xfrm>
              <a:off x="7010280" y="15685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cc"/>
                  </a:solidFill>
                  <a:latin typeface="Arial"/>
                </a:rPr>
                <a:t>Capsu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Group 22"/>
          <p:cNvGrpSpPr/>
          <p:nvPr/>
        </p:nvGrpSpPr>
        <p:grpSpPr>
          <a:xfrm>
            <a:off x="4952880" y="1568520"/>
            <a:ext cx="1676520" cy="1675800"/>
            <a:chOff x="4952880" y="1568520"/>
            <a:chExt cx="1676520" cy="1675800"/>
          </a:xfrm>
        </p:grpSpPr>
        <p:sp>
          <p:nvSpPr>
            <p:cNvPr id="858" name="Line 20"/>
            <p:cNvSpPr/>
            <p:nvPr/>
          </p:nvSpPr>
          <p:spPr>
            <a:xfrm flipV="1">
              <a:off x="4952880" y="2177640"/>
              <a:ext cx="685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Text Box 21"/>
            <p:cNvSpPr/>
            <p:nvPr/>
          </p:nvSpPr>
          <p:spPr>
            <a:xfrm>
              <a:off x="4952880" y="15685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3300"/>
                  </a:solidFill>
                  <a:latin typeface="Arial"/>
                </a:rPr>
                <a:t>Cell W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0" name="Group 25"/>
          <p:cNvGrpSpPr/>
          <p:nvPr/>
        </p:nvGrpSpPr>
        <p:grpSpPr>
          <a:xfrm>
            <a:off x="2438280" y="1568520"/>
            <a:ext cx="2057400" cy="1790280"/>
            <a:chOff x="2438280" y="1568520"/>
            <a:chExt cx="2057400" cy="1790280"/>
          </a:xfrm>
        </p:grpSpPr>
        <p:sp>
          <p:nvSpPr>
            <p:cNvPr id="861" name="Line 23"/>
            <p:cNvSpPr/>
            <p:nvPr/>
          </p:nvSpPr>
          <p:spPr>
            <a:xfrm flipV="1">
              <a:off x="2819520" y="2215800"/>
              <a:ext cx="457200" cy="1143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Text Box 24"/>
            <p:cNvSpPr/>
            <p:nvPr/>
          </p:nvSpPr>
          <p:spPr>
            <a:xfrm>
              <a:off x="2438280" y="1568520"/>
              <a:ext cx="205740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Plasma membra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Group 28"/>
          <p:cNvGrpSpPr/>
          <p:nvPr/>
        </p:nvGrpSpPr>
        <p:grpSpPr>
          <a:xfrm>
            <a:off x="4876920" y="4540320"/>
            <a:ext cx="2057400" cy="2013840"/>
            <a:chOff x="4876920" y="4540320"/>
            <a:chExt cx="2057400" cy="2013840"/>
          </a:xfrm>
        </p:grpSpPr>
        <p:sp>
          <p:nvSpPr>
            <p:cNvPr id="864" name="Line 26"/>
            <p:cNvSpPr/>
            <p:nvPr/>
          </p:nvSpPr>
          <p:spPr>
            <a:xfrm flipH="1">
              <a:off x="5791320" y="4540320"/>
              <a:ext cx="304560" cy="11430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Text Box 27"/>
            <p:cNvSpPr/>
            <p:nvPr/>
          </p:nvSpPr>
          <p:spPr>
            <a:xfrm>
              <a:off x="4876920" y="560700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Cytoplasm (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ytosol</a:t>
              </a: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6" name="Group 32"/>
          <p:cNvGrpSpPr/>
          <p:nvPr/>
        </p:nvGrpSpPr>
        <p:grpSpPr>
          <a:xfrm>
            <a:off x="2895480" y="4083120"/>
            <a:ext cx="2057400" cy="2044440"/>
            <a:chOff x="2895480" y="4083120"/>
            <a:chExt cx="2057400" cy="2044440"/>
          </a:xfrm>
        </p:grpSpPr>
        <p:sp>
          <p:nvSpPr>
            <p:cNvPr id="867" name="Line 30"/>
            <p:cNvSpPr/>
            <p:nvPr/>
          </p:nvSpPr>
          <p:spPr>
            <a:xfrm flipH="1">
              <a:off x="3809520" y="4083120"/>
              <a:ext cx="68580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Text Box 31"/>
            <p:cNvSpPr/>
            <p:nvPr/>
          </p:nvSpPr>
          <p:spPr>
            <a:xfrm>
              <a:off x="2895480" y="56070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Nucleo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Group 53"/>
          <p:cNvGrpSpPr/>
          <p:nvPr/>
        </p:nvGrpSpPr>
        <p:grpSpPr>
          <a:xfrm>
            <a:off x="2133720" y="3535200"/>
            <a:ext cx="4495320" cy="1219320"/>
            <a:chOff x="2133720" y="3535200"/>
            <a:chExt cx="4495320" cy="1219320"/>
          </a:xfrm>
        </p:grpSpPr>
        <p:sp>
          <p:nvSpPr>
            <p:cNvPr id="870" name="Oval 39"/>
            <p:cNvSpPr/>
            <p:nvPr/>
          </p:nvSpPr>
          <p:spPr>
            <a:xfrm>
              <a:off x="2133720" y="36874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40"/>
            <p:cNvSpPr/>
            <p:nvPr/>
          </p:nvSpPr>
          <p:spPr>
            <a:xfrm>
              <a:off x="2438280" y="437328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41"/>
            <p:cNvSpPr/>
            <p:nvPr/>
          </p:nvSpPr>
          <p:spPr>
            <a:xfrm>
              <a:off x="2209680" y="40687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Oval 42"/>
            <p:cNvSpPr/>
            <p:nvPr/>
          </p:nvSpPr>
          <p:spPr>
            <a:xfrm>
              <a:off x="4952880" y="46782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Oval 43"/>
            <p:cNvSpPr/>
            <p:nvPr/>
          </p:nvSpPr>
          <p:spPr>
            <a:xfrm>
              <a:off x="3657600" y="45259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44"/>
            <p:cNvSpPr/>
            <p:nvPr/>
          </p:nvSpPr>
          <p:spPr>
            <a:xfrm>
              <a:off x="3047760" y="46018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Oval 45"/>
            <p:cNvSpPr/>
            <p:nvPr/>
          </p:nvSpPr>
          <p:spPr>
            <a:xfrm>
              <a:off x="2743200" y="35352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46"/>
            <p:cNvSpPr/>
            <p:nvPr/>
          </p:nvSpPr>
          <p:spPr>
            <a:xfrm>
              <a:off x="5181480" y="35352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47"/>
            <p:cNvSpPr/>
            <p:nvPr/>
          </p:nvSpPr>
          <p:spPr>
            <a:xfrm>
              <a:off x="4419360" y="35352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Oval 48"/>
            <p:cNvSpPr/>
            <p:nvPr/>
          </p:nvSpPr>
          <p:spPr>
            <a:xfrm>
              <a:off x="3581280" y="35352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Oval 49"/>
            <p:cNvSpPr/>
            <p:nvPr/>
          </p:nvSpPr>
          <p:spPr>
            <a:xfrm>
              <a:off x="6476760" y="42210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Oval 50"/>
            <p:cNvSpPr/>
            <p:nvPr/>
          </p:nvSpPr>
          <p:spPr>
            <a:xfrm>
              <a:off x="6476760" y="38401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Oval 51"/>
            <p:cNvSpPr/>
            <p:nvPr/>
          </p:nvSpPr>
          <p:spPr>
            <a:xfrm>
              <a:off x="5562360" y="45259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52"/>
            <p:cNvSpPr/>
            <p:nvPr/>
          </p:nvSpPr>
          <p:spPr>
            <a:xfrm>
              <a:off x="6019560" y="35352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Group 58"/>
          <p:cNvGrpSpPr/>
          <p:nvPr/>
        </p:nvGrpSpPr>
        <p:grpSpPr>
          <a:xfrm>
            <a:off x="304920" y="4144680"/>
            <a:ext cx="2146320" cy="1816200"/>
            <a:chOff x="304920" y="4144680"/>
            <a:chExt cx="2146320" cy="1816200"/>
          </a:xfrm>
        </p:grpSpPr>
        <p:sp>
          <p:nvSpPr>
            <p:cNvPr id="885" name="Text Box 54"/>
            <p:cNvSpPr/>
            <p:nvPr/>
          </p:nvSpPr>
          <p:spPr>
            <a:xfrm>
              <a:off x="304920" y="54403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Ribosom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Line 55"/>
            <p:cNvSpPr/>
            <p:nvPr/>
          </p:nvSpPr>
          <p:spPr>
            <a:xfrm flipV="1">
              <a:off x="1384560" y="4437000"/>
              <a:ext cx="1066680" cy="11426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Line 57"/>
            <p:cNvSpPr/>
            <p:nvPr/>
          </p:nvSpPr>
          <p:spPr>
            <a:xfrm flipV="1">
              <a:off x="1371960" y="4144680"/>
              <a:ext cx="838080" cy="1447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newsflash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- Eukaryot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228600" y="1892160"/>
            <a:ext cx="8686800" cy="40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 eukaryotic cell has internal membranes, which partition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ـُقـَســم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cell into compartment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عضاء وظيف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se membranes also participate in metabolism as many enzymes are built into membran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general structure of a biological membrane is a double layer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ثنائى الطبقات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of phospholipids and diverse protein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روتينات متنوع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Each type of membrane has a unique combination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ركيب مـُمـَيـٍز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of lipids and proteins for its specific function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For example, those in the membranes of mitochondria function in cellular respiratio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0" name="Line 5"/>
          <p:cNvSpPr/>
          <p:nvPr/>
        </p:nvSpPr>
        <p:spPr>
          <a:xfrm>
            <a:off x="152280" y="12193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User</cp:lastModifiedBy>
  <dcterms:modified xsi:type="dcterms:W3CDTF">2014-08-27T10:09:52Z</dcterms:modified>
  <cp:revision>271</cp:revision>
  <dc:subject/>
  <dc:title>The Cell Organelles</dc:title>
</cp:coreProperties>
</file>