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A16A-506B-4941-8137-E519119E4E4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206F-4700-4AFB-9D0C-D7A1E0DE0E5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682-FB0A-4A6B-B9BD-52B99045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865-DB79-49FE-870C-A3078DDC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67B53-DAA3-4623-B856-11F83533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67D94-1ECA-42EA-9CBC-46584CDC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08062-D6B8-47D1-B756-BB0330BE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B0C51-095A-4FEB-8B3C-75CE8DBA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A48B9-248A-4DBE-9A70-D4F9C68D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2AB31-0301-4D46-878C-E580AE1F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35896-7993-4E26-BFEC-01FF6ADF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88BB4-E145-49DE-B3B8-159A6601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D4AC1-0C76-44EB-BCA2-580FD0A1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800DE-5B05-4792-8A8E-A635CB68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69A0-4503-483D-BFF8-24E10903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9643D-106D-4920-8298-62EA7852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4F34C-BEB7-4D36-AF08-0ABF88E9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5C8D2-621A-4061-AA01-F5E78E28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A9B76-06EC-4447-8AB2-0AFC55E0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ACF62-BC55-4AA6-B804-1B7BA3D7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E13EF-DC55-4FF1-8DF8-6C9E574E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C4785-70E2-4580-8B66-216A04A9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3C817-4C3C-475B-8220-34507CF1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6A9D4-9093-43B2-A28F-D97A9C6F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4A64C-801B-4199-BE28-162916C1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8B2-DB83-4B1D-BC62-8DCD5A91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6B134-D925-4029-9730-4928BCE3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7A8FD-F3EC-4F4F-B2A9-B84B2D66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DACBB-59AD-4BEB-911E-FED1B5C5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7012D-1784-46C6-B5AA-DDF93FA9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455D4-B485-4167-8F55-D9ABEA02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A1A31-809D-4116-B7CB-E30AF1B5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AEBA7-5171-4F36-9215-59D86B2B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02A97-4DB9-41E2-A0B9-BB3C2677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65173-E34B-43F8-9926-F6C7E12E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FC5BD-1E9E-4033-9BE4-45C21BA9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F4C1-73E9-415B-A81F-BC82A12A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7ECED-F0AD-419F-8BA5-50CBCA8E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D19CC-6F35-4A9C-97AD-5829C8F3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D105E-024B-4570-9CB8-CF9F2AE9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B2AD3-43E2-47D6-AFB5-E480D385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47528-48F9-447C-ABC2-9185513A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4F412-C937-4248-A71F-3ED1EDF6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50DED-0627-4B83-ABCA-5F8D8F4A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33191-63F1-4E3D-81BC-15A849FD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F8F05-F34A-40C3-8FF9-1BF77128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1461F-9F4E-43D2-B8A2-940B6B99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069B-2ED3-49D2-9CC3-E224A6F2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BCBB7-6023-4D76-B4E4-184CFA61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B7473-DA0D-459A-9B70-AC57483C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43009-D4B6-4FC7-B831-65BE5B6C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A0C7E-D8A8-478F-A93B-A35FC836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9B3FA-B47F-4023-8BF5-7FD029C0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36CC7-676A-4B99-AFAB-41C19E71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F5334-9379-4A64-9ECC-F7C80BFC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6F375-B813-4AEB-A61B-AE14E858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AA8254-D27B-4D83-9057-07AFE3AF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74401-748D-4F52-A795-7A701C32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0E80-66BB-4938-8829-EB50CB92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B486A-8ADD-4A77-9439-0D76F6E4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F703F-72A0-4F97-AD78-330D6C6A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FBF9D-D3A4-4503-9A26-171D9F5F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00369-3C1B-408C-9494-FD3600BB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51EB4-7050-472C-B84B-D3C3DC6D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C40D5-B1A9-4791-BE12-CA9AC6F2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002EA-1C3A-41B7-8A91-8102E84F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D6000-9739-4F19-9C0F-3D88B33C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0CAD1-70E1-4192-A569-E2358BDA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4C792-5C8E-4DBE-84D4-9B6C3407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BA82-7414-4B61-8293-462198D3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98470-EDC9-4C5F-A13D-FF06B544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2D4057-715E-41D8-9B5A-B6B6BE13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124463-5267-4983-94B5-FDB8D9D3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31D1C-089D-45D9-99F3-FC7213D2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6ACEC-C0B4-4B20-A45F-A4FD7BD9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513AA-599B-4469-BFBE-EB5C85D5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7F310-EEBC-4908-A54D-0FDFEA75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41EAD-8EE8-4291-9271-F7715DB0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9EC897-9672-4A97-800F-84807189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7D4D1E-204C-4CA1-B20C-A943F773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06D5-13BA-4738-8B06-1CD0726F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CC0900-A0F1-47E0-8AB3-4F6CEB21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685A62-017F-4B29-8221-A8BDA562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4B23F-A027-4DD9-A390-D97E1C5E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D56C57-2B9F-40FF-B3CF-5D560775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339C27-A270-4498-B495-118A42B9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4E9D2-C629-491F-81C2-A61A58DF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AE61F9-B3CF-415F-8AEF-28820057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2C217B-7FBD-4AE2-AF9F-1F37D9FA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BBF098-F61F-4625-B6F7-C51FFE68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58C17-2405-4F29-B543-39913D20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F709-F51A-4B00-978D-CA4656CD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08FE5-BCA2-41D0-A497-43E46120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E232E0-0F22-45D0-8111-09069E3C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EEF7EF-3682-4802-905B-2627CE33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D081E-08C3-4A45-BB7F-45EE418D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E42B5-FF9E-4F6B-AC24-3B3BD9F8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275954-CD9D-45FD-B4C2-C1C138C1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8FD49-8581-4B6B-8FCD-9E403814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4F94F8-D8A6-4E02-82B1-60B22531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E6F8D8-F8F0-4EC9-AA3D-C947BC05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D5BAD1-A657-4D97-BE21-F144B250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9987-64C9-462D-9E97-2D2E6264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C53AB0-5954-49EB-8BB3-96485D9F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1C9C4-408E-4CB3-8767-9EA51165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600702-21FD-4F72-BA2E-3D3DD7D8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512-CAEE-42FC-9ABF-EFA6D5FB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5B5F-492C-43F3-A45E-78C4F999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E7AD-B8BC-47AC-A332-1687A58A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C8E4-56FF-4B72-B7C3-552F3491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EB52-E466-4368-B8EE-D9DE7E1E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0787-2E62-44D0-9F8F-60CD4C47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7124D-CA25-471D-9E92-DCA44664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59F8-24E4-43F5-901D-FD825F8A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2A09-AE1E-4238-94CD-71ADD926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71953-B9F5-43A3-826C-35DC7862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F70D9-4D29-4F5D-BED2-9A838DE7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57F-5A24-4A8B-8027-3AC83A0A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408B4-8E71-4360-8FC5-2EBB81CE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993DF-9635-43F0-9ACB-23F83A53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B7620-79A4-4370-BAD3-B0C53D01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94C7C-CF83-44FA-8A6B-AA5AE416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72599-7A21-4FD2-97C7-9FE87C39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2E0FD-85AD-48D8-8F82-AAE6BA46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073E7-E0B2-4EA9-9F50-C61D28E7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F3A15-03F5-460B-B700-B16089FA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AFA96-75E1-4D0A-9676-E048E388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62ADA-9738-4286-B98F-BEF54679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B5D-B7CC-4F15-A1CD-2497D602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FA5A7-6844-4E52-A4D2-EE81222E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AC788-F501-435E-960C-82655041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9D2E2-9C89-4EA0-9B28-9DB86859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B92A-32E0-4B9A-8756-8838412E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1368A-E1EB-4199-8E67-2F0B497C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CB69E-C8A7-4392-B0DE-A95A2B2E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36F7D-E74A-49B1-846E-9FBDB37B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8FA7A-305D-41DB-A2A2-74847055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D242E-F978-489D-B97D-FE1A1DB1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5D868-33E0-4E66-BA85-D97FF017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597-4F63-4AF7-88A6-C5EC3BDF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1FCC1-9294-429E-8EE3-54E9264E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A1C86-B374-4066-A59A-BA5B7F32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AF773-687C-4EE8-9A63-79A9F6FD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16D4B-EDEE-4791-8A57-F4363CD5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5A3D2-7209-4950-9826-41F0E061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2637C-162E-4AB6-99DC-243D6D54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3E74E-B7B2-4C61-B7FF-431DCEB1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F7D04-9F0C-45AB-A438-7AD12DE5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EDE27-F20F-4893-977E-5114516A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20228-74DF-477F-B93F-57E3F61D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42F-5423-4D48-8BE7-6FDE0581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B5D2F-C795-4705-9A28-31DC04AF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94956-5F38-45D4-B11B-DBDA6909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D3058-E796-4A66-94E2-C3E4B7C2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BDD6F-CFBD-4CF4-913C-AABCA153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BFE15-4897-4854-BBF7-0B112587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39F64-ABD6-47DE-9BF6-254B4962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64143-FEE3-421C-82CD-10F36308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15536-5BC2-40A5-A91A-02C5726B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E83A3-6EAE-4C5F-89BC-B2994D7E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96D65-7EAA-417C-B6A3-40996656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B92-7FBC-4E10-A51E-A9C4CCD3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5E39A-EF36-4E65-8EA4-56AEA086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198B4-44D2-431C-BD52-08342BCD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12965-5552-4187-B4CD-3A26976B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4CD99-ED03-4B54-B2C5-66CAAD68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46ECA-6FC5-4F85-94EE-4CBFABB9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C8026-A33B-4BE4-9638-9E46B02B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BC20D-1F5A-414D-B6CB-D046152B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1C56C-32D7-496C-9942-220BEE2C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0A11D-1DD2-4751-89CF-83C560C3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98A40-FFE4-4EB6-86FC-124952FC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F01-90C3-42E6-8E9E-5516E7BE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56842-1951-4EC2-80A6-9A5D25C8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89D27-CA48-4AC0-AEEE-9EDE1BC7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97E6E-588B-4B60-9EB7-470DF450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81C46-3C8D-4000-8317-7B53A9A6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2558D-57A7-465A-BD4C-DC49D526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2C8C7-29AF-4E87-A49D-D52B0134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3A0E6-36F9-4325-9DEF-6EAA76F8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F871D-9E70-4629-82E5-025CAAB7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5708B-FE62-4A27-907C-8B7C5174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02D73-3564-49B3-BF58-A3797C51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933-6930-491B-82CA-66077FCB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1B337-9654-49DE-8A2D-E9DA363D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17469-5BE6-47E5-A121-C9D6D610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B314F-8FCA-4B23-9712-D08DA84C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7DF85-1B2A-42EE-9B34-EBE66DB0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9FB74-D270-441A-A290-E69473FD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870F4-53F0-4C6C-852A-3CE1F303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F125B-FCF2-4725-8A32-5E8AD37E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9810D-9802-4C6B-8FCD-50DA5DF2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7DB4D-B256-4B0D-985C-C697B4C4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D638A-4D49-4C99-84E1-1F3DBA34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8E42-B19E-489F-AEDF-13F28745F11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5C15-8C39-4DF4-8D36-5AFFB8AE82B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2521-68F3-4AC5-AFED-80EDD5FBEED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693B-A095-49C2-879B-AE3E5BB398C7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82E7-AE15-4077-B44F-1A7817CBDB4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65D0-74FA-4C4D-86F4-9189509543A2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89DF-CA8A-44A2-9B60-7E73A0FEDBF4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6E42-A119-432D-A0D8-FB19817BF01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E0D0-021D-4732-8E78-34224E731F1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80D3-42B6-4357-91B4-930C471EFF4B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1E78-E496-4EC3-B524-50DB21E8FB1E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3362-D707-4213-BA8B-BBED2FE17FBC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06E6-090E-4201-84CB-4A995760DC4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32D0-C4E0-44F0-80F1-0F87E6F5C78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27CD-052D-430B-B482-AD1804BC46C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FCD7-F2C2-4B02-98D0-A4F87B73F41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26672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e Cell Theo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088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8, the German botanist Matthias Schleiden concluded that all plants were composed of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9, Theodor Schwann concluded the same thing for anim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55, Rudolf Virchow noted that all cells come from other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he cell theory states tha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l living organisms are made of one or more cell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are the basic units of structure and function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come only from pre-existing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cell is the smallest unit that can carry on all of the processes of lif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"/>
          <p:cNvSpPr/>
          <p:nvPr/>
        </p:nvSpPr>
        <p:spPr>
          <a:xfrm>
            <a:off x="1447920" y="22860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3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2"/>
          <p:cNvSpPr/>
          <p:nvPr/>
        </p:nvSpPr>
        <p:spPr>
          <a:xfrm>
            <a:off x="3581280" y="181116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: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ryon: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2666880" y="8380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152388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5715000" y="4297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6"/>
          <p:cNvGrpSpPr/>
          <p:nvPr/>
        </p:nvGrpSpPr>
        <p:grpSpPr>
          <a:xfrm>
            <a:off x="2743200" y="2895480"/>
            <a:ext cx="3962520" cy="1401120"/>
            <a:chOff x="2743200" y="2895480"/>
            <a:chExt cx="3962520" cy="1401120"/>
          </a:xfrm>
        </p:grpSpPr>
        <p:sp>
          <p:nvSpPr>
            <p:cNvPr id="896" name="Line 7"/>
            <p:cNvSpPr/>
            <p:nvPr/>
          </p:nvSpPr>
          <p:spPr>
            <a:xfrm>
              <a:off x="4648320" y="289548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8"/>
            <p:cNvSpPr/>
            <p:nvPr/>
          </p:nvSpPr>
          <p:spPr>
            <a:xfrm>
              <a:off x="2743200" y="369612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9"/>
            <p:cNvSpPr/>
            <p:nvPr/>
          </p:nvSpPr>
          <p:spPr>
            <a:xfrm flipH="1">
              <a:off x="2743200" y="369612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0"/>
            <p:cNvSpPr/>
            <p:nvPr/>
          </p:nvSpPr>
          <p:spPr>
            <a:xfrm flipH="1">
              <a:off x="6692760" y="369612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Oval 11"/>
          <p:cNvSpPr/>
          <p:nvPr/>
        </p:nvSpPr>
        <p:spPr>
          <a:xfrm>
            <a:off x="3429000" y="1752480"/>
            <a:ext cx="251460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"/>
          <p:cNvSpPr/>
          <p:nvPr/>
        </p:nvSpPr>
        <p:spPr>
          <a:xfrm>
            <a:off x="76320" y="5410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4"/>
          <p:cNvSpPr/>
          <p:nvPr/>
        </p:nvSpPr>
        <p:spPr>
          <a:xfrm>
            <a:off x="152280" y="6126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888840"/>
            <a:ext cx="8858520" cy="58136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6"/>
          <p:cNvSpPr/>
          <p:nvPr/>
        </p:nvSpPr>
        <p:spPr>
          <a:xfrm>
            <a:off x="3886200" y="59943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685800" y="18795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5791320" y="54608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"/>
          <p:cNvSpPr/>
          <p:nvPr/>
        </p:nvSpPr>
        <p:spPr>
          <a:xfrm>
            <a:off x="6781680" y="50799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6781680" y="46227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7162920" y="39369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838080" y="64515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5"/>
          <p:cNvSpPr/>
          <p:nvPr/>
        </p:nvSpPr>
        <p:spPr>
          <a:xfrm>
            <a:off x="3733920" y="6299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7"/>
          <p:cNvSpPr/>
          <p:nvPr/>
        </p:nvSpPr>
        <p:spPr>
          <a:xfrm>
            <a:off x="457200" y="3098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8"/>
          <p:cNvSpPr/>
          <p:nvPr/>
        </p:nvSpPr>
        <p:spPr>
          <a:xfrm>
            <a:off x="533520" y="21844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9"/>
          <p:cNvSpPr/>
          <p:nvPr/>
        </p:nvSpPr>
        <p:spPr>
          <a:xfrm>
            <a:off x="1676520" y="8128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0"/>
          <p:cNvSpPr/>
          <p:nvPr/>
        </p:nvSpPr>
        <p:spPr>
          <a:xfrm>
            <a:off x="7112160" y="1384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1"/>
          <p:cNvSpPr/>
          <p:nvPr/>
        </p:nvSpPr>
        <p:spPr>
          <a:xfrm>
            <a:off x="5435640" y="762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مادة الوراث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2"/>
          <p:cNvSpPr/>
          <p:nvPr/>
        </p:nvSpPr>
        <p:spPr>
          <a:xfrm>
            <a:off x="6400800" y="11937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3"/>
          <p:cNvSpPr/>
          <p:nvPr/>
        </p:nvSpPr>
        <p:spPr>
          <a:xfrm>
            <a:off x="5702400" y="158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4"/>
          <p:cNvSpPr/>
          <p:nvPr/>
        </p:nvSpPr>
        <p:spPr>
          <a:xfrm>
            <a:off x="533520" y="52005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FB8E-7181-4511-AA5A-89F4D2BC4A9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76320" y="750960"/>
            <a:ext cx="8915400" cy="6030720"/>
          </a:xfrm>
          <a:prstGeom prst="rect">
            <a:avLst/>
          </a:prstGeom>
          <a:ln w="0">
            <a:noFill/>
          </a:ln>
        </p:spPr>
      </p:pic>
      <p:grpSp>
        <p:nvGrpSpPr>
          <p:cNvPr id="922" name="Group 10"/>
          <p:cNvGrpSpPr/>
          <p:nvPr/>
        </p:nvGrpSpPr>
        <p:grpSpPr>
          <a:xfrm>
            <a:off x="2362320" y="2935440"/>
            <a:ext cx="4685760" cy="3504960"/>
            <a:chOff x="2362320" y="2935440"/>
            <a:chExt cx="4685760" cy="3504960"/>
          </a:xfrm>
        </p:grpSpPr>
        <p:sp>
          <p:nvSpPr>
            <p:cNvPr id="923" name="Rectangle 6"/>
            <p:cNvSpPr/>
            <p:nvPr/>
          </p:nvSpPr>
          <p:spPr>
            <a:xfrm>
              <a:off x="4190760" y="61358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"/>
            <p:cNvSpPr/>
            <p:nvPr/>
          </p:nvSpPr>
          <p:spPr>
            <a:xfrm>
              <a:off x="5841720" y="5526000"/>
              <a:ext cx="11426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"/>
            <p:cNvSpPr/>
            <p:nvPr/>
          </p:nvSpPr>
          <p:spPr>
            <a:xfrm>
              <a:off x="5600520" y="29354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9"/>
            <p:cNvSpPr/>
            <p:nvPr/>
          </p:nvSpPr>
          <p:spPr>
            <a:xfrm>
              <a:off x="2362320" y="5780160"/>
              <a:ext cx="9140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11"/>
          <p:cNvSpPr/>
          <p:nvPr/>
        </p:nvSpPr>
        <p:spPr>
          <a:xfrm>
            <a:off x="6858000" y="2884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6934320" y="55134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3"/>
          <p:cNvSpPr/>
          <p:nvPr/>
        </p:nvSpPr>
        <p:spPr>
          <a:xfrm>
            <a:off x="4191120" y="643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4"/>
          <p:cNvSpPr/>
          <p:nvPr/>
        </p:nvSpPr>
        <p:spPr>
          <a:xfrm>
            <a:off x="1066680" y="57801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Rectangle 2" descr=""/>
          <p:cNvPicPr/>
          <p:nvPr/>
        </p:nvPicPr>
        <p:blipFill>
          <a:blip r:embed="rId1"/>
          <a:stretch/>
        </p:blipFill>
        <p:spPr>
          <a:xfrm>
            <a:off x="231840" y="1878120"/>
            <a:ext cx="6431040" cy="1560240"/>
          </a:xfrm>
          <a:prstGeom prst="rect">
            <a:avLst/>
          </a:prstGeom>
          <a:ln w="0">
            <a:noFill/>
          </a:ln>
        </p:spPr>
      </p:pic>
      <p:sp>
        <p:nvSpPr>
          <p:cNvPr id="932" name="Text Box 6"/>
          <p:cNvSpPr/>
          <p:nvPr/>
        </p:nvSpPr>
        <p:spPr>
          <a:xfrm>
            <a:off x="4343400" y="3809880"/>
            <a:ext cx="3429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660066"/>
                </a:solidFill>
                <a:latin typeface="Arial"/>
                <a:cs typeface="Al-Mothnna"/>
              </a:rPr>
              <a:t>عضيــات الخلي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ains the cell’s genetic library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حتوى الـﭽينى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152280" y="2244240"/>
            <a:ext cx="8686800" cy="422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is separated from the cytoplasm by a double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مزدوج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nstantia"/>
              </a:rPr>
              <a:t>nuclear membra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tains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or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قو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ar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لاف النووى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1066680" y="0"/>
            <a:ext cx="6782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04560" y="1012320"/>
            <a:ext cx="8381880" cy="55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يوط الكروماتين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ich is the DNA associated with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the cell prepares to divide, the chromatin fibers coil up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لت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be seen a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eukaryotic species has a characteristic number of chromosome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رقم مُمَيـٍز من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but sex cells (eggs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380880" y="852480"/>
            <a:ext cx="37339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1828800" y="19191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Organism’s Basic Unit of Str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1066680" y="359568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6172200" y="351936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"/>
          <p:cNvSpPr/>
          <p:nvPr/>
        </p:nvSpPr>
        <p:spPr>
          <a:xfrm>
            <a:off x="3352680" y="2376360"/>
            <a:ext cx="281952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685800" y="5195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5943600" y="51195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4419720" y="1233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llula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Small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152280" y="3443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685800" y="557676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كائنات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7086600" y="32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ت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65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51920" y="2698920"/>
            <a:ext cx="8915400" cy="51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are surrounded by a 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دة النصف سائ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2514600" y="201132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76320" y="2701440"/>
            <a:ext cx="8991360" cy="54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7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major difference </a:t>
            </a:r>
            <a:r>
              <a:rPr b="1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رق الأساسى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tween prokaryotic and eukaryotic cells is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ocation of chromosomes</a:t>
            </a:r>
            <a:r>
              <a:rPr b="1" lang="en-US" sz="31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 الصبغيات</a:t>
            </a: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n eukaryotic cell, chromosomes are contained in a true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u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(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واة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 prokaryotic cell, the DNA is concentrated in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ـبه نوا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without a membrane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دون غـشاء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separating it from the rest of the cell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prokaryotic cell, DNA is a sing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حاد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or doub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DNA. But in eukaryotic cell, DNA is double stran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2514600" y="1782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2133720" y="2438280"/>
            <a:ext cx="4952880" cy="914400"/>
            <a:chOff x="2133720" y="2438280"/>
            <a:chExt cx="4952880" cy="914400"/>
          </a:xfrm>
        </p:grpSpPr>
        <p:sp>
          <p:nvSpPr>
            <p:cNvPr id="822" name="Line 5"/>
            <p:cNvSpPr/>
            <p:nvPr/>
          </p:nvSpPr>
          <p:spPr>
            <a:xfrm>
              <a:off x="457200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6"/>
            <p:cNvSpPr/>
            <p:nvPr/>
          </p:nvSpPr>
          <p:spPr>
            <a:xfrm>
              <a:off x="2133720" y="28954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"/>
            <p:cNvSpPr/>
            <p:nvPr/>
          </p:nvSpPr>
          <p:spPr>
            <a:xfrm>
              <a:off x="7086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Oval 10"/>
          <p:cNvSpPr/>
          <p:nvPr/>
        </p:nvSpPr>
        <p:spPr>
          <a:xfrm>
            <a:off x="990720" y="3429000"/>
            <a:ext cx="23619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1"/>
          <p:cNvSpPr/>
          <p:nvPr/>
        </p:nvSpPr>
        <p:spPr>
          <a:xfrm>
            <a:off x="594360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"/>
          <p:cNvSpPr/>
          <p:nvPr/>
        </p:nvSpPr>
        <p:spPr>
          <a:xfrm>
            <a:off x="4952880" y="4513320"/>
            <a:ext cx="38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extreme environment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يئات القاس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hot and sal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838080" y="4565520"/>
            <a:ext cx="266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most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4"/>
          <p:cNvSpPr/>
          <p:nvPr/>
        </p:nvSpPr>
        <p:spPr>
          <a:xfrm>
            <a:off x="380880" y="52578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re differing in some o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tructu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bio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physiologic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haracteristic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2438280" y="762120"/>
            <a:ext cx="5334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8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834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962520" y="9907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380880" y="725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pperplate Gothic Bold"/>
              </a:rPr>
              <a:t>A)-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4"/>
          <p:cNvSpPr/>
          <p:nvPr/>
        </p:nvSpPr>
        <p:spPr>
          <a:xfrm>
            <a:off x="1981080" y="5927760"/>
            <a:ext cx="6400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4  The prokaryotic cell is much simpler in structure, lacking a nucleus and the other membrane-enclosed organelles of the eukaryotic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3" descr=""/>
          <p:cNvPicPr/>
          <p:nvPr/>
        </p:nvPicPr>
        <p:blipFill>
          <a:blip r:embed="rId1"/>
          <a:srcRect l="0" t="0" r="0" b="3787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6"/>
          <p:cNvSpPr/>
          <p:nvPr/>
        </p:nvSpPr>
        <p:spPr>
          <a:xfrm>
            <a:off x="4343400" y="238752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4444920" y="292104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3733920" y="129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شبه 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9"/>
          <p:cNvSpPr/>
          <p:nvPr/>
        </p:nvSpPr>
        <p:spPr>
          <a:xfrm>
            <a:off x="4114800" y="18288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ريبوزوم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0"/>
          <p:cNvSpPr/>
          <p:nvPr/>
        </p:nvSpPr>
        <p:spPr>
          <a:xfrm>
            <a:off x="4952880" y="3549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كبسو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3"/>
          <p:cNvSpPr/>
          <p:nvPr/>
        </p:nvSpPr>
        <p:spPr>
          <a:xfrm>
            <a:off x="762120" y="39625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سوا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AutoShape 13"/>
          <p:cNvSpPr/>
          <p:nvPr/>
        </p:nvSpPr>
        <p:spPr>
          <a:xfrm>
            <a:off x="1574640" y="30034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8"/>
          <p:cNvGrpSpPr/>
          <p:nvPr/>
        </p:nvGrpSpPr>
        <p:grpSpPr>
          <a:xfrm>
            <a:off x="1523880" y="2940120"/>
            <a:ext cx="5943600" cy="2133360"/>
            <a:chOff x="1523880" y="2940120"/>
            <a:chExt cx="5943600" cy="2133360"/>
          </a:xfrm>
        </p:grpSpPr>
        <p:sp>
          <p:nvSpPr>
            <p:cNvPr id="847" name="AutoShape 7"/>
            <p:cNvSpPr/>
            <p:nvPr/>
          </p:nvSpPr>
          <p:spPr>
            <a:xfrm>
              <a:off x="1600200" y="29401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5"/>
            <p:cNvSpPr/>
            <p:nvPr/>
          </p:nvSpPr>
          <p:spPr>
            <a:xfrm>
              <a:off x="1523880" y="31687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4"/>
          <p:cNvSpPr/>
          <p:nvPr/>
        </p:nvSpPr>
        <p:spPr>
          <a:xfrm>
            <a:off x="228600" y="797040"/>
            <a:ext cx="38098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6"/>
          <p:cNvSpPr/>
          <p:nvPr/>
        </p:nvSpPr>
        <p:spPr>
          <a:xfrm>
            <a:off x="1638360" y="32702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9"/>
          <p:cNvSpPr/>
          <p:nvPr/>
        </p:nvSpPr>
        <p:spPr>
          <a:xfrm>
            <a:off x="1739880" y="33591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0"/>
          <p:cNvSpPr/>
          <p:nvPr/>
        </p:nvSpPr>
        <p:spPr>
          <a:xfrm>
            <a:off x="1816200" y="34354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2806560" y="36734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7"/>
          <p:cNvGrpSpPr/>
          <p:nvPr/>
        </p:nvGrpSpPr>
        <p:grpSpPr>
          <a:xfrm>
            <a:off x="6934320" y="1568520"/>
            <a:ext cx="1752480" cy="1523880"/>
            <a:chOff x="6934320" y="1568520"/>
            <a:chExt cx="1752480" cy="1523880"/>
          </a:xfrm>
        </p:grpSpPr>
        <p:sp>
          <p:nvSpPr>
            <p:cNvPr id="855" name="Line 15"/>
            <p:cNvSpPr/>
            <p:nvPr/>
          </p:nvSpPr>
          <p:spPr>
            <a:xfrm flipV="1">
              <a:off x="6934320" y="21780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6"/>
            <p:cNvSpPr/>
            <p:nvPr/>
          </p:nvSpPr>
          <p:spPr>
            <a:xfrm>
              <a:off x="70102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22"/>
          <p:cNvGrpSpPr/>
          <p:nvPr/>
        </p:nvGrpSpPr>
        <p:grpSpPr>
          <a:xfrm>
            <a:off x="4952880" y="1568520"/>
            <a:ext cx="1676520" cy="1675800"/>
            <a:chOff x="4952880" y="1568520"/>
            <a:chExt cx="1676520" cy="1675800"/>
          </a:xfrm>
        </p:grpSpPr>
        <p:sp>
          <p:nvSpPr>
            <p:cNvPr id="858" name="Line 20"/>
            <p:cNvSpPr/>
            <p:nvPr/>
          </p:nvSpPr>
          <p:spPr>
            <a:xfrm flipV="1">
              <a:off x="4952880" y="21776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21"/>
            <p:cNvSpPr/>
            <p:nvPr/>
          </p:nvSpPr>
          <p:spPr>
            <a:xfrm>
              <a:off x="49528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25"/>
          <p:cNvGrpSpPr/>
          <p:nvPr/>
        </p:nvGrpSpPr>
        <p:grpSpPr>
          <a:xfrm>
            <a:off x="2438280" y="1568520"/>
            <a:ext cx="2057400" cy="1790280"/>
            <a:chOff x="2438280" y="1568520"/>
            <a:chExt cx="2057400" cy="1790280"/>
          </a:xfrm>
        </p:grpSpPr>
        <p:sp>
          <p:nvSpPr>
            <p:cNvPr id="861" name="Line 23"/>
            <p:cNvSpPr/>
            <p:nvPr/>
          </p:nvSpPr>
          <p:spPr>
            <a:xfrm flipV="1">
              <a:off x="2819520" y="22158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24"/>
            <p:cNvSpPr/>
            <p:nvPr/>
          </p:nvSpPr>
          <p:spPr>
            <a:xfrm>
              <a:off x="2438280" y="15685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876920" y="4540320"/>
            <a:ext cx="2057400" cy="2013840"/>
            <a:chOff x="4876920" y="4540320"/>
            <a:chExt cx="2057400" cy="2013840"/>
          </a:xfrm>
        </p:grpSpPr>
        <p:sp>
          <p:nvSpPr>
            <p:cNvPr id="864" name="Line 26"/>
            <p:cNvSpPr/>
            <p:nvPr/>
          </p:nvSpPr>
          <p:spPr>
            <a:xfrm flipH="1">
              <a:off x="5791320" y="45403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27"/>
            <p:cNvSpPr/>
            <p:nvPr/>
          </p:nvSpPr>
          <p:spPr>
            <a:xfrm>
              <a:off x="4876920" y="56070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32"/>
          <p:cNvGrpSpPr/>
          <p:nvPr/>
        </p:nvGrpSpPr>
        <p:grpSpPr>
          <a:xfrm>
            <a:off x="2895480" y="4083120"/>
            <a:ext cx="2057400" cy="2044440"/>
            <a:chOff x="2895480" y="4083120"/>
            <a:chExt cx="2057400" cy="2044440"/>
          </a:xfrm>
        </p:grpSpPr>
        <p:sp>
          <p:nvSpPr>
            <p:cNvPr id="867" name="Line 30"/>
            <p:cNvSpPr/>
            <p:nvPr/>
          </p:nvSpPr>
          <p:spPr>
            <a:xfrm flipH="1">
              <a:off x="3809520" y="40831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31"/>
            <p:cNvSpPr/>
            <p:nvPr/>
          </p:nvSpPr>
          <p:spPr>
            <a:xfrm>
              <a:off x="2895480" y="56070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53"/>
          <p:cNvGrpSpPr/>
          <p:nvPr/>
        </p:nvGrpSpPr>
        <p:grpSpPr>
          <a:xfrm>
            <a:off x="2133720" y="3535200"/>
            <a:ext cx="4495320" cy="1219320"/>
            <a:chOff x="2133720" y="3535200"/>
            <a:chExt cx="4495320" cy="1219320"/>
          </a:xfrm>
        </p:grpSpPr>
        <p:sp>
          <p:nvSpPr>
            <p:cNvPr id="870" name="Oval 39"/>
            <p:cNvSpPr/>
            <p:nvPr/>
          </p:nvSpPr>
          <p:spPr>
            <a:xfrm>
              <a:off x="2133720" y="36874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0"/>
            <p:cNvSpPr/>
            <p:nvPr/>
          </p:nvSpPr>
          <p:spPr>
            <a:xfrm>
              <a:off x="2438280" y="43732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1"/>
            <p:cNvSpPr/>
            <p:nvPr/>
          </p:nvSpPr>
          <p:spPr>
            <a:xfrm>
              <a:off x="2209680" y="40687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42"/>
            <p:cNvSpPr/>
            <p:nvPr/>
          </p:nvSpPr>
          <p:spPr>
            <a:xfrm>
              <a:off x="4952880" y="4678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43"/>
            <p:cNvSpPr/>
            <p:nvPr/>
          </p:nvSpPr>
          <p:spPr>
            <a:xfrm>
              <a:off x="3657600" y="45259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44"/>
            <p:cNvSpPr/>
            <p:nvPr/>
          </p:nvSpPr>
          <p:spPr>
            <a:xfrm>
              <a:off x="3047760" y="4601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45"/>
            <p:cNvSpPr/>
            <p:nvPr/>
          </p:nvSpPr>
          <p:spPr>
            <a:xfrm>
              <a:off x="274320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46"/>
            <p:cNvSpPr/>
            <p:nvPr/>
          </p:nvSpPr>
          <p:spPr>
            <a:xfrm>
              <a:off x="51814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47"/>
            <p:cNvSpPr/>
            <p:nvPr/>
          </p:nvSpPr>
          <p:spPr>
            <a:xfrm>
              <a:off x="44193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48"/>
            <p:cNvSpPr/>
            <p:nvPr/>
          </p:nvSpPr>
          <p:spPr>
            <a:xfrm>
              <a:off x="35812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49"/>
            <p:cNvSpPr/>
            <p:nvPr/>
          </p:nvSpPr>
          <p:spPr>
            <a:xfrm>
              <a:off x="6476760" y="42210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0"/>
            <p:cNvSpPr/>
            <p:nvPr/>
          </p:nvSpPr>
          <p:spPr>
            <a:xfrm>
              <a:off x="6476760" y="38401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51"/>
            <p:cNvSpPr/>
            <p:nvPr/>
          </p:nvSpPr>
          <p:spPr>
            <a:xfrm>
              <a:off x="5562360" y="45259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52"/>
            <p:cNvSpPr/>
            <p:nvPr/>
          </p:nvSpPr>
          <p:spPr>
            <a:xfrm>
              <a:off x="60195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58"/>
          <p:cNvGrpSpPr/>
          <p:nvPr/>
        </p:nvGrpSpPr>
        <p:grpSpPr>
          <a:xfrm>
            <a:off x="304920" y="4144680"/>
            <a:ext cx="2146320" cy="1816200"/>
            <a:chOff x="304920" y="4144680"/>
            <a:chExt cx="2146320" cy="1816200"/>
          </a:xfrm>
        </p:grpSpPr>
        <p:sp>
          <p:nvSpPr>
            <p:cNvPr id="885" name="Text Box 54"/>
            <p:cNvSpPr/>
            <p:nvPr/>
          </p:nvSpPr>
          <p:spPr>
            <a:xfrm>
              <a:off x="304920" y="5440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 flipV="1">
              <a:off x="1384560" y="44370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57"/>
            <p:cNvSpPr/>
            <p:nvPr/>
          </p:nvSpPr>
          <p:spPr>
            <a:xfrm flipV="1">
              <a:off x="1371960" y="41446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- Eukaryot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228600" y="1892160"/>
            <a:ext cx="8686800" cy="40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eukaryotic cell has internal membranes, which parti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قـَســم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cell into compartmen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عضاء وظيف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membranes also participate in metabolism as many enzymes are built into membr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ral structure of a biological membrane is a double layer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طبق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phospholipids and diverse protei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ات متنوع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type of membrane has a unique combin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كيب مـُمـَيـٍز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lipids and proteins for its specific func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د أشرف مشالي</cp:lastModifiedBy>
  <dcterms:modified xsi:type="dcterms:W3CDTF">2013-09-01T08:10:27Z</dcterms:modified>
  <cp:revision>271</cp:revision>
  <dc:subject/>
  <dc:title>The Cell Organelles</dc:title>
</cp:coreProperties>
</file>