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F86-49F2-41CB-8897-EF8BF2AF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F5D-BE72-4331-9F40-3CAF3E3E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221-E11D-4A01-90CE-14DE469A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601-AC7C-446B-9445-630727D0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09CA-67D6-49BF-BC8C-B3166303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893-136A-4F0F-9981-C8AB8ADA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119-653E-4A5B-A4E3-07C38543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1A3-DCEB-4B44-BF79-E20A2DC2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322-69C1-483B-ACB5-39360EA3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697-2448-4111-9A21-7ED2E416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4FA-0632-43A2-A60C-4E9186C9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6E4-7D18-4792-9054-C47FEB78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3513-33BF-4FFD-B2FB-5C2487A31A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5321-CB63-4EBA-B0B3-249FE61FB6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F3FB-6ECD-4B52-90C9-F386BCFDB1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2AD7-845F-48CC-92D2-48DA099797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9F27-6306-497C-B20E-82B06CBA97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9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7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9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988A-9299-41E2-87D9-33A354C445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62" name="AutoShape 6"/>
            <p:cNvSpPr/>
            <p:nvPr/>
          </p:nvSpPr>
          <p:spPr>
            <a:xfrm>
              <a:off x="3321360" y="3050280"/>
              <a:ext cx="216360" cy="69516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9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72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5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8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3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6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90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5B33-EA0B-48D4-BEB4-6B482192B0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ediately tur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7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7148160" y="3385800"/>
              <a:ext cx="1816200" cy="652320"/>
            </a:xfrm>
            <a:prstGeom prst="pie">
              <a:avLst/>
            </a:pr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8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D186-C058-4F99-9C3E-344377DA3D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5707-98BB-4E82-85A5-4BDD5E6AFA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22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6581520" y="2573280"/>
              <a:ext cx="2028600" cy="652680"/>
            </a:xfrm>
            <a:prstGeom prst="pie">
              <a:avLst/>
            </a:pr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5257800" y="4129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6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43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6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9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52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7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60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3"/>
          <p:cNvSpPr/>
          <p:nvPr/>
        </p:nvSpPr>
        <p:spPr>
          <a:xfrm>
            <a:off x="1412640" y="382428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4"/>
          <p:cNvSpPr/>
          <p:nvPr/>
        </p:nvSpPr>
        <p:spPr>
          <a:xfrm>
            <a:off x="1555920" y="41036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6"/>
          <p:cNvSpPr/>
          <p:nvPr/>
        </p:nvSpPr>
        <p:spPr>
          <a:xfrm>
            <a:off x="1440720" y="4788000"/>
            <a:ext cx="19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7"/>
          <p:cNvSpPr/>
          <p:nvPr/>
        </p:nvSpPr>
        <p:spPr>
          <a:xfrm>
            <a:off x="5517000" y="4788000"/>
            <a:ext cx="23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e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52280" y="34290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ach type of a virus infects a limited range of host ce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4"/>
          <p:cNvSpPr/>
          <p:nvPr/>
        </p:nvSpPr>
        <p:spPr>
          <a:xfrm>
            <a:off x="76320" y="4191120"/>
            <a:ext cx="289548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uses are host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 protein on the surface of the virus has a shape that matches a molecule in the plasma membrane of its host, allowing the virus to lock onto the host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 viruses are not considered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asic structure of vir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ytic and lysogenic cycles of virus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in humans,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not considered "living" organisms. However, they do show one of the most important signs of life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14600" y="228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re vir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12AA-8C7D-4A2C-95AE-EF887D4952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5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8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3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4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5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6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7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C4B6-8CAE-4634-B236-0E1876888B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320" y="10047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غلاف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5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4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8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غطاء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62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22F2-1AE8-48D1-BD9E-6A0AD5F0D3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specific type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our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everal 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FC67-9B8D-480A-9684-08D48033CE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81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9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37"/>
          <p:cNvSpPr/>
          <p:nvPr/>
        </p:nvSpPr>
        <p:spPr>
          <a:xfrm>
            <a:off x="304920" y="2116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I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3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20" name="Freeform 56"/>
            <p:cNvSpPr/>
            <p:nvPr/>
          </p:nvSpPr>
          <p:spPr>
            <a:xfrm>
              <a:off x="6512400" y="3137040"/>
              <a:ext cx="430920" cy="41256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477120" y="3181320"/>
              <a:ext cx="430920" cy="41292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3" name="Freeform 59"/>
            <p:cNvSpPr/>
            <p:nvPr/>
          </p:nvSpPr>
          <p:spPr>
            <a:xfrm>
              <a:off x="5598000" y="3746520"/>
              <a:ext cx="430920" cy="41256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5562720" y="3790800"/>
              <a:ext cx="430920" cy="41292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2"/>
          <p:cNvSpPr/>
          <p:nvPr/>
        </p:nvSpPr>
        <p:spPr>
          <a:xfrm>
            <a:off x="5587920" y="3746520"/>
            <a:ext cx="432000" cy="4125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30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41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9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62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80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3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01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4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22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6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5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1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3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6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8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8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1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2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ralajmi</cp:lastModifiedBy>
  <dcterms:modified xsi:type="dcterms:W3CDTF">2014-02-02T04:42:28Z</dcterms:modified>
  <cp:revision>4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BA8245C-8E07-4AC8-9271-DEE20707B20E</vt:lpwstr>
  </property>
  <property fmtid="{D5CDD505-2E9C-101B-9397-08002B2CF9AE}" pid="3" name="ArticulatePath">
    <vt:lpwstr>Lecture 3 Virus</vt:lpwstr>
  </property>
</Properties>
</file>