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B0D-0013-4448-9F4E-69092C47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6DC-7C4A-44AE-BD74-C6100710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732-65EC-49D5-AAFE-C9E2D27D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C3B-AF2D-4F63-BC27-76DADD8D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B65-4AC2-4ED1-BBAF-9AA762A7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0C9-7E03-4722-9200-B522E1F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387-B702-440C-B17B-6A087A03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D6A-BAE2-49E8-A59C-81C3C051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E99-4079-42CE-A6D9-6FDD9E98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B31-ED1F-4CDD-B910-25FF95F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312-1A3C-40FD-ADA1-F5865DA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A86-664A-489B-B2B4-4C37C73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F5E-EECC-4DFB-8205-CE3BF9540B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28BB-9407-42F6-BC52-0A75446502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538F-A832-4594-AEA8-56F61DEC2C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5064-9BE5-487B-8E6D-F0C014CF01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38C-6251-4C9A-9D9C-60727445F5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6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83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F4B4-C905-44DE-A74C-4411DD290D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9" name="AutoShape 6"/>
            <p:cNvSpPr/>
            <p:nvPr/>
          </p:nvSpPr>
          <p:spPr>
            <a:xfrm>
              <a:off x="3321360" y="3050280"/>
              <a:ext cx="214920" cy="6951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6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9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2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5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0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3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7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CF56-29F7-4B0B-A227-5FCD6DA3E4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4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5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20E-A408-4302-BF90-26059E6743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420-9853-4DF1-8B81-E3011020DD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9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5257800" y="4129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3" name="AutoShape 24"/>
            <p:cNvSpPr/>
            <p:nvPr/>
          </p:nvSpPr>
          <p:spPr>
            <a:xfrm>
              <a:off x="2379960" y="2062080"/>
              <a:ext cx="268920" cy="76608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0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3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6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9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4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7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4"/>
          <p:cNvSpPr/>
          <p:nvPr/>
        </p:nvSpPr>
        <p:spPr>
          <a:xfrm>
            <a:off x="1555920" y="410364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membranous envelop al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152280" y="34290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52280" y="419112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iruses are host specific – a protein on the surface of the virus has a shape that matches a molecule in the plasma membrane of its host, allowing the virus to lock onto the hos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rigin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3" descr="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uses are not be considered "living" organisms. However, they do show one of the most important signs of life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0BDA-FEB8-4DA8-83C3-78EBCC32A0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2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US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5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0" name="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1" name="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2" name="" descr="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4" name="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rcRect l="18590" t="8065" r="4048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C1E-2341-4970-9BB6-3AB7BE683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جدار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2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1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5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9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08A-E4DA-4B6B-99C4-9BACB7A543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3FB-88CB-427D-BB52-A4D48D9690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78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6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0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17" name="Freeform 56"/>
            <p:cNvSpPr/>
            <p:nvPr/>
          </p:nvSpPr>
          <p:spPr>
            <a:xfrm>
              <a:off x="6512400" y="313704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7"/>
            <p:cNvSpPr/>
            <p:nvPr/>
          </p:nvSpPr>
          <p:spPr>
            <a:xfrm>
              <a:off x="6477120" y="318132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0" name="Freeform 59"/>
            <p:cNvSpPr/>
            <p:nvPr/>
          </p:nvSpPr>
          <p:spPr>
            <a:xfrm>
              <a:off x="5598000" y="374652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0"/>
            <p:cNvSpPr/>
            <p:nvPr/>
          </p:nvSpPr>
          <p:spPr>
            <a:xfrm>
              <a:off x="5562720" y="379080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2"/>
          <p:cNvSpPr/>
          <p:nvPr/>
        </p:nvSpPr>
        <p:spPr>
          <a:xfrm>
            <a:off x="5587920" y="3746520"/>
            <a:ext cx="432000" cy="41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27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38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6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59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77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0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98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1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19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3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2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3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5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9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2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sh</cp:lastModifiedBy>
  <dcterms:modified xsi:type="dcterms:W3CDTF">2013-01-09T23:02:31Z</dcterms:modified>
  <cp:revision>482</cp:revision>
  <dc:subject/>
  <dc:title>Slide 1</dc:title>
</cp:coreProperties>
</file>