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7D1-34E9-425C-8A31-8C4503EC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1DFC-F901-4C00-8DA9-70A9D422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395-5B3C-4B79-AC09-25F34540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5CD5-D840-4753-8763-D006EA95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2FD-6F2B-453A-A5FC-831A311B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B7B-8085-435B-80E8-6B20C219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727-2F13-4820-859A-77B7CC16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FED-D362-4B76-A18B-7CFE74F5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A71F-A787-4106-8404-24C8DA75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0F2-2ED2-4A99-A597-D6B9459F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114-E3B9-4CFC-BE38-F1FA70A0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B1D-63C4-4C80-8151-64892BF7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A0D0-DD62-42B2-996C-B4117EA13B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C916-9C7D-4606-A2F8-1D58638E0A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666880" y="38088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824960" y="0"/>
            <a:ext cx="131904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7162920" y="5791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18590" t="8065" r="4048" b="0"/>
          <a:stretch/>
        </p:blipFill>
        <p:spPr>
          <a:xfrm>
            <a:off x="57240" y="13320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F888-E8B6-459A-AA3E-9F90446679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6E08-6F27-4032-AD2C-6524293897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09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m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d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u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, the virus that 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I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qui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ndrome) is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 retrovi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s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3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DB29-59DB-42AE-9CF6-F4D42E17CF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4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يتــــ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ورة مميتة أحيانا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828800" y="609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6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0" y="412272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يروسات قات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83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9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0BE4-381A-4FEA-A1EA-37784FE2B1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8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59" name="AutoShape 6"/>
            <p:cNvSpPr/>
            <p:nvPr/>
          </p:nvSpPr>
          <p:spPr>
            <a:xfrm>
              <a:off x="3321360" y="3050280"/>
              <a:ext cx="214920" cy="6951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6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69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2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5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80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3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87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7641-DE87-46B9-9001-C8959F6812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104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e immediately turn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4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4"/>
            <p:cNvSpPr/>
            <p:nvPr/>
          </p:nvSpPr>
          <p:spPr>
            <a:xfrm>
              <a:off x="7148160" y="3385800"/>
              <a:ext cx="1816200" cy="652320"/>
            </a:xfrm>
            <a:prstGeom prst="pie">
              <a:avLst/>
            </a:pr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5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Rectangle 20"/>
          <p:cNvSpPr/>
          <p:nvPr/>
        </p:nvSpPr>
        <p:spPr>
          <a:xfrm>
            <a:off x="1835280" y="30492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1676520" y="1249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4245-7E39-46C5-BEAC-4C956AC228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9"/>
          <p:cNvSpPr/>
          <p:nvPr/>
        </p:nvSpPr>
        <p:spPr>
          <a:xfrm>
            <a:off x="2286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D586-475F-4319-996C-E2F0BDEE77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19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8"/>
            <p:cNvSpPr/>
            <p:nvPr/>
          </p:nvSpPr>
          <p:spPr>
            <a:xfrm>
              <a:off x="6581520" y="2573280"/>
              <a:ext cx="2028600" cy="652680"/>
            </a:xfrm>
            <a:prstGeom prst="pie">
              <a:avLst/>
            </a:pr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1"/>
          <p:cNvSpPr/>
          <p:nvPr/>
        </p:nvSpPr>
        <p:spPr>
          <a:xfrm>
            <a:off x="5257800" y="4129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فيروس غير مميت أحيا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3" name="AutoShape 24"/>
            <p:cNvSpPr/>
            <p:nvPr/>
          </p:nvSpPr>
          <p:spPr>
            <a:xfrm>
              <a:off x="2379960" y="2062080"/>
              <a:ext cx="268920" cy="76608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40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3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6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49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4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57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3"/>
          <p:cNvSpPr/>
          <p:nvPr/>
        </p:nvSpPr>
        <p:spPr>
          <a:xfrm>
            <a:off x="1405080" y="3824280"/>
            <a:ext cx="202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irulent viru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4"/>
          <p:cNvSpPr/>
          <p:nvPr/>
        </p:nvSpPr>
        <p:spPr>
          <a:xfrm>
            <a:off x="1555920" y="410364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6"/>
          <p:cNvSpPr/>
          <p:nvPr/>
        </p:nvSpPr>
        <p:spPr>
          <a:xfrm>
            <a:off x="1290600" y="4788000"/>
            <a:ext cx="222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7"/>
          <p:cNvSpPr/>
          <p:nvPr/>
        </p:nvSpPr>
        <p:spPr>
          <a:xfrm>
            <a:off x="5323320" y="4788000"/>
            <a:ext cx="273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دورة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, membranous envelop als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تبلو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152280" y="3429000"/>
            <a:ext cx="861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Each type of virus infects a limited range of host cells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host rang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مدى الإصاب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52280" y="4191120"/>
            <a:ext cx="2895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iruses are host specific – a protein on the surface of the virus has a shape that matches a molecule in the plasma membrane of its host, allowing the virus to lock onto the host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y viruses are not considered living organis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basic structure of vir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lytic and lysogenic cycles of virus re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origin of vir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3" descr="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HIV in humans, for examp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a protective coat of protein molecules and sometimes lip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not be considered "living" organisms. However, they do show one of the most important signs of life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749840" y="3886200"/>
            <a:ext cx="421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امض نوو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غطاء واق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232560" y="121932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 is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D1C1-BA9A-4041-BCBF-B5B6C86A88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62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65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0" name="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71" name="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72" name="" descr="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74" name="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rcRect l="18590" t="8065" r="4048" b="0"/>
          <a:stretch/>
        </p:blipFill>
        <p:spPr>
          <a:xfrm>
            <a:off x="381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2886-7EFB-49BB-8C2A-7374A38706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e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6320" y="10047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جدار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2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1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5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83"/>
          <p:cNvSpPr/>
          <p:nvPr/>
        </p:nvSpPr>
        <p:spPr>
          <a:xfrm>
            <a:off x="304920" y="536400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َّ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ar-EG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غلاف الفيرو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59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2C41-CB38-49BD-B95F-8CA715AF00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960" y="2041200"/>
            <a:ext cx="5257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29528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غطاء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8"/>
          <p:cNvSpPr/>
          <p:nvPr/>
        </p:nvSpPr>
        <p:spPr>
          <a:xfrm>
            <a:off x="2971800" y="152280"/>
            <a:ext cx="403848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specific type of 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ou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evera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hund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7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9DC4-9079-4C39-8104-7F5A827271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78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196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Text Box 37"/>
          <p:cNvSpPr/>
          <p:nvPr/>
        </p:nvSpPr>
        <p:spPr>
          <a:xfrm>
            <a:off x="304920" y="21160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I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200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17" name="Freeform 56"/>
            <p:cNvSpPr/>
            <p:nvPr/>
          </p:nvSpPr>
          <p:spPr>
            <a:xfrm>
              <a:off x="6512400" y="3137040"/>
              <a:ext cx="430920" cy="41256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57"/>
            <p:cNvSpPr/>
            <p:nvPr/>
          </p:nvSpPr>
          <p:spPr>
            <a:xfrm>
              <a:off x="6477120" y="3181320"/>
              <a:ext cx="430920" cy="41292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20" name="Freeform 59"/>
            <p:cNvSpPr/>
            <p:nvPr/>
          </p:nvSpPr>
          <p:spPr>
            <a:xfrm>
              <a:off x="5598000" y="3746520"/>
              <a:ext cx="430920" cy="41256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0"/>
            <p:cNvSpPr/>
            <p:nvPr/>
          </p:nvSpPr>
          <p:spPr>
            <a:xfrm>
              <a:off x="5562720" y="3790800"/>
              <a:ext cx="430920" cy="41292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2"/>
          <p:cNvSpPr/>
          <p:nvPr/>
        </p:nvSpPr>
        <p:spPr>
          <a:xfrm>
            <a:off x="5587920" y="3746520"/>
            <a:ext cx="432000" cy="4125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27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38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56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59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77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80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98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01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19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23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22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34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36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5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66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92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9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315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22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500"/>
                            </p:stCondLst>
                            <p:childTnLst>
                              <p:par>
                                <p:cTn id="3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29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ash</cp:lastModifiedBy>
  <dcterms:modified xsi:type="dcterms:W3CDTF">2013-01-09T23:02:31Z</dcterms:modified>
  <cp:revision>482</cp:revision>
  <dc:subject/>
  <dc:title>Slide 1</dc:title>
</cp:coreProperties>
</file>