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8B6-ABDC-4A93-8687-7836621D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CB7-734B-48AB-8746-A6600744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532-8FD1-4DA5-833F-AAE31B1F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1F8-6945-4F67-9D2B-69C733BB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23F-183A-4850-B58B-BD105F62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6983-1366-4204-97D1-1A9EA669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649-4EAD-4734-BD6E-E427649A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C34-B804-4368-B51E-EF19C1D7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9E1-5186-4567-AA69-82592D7A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899-2B16-4557-8372-5A66C733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3F2-AE33-41B9-8A5E-2C67A3A0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A0F-7E42-42E3-98C2-C6F0076D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F530-1EC2-488C-8DA6-FA9B1D0087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12C2-A20C-4A36-9E37-70A8BD8245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8B9F-3C0C-45AA-83D5-05BF9B2FDC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1A0B-B11B-486C-A94E-081079B005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761C-3217-4448-BF17-A8FF214BF5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9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7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9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FF63-1517-4204-88EA-AD986502BF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62" name="AutoShape 6"/>
            <p:cNvSpPr/>
            <p:nvPr/>
          </p:nvSpPr>
          <p:spPr>
            <a:xfrm>
              <a:off x="3321360" y="3050280"/>
              <a:ext cx="216360" cy="69516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9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72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5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8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3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6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90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29B3-C54D-4F2F-837D-B1264F9A0E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ediately tur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7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7148160" y="3385800"/>
              <a:ext cx="1816200" cy="65232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8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5F9D-9736-474E-8F4E-0D597B0A29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9E09-429A-413E-A087-25272426CD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22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6581520" y="2573280"/>
              <a:ext cx="2028600" cy="65268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5257800" y="4129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6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43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6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9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52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7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60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3"/>
          <p:cNvSpPr/>
          <p:nvPr/>
        </p:nvSpPr>
        <p:spPr>
          <a:xfrm>
            <a:off x="1412640" y="382428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4"/>
          <p:cNvSpPr/>
          <p:nvPr/>
        </p:nvSpPr>
        <p:spPr>
          <a:xfrm>
            <a:off x="1555920" y="41036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6"/>
          <p:cNvSpPr/>
          <p:nvPr/>
        </p:nvSpPr>
        <p:spPr>
          <a:xfrm>
            <a:off x="1440720" y="4788000"/>
            <a:ext cx="192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7"/>
          <p:cNvSpPr/>
          <p:nvPr/>
        </p:nvSpPr>
        <p:spPr>
          <a:xfrm>
            <a:off x="5517000" y="4788000"/>
            <a:ext cx="23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e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52280" y="34290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ach type of a virus infects a limited range of host ce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4"/>
          <p:cNvSpPr/>
          <p:nvPr/>
        </p:nvSpPr>
        <p:spPr>
          <a:xfrm>
            <a:off x="76320" y="4191120"/>
            <a:ext cx="289548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uses are host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 protein on the surface of the virus has a shape that matches a molecule in the plasma membrane of its host, allowing the virus to lock onto the host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y viruses are not considered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asic structure of vir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ytic and lysogenic cycles of virus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in humans,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not considered "living" organisms. However, they do show one of the most important signs of life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14600" y="228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are vir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C0F5-7043-44E8-9944-7B2BD3CF6E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5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8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3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4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5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6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7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D362-F951-418C-88FE-5B27A75F53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6320" y="10047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غلاف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5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4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8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غطاء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62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66D0-5D99-45AA-8C45-444BEF6460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ng on the specific type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ur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veral 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2FCB-03AF-49E6-AB8C-299CD5B124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81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9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37"/>
          <p:cNvSpPr/>
          <p:nvPr/>
        </p:nvSpPr>
        <p:spPr>
          <a:xfrm>
            <a:off x="304920" y="2116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I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3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20" name="Freeform 56"/>
            <p:cNvSpPr/>
            <p:nvPr/>
          </p:nvSpPr>
          <p:spPr>
            <a:xfrm>
              <a:off x="6512400" y="313704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6477120" y="318132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3" name="Freeform 59"/>
            <p:cNvSpPr/>
            <p:nvPr/>
          </p:nvSpPr>
          <p:spPr>
            <a:xfrm>
              <a:off x="5598000" y="374652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5562720" y="379080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2"/>
          <p:cNvSpPr/>
          <p:nvPr/>
        </p:nvSpPr>
        <p:spPr>
          <a:xfrm>
            <a:off x="5587920" y="3746520"/>
            <a:ext cx="432000" cy="412560"/>
          </a:xfrm>
          <a:custGeom>
            <a:avLst/>
            <a:gdLst>
              <a:gd name="textAreaLeft" fmla="*/ 0 w 432000"/>
              <a:gd name="textAreaRight" fmla="*/ 432360 w 4320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16" h="353">
                <a:moveTo>
                  <a:pt x="0" y="175"/>
                </a:moveTo>
                <a:cubicBezTo>
                  <a:pt x="13" y="72"/>
                  <a:pt x="4" y="76"/>
                  <a:pt x="99" y="60"/>
                </a:cubicBezTo>
                <a:cubicBezTo>
                  <a:pt x="115" y="43"/>
                  <a:pt x="132" y="27"/>
                  <a:pt x="148" y="10"/>
                </a:cubicBezTo>
                <a:cubicBezTo>
                  <a:pt x="231" y="33"/>
                  <a:pt x="145" y="0"/>
                  <a:pt x="190" y="43"/>
                </a:cubicBezTo>
                <a:cubicBezTo>
                  <a:pt x="212" y="64"/>
                  <a:pt x="250" y="56"/>
                  <a:pt x="280" y="60"/>
                </a:cubicBezTo>
                <a:cubicBezTo>
                  <a:pt x="292" y="97"/>
                  <a:pt x="284" y="130"/>
                  <a:pt x="272" y="167"/>
                </a:cubicBezTo>
                <a:cubicBezTo>
                  <a:pt x="310" y="203"/>
                  <a:pt x="316" y="197"/>
                  <a:pt x="288" y="274"/>
                </a:cubicBezTo>
                <a:cubicBezTo>
                  <a:pt x="285" y="282"/>
                  <a:pt x="272" y="279"/>
                  <a:pt x="264" y="282"/>
                </a:cubicBezTo>
                <a:cubicBezTo>
                  <a:pt x="253" y="287"/>
                  <a:pt x="242" y="293"/>
                  <a:pt x="231" y="298"/>
                </a:cubicBezTo>
                <a:cubicBezTo>
                  <a:pt x="204" y="325"/>
                  <a:pt x="220" y="334"/>
                  <a:pt x="181" y="348"/>
                </a:cubicBezTo>
                <a:cubicBezTo>
                  <a:pt x="137" y="338"/>
                  <a:pt x="140" y="353"/>
                  <a:pt x="140" y="33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30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41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9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62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80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3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01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4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22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6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5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1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3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4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6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8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8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1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2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2:22Z</dcterms:modified>
  <cp:revision>4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BA8245C-8E07-4AC8-9271-DEE20707B20E</vt:lpwstr>
  </property>
  <property fmtid="{D5CDD505-2E9C-101B-9397-08002B2CF9AE}" pid="3" name="ArticulatePath">
    <vt:lpwstr>Lecture 3 Virus</vt:lpwstr>
  </property>
</Properties>
</file>