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651-0184-4D86-8365-19B9AE58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786-1E19-42D3-B795-6E8E943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4A0-CA96-470E-BBD8-D01D7538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FEB-E8A8-45F2-B5E2-CF6A2196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549-6F63-434D-9D04-347E11C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DD0-54B0-4A58-958D-A32C63E3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BC7-AC27-4BA0-B201-3551BB6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165-D484-4A36-8719-46C8CF99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BDB-5161-460B-98FE-E67698D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909-6B31-4B07-A3BD-D5468AC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6BD-7F04-4751-8DE6-F9EEC895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4D0-52A6-4FC6-88CB-56D097EF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ACA-F45E-4957-AF3C-28DBD47F25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9DC6-D07D-4076-897C-7A91A69AC8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FA83-3ABE-4EBD-8CCE-7E593F2C4B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87FD-A5DF-4487-9D67-74073E25F5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t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4B1-816D-4C6B-BEDA-500AF24990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5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6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7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A0D0-FDF1-41D5-A3FB-B6B366CF2A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58" name="AutoShape 6"/>
            <p:cNvSpPr/>
            <p:nvPr/>
          </p:nvSpPr>
          <p:spPr>
            <a:xfrm>
              <a:off x="3321360" y="3050280"/>
              <a:ext cx="222480" cy="695160"/>
            </a:xfrm>
            <a:prstGeom prst="can">
              <a:avLst>
                <a:gd name="adj" fmla="val 25865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5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68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1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4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79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2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86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1830-7DD0-4B7A-8AE1-7CBBCE3BB4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e immediately turn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3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4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F0B3-F7A8-4EC5-B632-605830A70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0E5F-CB00-4244-86BB-00AE360C34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8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5257800" y="4129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2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39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2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5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8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3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6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3"/>
          <p:cNvSpPr/>
          <p:nvPr/>
        </p:nvSpPr>
        <p:spPr>
          <a:xfrm>
            <a:off x="1405080" y="3824280"/>
            <a:ext cx="20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4"/>
          <p:cNvSpPr/>
          <p:nvPr/>
        </p:nvSpPr>
        <p:spPr>
          <a:xfrm>
            <a:off x="1555920" y="41036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6"/>
          <p:cNvSpPr/>
          <p:nvPr/>
        </p:nvSpPr>
        <p:spPr>
          <a:xfrm>
            <a:off x="1290600" y="478800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7"/>
          <p:cNvSpPr/>
          <p:nvPr/>
        </p:nvSpPr>
        <p:spPr>
          <a:xfrm>
            <a:off x="5323320" y="478800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152280" y="3429000"/>
            <a:ext cx="86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Each type of virus infects a limited range of host cells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4"/>
          <p:cNvSpPr/>
          <p:nvPr/>
        </p:nvSpPr>
        <p:spPr>
          <a:xfrm>
            <a:off x="152280" y="4191120"/>
            <a:ext cx="28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iruses are host specific – a protein on the surface of the virus has a shape that matches a molecule in the plasma membrane of it’s host, allowing the virus to lock onto the hos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IV in hum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protective coat of protein molecules and sometime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to be considered "living" organisms. However, they do show one of the most important signs of lif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61720" y="1219320"/>
            <a:ext cx="66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es are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5255-A3D7-4DE4-8B8A-05C83F5F39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1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4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9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0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1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3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CC39-854C-4B4D-A6FE-5E443309FE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320" y="1004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جدار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1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0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4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w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غلاف 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58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737A-AC3D-4628-9F7A-923B0EDE55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the 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undred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6732-245A-4B7C-8852-DB8F5C349C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77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5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Text Box 37"/>
          <p:cNvSpPr/>
          <p:nvPr/>
        </p:nvSpPr>
        <p:spPr>
          <a:xfrm>
            <a:off x="304920" y="21160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E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199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16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19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26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37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5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58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76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79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97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0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18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2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1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3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4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7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72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293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0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0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4-02-01T01:17:23Z</dcterms:modified>
  <cp:revision>490</cp:revision>
  <dc:subject/>
  <dc:title>Slide 1</dc:title>
</cp:coreProperties>
</file>