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FB84-1D19-45F7-A970-5124FF2F513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2CCF-E321-4DFD-9FFD-862D032F95A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0040-EAE6-4380-806E-BA5583ACF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5CF9-A314-40F8-8774-1898D7D8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6B5D-45A8-465F-B4B7-E7A7B6624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4FAD-50A3-4B9F-828A-224D5B637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447C-94BB-4804-8494-CF74533D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3361-A629-413E-8CFB-AEA45677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6EEE-4404-468D-8470-08146199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704E-EE58-4010-AFB4-C083C3FC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C9A9-157A-4E0D-8E5F-52D6C48B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B36A-4B8D-4FED-8EBC-E2B4DEAF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4971-1B61-4E41-9A20-B8400D38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3BCB-0A59-4B55-9A37-EA8FA290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7E7B-4432-4DAF-B418-23D62634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B25F-6E7D-48A6-ABB5-2BF02B21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8DC2-073D-41FF-BC48-30076FB8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A2CB-16A7-449D-9D45-4FC874CFF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F8B1-4869-4574-886C-E48C85647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729D7-602B-4414-A6ED-10479D212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5B312-70AB-4F93-9AAB-9593086B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AC897-4815-422E-B600-B7E18624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1F2AB-B3E1-429F-B208-9A7B2B6F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87D09-7C81-4A0E-BD3A-5E42BCA2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54B5-BD60-4414-B45B-63F246D6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AB99A-F1BA-44BD-8401-CEE34038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E5032-A893-41EB-8BD5-1C40F558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2C04E-BE6A-482B-9A8C-99D70412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95F06-BBE4-49FF-85D4-5E27DA2B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46E0F-F6CA-4B3E-BECC-7A4FEC72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00451-2EFD-4264-B4DF-C9F66B463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CFB07-8C3F-4E46-8F59-4E05DAC3B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A9AD-2C23-4DE1-9ED1-96113A9A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9B72-E12B-4F30-999B-0CA467EB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2401-CC36-48B0-8106-88D14652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024B-FAA4-4D6A-9FA6-8B9D22C6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5A21-853E-4907-B25C-0C3BF729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85C3-CEBF-49B7-8E46-11BFB07B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6426-BD27-4A39-93EC-6C18B976D52C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F6EF-8495-4EAC-AF34-86A4974173E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17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9C8F-2292-4F78-BEA2-49D951ACB00A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Cell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overy of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figure 5-1b"/>
          <p:cNvPicPr/>
          <p:nvPr/>
        </p:nvPicPr>
        <p:blipFill>
          <a:blip r:embed="rId1"/>
          <a:stretch/>
        </p:blipFill>
        <p:spPr>
          <a:xfrm>
            <a:off x="5410080" y="2362320"/>
            <a:ext cx="3505320" cy="2357280"/>
          </a:xfrm>
          <a:prstGeom prst="rect">
            <a:avLst/>
          </a:prstGeom>
          <a:ln w="0">
            <a:noFill/>
          </a:ln>
        </p:spPr>
      </p:pic>
      <p:sp>
        <p:nvSpPr>
          <p:cNvPr id="199" name="Line 5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152280" y="28440"/>
            <a:ext cx="781200" cy="9907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152280" y="1904760"/>
            <a:ext cx="5029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rst person to see c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ert Hooke in 166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was looking at a thin slice of cork through a micro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he found what he described as "tiny rooms" that he calle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759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 Cell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38, the German botanist Matthias Schleiden concluded that all plants were composed of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39, Theodor Schwann concluded the same thing for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55, Rudolf Virchow noted that all cells come from oth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e cell theory states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ll living organisms are made of one or more cell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ells are the basic units of structure and function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ells come only from pre-existing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ell is the smallest unit that can carry on all of the processes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5737320" y="2071800"/>
            <a:ext cx="183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  <p:sp>
        <p:nvSpPr>
          <p:cNvPr id="206" name="Line 9"/>
          <p:cNvSpPr/>
          <p:nvPr/>
        </p:nvSpPr>
        <p:spPr>
          <a:xfrm>
            <a:off x="990720" y="685800"/>
            <a:ext cx="815328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F1F9-4257-465C-8458-18D79BD00F6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1066680" y="2971800"/>
            <a:ext cx="2286000" cy="13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5"/>
          <p:cNvSpPr/>
          <p:nvPr/>
        </p:nvSpPr>
        <p:spPr>
          <a:xfrm>
            <a:off x="6172200" y="2895480"/>
            <a:ext cx="228600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Eu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533520" y="228600"/>
            <a:ext cx="2819160" cy="14479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5943600" y="44956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l other forms 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152280" y="266688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بدائي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النو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7086600" y="24382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حقيقية النو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7"/>
          <p:cNvSpPr/>
          <p:nvPr/>
        </p:nvSpPr>
        <p:spPr>
          <a:xfrm>
            <a:off x="2895480" y="3049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Types 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712800" y="4551480"/>
            <a:ext cx="317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a and related micro-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838080" y="5410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البكتيريا وكائنات دقيقة شبية ب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11111E-006 L 0.3125 0.39444 E">
                                      <p:cBhvr>
                                        <p:cTn id="33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ree Domains of Living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9" descr="p1"/>
          <p:cNvPicPr/>
          <p:nvPr/>
        </p:nvPicPr>
        <p:blipFill>
          <a:blip r:embed="rId2"/>
          <a:stretch/>
        </p:blipFill>
        <p:spPr>
          <a:xfrm>
            <a:off x="1981080" y="1447920"/>
            <a:ext cx="5410440" cy="4640040"/>
          </a:xfrm>
          <a:prstGeom prst="rect">
            <a:avLst/>
          </a:prstGeom>
          <a:ln w="0">
            <a:noFill/>
          </a:ln>
        </p:spPr>
      </p:pic>
      <p:sp>
        <p:nvSpPr>
          <p:cNvPr id="223" name="Line 7"/>
          <p:cNvSpPr/>
          <p:nvPr/>
        </p:nvSpPr>
        <p:spPr>
          <a:xfrm>
            <a:off x="304920" y="104760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3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53402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omain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1469880" y="1066680"/>
            <a:ext cx="5311800" cy="59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)- Prokaryota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دائيات النو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2 Kingdo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a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بدائيات وتضم البكتيريا البدائ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cte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ubacteria),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البكتيريا الحقيق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)- Eukaryota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قيقيات النوا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4 Kingdo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ungi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فطري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testa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طلائعي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lantae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نبات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imal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حيوان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7"/>
          <p:cNvSpPr/>
          <p:nvPr/>
        </p:nvSpPr>
        <p:spPr>
          <a:xfrm>
            <a:off x="304920" y="99072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5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51920" y="2209320"/>
            <a:ext cx="891540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are surrounded by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asma membran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غشاء بلازم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emi-fluid substanc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ادة </a:t>
            </a: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شبه ال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سائل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in the cell i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ytosol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سيتوبلاز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ining the cell organell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عِضيات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contain chromosomes which have genes in the form of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have tiny organell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عضيات صغير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ibosomes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make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220968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eu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cells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    differ in size and complexity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Line 4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2514600" y="1600200"/>
            <a:ext cx="4114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Similariti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تشا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4"/>
          <p:cNvSpPr/>
          <p:nvPr/>
        </p:nvSpPr>
        <p:spPr>
          <a:xfrm>
            <a:off x="15228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eu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cells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    differ in size and complexity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2514600" y="12952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fferenc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إختلا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304920" y="19051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have a nucleus, while prokaryotes do n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have membrane-bound organelles, while prokaryotes do no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ic cells are, on average, ten times the size of prokaryotic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NA of eukaryotes is much more complex and therefore much more extensive than the DNA of prokaryo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karyotes have a cell wall composed of peptidoglycan,. Many types of eukaryotic cells also have cell walls, but none made of peptidoglyc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NA of prokaryotes floats freely inside the cell; the DNA of eukaryotes is held within its nucleus and associated with histones (protei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undergo mitosi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meiosis; prokaryotes divide by binary fission (simple cell divi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9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14"/>
          <p:cNvGrpSpPr/>
          <p:nvPr/>
        </p:nvGrpSpPr>
        <p:grpSpPr>
          <a:xfrm>
            <a:off x="2362320" y="2666880"/>
            <a:ext cx="5862600" cy="3111480"/>
            <a:chOff x="2362320" y="2666880"/>
            <a:chExt cx="5862600" cy="3111480"/>
          </a:xfrm>
        </p:grpSpPr>
        <p:sp>
          <p:nvSpPr>
            <p:cNvPr id="240" name="Oval 22"/>
            <p:cNvSpPr/>
            <p:nvPr/>
          </p:nvSpPr>
          <p:spPr>
            <a:xfrm>
              <a:off x="2362320" y="2666880"/>
              <a:ext cx="5862600" cy="31114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7"/>
            <p:cNvSpPr/>
            <p:nvPr/>
          </p:nvSpPr>
          <p:spPr>
            <a:xfrm>
              <a:off x="4937760" y="2776680"/>
              <a:ext cx="274248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Nucle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Endoplasmic reticulu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Golgi apparat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Lysoso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Vacuo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Mitochondr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Cytoskele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Group 13" descr=""/>
          <p:cNvPicPr/>
          <p:nvPr/>
        </p:nvPicPr>
        <p:blipFill>
          <a:blip r:embed="rId1"/>
          <a:stretch/>
        </p:blipFill>
        <p:spPr>
          <a:xfrm>
            <a:off x="755640" y="2664000"/>
            <a:ext cx="4005360" cy="313344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28"/>
          <p:cNvSpPr/>
          <p:nvPr/>
        </p:nvSpPr>
        <p:spPr>
          <a:xfrm>
            <a:off x="1902960" y="228600"/>
            <a:ext cx="51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MS PGothic"/>
              </a:rPr>
              <a:t>Comparison and Contr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304920" y="114300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5"/>
          <p:cNvSpPr/>
          <p:nvPr/>
        </p:nvSpPr>
        <p:spPr>
          <a:xfrm>
            <a:off x="1295280" y="1752480"/>
            <a:ext cx="2438640" cy="838440"/>
          </a:xfrm>
          <a:prstGeom prst="downArrowCallout">
            <a:avLst>
              <a:gd name="adj1" fmla="val 72720"/>
              <a:gd name="adj2" fmla="val 72714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6"/>
          <p:cNvSpPr/>
          <p:nvPr/>
        </p:nvSpPr>
        <p:spPr>
          <a:xfrm>
            <a:off x="4419720" y="1752480"/>
            <a:ext cx="2438280" cy="838440"/>
          </a:xfrm>
          <a:prstGeom prst="downArrowCallout">
            <a:avLst>
              <a:gd name="adj1" fmla="val 72709"/>
              <a:gd name="adj2" fmla="val 72703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7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ralajmi</cp:lastModifiedBy>
  <dcterms:modified xsi:type="dcterms:W3CDTF">2014-02-02T04:43:19Z</dcterms:modified>
  <cp:revision>48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5F18A715-23FA-4BC3-B070-F83B2FD50F30</vt:lpwstr>
  </property>
  <property fmtid="{D5CDD505-2E9C-101B-9397-08002B2CF9AE}" pid="3" name="ArticulatePath">
    <vt:lpwstr>Lecture 4</vt:lpwstr>
  </property>
</Properties>
</file>