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1B77-190F-4804-8440-22B0FFD938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6D1B-8F27-49F4-BE17-F930C5E495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BA2-82E4-4AE7-9EAA-05D28214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F20B-C45A-424C-B484-9F079367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972-C69C-4646-ADCF-121760FE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E62-E16B-4296-8780-68137A5E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E8BD-84F4-4455-9B30-0A36B833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764E-1D4B-4231-82C4-D5DE1B3E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20B6-C979-4B66-8885-6F65B0EB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63FF-6D64-4B73-9D89-1328E5C2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67AC-C8C1-4FA3-8657-239D49CA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9A30-8FD4-4400-B2C1-5AF17DB6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0895-C9CC-4D6E-A4D3-BE56E78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89C5-58EA-479E-8449-AF33A290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561E-D8FC-4D86-8760-5F7C63AE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DD7B-4C31-441E-BA39-2A1BAE8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4903-B950-4CFF-AA64-067D176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0AB0-CB8E-4D70-BBFC-B2A2211C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83E1-B3D1-4F7A-B7CA-9F487E92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5F9B-E7EB-4336-9CAC-8C2D9F2C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44D5-49CD-42E3-81E8-C815AADF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8201-B634-461D-9B54-9F4CFD77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D0C4-8286-49D0-926D-96C4253D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2A66-156B-4008-8DCB-1DEF0B39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D91-14EA-422F-9456-9AEFD91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2DA7-8C57-4E09-BA99-4A39A0BB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CC2A-B114-4AD4-B86D-52296050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E536-EBDB-4DD1-A5A3-DC28E28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BD607-C2DA-47F3-86D2-6DDE18EF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2CF7-A3FC-4636-81A5-32F7072D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D571-8114-453B-85E8-043D4877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247D-83DE-44B8-8268-5DE7F83B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DA2-82AC-4509-93CE-E2C045AC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030-E58D-44A5-8C23-9B0259A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74D-551F-427C-926E-155F432D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386-1BCA-4E19-81C8-37803553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313-D64C-4E5C-86C0-4E31924D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022-16B8-498E-A295-035515C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141F-D1D0-43E7-A13B-3EEFF39ECE3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3C81-E0EB-46C5-99F3-11984A1BE8B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2A0E-676B-4BAF-960D-2312E250C25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70E-2C99-4E97-913B-65982DADF6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55640" y="2664000"/>
            <a:ext cx="4005360" cy="31334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ralajmi</cp:lastModifiedBy>
  <dcterms:modified xsi:type="dcterms:W3CDTF">2014-02-02T04:43:19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