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54D9-E0C5-4BE2-8048-64E5BCDFB06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5607-23F2-47CD-87FD-4D1E7DF9712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3EBE-081E-4B30-8E9B-9BEDBC91331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18C7-E606-4D68-A42E-DFDAE358B0C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0669-8A06-451B-A6C2-502027BF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8856-048F-4560-B682-DD04B43E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95F-2F9E-4935-94F0-F5046E51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D90E-5B78-4AC3-98BC-491E52AC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F6A6-1FC3-4C69-BAB0-52478B47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DD73-E404-4754-A155-CB5FAC22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5D1C-181E-4668-B8D7-6FDE5262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D634-E23C-454B-8D28-58253B25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CEA-F108-4C78-A7C1-9CA86E5A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A55-6675-4B72-A908-ACEE2C98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3124-EE8B-4820-90B1-367B4FFD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340-BF93-4945-86E0-D31912BC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C55C-61B2-4D13-A4CA-287774A2731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  <a:ea typeface="Arial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025"/>
          <p:cNvPicPr/>
          <p:nvPr/>
        </p:nvPicPr>
        <p:blipFill>
          <a:blip r:embed="rId2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4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5"/>
          <a:srcRect l="18593" t="8074" r="4053" b="0"/>
          <a:stretch/>
        </p:blipFill>
        <p:spPr>
          <a:xfrm>
            <a:off x="46080" y="19080"/>
            <a:ext cx="124920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Impact"/>
              </a:rPr>
              <a:t>The Cell 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 as it is the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sitory for genetic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nuclear envelo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irects activiti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large macromolecules and particles to pas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membrane is maintaining the shape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0CF4-C71F-48EE-94F8-2CE23BE9CF2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4876920" y="0"/>
            <a:ext cx="419076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05_10a"/>
          <p:cNvPicPr/>
          <p:nvPr/>
        </p:nvPicPr>
        <p:blipFill>
          <a:blip r:embed="rId2"/>
          <a:srcRect l="0" t="11669" r="0" b="16669"/>
          <a:stretch/>
        </p:blipFill>
        <p:spPr>
          <a:xfrm>
            <a:off x="12600" y="990720"/>
            <a:ext cx="4864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is the DNA associated with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ell prepares to divide, the chromatin fibers coil up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conden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be seen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sex cells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ggs and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-protein comple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rge and small) that join and attach to messenger R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t is the 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assembly begin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completed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5_19"/>
          <p:cNvPicPr/>
          <p:nvPr/>
        </p:nvPicPr>
        <p:blipFill>
          <a:blip r:embed="rId1"/>
          <a:srcRect l="0" t="11669" r="0" b="15000"/>
          <a:stretch/>
        </p:blipFill>
        <p:spPr>
          <a:xfrm>
            <a:off x="1066680" y="3862440"/>
            <a:ext cx="6629400" cy="2995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Ribosomes:  build the cell’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2280" y="31320"/>
            <a:ext cx="8839440" cy="71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pass from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e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uspended in the cytosol and synthesize proteins that func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in the cytos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ttached to the outside of the endoplasmic ret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synthesize proteins that are either included into membranes or for secretion outside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66104" t="40612" r="2541" b="8186"/>
          <a:stretch/>
        </p:blipFill>
        <p:spPr>
          <a:xfrm>
            <a:off x="5943600" y="228600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5"/>
          <p:cNvGrpSpPr/>
          <p:nvPr/>
        </p:nvGrpSpPr>
        <p:grpSpPr>
          <a:xfrm>
            <a:off x="3429000" y="1600200"/>
            <a:ext cx="2514600" cy="1066680"/>
            <a:chOff x="3429000" y="1600200"/>
            <a:chExt cx="2514600" cy="1066680"/>
          </a:xfrm>
        </p:grpSpPr>
        <p:sp>
          <p:nvSpPr>
            <p:cNvPr id="57" name="Oval 11"/>
            <p:cNvSpPr/>
            <p:nvPr/>
          </p:nvSpPr>
          <p:spPr>
            <a:xfrm>
              <a:off x="3429000" y="1600200"/>
              <a:ext cx="25146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"/>
            <p:cNvSpPr/>
            <p:nvPr/>
          </p:nvSpPr>
          <p:spPr>
            <a:xfrm>
              <a:off x="3581280" y="167652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Eu: 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Karyon: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3"/>
          <p:cNvSpPr/>
          <p:nvPr/>
        </p:nvSpPr>
        <p:spPr>
          <a:xfrm>
            <a:off x="2666880" y="2286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B-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23880" y="4221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715000" y="41450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2743200" y="2743200"/>
            <a:ext cx="3962520" cy="1401120"/>
            <a:chOff x="2743200" y="2743200"/>
            <a:chExt cx="3962520" cy="1401120"/>
          </a:xfrm>
        </p:grpSpPr>
        <p:sp>
          <p:nvSpPr>
            <p:cNvPr id="63" name="Line 7"/>
            <p:cNvSpPr/>
            <p:nvPr/>
          </p:nvSpPr>
          <p:spPr>
            <a:xfrm>
              <a:off x="4648320" y="27432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2743200" y="35438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H="1">
              <a:off x="2743200" y="35438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6692760" y="35438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3"/>
          <p:cNvSpPr/>
          <p:nvPr/>
        </p:nvSpPr>
        <p:spPr>
          <a:xfrm>
            <a:off x="76320" y="5638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  <a:ea typeface="Arial"/>
              </a:rPr>
              <a:t>Compare between Animal and Plant cell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2860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  <a:ea typeface="Arial"/>
              </a:rPr>
              <a:t>What are the functions of cell organelles </a:t>
            </a:r>
            <a:r>
              <a:rPr b="1" lang="en-US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371600" y="1522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80880" y="129528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ummarize the role of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List the major organelles found in the cytosol, and describe their 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dentify the characteristics of mitochond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escribe the structure and function of the cytoskele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Eukaryotic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FG02_04"/>
          <p:cNvPicPr/>
          <p:nvPr/>
        </p:nvPicPr>
        <p:blipFill>
          <a:blip r:embed="rId1"/>
          <a:stretch/>
        </p:blipFill>
        <p:spPr>
          <a:xfrm>
            <a:off x="533520" y="1168560"/>
            <a:ext cx="7619760" cy="5079960"/>
          </a:xfrm>
          <a:prstGeom prst="rect">
            <a:avLst/>
          </a:prstGeom>
          <a:ln w="0">
            <a:noFill/>
          </a:ln>
        </p:spPr>
      </p:pic>
      <p:sp>
        <p:nvSpPr>
          <p:cNvPr id="7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membranes also participate in metabolism 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tructure of a biological membrane is a double layer of phospholipids and divers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membrane has a unique combination of lipids and proteins for its 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nal membranes compartmentalize the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6B8F-7075-4D21-A011-42A2D92D5D1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88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37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constructed from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contain similar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surrounded by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wall – provides strength &amp; rig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chloroplasts, photosynth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l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organelle not found in plants (lysosomes formed from Golg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s, important in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كلية العوم</cp:lastModifiedBy>
  <dcterms:modified xsi:type="dcterms:W3CDTF">2013-01-26T05:59:52Z</dcterms:modified>
  <cp:revision>285</cp:revision>
  <dc:subject/>
  <dc:title>The Cell Organelles</dc:title>
</cp:coreProperties>
</file>