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81A-58E5-47BC-8063-CF71A5B0819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085A-080E-4844-9676-13DB7AFAA66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B040-F7AD-418F-97F1-976DDDB93AE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0232-48A8-42FF-9913-F0D02283C0C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AC2-0D85-4A79-9711-D007C00A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251-86EB-4622-95FC-CA74E326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C3D-2DB1-4826-B0D9-DC2B47DE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77E-CC32-4AB7-A5B0-91BA403B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963-5715-44C6-88F9-DD1917FF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D4E-FFB7-4F45-9A8B-328C41D4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FE6-B249-403A-829D-810B56B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312-D852-4CBA-8518-30CB67B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780-EEDA-4732-ADD1-8F34302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BE7-B8DF-48A6-BBF0-818898F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D9B-8AAC-4147-879A-53C06F2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A87-9C7A-458B-B7EF-34F89FF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2884-64D7-4B56-98B4-F65A8C8539B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250-FB9A-4CCC-B04F-0FDAE970E20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Eu: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Karyon: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Arial"/>
              </a:rPr>
              <a:t>Compare between Animal and Plant cel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Arial"/>
              </a:rPr>
              <a:t>What are the functions of cell organelles 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371600" y="1522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ummarize the role of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ist the major organelles found in the cytosol, and describe their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dentify the characteristics of mitochond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scribe the structure and function of the cytoskele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FG02_04"/>
          <p:cNvPicPr/>
          <p:nvPr/>
        </p:nvPicPr>
        <p:blipFill>
          <a:blip r:embed="rId1"/>
          <a:stretch/>
        </p:blipFill>
        <p:spPr>
          <a:xfrm>
            <a:off x="533520" y="116856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participate in metabolism 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double layer 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lipids and proteins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30D-BC49-4A9B-8753-B4125D2092A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8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constructed from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, photosyn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organelle not found in plants (lysosomes formed from Gol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, important in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كلية العوم</cp:lastModifiedBy>
  <dcterms:modified xsi:type="dcterms:W3CDTF">2013-01-26T05:59:52Z</dcterms:modified>
  <cp:revision>285</cp:revision>
  <dc:subject/>
  <dc:title>The Cell Organelles</dc:title>
</cp:coreProperties>
</file>