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B115-C78B-4DA9-B1E9-0A7DDD5273D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CC99-908A-4FC6-A48C-2C6E2EC1C76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F114-5B86-42FB-81F3-CF1B092B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76D7-9136-4DA3-8BDA-332BB4CE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ED42-E414-4EE7-9112-4B1EA585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3931-14DA-4020-99B5-C8DD3E5F8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52BD-7A58-4EF5-8EE0-0FA82CEA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ACCD-C11D-49ED-8A1B-8465B79A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A575-4884-44FC-B145-0D32550A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D3A2-4FFF-4D0D-B1BB-BF34E09D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44A2-4CE5-4C38-B1B3-4356FCFB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CD47-BD4C-4079-BCB5-D4FE708B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1E95-D3F3-429D-9BF6-10A18792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D43C-A929-423A-8BC6-1C5CB239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68C3-D4BE-44A0-AC55-CB8979FD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3FF9-8B3E-4D1F-B4A5-65D5AC00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BB7E-1CD4-4F8A-9BA6-19718CF2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510F-B405-4234-ABC3-289FCA997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5C2A-BD98-4012-833C-5514A1E14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34D01-36C4-4377-A7A3-C0D3FB57C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EC690-2830-44AE-984C-A59915C0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07275-F17E-4CB7-8CD2-90D90278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42C42-1B40-4DD5-9C36-4FFABF63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E6F2A-AE79-4DBA-9D79-AA6428D8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023A-0196-424D-8CCD-1EE9E3A4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A436D-714C-4D19-867C-CA4EC0F9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21010-815F-42C5-B247-CC66A9B0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0AC4C-6435-4904-8D96-DF6F4758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9CB23-05BB-4486-A6A1-EBAA1B03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DE089-1DEA-4E64-9A5E-ADD58E96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0EF8D-BCEF-495A-923E-3BCF9B3DF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13452-601E-4E8F-8B10-83609C80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F2D1-069B-4994-BBBD-48839E9E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978A-3E4C-42CC-98A5-D47849B6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CED6-5A29-4096-96BE-3F7C3F94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89BE-BC93-41E2-8E8D-6EA2F0B5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6172-1C08-4C94-ABC5-1E8432FF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76D7-DA9E-4667-8175-F3EDB0C1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DE7E-5491-4FA2-8FB4-CD800626ABB1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FC65-A63D-42CF-9066-E678EEB31E6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C1FE-BEF7-4EBB-8FC2-DF2B7834E3F1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Cell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overy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figure 5-1b"/>
          <p:cNvPicPr/>
          <p:nvPr/>
        </p:nvPicPr>
        <p:blipFill>
          <a:blip r:embed="rId1"/>
          <a:stretch/>
        </p:blipFill>
        <p:spPr>
          <a:xfrm>
            <a:off x="5410080" y="2362320"/>
            <a:ext cx="3505320" cy="2357280"/>
          </a:xfrm>
          <a:prstGeom prst="rect">
            <a:avLst/>
          </a:prstGeom>
          <a:ln w="0">
            <a:noFill/>
          </a:ln>
        </p:spPr>
      </p:pic>
      <p:sp>
        <p:nvSpPr>
          <p:cNvPr id="199" name="Line 5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152280" y="28440"/>
            <a:ext cx="781200" cy="990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152280" y="1904760"/>
            <a:ext cx="5029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person to see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ert Hooke in 166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was looking at a thin slice of cork through a mic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he found what he described as "tiny rooms" that he calle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759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 Cell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38, the German botanist Matthias Schleiden concluded that all plants were composed of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39, Theodor Schwann concluded the same thing for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55, Rudolf Virchow noted that all cells come from oth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 cell theory states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ll living organisms are made of one or more cell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ells are the basic units of structure and function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ells come only from pre-existing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ell is the smallest unit that can carry on all of the processes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5737320" y="2071800"/>
            <a:ext cx="18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  <p:sp>
        <p:nvSpPr>
          <p:cNvPr id="206" name="Line 9"/>
          <p:cNvSpPr/>
          <p:nvPr/>
        </p:nvSpPr>
        <p:spPr>
          <a:xfrm>
            <a:off x="990720" y="685800"/>
            <a:ext cx="815328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6759-F551-41C8-9573-4D3E7FE222A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1066680" y="2971800"/>
            <a:ext cx="228600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5"/>
          <p:cNvSpPr/>
          <p:nvPr/>
        </p:nvSpPr>
        <p:spPr>
          <a:xfrm>
            <a:off x="6172200" y="2895480"/>
            <a:ext cx="228600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33520" y="228600"/>
            <a:ext cx="2819160" cy="14479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5943600" y="44956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l other forms 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152280" y="266688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بدائ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7086600" y="24382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حقيقية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7"/>
          <p:cNvSpPr/>
          <p:nvPr/>
        </p:nvSpPr>
        <p:spPr>
          <a:xfrm>
            <a:off x="2895480" y="3049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Types 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712800" y="4551480"/>
            <a:ext cx="317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a and related micro-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838080" y="5410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البكتيريا وكائنات دقيقة شبية ب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111E-006 L 0.3125 0.39444 E">
                                      <p:cBhvr>
                                        <p:cTn id="33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ree Domains of Living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9" descr="p1"/>
          <p:cNvPicPr/>
          <p:nvPr/>
        </p:nvPicPr>
        <p:blipFill>
          <a:blip r:embed="rId2"/>
          <a:stretch/>
        </p:blipFill>
        <p:spPr>
          <a:xfrm>
            <a:off x="1981080" y="1447920"/>
            <a:ext cx="5410440" cy="4640040"/>
          </a:xfrm>
          <a:prstGeom prst="rect">
            <a:avLst/>
          </a:prstGeom>
          <a:ln w="0">
            <a:noFill/>
          </a:ln>
        </p:spPr>
      </p:pic>
      <p:sp>
        <p:nvSpPr>
          <p:cNvPr id="223" name="Line 7"/>
          <p:cNvSpPr/>
          <p:nvPr/>
        </p:nvSpPr>
        <p:spPr>
          <a:xfrm>
            <a:off x="304920" y="104760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3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53402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omain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469880" y="1066680"/>
            <a:ext cx="5311800" cy="59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)- Prokaryota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دائيات النو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2 Kingd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a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بدائيات وتضم البكتيريا البدائ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ubacteria),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البكتيريا الحقيق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)- Eukaryota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قيقيات النوا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4 Kingd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ungi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فطر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testa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طلائع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lantae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نبات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imal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حيوان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304920" y="99072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5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51920" y="2209320"/>
            <a:ext cx="891540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are surrounded by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sma membran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غشاء بلازم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mi-fluid substanc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ادة </a:t>
            </a: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شبه ال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سائ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in the cell i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ytosol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سيتوبلاز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ining the cell organell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عِضيات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contain chromosomes which have genes in the form of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have tiny organell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عضيات صغير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ibosom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make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220968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Line 4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2514600" y="1600200"/>
            <a:ext cx="4114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Similariti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تشا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4"/>
          <p:cNvSpPr/>
          <p:nvPr/>
        </p:nvSpPr>
        <p:spPr>
          <a:xfrm>
            <a:off x="15228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2514600" y="12952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fferenc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إختل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04920" y="19051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have a nucleus, while prokaryotes do n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have membrane-bound organelles, while prokaryotes do no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ic cells are, on average, ten times the size of prokaryotic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NA of eukaryotes is much more complex and therefore much more extensive than the DNA of prokaryo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karyotes have a cell wall composed of peptidoglycan,. Many types of eukaryotic cells also have cell walls, but none made of peptidoglyc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NA of prokaryotes floats freely inside the cell; the DNA of eukaryotes is held within its nucleus and associated with histones (prote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undergo mitosi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meiosis; prokaryotes divide by binary fission (simple cell divi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9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14"/>
          <p:cNvGrpSpPr/>
          <p:nvPr/>
        </p:nvGrpSpPr>
        <p:grpSpPr>
          <a:xfrm>
            <a:off x="2362320" y="2666880"/>
            <a:ext cx="5862600" cy="3111480"/>
            <a:chOff x="2362320" y="2666880"/>
            <a:chExt cx="5862600" cy="3111480"/>
          </a:xfrm>
        </p:grpSpPr>
        <p:sp>
          <p:nvSpPr>
            <p:cNvPr id="240" name="Oval 22"/>
            <p:cNvSpPr/>
            <p:nvPr/>
          </p:nvSpPr>
          <p:spPr>
            <a:xfrm>
              <a:off x="2362320" y="2666880"/>
              <a:ext cx="5862600" cy="31114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7"/>
            <p:cNvSpPr/>
            <p:nvPr/>
          </p:nvSpPr>
          <p:spPr>
            <a:xfrm>
              <a:off x="4937760" y="2776680"/>
              <a:ext cx="274248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Nucle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Endoplasmic reticul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Golgi apparat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Lys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Vacuo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Mitochond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Cytoskele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Group 13" descr=""/>
          <p:cNvPicPr/>
          <p:nvPr/>
        </p:nvPicPr>
        <p:blipFill>
          <a:blip r:embed="rId1"/>
          <a:stretch/>
        </p:blipFill>
        <p:spPr>
          <a:xfrm>
            <a:off x="762120" y="2670120"/>
            <a:ext cx="3992400" cy="31212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28"/>
          <p:cNvSpPr/>
          <p:nvPr/>
        </p:nvSpPr>
        <p:spPr>
          <a:xfrm>
            <a:off x="1902960" y="228600"/>
            <a:ext cx="51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MS PGothic"/>
              </a:rPr>
              <a:t>Comparison and Contr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304920" y="114300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5"/>
          <p:cNvSpPr/>
          <p:nvPr/>
        </p:nvSpPr>
        <p:spPr>
          <a:xfrm>
            <a:off x="1295280" y="1752480"/>
            <a:ext cx="2438640" cy="838440"/>
          </a:xfrm>
          <a:prstGeom prst="downArrowCallout">
            <a:avLst>
              <a:gd name="adj1" fmla="val 72720"/>
              <a:gd name="adj2" fmla="val 72714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6"/>
          <p:cNvSpPr/>
          <p:nvPr/>
        </p:nvSpPr>
        <p:spPr>
          <a:xfrm>
            <a:off x="4419720" y="1752480"/>
            <a:ext cx="2438280" cy="838440"/>
          </a:xfrm>
          <a:prstGeom prst="downArrowCallout">
            <a:avLst>
              <a:gd name="adj1" fmla="val 72709"/>
              <a:gd name="adj2" fmla="val 72703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7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HP</cp:lastModifiedBy>
  <dcterms:modified xsi:type="dcterms:W3CDTF">2014-01-07T15:34:50Z</dcterms:modified>
  <cp:revision>48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F18A715-23FA-4BC3-B070-F83B2FD50F30</vt:lpwstr>
  </property>
  <property fmtid="{D5CDD505-2E9C-101B-9397-08002B2CF9AE}" pid="3" name="ArticulatePath">
    <vt:lpwstr>Lecture 4</vt:lpwstr>
  </property>
</Properties>
</file>