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1AC5-0B51-4CA6-A466-9ABFA9BF17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8E5D-91BB-45AA-8C2E-26595672ED5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4411-76BE-4CC0-9BA8-C9BE0DB07A6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93DB-9E5D-41D9-8D5F-226C4B3FF3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A856-F7BD-4FC2-8118-8D14367119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6530-E0CD-4F5B-B1B1-D2637A1C83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7F09-9255-4232-804D-F22BFBF549F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F02B-D275-4284-9FAF-F4FD96764EF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790-05E8-4339-8240-78A01E0184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F12B-50CF-4D90-9821-79C2356D052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75A4-534B-449D-95BD-8D0442CA0AA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A873-522B-4BB8-AC5B-85EF641EC36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C4A2-5847-420B-9BA7-0BA27DFD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4BF8-6A51-47DA-8E61-8710A48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735E-BD52-4E7D-A391-3899853A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94A4-502E-49E6-BA94-D04EC263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4B3B-3459-46E3-98C6-EF7AB8C5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2536-9876-4E36-9293-194EEBE7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46E2-ED5A-43C9-897E-927E6B45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56D3-14CA-4742-BA84-4BBE5C39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771A-954A-449D-9A82-CBBD57C5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5DD7-A855-473D-91B5-D7E59A5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1391-7978-4875-BAFC-32894D21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A03B-68E8-4285-B7A6-C111CDF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20D5-F3BA-413B-AF14-61D568B2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F25-2B78-481B-9BF7-8EF28446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B737-E48D-433E-BE87-B1BECCFE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1166-1EDC-4D53-9CA2-E48D4E07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4431-D23C-439C-BE6F-0D8CA2D1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64E1-50FB-4072-B4B6-8947AB3E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D7FF-9AC0-445E-8918-75D6891D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78A4-7FEA-407D-9E33-A887A99F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5916-2CBC-4C90-92EA-51EC1BB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C6E6-F60C-418E-BF0A-6B1A627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13E0-2C4E-45FE-94C9-5852C34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980A-F90D-4DD1-A416-0DD3E34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1352-A175-4EC1-BC87-5216769A31A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7D0-82F5-4F84-943B-A126F56CE90E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E99-3365-40A3-A4D7-5AEBA26CF335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٥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06D-0A35-4670-A45B-0A7BC2893EDA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productive Health Nursing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NUR 32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partum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ctur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10F-90CB-42AF-8212-6965744E1536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Postpartum psychological adaptation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post partum period represents a time of emotional stress for the new mother made even more difficult by the physiological changes that occu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actors affect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se and support of family and frie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al influen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7E28-87E6-410C-898A-07733409FA9A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ical adaptation during Postpartum period occurring in three stag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ing-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Taking-ho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Letting g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postpartum depres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7273-8F4D-4C12-8ACA-DC066CB4EE6E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Tahoma"/>
              </a:rPr>
              <a:t>Postpartum Care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Essential concepts,,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ostpartum care refers to the medical and nursing care given to woman during the puerperium ,which is 6-weeks period after delivery, beginning with termination of labor and ending with the return of the productive organs to the non-pregnant st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is period constitutes a physical and psychological adjustment to the process of childbearing and is sometimes referred to as the fourth trimester of pregnanc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13EC-4D3E-4D27-906D-DC25B4AE83E4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stage period ,the uterus undergoes involu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progressive changes in the uterus after delivery ,leading to its return to near prepregnant size and condi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Goals of postpartum care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promote normal uterine involution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prevent or minimize postpartum complic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promote comfort and healing of pelvis, perianal, perineal tiss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assist in restoration of normal body func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1DE7-CA73-4558-8F18-9457BB9CDB76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increase understanding of physiologic and psychological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-facilitate newborn care and self care by the new m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-promote the newborns successful integration into the family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-support parenting skills and parent-newborn attach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-provide effective discharge planning including appropriate referral for home care follow u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1601-F5CB-451D-A408-D1E4AAB78B91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Tahoma"/>
              </a:rPr>
              <a:t>Factors affecting the postpartum care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the nature of labor and delivery and birth outco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preparation of labor ,delivery and paren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the family's individual and collective experiences with childbear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sensitivity and effectiveness of nursing and other professional ca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risk factors for postpartum complications (ex: DM, Cardiac problem,…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2650-61D2-44A8-A0D3-57925DC790D7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Tahoma"/>
              </a:rPr>
              <a:t>Postpartum biophysical changes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-Reproductive syst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the u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lochia: Discharge from the uterus during the first 3 weeks after delive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 cervix, become thicker and firm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-the vagina , become smooth and swoll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-the perineum-edematous and bruised after delive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-the abdomen-remains soft and flabby. Striae remai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-breast-primary engor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BA3-9E4B-4A20-B2B7-B1D62615653C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-Endocrine system chan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estrogen and progesterone levels decrease rapidly after delive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ovulation and menstr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-Cardiovascular system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transient bradycardia (50-70)-persist for 6-8 d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blood volume decrea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Hematocrite 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leukocytosis (WBC: 20-30 thousan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blood pressure remain stab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3E9-F96B-48CE-8A24-4FF1BC3E1AA7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-Immune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maternal body temperature incr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-Respiratory system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 to non pregnant status within 6 wee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-Renal and urinary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ladder distention can lead to urinary retention (increase bladder capacity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1FD6-2C08-4FA1-ABB9-CBADFDB6178F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Cont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-Gastrointestinal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Hunger, thirst, const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Weight return to non pregnant weight within 6-8 wee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- Musculoskeletal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early ambulation is encourag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- Integumentary system chang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melanin decrease gradu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30:24Z</dcterms:created>
  <dc:creator>ALI</dc:creator>
  <dc:description/>
  <dc:language>en-US</dc:language>
  <cp:lastModifiedBy>User-PC</cp:lastModifiedBy>
  <cp:lastPrinted>2012-09-19T10:28:59Z</cp:lastPrinted>
  <dcterms:modified xsi:type="dcterms:W3CDTF">2017-03-08T07:25:02Z</dcterms:modified>
  <cp:revision>22</cp:revision>
  <dc:subject/>
  <dc:title>Maternal and child Nursing</dc:title>
</cp:coreProperties>
</file>