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FF9-ABEE-4034-AEF2-CDAD1D9108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FF1-7874-42C7-AC67-28DDDD8F3ED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67D-D53E-4E49-BFAF-5F69FCC57B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299-9F3F-49F0-9228-8ABD7F89E0E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EACB-F8AD-454F-89AF-3684C9971B6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4079-B7A0-49C3-A68D-1859AE54FF0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A84-86FB-4F05-AB90-125D6E78D3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FA90-926E-4521-AE88-22507E923CE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70D-A4F9-4779-925B-096AC4CEFCA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229C-58EB-4F9B-8B11-341BFE333C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2CE5-DB26-4CAE-B9DD-32AF22B4D65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A931-C3C0-4EC3-958E-492ADA2A0DD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2A54-D443-40BB-B7B4-C63C7681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3819-84DA-4408-8A95-E114F53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9854-246B-497F-B303-73337562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6A50-3467-45B9-901D-04F3DD0A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9C04-3A68-4865-9DEE-91A60B25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0A2-5787-4563-B6FD-F52F822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C5DD-03E3-4267-87AA-78D98E59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04A5-333B-4951-B1BC-2FFE123D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B4A3-181D-441E-8253-ECB8F1A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43A7-2E30-42F7-B3C4-BB49A3EF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6F4D-F4B9-4BEB-8887-14F78223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C3F5-08CE-4B5B-AE6A-ECD5D5C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D693-E52E-4FF8-9131-5FC2EBB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4F3-B5BE-4F38-95EA-79868EFA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396-38FB-4AC6-9382-F333211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3ED5-2266-4C17-B953-932A9416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1499-DF42-4B0C-9A5C-E1D896E9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43AD-6A01-459F-9F97-B88CEAF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ED2A-4D70-4A86-BDB1-B9B2801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0179-8544-4267-B684-2B39239E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A316-47AA-4A25-B222-20B8080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CB03-979E-473F-85B4-51140A96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DE24-E81D-4292-9855-28C0E77B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6B99-DAFD-4410-A0DE-E9CFB3E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C979-902C-46CC-BF5C-5264509D19D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4445-5523-463A-BF06-47EFA3DF56AC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7C9-3DEB-4BB5-8612-D199EB4FF417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7F9-1BA0-4724-8EB2-230D8B1409C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productive Health Nursing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NUR 32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partum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ctur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4148-6202-4FE5-AA0D-E3A336895F22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Postpartum psychological adaptation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post partum period represents a time of emotional stress for the new mother made even more difficult by the physiological changes that occ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actors affect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se and support of family and frie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al influen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FE7-F07D-419B-91DD-BD66A234B385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cal adaptation during Postpartum period occurring in three st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ing-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Taking-ho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Letting g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stpartum depres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F32-E349-496F-A8A7-C626C032846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Tahoma"/>
              </a:rPr>
              <a:t>Postpartum Care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Essential concepts,,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ostpartum care refers to the medical and nursing care given to woman during the puerperium ,which is 6-weeks period after delivery, beginning with termination of labor and ending with the return of the productive organs to the non-pregnant st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is period constitutes a physical and psychological adjustment to the process of childbearing and is sometimes referred to as the fourth trimester of pregnanc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FECF-4622-403F-9E5B-D895B79250F8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stage period ,the uterus undergoes involu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progressive changes in the uterus after delivery ,leading to its return to near prepregnant size and cond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Goals of postpartum care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promote normal uterine involution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prevent or minimize postpartum complic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promote comfort and healing of pelvis, perianal, perineal tiss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assist in restoration of normal body func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B93-D7CC-4913-95B3-567D3FD6B81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increase understanding of physiologic and psychological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-facilitate newborn care and self care by the new m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-promote the newborns successful integration into the family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-support parenting skills and parent-newborn attach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-provide effective discharge planning including appropriate referral for home care follow 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5BE-367B-4AA9-8415-C741AD5146D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Tahoma"/>
              </a:rPr>
              <a:t>Factors affecting the postpartum care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the nature of labor and delivery and birth outco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preparation of labor ,delivery and par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the family's individual and collective experiences with childbea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sensitivity and effectiveness of nursing and other professional ca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risk factors for postpartum complications (ex: DM, Cardiac problem,…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8BF-068D-4C1D-8E62-0EDF7DB13169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Tahoma"/>
              </a:rPr>
              <a:t>Postpartum biophysical changes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-Reproductive syst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the u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lochia: Discharge from the uterus during the first 3 weeks after delive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 cervix, become thicker and firm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-the vagina , become smooth and swoll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-the perineum-edematous and bruised after delive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-the abdomen-remains soft and flabby. Striae remai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-breast-primary engor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316-2E2C-4C50-9262-4AC37824B6D3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-Endocrine system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estrogen and progesterone levels decrease rapidly after deli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ovulation and menstr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-Cardiovascular system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ransient bradycardia (50-70)-persist for 6-8 d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lood volume decrea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Hematocrite 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leukocytosis (WBC: 20-30 thousan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lood pressure remain stab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53E8-97C4-4C90-9736-36A5542CFD8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-Immune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maternal body temperature incr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-Respiratory system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to non pregnant status within 6 wee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-Renal and urinary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ladder distention can lead to urinary retention (increase bladder capacity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BC2-38CB-4328-9B0E-042D0168649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-Gastrointestinal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unger, thirst, const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Weight return to non pregnant weight within 6-8 wee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- Musculoskeletal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early ambulation is encourag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- Integumentary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melanin decrease gradu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30:24Z</dcterms:created>
  <dc:creator>ALI</dc:creator>
  <dc:description/>
  <dc:language>en-US</dc:language>
  <cp:lastModifiedBy>User-PC</cp:lastModifiedBy>
  <cp:lastPrinted>2012-09-19T10:28:59Z</cp:lastPrinted>
  <dcterms:modified xsi:type="dcterms:W3CDTF">2017-03-08T07:25:02Z</dcterms:modified>
  <cp:revision>22</cp:revision>
  <dc:subject/>
  <dc:title>Maternal and child Nursing</dc:title>
</cp:coreProperties>
</file>