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5121-D431-42DB-A479-08CF19E5D898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88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0A71-3FE7-4F22-BDB1-12E946EC48A9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4FB8-B2C2-4974-AD94-13B35F70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26D-D504-4CAA-B8DB-46FCDD35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7ED2-DCD1-4D82-BEA9-A6FAF350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E3D6-51E3-40F9-A0CF-25460AB6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7CC-5F91-40B2-A662-0816D38C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E8B-040A-4339-B4E4-66520111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57D-139F-49CD-A547-C4ABFCAD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736-FAD8-44A0-8132-1A780B00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D56-A279-4193-9F11-9DB07309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52D-BBC2-4332-877D-27F6B74E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12E3-F9B3-40AA-B3B2-1C8A9D1F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F41A-D5F6-44CA-A5D7-BCCF8BA3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8c8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0D8D-1195-4D84-AC7C-A4EEEDDB72E3}" type="datetime">
              <a:rPr b="0" lang="en-US" sz="1200" spc="-1" strike="noStrike">
                <a:solidFill>
                  <a:srgbClr val="8c8c8c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8c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BF1A-949C-4B4B-8395-020C5FA8FD9D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ldosary.na@gmail.co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0041"/>
                </a:solidFill>
                <a:latin typeface="Calibri"/>
              </a:rPr>
              <a:t>CT 1502</a:t>
            </a:r>
            <a:br>
              <a:rPr sz="2800"/>
            </a:br>
            <a:r>
              <a:rPr b="1" lang="en-US" sz="2800" spc="-1" strike="noStrike">
                <a:solidFill>
                  <a:srgbClr val="4f0041"/>
                </a:solidFill>
                <a:latin typeface="Calibri"/>
              </a:rPr>
              <a:t>Planning and Design of Communication Networks</a:t>
            </a:r>
            <a:br>
              <a:rPr sz="2800"/>
            </a:br>
            <a:r>
              <a:rPr b="1" lang="en-US" sz="5400" spc="-1" strike="noStrike">
                <a:solidFill>
                  <a:srgbClr val="4f0041"/>
                </a:solidFill>
                <a:latin typeface="Calibri"/>
              </a:rPr>
              <a:t>Network Planning Methods</a:t>
            </a:r>
            <a:br>
              <a:rPr sz="5400"/>
            </a:br>
            <a:r>
              <a:rPr b="1" lang="en-US" sz="4000" spc="-1" strike="noStrike">
                <a:solidFill>
                  <a:srgbClr val="4f0041"/>
                </a:solidFill>
                <a:latin typeface="Calibri"/>
              </a:rPr>
              <a:t>Chapter 6</a:t>
            </a:r>
            <a:br>
              <a:rPr sz="4000"/>
            </a:br>
            <a:r>
              <a:rPr b="1" lang="en-US" sz="4000" spc="-1" strike="noStrike">
                <a:solidFill>
                  <a:srgbClr val="4f0041"/>
                </a:solidFill>
                <a:latin typeface="Calibri"/>
              </a:rPr>
              <a:t>Lecture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da Al Dosary </a:t>
            </a:r>
            <a:br>
              <a:rPr sz="3200"/>
            </a:br>
            <a:r>
              <a:rPr b="0" lang="en-US" sz="3200" spc="-1" strike="noStrike" u="sng">
                <a:solidFill>
                  <a:srgbClr val="17bbfd"/>
                </a:solidFill>
                <a:uFillTx/>
                <a:latin typeface="Calibri"/>
                <a:hlinkClick r:id="rId1"/>
              </a:rPr>
              <a:t>Aldosary.na@gmail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ttp://ct1502.edublogs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990720" y="2133720"/>
            <a:ext cx="74070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AE5E-1781-4F26-BF60-6B55BC9B5976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C142-9805-4AB9-A58B-74CD90B38633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velopment Plans: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خطط تطويرية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“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quant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requirements, tools and equipment's” to achieve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chnical Plan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خطط فن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choose the right equipment's and tools, how to assemble, operate and tes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Plans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7E17-8113-4E3B-B036-B044AF37A490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FC1A-E42B-4736-994D-86E6C6114C2E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ding the plans according to areas while keeping on the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Execution Techn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6F98-570F-4EE1-9BFB-AEAA34B10621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ttp://ccnatutor.files.wordpress.com/2012/04/479a3979d66a4wide_area_network.gif"/>
          <p:cNvPicPr/>
          <p:nvPr/>
        </p:nvPicPr>
        <p:blipFill>
          <a:blip r:embed="rId1"/>
          <a:stretch/>
        </p:blipFill>
        <p:spPr>
          <a:xfrm>
            <a:off x="1981080" y="3200400"/>
            <a:ext cx="4762800" cy="3352680"/>
          </a:xfrm>
          <a:prstGeom prst="rect">
            <a:avLst/>
          </a:prstGeom>
          <a:ln w="0">
            <a:noFill/>
          </a:ln>
        </p:spPr>
      </p:pic>
      <p:sp>
        <p:nvSpPr>
          <p:cNvPr id="92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4BEC-C467-405F-B95B-2DA52C98E1FC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0064"/>
                </a:solidFill>
                <a:latin typeface="Calibri"/>
              </a:rPr>
              <a:t>Planning Steps and their Requirem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F2FA-BAD6-4E12-9BF8-838E47E7DC26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A393-0BCD-4DDB-B606-E22163353539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step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ing the current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ing the available Opportunities and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 of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ation and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ITU Planning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F53C-3577-438A-A3E7-8AE0549F1710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52FE-EDAE-476C-A373-A9E833ED3ADF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ssing the current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the following step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the current status of the network components, level of usage, and its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ing the environment of the network, including the management environment, and the actual physical enviro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cting the network based on specified crite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0098-5913-4B3C-BC11-7696DF14543A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ying the available Opportunities and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320" y="15238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ncludes the follow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ing the future requirements, including application and user requirements as well as there technical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ing the available opportunities for development,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ing investment possibilities in the future development, new technologies and its possibilities, as well as personal sk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EAB4-42E7-4EAD-8A2F-3A80B3D73C57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ment of Pl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evelop plans, the following conditions must be appli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s must be flexible with requirements taking into account the available requir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ing the required steps for implem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CCC4-E709-4A45-A6D1-8D2A94ABB1D2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 and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tage include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the plans, and assessing the resu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ying the development process continuously, by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doing all the steps again and a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49E5-9AF7-4697-A860-308A45928EE8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ment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ec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0064"/>
                </a:solidFill>
                <a:latin typeface="Calibri"/>
              </a:rPr>
              <a:t>SPIN: Strategic Planning for Information Networ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E975-B617-45E3-9CEA-380EF715BCC1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8856-13C5-4DA8-AE47-E286EFE68A8A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the network general structure to guaranty the f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ocation of the basic network com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quired connections between network components in their different loca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Set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6E4E-F3AA-4C60-9B83-9CF64857E2CC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4E42-7958-40B9-A445-36A51FD8BAE8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Out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Conce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Steps and their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Plans and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966C-7B36-4DDD-B2CE-F9504C50CABC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22D3-CDBF-4A68-8AEE-7FD69535FBFA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definition of the required quantities of different ele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t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efits(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ربا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work dec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FD27-CB28-40B7-9DC6-E2553DD6561F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388F-D654-4425-8D49-763D149C629F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otal analyze of network requirements, or development requirements for existing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Requirements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3902-5CC0-4396-83A5-E651887188A5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D47E-770F-405A-9503-115C261445C1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Network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BDEE-C33A-4637-A7D4-0D93074755B5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ng the network components in gene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ing the network capacity, based on balancing the traffic load with the perform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imating the network co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E611-C92B-4A0B-B739-953D009D4224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a period of time to implement the suggested design and schedule tasks in “tasks’ schedul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period of time to import requirements and assemble them within the main “tasks’ schedule “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Exec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48C8-CA16-43F2-899F-D07934D73051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E52E-8CDB-41D7-A718-F9C33B0D11BE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and execute management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management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necessary tools to manage the network effectively( database programs, hardware, software, etc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8E82-4CE9-4C37-9BEC-2F12E430D636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BB4F-123B-48B7-9FBF-3CC19C083E5A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ea0064"/>
                </a:solidFill>
                <a:latin typeface="Calibri"/>
              </a:rPr>
              <a:t>Implementation Plans and Project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E5B8-5F83-4892-9C65-C16F67946F5D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2724-6F0F-4D0E-A6BF-1B29BF68D9E1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paration and primary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ffic loads and network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ar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ice and pri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88CF-401D-4101-88A8-5C07C2D3B737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0DA6-3787-4F46-8D15-5EDC4FA5C273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ing of expected calls and traffic loa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the network primary design (Conceptual Design) : a design that plain for the executive design that define the necessary equipment's and too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 the requirement standard spec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 requirement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 requirement human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Preparation and Primary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12DB-87AC-4287-91D2-C738FBDF7EA1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4A6F-1586-492D-8823-7833F53C2460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s cause “traffic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ice provider provides “capacity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level is measure the balance between the traffic load and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Traffic and 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A1E0-7E15-41E1-A8C2-9492CADD12F6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744C-4D22-4672-8201-27549B693F6C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حكم والارسا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 addresses, control de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ding, receiving devices , and network channe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Rema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ED5D-7A51-4BB1-9CFC-E9E69307678A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A8E0-2AD3-4B1A-B8A6-6599E5BC99E1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a0044"/>
                </a:solidFill>
                <a:latin typeface="Calibri"/>
              </a:rPr>
              <a:t>Planning Concep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9F60-60EC-47D1-AB4D-A73740EAD1F8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9A5E-CF1A-46C0-AB86-1B48BA5D72DC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service, and its reliability and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services pr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Service and Pric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BAE1-90F1-4AC3-AA5D-8F742D8AC3F9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C7BA-C5D9-4084-A779-574C8BEAC759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-term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um-term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-term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0064"/>
                </a:solidFill>
                <a:latin typeface="Calibri"/>
              </a:rPr>
              <a:t>Implementation Plans According to Time Sc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BE72-37B6-4C34-A3C1-4EB2CFF00458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228C-AC37-4DDD-A3D1-C742DA21E315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termine budg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termine network positions and requireme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termine human experiences requireme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timates expected traffic and u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termine capac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termine standard specific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termine tools and equipments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Master Plan(long-term pla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7311-8773-483F-9F94-097B0D5B88A7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2E78-288F-45AF-AE8C-977FF563232C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cks off from long-term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s Medium-term proj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Medium Term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2BB5-AC74-424C-859E-98B23AEC4167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4AD0-7D9C-4616-8C08-A310842C0FBA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cks off from medium-term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eduled tas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Short-term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2962-9BF3-4969-855B-949FF0827F1D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DDDF-0DEC-4AF8-8749-CDFFB600B1AA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est for Proposals (RFP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eptual Design: determine require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a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al Design: determine equipments and tools and its require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Execution of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2557-FDC7-41AB-90BA-D7248E708756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8BE6-764F-40C0-B9E8-9374C3969C30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0064"/>
                </a:solidFill>
                <a:latin typeface="Calibri"/>
              </a:rPr>
              <a:t>!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2157-E00C-4E98-995A-AB667BCA0286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1401-B0F5-4528-A5BB-6B9D721333E9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General Concep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lanning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ing a sequence of action steps to achieve some specific go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rategy: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ek)troop leader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قائد قوات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) 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high level plan to achieve one or more goals under conditions of uncertainty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شكوك فيه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rategic Planning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ong term go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fine direction to achieve those go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rategic Unit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itution, company or group has an independent entity and perform a specific function to produce a product or serv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497B-9606-4DFE-A5E9-ACEA05BD4F7F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F976-5BB1-477C-BB1C-BA34C8195796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tegic Planning Un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 the unit g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ing on the unit special capabilities to achieve that g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0064"/>
                </a:solidFill>
                <a:latin typeface="Calibri"/>
              </a:rPr>
              <a:t>Strategic Planning for Information 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832C-2BB8-496C-A4E8-BC22E6E7C592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3DEE-87D6-4E8A-B1B3-FAC4BAB6AE49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systems and networks planning: Must be integrated with Strategic planning unit, define technical architecture that meet the strategic unit require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0064"/>
                </a:solidFill>
                <a:latin typeface="Calibri"/>
              </a:rPr>
              <a:t>Strategic Planning for Information 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537F-EE85-423B-A366-B3EC4C9109CF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2238-302C-4ED1-A4A0-86DC1DBB8F7C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ITU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International Telecommunications Un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resent special communications networks planning princip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ategic planning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التخطيط الاستراتيج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ation Planning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التخطيطي التنفيذ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ns types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انواع الخطط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ecution technique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اسلوب التنفيذ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ITU Planning concep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5049-6718-455E-BA16-E92CAE396A7D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8E4C-3D47-41F4-828E-BD110B12126D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goals and directions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تحديد الأهداف والتوجه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the general job requirements frame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وضع الإطار العام للعمل المطلوب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the general technical requirements structure (networks, information systems, information technology, etc)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تحديد الهيكل العام للتقنية المطلو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der the standard specif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8F40-7F22-4597-903C-B4C76FA611B9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6C14-8C1D-4C71-BCA9-91FF9EA95E06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cutive plans spec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ing “projects” to achieve strategic requiremen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0064"/>
                </a:solidFill>
                <a:latin typeface="Calibri"/>
              </a:rPr>
              <a:t>Implementation 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7E59-2462-449A-96A7-66AD41442EA0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7A0B-1914-4C5B-B41E-0F6B5108364F}" type="slidenum">
              <a:rPr b="0" lang="en-US" sz="1200" spc="-1" strike="noStrike">
                <a:solidFill>
                  <a:srgbClr val="8c8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2T13:46:03Z</dcterms:created>
  <dc:creator>Nada</dc:creator>
  <dc:description/>
  <dc:language>en-US</dc:language>
  <cp:lastModifiedBy>as aas</cp:lastModifiedBy>
  <dcterms:modified xsi:type="dcterms:W3CDTF">2017-03-08T20:52:18Z</dcterms:modified>
  <cp:revision>16</cp:revision>
  <dc:subject/>
  <dc:title>CT 1502 Planning and Design of Communication Networks Networ</dc:title>
</cp:coreProperties>
</file>