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9D8-23BF-4D24-988A-F1F837DD6A5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8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6C13-1D1F-440E-B8E1-443400472648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A09-BF06-46FD-BEDA-37ED62BD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315-9EEA-4B68-BF54-D7B11975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7B7-73F0-472A-ACBA-B7A40FF4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CB2-EE15-4A15-8379-D5DA665D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95E-6E59-4058-881E-1DBEB6C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2BF-10A3-4965-84F9-DD02B71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A63-9A54-4D7F-9640-E109E4BD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AD7-BD10-4E45-83F2-D987AAB2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188-05C1-4515-8804-71A4B649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50B-F87F-4CFB-B1B3-539D34A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0EA-F716-4034-BEF7-E37E170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BD5-99AA-498D-9D9E-2BFA43E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8c8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4587-0F94-4628-BDFD-57446767D055}" type="datetime">
              <a:rPr b="0" lang="en-US" sz="1200" spc="-1" strike="noStrike">
                <a:solidFill>
                  <a:srgbClr val="8c8c8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8c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0AEA-0E18-482B-9E28-699F1DA7A06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dosary.na@gmail.co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041"/>
                </a:solidFill>
                <a:latin typeface="Calibri"/>
              </a:rPr>
              <a:t>CT 1502</a:t>
            </a:r>
            <a:br>
              <a:rPr sz="2800"/>
            </a:br>
            <a:r>
              <a:rPr b="1" lang="en-US" sz="2800" spc="-1" strike="noStrike">
                <a:solidFill>
                  <a:srgbClr val="4f0041"/>
                </a:solidFill>
                <a:latin typeface="Calibri"/>
              </a:rPr>
              <a:t>Planning and Design of Communication Networks</a:t>
            </a:r>
            <a:br>
              <a:rPr sz="2800"/>
            </a:br>
            <a:r>
              <a:rPr b="1" lang="en-US" sz="5400" spc="-1" strike="noStrike">
                <a:solidFill>
                  <a:srgbClr val="4f0041"/>
                </a:solidFill>
                <a:latin typeface="Calibri"/>
              </a:rPr>
              <a:t>Network Planning Methods</a:t>
            </a:r>
            <a:br>
              <a:rPr sz="5400"/>
            </a:br>
            <a:r>
              <a:rPr b="1" lang="en-US" sz="4000" spc="-1" strike="noStrike">
                <a:solidFill>
                  <a:srgbClr val="4f0041"/>
                </a:solidFill>
                <a:latin typeface="Calibri"/>
              </a:rPr>
              <a:t>Chapter 6</a:t>
            </a:r>
            <a:br>
              <a:rPr sz="4000"/>
            </a:br>
            <a:r>
              <a:rPr b="1" lang="en-US" sz="4000" spc="-1" strike="noStrike">
                <a:solidFill>
                  <a:srgbClr val="4f0041"/>
                </a:solidFill>
                <a:latin typeface="Calibri"/>
              </a:rPr>
              <a:t>Lecture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da Al Dosary </a:t>
            </a:r>
            <a:br>
              <a:rPr sz="3200"/>
            </a:br>
            <a:r>
              <a:rPr b="0" lang="en-US" sz="32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Aldosary.na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ct1502.edublog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990720" y="2133720"/>
            <a:ext cx="74070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F640-D622-4F43-93CC-D67A706C47A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1EBB-AEFB-4882-A237-A9DCC6552FAB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velopment Plans: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خطط تطويري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“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nt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requirements, tools and equipment's” to achieve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Plan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طط ف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hoose the right equipment's and tools, how to assemble, operate and te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Plans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9006-3304-4A77-8E17-8217F2784EB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31E-076A-490F-B494-BAF05AED366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ing the plans according to areas while keeping on th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Execution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A0BE-3035-4C29-B266-D37D6586E16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ccnatutor.files.wordpress.com/2012/04/479a3979d66a4wide_area_network.gif"/>
          <p:cNvPicPr/>
          <p:nvPr/>
        </p:nvPicPr>
        <p:blipFill>
          <a:blip r:embed="rId1"/>
          <a:stretch/>
        </p:blipFill>
        <p:spPr>
          <a:xfrm>
            <a:off x="1981080" y="3200400"/>
            <a:ext cx="476280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E6AF-9B27-4D63-85FB-E664A5C37B6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0064"/>
                </a:solidFill>
                <a:latin typeface="Calibri"/>
              </a:rPr>
              <a:t>Planning Steps and their Requirem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27DA-9F23-4613-B41F-E13D1BA5A70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9328-B89B-4DC9-B7E4-D3BA67D2498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ing the current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ing the available Opportunitie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of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ation and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ITU Planning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DD8-DCA2-48F3-9160-426CE4EBD43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236-D19F-4FC5-83E7-74F9EC8FBC1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ing the current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he following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the current status of the network components, level of usage, and its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the environment of the network, including the management environment, and the actual physic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ing the network based on specified crite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4AE7-5163-45E9-AD2B-8C16C8479D2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ying the available Opportunities and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320" y="1523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ncludes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the future requirements, including application and user requirements as well as there technical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the available opportunities for development,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investment possibilities in the future development, new technologies and its possibilities, as well as personal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481E-C90C-43A5-B35B-4E6E0A4EEBE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of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velop plans, the following conditions must be appli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s must be flexible with requirements taking into account the available requi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required steps for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9395-B929-46CE-824C-F7CE9566D6A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and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tage include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the plans, and assessing 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the development process continuously, by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doing all the steps again and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4B9F-1B6C-424C-B71D-947BCD0FF7A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SPIN: Strategic Planning for Information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2FC5-C9F1-4EC6-B733-1246EADAF8E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E644-388B-4675-8106-7FB3F73E7DE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the network general structure to guaranty the f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cation of the basic network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quired connections between network components in their different loc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et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406F-03F4-4913-9B6C-9836D63C7C0B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245-7125-4A4F-941B-55AC483EACC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Steps and their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Plans and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00B-34EE-49F5-BF7E-99B2C420D2F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8925-EA0D-43F8-9EE7-7105B7451A6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definition of the required quantities of different el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s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ربا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D88-C345-4E25-AAB1-49FC9FCF84EB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B59E-21AD-4CA3-88F4-BAB3EE484AA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otal analyze of network requirements, or development requirements for existing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Requirements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6D40-3FA5-4395-90B1-59A474434F4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450-7C51-4676-A8B6-92CA11F8491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Network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FF85-7934-4874-81AE-506B26916F6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ng the network components in gen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ing the network capacity, based on balancing the traffic load with th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ing the network co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C630-ECC9-48D8-94FC-B5CE8A42232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a period of time to implement the suggested design and schedule tasks in “tasks’ schedu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period of time to import requirements and assemble them within the main “tasks’ schedule 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3EE-12AD-4127-9648-45224AF48A6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608-6918-4B59-A48B-8D800FBD60E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and execute management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nagement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necessary tools to manage the network effectively( database programs, hardware, software, et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0580-75A0-4DEB-BF1F-D0B98733ABD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C2DC-8495-463B-B562-7756AFEEFD0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a0064"/>
                </a:solidFill>
                <a:latin typeface="Calibri"/>
              </a:rPr>
              <a:t>Implementation Plans and Projec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CB85-C48F-4F69-9FED-75C8C1E1945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2132-5876-40EF-A42B-445366F3C73D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ation and primary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ffic loads and network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and pri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451F-55A6-4E6C-B8D2-5F16E18D700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8AB6-8B87-485B-9A1F-EB56343C808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ing of expected calls and traffic loa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the network primary design (Conceptual Design) : a design that plain for the executive design that define the necessary equipment's and too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the requirement standard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requirement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requirement huma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Preparation and Primary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9EEC-46FF-4693-A829-E8566EB80ED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1A2A-C0E9-43A9-978E-6503DF6D5524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s cause “traff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provider provides “capacity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level is measure the balance between the traffic load and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Traffic and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4E2-CE72-41F0-BDA0-44E902C98863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801E-C356-48BD-BC9C-C4116B406D9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حكم والارس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addresses, control de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ing, receiving devices , and network chann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C8B8-B989-423F-B752-EDB8B161FCB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ED0D-2669-43F0-8777-04C1F05DAFF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a0044"/>
                </a:solidFill>
                <a:latin typeface="Calibri"/>
              </a:rPr>
              <a:t>Planning Concep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B59E-EEF2-46EB-A20B-671A11EE4C33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C6D-6E97-49C8-8B6A-A635D05DB9A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service, and its reliability an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services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ervice and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883-F72E-41E2-82D3-EC450D9D5A6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EABC-936C-4ECD-84E4-550CAE645C0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um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Implementation Plans According to Time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622-8E5E-46E1-B124-073CCF489705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498-E051-4A47-A1D1-CB64BB6A891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budg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network positions and requirem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human experiences requirem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es expected traffic and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standard specific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tools and equipments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Master Plan(long-term pl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04F6-4E1D-4CAF-A1EF-1554AB52131D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583A-4230-4747-B015-DBB824E54C3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cks off from long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Medium-term pro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Medium Ter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4DF1-3C16-466D-B87A-02D1478E63E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A7A6-46A4-4C9A-88DA-722B69CD1C4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cks off from medium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ed tas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hort-ter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D46-9EEE-4902-B782-C9AAAFC3C3D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769B-BA89-467E-8D69-78025C95A7C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 for Proposals (RFP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ptual Design: determine requir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al Design: determine equipments and tools and its requir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Execution of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A59-B974-4018-913A-957AB72FEA0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B476-F26A-4194-8A4D-DA47A5824C4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0064"/>
                </a:solidFill>
                <a:latin typeface="Calibri"/>
              </a:rPr>
              <a:t>!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3445-9878-4CB6-BD66-E60AC14CB7D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F3F5-BDBF-4EAA-AE71-EFC74A4F016E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General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ing a sequence of action steps to achieve some specific go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y: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ek)troop leader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قائد قوا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 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igh level plan to achieve one or more goals under conditions of uncertainty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شكوك فيه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ic Planning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ng term go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fine direction to achieve those go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ic Uni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itution, company or group has an independent entity and perform a specific function to produce a product or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BC60-5674-4377-9FDB-068C19783C8B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0875-7EBC-4522-9DD1-13A56602B3F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Planning Un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the unit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ing on the unit special capabilities to achieve that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Strategic Planning for Informati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943-E28C-4C79-84A3-20073948091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75F-7809-4492-8652-688F17502E7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systems and networks planning: Must be integrated with Strategic planning unit, define technical architecture that meet the strategic unit requir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Strategic Planning for Informati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2C8A-BFFF-4BE4-8C8A-E6EE3C8F2184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142-DCDE-4606-9E68-92354E6BE34E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TU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International Telecommunications Un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ent special communications networks planning princi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ategic planning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خطيط الاستراتي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 Planning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خطيطي التنفيذ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s types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نواع الخطط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ecution technique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سلوب التنفيذ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ITU Planning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266-08AF-4819-B48B-72321AFAA36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39BD-2625-412E-ADE8-D49AC68991B3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goals and direction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حديد الأهداف والتوجه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the general job requirements frame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ضع الإطار العام للعمل المطلو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the general technical requirements structure (networks, information systems, information technology, etc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حديد الهيكل العام للتقنية المطلو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der the standard spec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11A6-1A0D-452C-B0C5-0CE46621997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E45-BEC2-4BCA-9DF6-286B3C984D9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ve plans spec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ing “projects” to achieve strategic requirem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Implementation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3069-A379-4A9D-8B81-DB0A937A39A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29B-2CE4-4C42-B6B6-BFB9C359FD1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3:46:03Z</dcterms:created>
  <dc:creator>Nada</dc:creator>
  <dc:description/>
  <dc:language>en-US</dc:language>
  <cp:lastModifiedBy>as aas</cp:lastModifiedBy>
  <dcterms:modified xsi:type="dcterms:W3CDTF">2017-03-08T20:52:18Z</dcterms:modified>
  <cp:revision>16</cp:revision>
  <dc:subject/>
  <dc:title>CT 1502 Planning and Design of Communication Networks Networ</dc:title>
</cp:coreProperties>
</file>