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4FF-48A3-4D94-BE93-BB1AE44E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537-9641-425F-AF93-1DC5B2C1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276-AE9A-434E-83F5-A830C93B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28E-10A5-44B0-88B2-C8358330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28E5-4813-47DA-ADB6-5A5D079A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A850-3F06-41D4-8DCF-5396DEDA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867A-8460-41DA-92DB-5E956872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E7D-AB52-44E5-9F51-ED068FD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593C-7919-4CD6-8441-D4356057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C0F8-A89E-4521-8BB0-6343CC87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30C7-6115-46D7-B5EE-A7F8BB7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496-A37E-4D27-8E77-3CA2FF92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0A9-6970-42C3-82B9-8A397D3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9E58-F020-45F1-8015-69A49E5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7FF-F8C8-49DE-BB89-49065BD2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6986-9331-48B4-BF41-E2159B1F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7400-DF63-4D2B-9C19-53F6C1E1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3B66-C57D-42DE-A359-32F12780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1C8B-7CC0-4EEA-A700-C6151715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48FE-CCF4-49A8-80F4-4AF80E9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1BF05-07DA-4A56-ADFA-B56FA3A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C9EE-EA79-462E-9126-98E59A64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E76-6C3D-4CD4-8B61-58D971E8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CF07-D267-4D8E-8323-44341E8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FC11-6886-4183-8B8C-10676BB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F581-2498-4243-9C69-FDDEE28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1494A-B5D7-4D6F-9BD5-9DF17F9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3677-5BFA-4C2F-BF4F-F0F3F048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1468-2FB9-4348-BD93-D752F15F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8877-2FEA-49D8-905A-A9D6B160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48D5-DAA1-4DAF-B6C1-6992B5BE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9A9E-8DA8-4C90-9FE4-A147C21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5AB9-5053-49FF-87E5-1ACA3496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D1C-16B9-4AAB-97A1-51CB3470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07F8-28EF-4D6F-BDC8-12EE47F1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AED7-AEFE-435A-914A-C9EC3CC7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E042-79A6-426C-ACA7-69A2D6C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CC8F-349A-461E-86DD-98C7C35F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FDF2-E678-4BFC-BF0D-FC3C40E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BE44-C6C7-459E-A7AA-86AF7AD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C00C-9952-4EC1-8B2A-DB27B48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E0DB-2D88-4E4D-A402-BD61803E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3CA7-1325-4FA8-A1AA-5026A812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892-F0EA-4C81-83A8-AFAAD94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3E4-4227-4243-98ED-6DEF392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E8D-5BE6-4057-A28A-1B4180D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5E1-24F2-4786-9EA5-35E8B55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5E4-BFC5-4951-BC00-D07E28E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Slide 13- </a:t>
            </a:r>
            <a:fld id="{79582429-328C-4C63-ABDE-1E06A0F20742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046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66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68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6" descr="elmasri_thumb"/>
          <p:cNvPicPr/>
          <p:nvPr/>
        </p:nvPicPr>
        <p:blipFill>
          <a:blip r:embed="rId5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B0D-BE71-420F-9560-6EEA4D562BE5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25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127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db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Slide 13- </a:t>
            </a:r>
            <a:fld id="{929D8C8C-90E3-46DA-AB41-B9A7A0DBD1A4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nip and Round Single Corner Rectangle 20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Triangle 2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4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0/30/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Slide 13- </a:t>
            </a:r>
            <a:fld id="{F1C41071-4166-4043-946B-61393ABC38CD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8522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1c6f7"/>
                </a:solidFill>
                <a:latin typeface="Constantia"/>
                <a:ea typeface="Majalla UI"/>
              </a:rPr>
              <a:t>Lec 4:Disk Storage, Basic File Structures, and Has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0CF8-67FE-4332-A690-718AD6D2CE92}" type="slidenum">
              <a:rPr b="0" lang="en-US" sz="1200" spc="-1" strike="noStrike">
                <a:solidFill>
                  <a:srgbClr val="d1eaee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7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fig13_01"/>
          <p:cNvPicPr/>
          <p:nvPr/>
        </p:nvPicPr>
        <p:blipFill>
          <a:blip r:embed="rId2"/>
          <a:stretch/>
        </p:blipFill>
        <p:spPr>
          <a:xfrm>
            <a:off x="1447920" y="1546200"/>
            <a:ext cx="6172200" cy="485460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48885924-F0FE-4FDE-BB66-5FE013C046C8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7" descr=""/>
          <p:cNvPicPr/>
          <p:nvPr/>
        </p:nvPicPr>
        <p:blipFill>
          <a:blip r:embed="rId1"/>
          <a:stretch/>
        </p:blipFill>
        <p:spPr>
          <a:xfrm>
            <a:off x="-49320" y="304920"/>
            <a:ext cx="7669440" cy="1268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tbl13_01a"/>
          <p:cNvPicPr/>
          <p:nvPr/>
        </p:nvPicPr>
        <p:blipFill>
          <a:blip r:embed="rId2"/>
          <a:stretch/>
        </p:blipFill>
        <p:spPr>
          <a:xfrm>
            <a:off x="1600200" y="1523880"/>
            <a:ext cx="3956040" cy="50292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5511960" y="6094440"/>
            <a:ext cx="3124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  <a:ea typeface="Majalla UI"/>
              </a:rPr>
              <a:t>(Courtesy of Seagate Technolo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47AEE36F-6D29-4F6C-8904-B0248796AF6C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xed and variable length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cords contain fields which have values of a particular ty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E.g., amount, date, time, 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elds themselves may be fixed length or variable leng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Variable length fields can be mixed into one recor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parator characters or length fields are needed so that the record can be “parsed.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C4328D65-E52F-4D06-B33A-446D2C5AA01E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Bloc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fers to storing a number of records in one block on the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locking factor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f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) refers to the number of records per bloc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ere may be empty space in a block if an integral number of records do not fit in one bloc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Spanned Record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fers to records that exceed the size of one or more blocks and hence span a number of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0185AD40-7148-4D9E-BBA0-954AFDC54FFC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Files of Reco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f records, where each record is a collection of data values (or data item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 descrip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 head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) includes information that describes the file,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eld nam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and thei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ata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, and the addresses of the file blocks on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cords are stored on disk block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locking fac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f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for a file is the (average) number of file records stored in a disk blo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file can hav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xed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records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variable-l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rec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09F4AB8A-315F-4160-997E-56597D33F564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Files of Record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 records can b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un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pann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Un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: no record can span two bloc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Spanne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: a record can be stored in more than one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physical disk blocks that are allocated to hold the records of a file can b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contiguous, linked, or index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In a file of fixed-length records, all records have the same format. Usually, unspanned blocking is used with such fi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les of variable-length records require additional information to be stored in each record, such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parat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characte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eld typ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Usually spanned blocking is used with such fil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A4D7B2E4-C563-44B3-954A-91319CB59C0E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Operation on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 file operations inclu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OPE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adies the file for access, and associates a pointer that will refer to a </a:t>
            </a:r>
            <a:r>
              <a:rPr b="0" i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curren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 file record at each point in tim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FIN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Searches for the first file record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FINDNEX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Searches for the next file record (from the current record) that satisfies a certain condition, and makes it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REA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ads the current file record into a program variab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INSERT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Inserts a new record into the file &amp; makes it the current file record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DELET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moves the current file record from the file, usually by marking the record to indicate that it is no longer vali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MODIFY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Changes the values of some fields of the current file recor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CLOS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Terminates access to the fil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REORGANIZE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organizes the file record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Majalla UI"/>
              </a:rPr>
              <a:t>For example, the records marked deleted are physically removed from the file or a new organization of the file records is created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READ_ORDERE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  <a:ea typeface="Majalla UI"/>
              </a:rPr>
              <a:t>: Read the file blocks in order of a specific field of the file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313DAB0-2CB6-45D1-8F02-C1CF5BF10BDF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Un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Also called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ea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p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New records are inserted at the end of the fi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linear searc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through the file records is necessary to search for a recor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is requires reading and searching half the file blocks on the average, and is hence quite expens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cord insertion is quite effic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ading the records in order of a particular field requires sorting the file recor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63C51DD0-20DE-4823-ACF4-131C6D206F45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Order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lso called 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equentia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File records are kept sorted by the values of 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rder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Insertion is expensive: records must be inserted in the correct ord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It is common to keep a separate unordered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verflow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(or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ransa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) file for new records to improve insertion efficiency; this is periodically merged with the main ordered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binary searc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can be used to search for a record on its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rdering fiel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is requires reading and searching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of the file blocks on the average, an improvement over linear searc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Reading the records in order of the ordering field is quite effici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A072C678-EA68-47EC-A764-1B1D12BFE83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7" descr=""/>
          <p:cNvPicPr/>
          <p:nvPr/>
        </p:nvPicPr>
        <p:blipFill>
          <a:blip r:embed="rId1"/>
          <a:stretch/>
        </p:blipFill>
        <p:spPr>
          <a:xfrm>
            <a:off x="-49320" y="304920"/>
            <a:ext cx="4572000" cy="126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3143160" cy="50292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DBC9722D-F7D8-4C01-8293-8899A09A8C09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Chapter 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A619E94C-D31A-4E01-A8B9-62E80A3995CA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Average Access Ti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e following table shows the average access time to access a specific record for a given type of 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878040" y="3246480"/>
            <a:ext cx="7548480" cy="188424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DEEC779E-FAA9-4564-B6E4-ACA6AF3B01AF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Hashed Fi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ashing for disk files is call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External Ha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e file blocks are divided into M equal-siz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bucket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, numbered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, ..., buck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nstantia"/>
                <a:ea typeface="Majalla UI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ly, a bucket corresponds to one (or a fixed number of) disk bloc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ne of the file fields is designated to be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ash k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 of the fi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e record with hash key value K is stored in bucket i, where i=h(K), and h is th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hashing fun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Search is very efficient on the hash k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ollisions occur when a new record hashes to a bucket that is already fu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An overflow file is kept for storing such recor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verflow records that hash to each bucket can be linked togeth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12F89096-AC32-4A74-9D09-066A059B6588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here are numerous methods for collision resolution, including the follow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Open address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Proceeding from the occupied position specified by the hash address, the program checks the subsequent positions in order until an unused (empty) position is foun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Chain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For this method, various overflow locations are kept, usually by extending the array with a number of overflow positions. In addition, a pointer field is added to each record location. A collision is resolved by placing the new record in an unused overflow location and setting the pointer of the occupied hash address location to the address of that overflow locatio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Multiple hash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: The program applies a second hash function if the first results in a collision. If another collision results, the program uses open addressing or applies a third hash function and then uses open addressing if necessar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C7E0944D-3B6E-4276-BE0B-ABB5BE3615A0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7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fig13_09"/>
          <p:cNvPicPr/>
          <p:nvPr/>
        </p:nvPicPr>
        <p:blipFill>
          <a:blip r:embed="rId2"/>
          <a:stretch/>
        </p:blipFill>
        <p:spPr>
          <a:xfrm>
            <a:off x="228600" y="2057400"/>
            <a:ext cx="8458200" cy="403056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200A1244-42E8-4C7B-8597-DBC7449B2676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Hashed Fil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o reduce overflow records, a hash file is typically kept 70-80% fu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e hash function h should distribute the records uniformly among the buc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Otherwise, search time will be increased because many overflow records will exis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ain disadvantages of static external hash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Fixed number of buckets M is a problem if the number of records in the file grows or shrin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Ordered access on the hash key is quite inefficient (requires  sorting the record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E68A8761-7B39-4CF7-9D10-664254B7F1A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7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8656560" cy="1494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fig13_10"/>
          <p:cNvPicPr/>
          <p:nvPr/>
        </p:nvPicPr>
        <p:blipFill>
          <a:blip r:embed="rId2"/>
          <a:stretch/>
        </p:blipFill>
        <p:spPr>
          <a:xfrm>
            <a:off x="1676520" y="1590840"/>
            <a:ext cx="5943600" cy="4886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5D6E503A-1B73-4265-A623-EB5855D01F04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ynamic And Extendible Hashed Fil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Techniq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Hashing techniques are adapted to allow the dynamic growth and shrinking of the number of file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se techniques include the following: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dynamic hashing, extendible hashin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, and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linear hash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oth dynamic and extendible hashing use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inary represent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f the hash value h(K) in order to access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irect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n dynamic hashing the directory is a binary tre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In extendible hashing the directory is an array of siz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nstantia"/>
                <a:ea typeface="Majalla UI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where d is called th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global depth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4FC36E3C-9628-4911-A810-9B9277970890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ynamic And Extendible Hashing (contd.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directories can be stored on disk, and they expand or shrink dynamical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Directory entries point to the disk blocks that contain the stored recor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n insertion in a disk block that is full causes the block to split into two blocks and the records are redistributed among the two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 directory is updated appropriately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do not require an overflow are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Linear hashing does require an overflow area but does not use a director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locks are split in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linear orde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 as the file expand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4BA37FE5-2154-4BAB-BA7D-BE13085973F7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7" descr=""/>
          <p:cNvPicPr/>
          <p:nvPr/>
        </p:nvPicPr>
        <p:blipFill>
          <a:blip r:embed="rId1"/>
          <a:stretch/>
        </p:blipFill>
        <p:spPr>
          <a:xfrm>
            <a:off x="73080" y="133200"/>
            <a:ext cx="8692920" cy="153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ig13_11"/>
          <p:cNvPicPr/>
          <p:nvPr/>
        </p:nvPicPr>
        <p:blipFill>
          <a:blip r:embed="rId2"/>
          <a:stretch/>
        </p:blipFill>
        <p:spPr>
          <a:xfrm>
            <a:off x="2057400" y="1576440"/>
            <a:ext cx="4976640" cy="4976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AF6A9D1-2206-4FC0-B2ED-D62791C8E0DF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umm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 Storage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iles of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perations on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Un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rder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ashed Fi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ynamic and Extendible Hashing Techniqu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686CFC55-5698-40A9-8DE6-A551C70AC95C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torage Hierarc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3" descr="Pink tissue paper"/>
          <p:cNvPicPr/>
          <p:nvPr/>
        </p:nvPicPr>
        <p:blipFill>
          <a:blip r:embed="rId1"/>
          <a:srcRect l="21029" t="28974" r="30738" b="22204"/>
          <a:stretch/>
        </p:blipFill>
        <p:spPr>
          <a:xfrm>
            <a:off x="684360" y="1695600"/>
            <a:ext cx="6837120" cy="432576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7A2FB935-0EEF-485B-8FB6-F5AE303BDD66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torage of Databas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BMS stores information on (‘hard’) dis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his has major implications for DBMS design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READ: transfer data from disk to main mem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(RAM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WRITE: transfer data from RAM to dis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Both are high-cost operations, relative to in memo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operations, so must be planned carefully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A2373A55-1BAF-4413-A6FF-083491DC9897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Storage of Databases (Con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Why not store everything in main memor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Costs too mu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ain memory is volatile. We want data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be saved between r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 storage hierarch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Main memory (RAM) for currently used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Disk for the main data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–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  <a:ea typeface="Majalla UI"/>
              </a:rPr>
              <a:t>Tapes for archiving older versions of the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2862372E-C915-4FA3-BD34-BB24ABD01A7A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isk Storage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Preferred secondary storage device for high storage capacity and low co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ata stored as magnetized areas on magnetic disk surfa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pac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contains several magnetic disks connected to a rotating spind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Disks are divided into concentric circula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trac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on each disk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surf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rack capacities vary typically from 4 to 50 Kbytes or m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1D4FFB79-DEC4-4A08-84C9-151A36D1800D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track is divided into smalle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because it usually contains a large amount of inform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The division of a track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secto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is hard-coded on the disk surface and cannot be chang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One type of sector organization calls a portion of a track that subtends a fixed angle at the center as a sect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track is divided in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 block size B is fixed for each syste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Majalla UI"/>
              </a:rPr>
              <a:t>Typical block sizes range from B=512 bytes to B=4096 by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Whole blocks are transferred between disk and main memory for process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305F3C8B-69CE-4020-8EDC-F9441462251D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7" descr=""/>
          <p:cNvPicPr/>
          <p:nvPr/>
        </p:nvPicPr>
        <p:blipFill>
          <a:blip r:embed="rId1"/>
          <a:stretch/>
        </p:blipFill>
        <p:spPr>
          <a:xfrm>
            <a:off x="0" y="334800"/>
            <a:ext cx="8686800" cy="153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fig13_02"/>
          <p:cNvPicPr/>
          <p:nvPr/>
        </p:nvPicPr>
        <p:blipFill>
          <a:blip r:embed="rId2"/>
          <a:stretch/>
        </p:blipFill>
        <p:spPr>
          <a:xfrm>
            <a:off x="380880" y="2278080"/>
            <a:ext cx="8305920" cy="298296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BB0D49BA-979A-4953-9D64-6F1ACE026C0A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Disk Storage Devices (contd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ad-write hea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 moves to the track that contains the block to be transfer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Disk rotation moves the block under the read-write head for reading or writ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A physical disk block (hardware) address consists of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 cylinder number (imaginary collection of tracks of same radius from all recorded surfac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the track number or surface number (within the cylinder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Majalla UI"/>
              </a:rPr>
              <a:t>and block number (within track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eading or writing a disk block is time consuming because of the seek time s and rotational delay (latency)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Majalla UI"/>
              </a:rPr>
              <a:t>Double buffering can be used to speed up the transfer of contiguous disk block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Slide 13- </a:t>
            </a:r>
            <a:fld id="{00C2A0C5-DCBD-44AB-B447-E2724DD057FB}" type="slidenum">
              <a:rPr b="0" lang="en-US" sz="1200" spc="-1" strike="noStrike">
                <a:solidFill>
                  <a:srgbClr val="045c75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Sara</cp:lastModifiedBy>
  <cp:lastPrinted>2001-11-04T00:51:13Z</cp:lastPrinted>
  <dcterms:modified xsi:type="dcterms:W3CDTF">2017-10-15T17:16:57Z</dcterms:modified>
  <cp:revision>77</cp:revision>
  <dc:subject>Disk Storage, Basic File Structures, and Hashing</dc:subject>
  <dc:title>Chapter 13</dc:title>
</cp:coreProperties>
</file>