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669-AE0E-492D-9FB1-234B8BF2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3B9-AF5C-4474-BF3C-91D60CE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7EA-8AF8-4BE6-A7DF-DB71601A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6E2-C59B-48B3-9AEF-72CE81CB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2B1-A38D-4C3A-9A13-50E64918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D806-33C5-4E95-96DE-34F4CD7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E6D-3B95-4D6A-8F32-6CAA7E6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16D-7289-46FA-BAAB-62153A1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EF0A-0086-44E7-8FA2-871CA7FC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BAB-955C-49D6-B91E-55CE82B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985-D7B4-4DAF-A315-0593EE6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10E-8384-4EBD-935C-3935D4BB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980-3EB3-41DC-8DAA-2E1B616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A2D4-A32B-4153-A0D0-00BD49A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C483-40DF-4924-95E9-DF3CE4B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D9B-5987-4A26-B464-E7607BB3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685C-46EA-4BF8-A45E-FAE94A5D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F526-774F-4BAE-B2D8-12348116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FFA1-B785-4708-A360-A0CA8981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F778-1CE0-413A-B0EA-465D7ACA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1C01-5705-4038-B5EF-F5947CB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8207-0F6A-4084-87BF-2926D14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3E4-E318-4CE9-ADBE-908FAD6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B303-95E5-4432-8CB9-6AAE0D1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432D-8CFD-492D-BC9C-AF2F8B8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0D1B-7A21-4A18-920D-93B781F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BFBDA-E714-40A3-BE2C-408B0B6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5C0E-3178-4E5B-AB7B-8A1B0BC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2A2A-8C4A-48BF-9ABA-F3801C31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3398-1897-4812-B8FA-DDDD578F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C6FF-7598-473D-AC27-EDDEF6CE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01136-E541-4CBA-9DB2-81F93E1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EEBA-C08E-4CCB-8F19-DCCE80C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F92-085B-4231-A2FC-6287A8E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6CDE-1820-4889-A66C-98B2006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DF78-8CB0-4A9F-A429-56A6A6C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8E8D-2FE2-4B28-90A9-AC1AE6C2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CB07-C9FC-4FE1-9BA5-EBA6898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FD28-DB98-493A-BA79-C8EFFA8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B12E-00EB-496D-8760-756A3D7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B43F-220F-4DD6-A576-3ACEA08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3B06-77E8-4D4D-8FB6-07485934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CA76-C774-4F05-8CA0-EF74AD0A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902-23E9-464D-9069-5E8D5D86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8E1-A951-4F1A-81EF-91F4FE84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B2F-0D1E-4F8A-A5C3-1C60BDF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C8C-7881-4D15-A05F-FC96103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410-0B5E-4F97-B5FE-225EA07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Slide 13- </a:t>
            </a:r>
            <a:fld id="{82E6BC93-F2C1-4E50-AD80-D73A8AF64CC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11F7-8B7E-4466-AF46-2DEEC79CF748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Slide 13- </a:t>
            </a:r>
            <a:fld id="{909CD1C5-0BFD-4BCB-BE90-EEC547CA5F40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Slide 13- </a:t>
            </a:r>
            <a:fld id="{E518CD52-7849-4331-86DE-B230661E3F3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8522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  <a:ea typeface="Majalla UI"/>
              </a:rPr>
              <a:t>Lec 4:Disk Storage, Basic File Structures, and Has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813-5A84-4D12-BCC8-2B303B7EA253}" type="slidenum">
              <a:rPr b="0" lang="en-US" sz="1200" spc="-1" strike="noStrike">
                <a:solidFill>
                  <a:srgbClr val="d1eaee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fig13_01"/>
          <p:cNvPicPr/>
          <p:nvPr/>
        </p:nvPicPr>
        <p:blipFill>
          <a:blip r:embed="rId2"/>
          <a:stretch/>
        </p:blipFill>
        <p:spPr>
          <a:xfrm>
            <a:off x="1447920" y="1546200"/>
            <a:ext cx="6172200" cy="48546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2673A313-B092-4139-8359-B77EC16F5C6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7" descr=""/>
          <p:cNvPicPr/>
          <p:nvPr/>
        </p:nvPicPr>
        <p:blipFill>
          <a:blip r:embed="rId1"/>
          <a:stretch/>
        </p:blipFill>
        <p:spPr>
          <a:xfrm>
            <a:off x="-49320" y="304920"/>
            <a:ext cx="766944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tbl13_01a"/>
          <p:cNvPicPr/>
          <p:nvPr/>
        </p:nvPicPr>
        <p:blipFill>
          <a:blip r:embed="rId2"/>
          <a:stretch/>
        </p:blipFill>
        <p:spPr>
          <a:xfrm>
            <a:off x="1600200" y="1523880"/>
            <a:ext cx="3956040" cy="50292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5511960" y="6094440"/>
            <a:ext cx="3124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Majalla UI"/>
              </a:rPr>
              <a:t>(Courtesy of Seagate Technolo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ECBBD86-002C-4390-877D-787C4D786CFB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xed and variable length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s contain fields which have values of a particular ty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.g., amount, date, time,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elds themselves may be fixed length or variable l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Variable length fields can be mixed into one recor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parator characters or length fields are needed so that the record can be “parsed.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CB270C33-7C98-48DE-A904-D2C7D81AD94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Blo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fers to storing a number of records in one block on the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 factor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f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) refers to the number of records per bloc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re may be empty space in a block if an integral number of records do not fit in one bloc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 Reco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fers to records that exceed the size of one or more blocks and hence span a number of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E6519639-36CA-43EE-A2DB-0BF262AF3589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Files of 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f records, where each record is a collection of data values (or data item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descrip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head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includes information that describes the file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na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and thei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and the addresses of the file blocks on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s are stored on disk block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 fac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f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for a file is the (average) number of file records stored in a disk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file can hav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xed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records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variable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rec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51891B2C-D5E0-4349-9683-F912A473B14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Files of Record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records can b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un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Un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: no record can span two bloc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: a record can be stored in more than one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physical disk blocks that are allocated to hold the records of a file can b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contiguous, linked, or index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n a file of fixed-length records, all records have the same format. Usually, unspanned blocking is used with such f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variable-length records require additional information to be stored in each record, such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Usually spanned blocking is used with such fil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89AABF49-05DD-4BB9-B2E6-0B5189FADC1B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Operation on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file operations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OPE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ies the file for access, and associates a pointer that will refer to a </a:t>
            </a:r>
            <a:r>
              <a:rPr b="0" i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curren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 file record at each point in tim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FIN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Searches for the first file record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FINDNEX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Searches for the next file record (from the current record)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A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s the current file record into a program variab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INSER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Inserts a new record into the file &amp; makes it the current file recor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DELET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moves the current file record from the file, usually by marking the record to indicate that it is no longer vali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MODIFY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Changes the values of some fields of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CLOS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Terminates access to the fi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ORGANIZ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organizes the file recor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For example, the records marked deleted are physically removed from the file or a new organization of the file records is create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AD_ORDER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 the file blocks in order of a specific field of the fi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3953A1D9-9EC6-4D76-AAF4-E320B5D8B12E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Un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lso called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e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New records are inserted at the end of the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sear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through the file records is necessary to search for a reco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is requires reading and searching half the file blocks on the average, and is hence quite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 insertion is quite effic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the records in order of a particular field requires sorting the file recor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3CA89057-5525-44D8-BAD9-BA41C458787E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lso called 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quenti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le records are kept sorted by the values of 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nsertion is expensive: records must be inserted in the correct ord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t is common to keep a separate unordered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verf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file for new records to improve insertion efficiency; this is periodically merged with the main ordered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inary searc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can be used to search for a record on it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rdering 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is requires reading and searching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file blocks on the average, an improvement over linear 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the records in order of the ordering field is quite effici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6836D3D-243E-4972-BE2B-D43F14B593D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7" descr=""/>
          <p:cNvPicPr/>
          <p:nvPr/>
        </p:nvPicPr>
        <p:blipFill>
          <a:blip r:embed="rId1"/>
          <a:stretch/>
        </p:blipFill>
        <p:spPr>
          <a:xfrm>
            <a:off x="-49320" y="304920"/>
            <a:ext cx="4572000" cy="126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43160" cy="50292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5AFE25F-DBD8-4FE9-8A85-488597F69AA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824EEC2E-14BA-423D-A736-EF1E642A951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Average Access Ti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 following table shows the average access time to access a specific record for a given type of 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878040" y="3246480"/>
            <a:ext cx="7548480" cy="188424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CDEA4E1-112C-48DE-AD54-488E6DFF1E99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for disk files is call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xternal Ha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 file blocks are divided into M equal-siz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ucke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numbered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...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ly, a bucket corresponds to one (or a fixed number of) disk bloc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ne of the file fields is designated to be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 k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 record with hash key value K is stored in bucket i, where i=h(K), and h is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fun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arch is very efficient on the hash k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llisions occur when a new record hashes to a bucket that is already fu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 overflow file is kept for storing such recor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verflow records that hash to each bucket can be link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E378EBA6-F07C-4160-9C58-24669A8A13E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re are numerous methods for collision resolution, including the follow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pen address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Proceeding from the occupied position specified by the hash address, the program checks the subsequent positions in order until an unused (empty) position is fou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For this method, various overflow locations are kept, usually by extending the array with a number of overflow positions. In addition, a pointer field is added to each record location. A collision is resolved by placing the new record in an unused overflow location and setting the pointer of the occupied hash address location to the address of that overflow loca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ultiple hash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The program applies a second hash function if the first results in a collision. If another collision results, the program uses open addressing or applies a third hash function and then uses open addressing if necessa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C4D1FFC0-3116-4BCA-BC9E-C3F3FA719100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fig13_09"/>
          <p:cNvPicPr/>
          <p:nvPr/>
        </p:nvPicPr>
        <p:blipFill>
          <a:blip r:embed="rId2"/>
          <a:stretch/>
        </p:blipFill>
        <p:spPr>
          <a:xfrm>
            <a:off x="228600" y="2057400"/>
            <a:ext cx="8458200" cy="4030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A55513FA-42AC-4FC1-986C-137E18762D3F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o reduce overflow records, a hash file is typically kept 70-80% fu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 hash function h should distribute the records uniformly among the buc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Otherwise, search time will be increased because many overflow records will exi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in disadvantages of static external hash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xed number of buckets M is a problem if the number of records in the file grows or shrin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access on the hash key is quite inefficient (requires  sorting the record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259CE6C-4131-4609-BF05-3D46CA09A7E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7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8656560" cy="1494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fig13_10"/>
          <p:cNvPicPr/>
          <p:nvPr/>
        </p:nvPicPr>
        <p:blipFill>
          <a:blip r:embed="rId2"/>
          <a:stretch/>
        </p:blipFill>
        <p:spPr>
          <a:xfrm>
            <a:off x="1676520" y="1590840"/>
            <a:ext cx="5943600" cy="4886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6C2BEF28-661E-4940-93E1-2DB8533889B0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ynamic And Extendible Hashed Fil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techniques are adapted to allow the dynamic growth and shrinking of the number of file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se techniques include the following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dynamic hashing, extendible hash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, and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linear hash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oth dynamic and extendible hashing use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inary represen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hash value h(K) in order to access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 dynamic hashing the directory is a binary tr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 extendible hashing the directory is an array of siz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where d is called th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global depth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4BB9D44-34DC-4233-968C-33484C03AA05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ynamic And Extendible Hashing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rectories can be stored on disk, and they expand or shrink dynamical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rectory entries point to the disk blocks that contain the stored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 insertion in a disk block that is full causes the block to split into two blocks and the records are redistributed among the two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rectory is updated appropri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do not require an overflow ar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hashing does require an overflow area but does not use a direc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 are split in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ord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as the file expa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0D79C1A9-618A-464A-A40D-E1FBAB380832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ig13_11"/>
          <p:cNvPicPr/>
          <p:nvPr/>
        </p:nvPicPr>
        <p:blipFill>
          <a:blip r:embed="rId2"/>
          <a:stretch/>
        </p:blipFill>
        <p:spPr>
          <a:xfrm>
            <a:off x="2057400" y="1576440"/>
            <a:ext cx="4976640" cy="4976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0166B8D-396B-4F98-B9FB-E9DE971A672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650E2A7-7554-4230-A3E6-CAFE874942F1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Hie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3" descr="Pink tissue paper"/>
          <p:cNvPicPr/>
          <p:nvPr/>
        </p:nvPicPr>
        <p:blipFill>
          <a:blip r:embed="rId1"/>
          <a:srcRect l="21029" t="28974" r="30738" b="22204"/>
          <a:stretch/>
        </p:blipFill>
        <p:spPr>
          <a:xfrm>
            <a:off x="684360" y="1695600"/>
            <a:ext cx="6837120" cy="432576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EE9636B2-DDA8-458F-927F-EE1F6804FFA1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of Datab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BMS stores information on (‘hard’) dis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is has major implications for DBMS desig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READ: transfer data from disk to main mem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(RA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WRITE: transfer data from RAM to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Both are high-cost operations, relative to in mem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operations, so must be planned careful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9451402B-2A1E-4A37-8745-29286B4F04F9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of Databases (Con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Why not store everything in main memor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Costs too mu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in memory is volatile. We want data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e saved between r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storage hierarch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Main memory (RAM) for currently used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Disk for the main data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Tapes for archiving older versions of the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80D11F79-8B8F-4F12-BE39-B74121F1FB4B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referred secondary storage device for high storage capacity and low co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ata stored as magnetized areas on magnetic disk surfa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ac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contains several magnetic disks connected to a rotating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s are divided into concentric circula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rac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on each disk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surf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rack capacities vary typically from 4 to 50 Kbytes or m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7B380E13-FCD8-491B-BEAF-F98C077D894A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track is divided into small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ecause it usually contains a large amount of inform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vision of a track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cto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is hard-coded on the disk surface and cannot be chang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One type of sector organization calls a portion of a track that subtends a fixed angle at the center as a sect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track is divided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block size B is fixed for each sy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block sizes range from B=512 bytes to B=4096 by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Whole blocks are transferred between disk and main memory for process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10CB37A0-C07D-42B0-AAF0-98EEC4D322ED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7" descr=""/>
          <p:cNvPicPr/>
          <p:nvPr/>
        </p:nvPicPr>
        <p:blipFill>
          <a:blip r:embed="rId1"/>
          <a:stretch/>
        </p:blipFill>
        <p:spPr>
          <a:xfrm>
            <a:off x="0" y="334800"/>
            <a:ext cx="8686800" cy="153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fig13_02"/>
          <p:cNvPicPr/>
          <p:nvPr/>
        </p:nvPicPr>
        <p:blipFill>
          <a:blip r:embed="rId2"/>
          <a:stretch/>
        </p:blipFill>
        <p:spPr>
          <a:xfrm>
            <a:off x="380880" y="2278080"/>
            <a:ext cx="8305920" cy="298296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9968BE9-A73B-443C-9B7C-4B2009483B41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ad-write hea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moves to the track that contains the block to be transfe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sk rotation moves the block under the read-write head for reading or writ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physical disk block (hardware) address consist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 cylinder number (imaginary collection of tracks of same radius from all recorded surfac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track number or surface number (within the cylinde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nd block number (within track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or writing a disk block is time consuming because of the seek time s and rotational delay (latency)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ouble buffering can be used to speed up the transfer of contiguous disk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FC9C62C2-2AF1-4A8F-9AEF-CF45020E0CC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Sara</cp:lastModifiedBy>
  <cp:lastPrinted>2001-11-04T00:51:13Z</cp:lastPrinted>
  <dcterms:modified xsi:type="dcterms:W3CDTF">2017-10-15T17:16:57Z</dcterms:modified>
  <cp:revision>77</cp:revision>
  <dc:subject>Disk Storage, Basic File Structures, and Hashing</dc:subject>
  <dc:title>Chapter 13</dc:title>
</cp:coreProperties>
</file>