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D0446D-73E6-4B2A-BE73-0A3C8EB6D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6DFA19-F1C2-447F-9D3D-808B2230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27001B-FFCB-4F79-AD2F-5FFC4156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23410B-9324-4BA2-AF19-26451943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081F39-8A0F-4610-978C-1A0AB1966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C21726-CB7F-432F-833A-EC49C84FB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7EB4B5-05DF-4295-96D3-16B4C3F0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8E7ABF-6EB0-44C7-8A74-07583810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245A28-A732-452F-A57F-606625FE9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D77B30-8EB2-45E1-BB2E-3A61D90F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EF0D5F-A87B-41FA-9827-FE4FB0414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560A9E-4353-42E3-A5B5-ABBDC723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12FDCB-D508-4364-9D24-FC002173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D06426-3161-4B24-8926-82FA95AA6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AF715A-C380-42A9-AD60-CC00F885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D196F5-E1AA-4D45-9FCE-EC70F14D4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EBD06E-316F-49DA-99FD-1C03908A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2F5F3C-88B0-4A17-8271-B93A26A5C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8FA786-2174-4FFF-9656-DF9425067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0DBB55-DFE0-441F-AEAE-3742969F8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F1774C-2BF3-45B0-A265-D8E24BA9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A45307-6FA5-4DCF-967A-C22942C8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B07AE0-177E-4717-9514-D6F74D6E9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A267FE-1535-4F50-BA89-CF53661D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FCB265-B616-40DF-86A1-7B9539E3E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7F9CFF-C965-4E1F-800C-5F82A07D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88B0F5-69E7-4115-BAF3-897DD1E9B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C0AF7B-8DD3-4F94-9B05-11CB0ACFA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72048D-CA93-4051-BF7E-D42B6A28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097140-CE71-4DC1-A23E-49E909210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5E4C56-DA71-445D-ADD0-B0158765C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4D71B3-5C05-4506-B215-F9179C87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D0F7D5-AF9A-4CF5-B070-10743947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F0DBDD-B688-4643-AFA4-916AB59C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C56334-CDA6-47A2-ABDE-85E7AE81F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BCBA63-58AC-4DC4-8927-EACC99502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0B22F7-48AE-4AE7-867C-2370D32D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1A9031-9D3C-41AB-B934-97BBA953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BD6159-A2D3-48ED-A81E-444599E2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83A412-4B22-452A-8C48-90711531F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0.</a:t>
            </a:r>
            <a:fld id="{C7EEDFD1-6E42-4A70-A24B-48A9A464302F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Lecture 4: 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758960" y="1359000"/>
            <a:ext cx="5946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5440" y="1211040"/>
            <a:ext cx="73436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fixed length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gical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5805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on top of bas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involve creation of an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dex in memory for fast determination of location of data to be operat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oo large, index (in memory) of the index (on 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917720" y="2944800"/>
            <a:ext cx="51102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6960" y="1374480"/>
            <a:ext cx="73706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reeform 19"/>
          <p:cNvSpPr/>
          <p:nvPr/>
        </p:nvSpPr>
        <p:spPr>
          <a:xfrm>
            <a:off x="2538360" y="1962000"/>
            <a:ext cx="4186440" cy="147348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2362320" y="3886200"/>
            <a:ext cx="4262400" cy="160020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990720" y="5638680"/>
            <a:ext cx="760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1840" y="1120680"/>
            <a:ext cx="70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n be subdivided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or partition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agains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containing file system 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olume containing file system also tracks that file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nfo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irect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-purpose file system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cial-purpose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requently all within the same operating system o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508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6" descr="10"/>
          <p:cNvPicPr/>
          <p:nvPr/>
        </p:nvPicPr>
        <p:blipFill>
          <a:blip r:embed="rId1"/>
          <a:stretch/>
        </p:blipFill>
        <p:spPr>
          <a:xfrm>
            <a:off x="1322280" y="1187280"/>
            <a:ext cx="691056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37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6400" y="1091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9000" y="24120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irectory Organiz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00240" y="1626840"/>
            <a:ext cx="64389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00000" y="107964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y is organized logically  to obta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5200" y="1106280"/>
            <a:ext cx="709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ulti-us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s, allowing permissions and protections to be per-user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7240" y="208080"/>
            <a:ext cx="85312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7960" y="1095120"/>
            <a:ext cx="78534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99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ient-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9332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5705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nd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4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8000" y="90360"/>
            <a:ext cx="7864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7 Access-Control List Manag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2" name="Picture 2" descr="11_16.pdf"/>
          <p:cNvPicPr/>
          <p:nvPr/>
        </p:nvPicPr>
        <p:blipFill>
          <a:blip r:embed="rId1"/>
          <a:stretch/>
        </p:blipFill>
        <p:spPr>
          <a:xfrm>
            <a:off x="2841480" y="1120680"/>
            <a:ext cx="3533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 System Implementation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7320" y="213840"/>
            <a:ext cx="804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74880" y="1531800"/>
            <a:ext cx="70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53920" y="110772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syste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s on secondary storage (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user interface to storage, mapping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fficient and convenient access to disk by allowing data to be stored, located retrieved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provides in-place rewrite and 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transfers perform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ually 51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orage structure consisting of information about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physical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organized int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ered 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3252960" y="1203480"/>
            <a:ext cx="247644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8080" y="1108080"/>
            <a:ext cx="74707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I/O devices at the I/O contro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s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drive1, cylinder 72, track 2, sector 10, into memory location 106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s low-level hardware specific commands to hardwar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ic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block 12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lates to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nages memory buffers and caches (allocation, freeing, replace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hold data in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s hold frequently us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organization mo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s files, logical address, and physica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logical block # to physical block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free space, disk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53560" y="1122480"/>
            <a:ext cx="70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metadata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ing useful for reducing complexity and redundancy, but adds overhead and can decrease performance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layers can be implemented by any coding method according to OS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060560"/>
            <a:ext cx="687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file systems, sometimes many within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th its own forma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F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has FAT, FAT32, NTFS as well as floppy, CD, 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has more than 40 types,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nded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 and ext3 leading; plus distributed file system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61920" y="166320"/>
            <a:ext cx="7724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70120" y="1076040"/>
            <a:ext cx="720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ystem calls at the API level, but how do we implement their fun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disk and in-mem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ot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 needed by system to boot OS from that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if volume contains OS, usually first block of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control block (superblock, master file tabl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volum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locks, # of free blocks, block size, free block pointers o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Per-file File Control Block (FC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tains many details ab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61480" y="1120680"/>
            <a:ext cx="7648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defined by file’s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file, source file, executabl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8880" y="198000"/>
            <a:ext cx="7567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69760" y="1153800"/>
            <a:ext cx="70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le names with pointer to th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keep ordered alphabetically via linked list or use B+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near list with hash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4440" y="198000"/>
            <a:ext cx="7731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Contiguou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7640" y="1233360"/>
            <a:ext cx="707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ocation method refers to how disk blocks are allocated fo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iguous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occupies set of contiguou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erformance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only starting location (block #) and length (number of blocks)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 finding space for file, knowing file size, external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304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38448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2655720" y="2129040"/>
            <a:ext cx="1917720" cy="1382400"/>
            <a:chOff x="2655720" y="2129040"/>
            <a:chExt cx="1917720" cy="1382400"/>
          </a:xfrm>
        </p:grpSpPr>
        <p:sp>
          <p:nvSpPr>
            <p:cNvPr id="186" name="Text Box 4"/>
            <p:cNvSpPr/>
            <p:nvPr/>
          </p:nvSpPr>
          <p:spPr>
            <a:xfrm>
              <a:off x="2655720" y="2586240"/>
              <a:ext cx="126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3768480" y="2129040"/>
              <a:ext cx="8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825720" y="3145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 flipV="1">
              <a:off x="3675240" y="2436840"/>
              <a:ext cx="3092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3711600" y="2954520"/>
              <a:ext cx="2728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Rectangle 10"/>
          <p:cNvSpPr/>
          <p:nvPr/>
        </p:nvSpPr>
        <p:spPr>
          <a:xfrm>
            <a:off x="635040" y="3740040"/>
            <a:ext cx="40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lock to be accessed = Q + starting add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isplacement into block =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975200" y="1623960"/>
            <a:ext cx="3576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Link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1060200"/>
            <a:ext cx="726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ed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file a linked list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ends at nil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lock contains pointer to nex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paction,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pace management system called when new bloc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efficiency by clustering blocks into groups but increases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ng a block can take many I/Os and disk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6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– Linke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06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(File Allocation Table)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volume has table, indexed by block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a linked list, but faster on disk and cache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lock alloc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1120" y="21384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2576520" y="1308240"/>
            <a:ext cx="4543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8640" y="213840"/>
            <a:ext cx="7597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Allocation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870200" y="1233360"/>
            <a:ext cx="54813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Index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its ow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of pointers to its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95720" y="2843280"/>
            <a:ext cx="2286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Picture 4" descr="11"/>
          <p:cNvPicPr/>
          <p:nvPr/>
        </p:nvPicPr>
        <p:blipFill>
          <a:blip r:embed="rId1"/>
          <a:stretch/>
        </p:blipFill>
        <p:spPr>
          <a:xfrm>
            <a:off x="2224080" y="1230480"/>
            <a:ext cx="49672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70120" y="1137960"/>
            <a:ext cx="715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method depends on file acces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great for sequential and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good for sequential, not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ccess type at creation -&gt; select either contiguous or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lock access could require 2 index block reads then data block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can help improve throughput, reduce CPU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4840" y="1091880"/>
            <a:ext cx="759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077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sistency check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ares data in directory structure with data blocks on disk, and tries to fix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low and sometimes fai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ystem programs 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disk to another storage device (magnetic tape, other magnetic disk, optic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lost file or disk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tor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7920" y="22968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 Structured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56800" y="1058400"/>
            <a:ext cx="7356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 structur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urna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le systems record each metadata update to the file system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are written to a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considered committed once it is written to the log (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s in the log are asynchronously written to the file system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file system structures are modified, the transaction is removed from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system crashes, all remaining transactions in the log must still b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covery from crash, removes chance of inconsistency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0784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Mass-Storage System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3800" y="16776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verview of Mass Storag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5080" y="1096920"/>
            <a:ext cx="799632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gnetic disk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ulk of secondary storage of moder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rotate at 60 to 250 tim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fer rat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ate at which data flow between drive and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ositioning tim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ndom-acces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ime to move disk arm to desired cylinder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time for desired sector to rotate under the disk head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tational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ead crash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disk head making contact with the disk surface  -- 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can be remo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ttached to computer vi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8480" y="182160"/>
            <a:ext cx="7527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ving-head Disk Mechanis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1" descr="10_01.pdf"/>
          <p:cNvPicPr/>
          <p:nvPr/>
        </p:nvPicPr>
        <p:blipFill>
          <a:blip r:embed="rId1"/>
          <a:stretch/>
        </p:blipFill>
        <p:spPr>
          <a:xfrm>
            <a:off x="2252520" y="1200240"/>
            <a:ext cx="5158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id-State Dis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60400" y="1110960"/>
            <a:ext cx="719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volatile memory used like a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y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more reliable than H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pensive per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have shorter life s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uch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ses can be too slow -&gt; connect directly to PCI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parts, so no seek time or rotational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819520" y="4730760"/>
            <a:ext cx="37051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9040" y="126720"/>
            <a:ext cx="7637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gnetic Tap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47800" y="1096560"/>
            <a:ext cx="6999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early secondary-storag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permanent and holds large quantitie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im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~1000 times slower tha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used for backup, storage of infrequently-used data, transfer medium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data under head, transfer rates comparable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MB/sec and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GB to 1.5TB typi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346720" y="4346640"/>
            <a:ext cx="3521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88480" y="1123920"/>
            <a:ext cx="6945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responsible for using hardware efficiently — for the disk drives, this means having a fast access time and disk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see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k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ndwidth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total number of bytes transferred, divided by the total time between the first request for service and the completion of the las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1360" y="140760"/>
            <a:ext cx="79754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8480" y="1023840"/>
            <a:ext cx="7394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sources of disk I/O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request includes input or output mode, disk address, memory address, number of sectors to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maintains queue of requests, per disk or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disk can immediately work on I/O request, busy disk means work must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rive controllers have small buffers and can manage a queue of I/O requ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algorithms exist to schedule the servicing of disk I/O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RAID?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s for Redundant Array of Independent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technology that enables greater levels of performance, reliability and/or large volumes when dealing with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?? By concurrent use of two or more ‘hard disk drive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xactly?? Mirroring, Stripping (of data) and Error correction techniques combined with multiple disk arrays give you the reliability and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info Window on 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Picture 4" descr="11_01.pdf"/>
          <p:cNvPicPr/>
          <p:nvPr/>
        </p:nvPicPr>
        <p:blipFill>
          <a:blip r:embed="rId1"/>
          <a:stretch/>
        </p:blipFill>
        <p:spPr>
          <a:xfrm>
            <a:off x="3637080" y="1041480"/>
            <a:ext cx="192060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flavo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used 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1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types used…but rarely: RAID 2,3,4,6,50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0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splits data among two or more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good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data redundancy means there is no fail over support with this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diagram to the right, the odd blocks are written to disk 0 and the even blocks to disk 1 such that A1, A2, A3, A4, … would be the order of blocks read if read sequentially from the begi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6680160" y="1263600"/>
            <a:ext cx="2301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312480"/>
            <a:ext cx="79246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1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1 is ‘data mirroring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pies of the data are held on two physical disks, and the data is always iden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ce as many disks are required to store the same data when compared to RAID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42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74600"/>
            <a:ext cx="79246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5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88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5 is an ideal combination of good performance, good fault tolerance and high capacity and storage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 arrangement of parity and CRC to help rebuilding drive data in case of disk fail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791320" y="1996920"/>
            <a:ext cx="32004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11000" y="20160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1+0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8006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s RAID 1 and RAID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means having the pleasure of both - good performance and good failover hand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called ‘Nested RAI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5616720" y="1276200"/>
            <a:ext cx="3124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arch the directory structure on disk for ent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the content of e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5200" y="1120680"/>
            <a:ext cx="680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pen-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cks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-open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6040" y="1106280"/>
            <a:ext cx="7142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eader-writer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ilar to reader lock – several processes can acquir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lusive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writer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8320" y="165240"/>
            <a:ext cx="781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498760" y="1209600"/>
            <a:ext cx="4336920" cy="463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USER</cp:lastModifiedBy>
  <dcterms:modified xsi:type="dcterms:W3CDTF">2017-10-17T17:39:46Z</dcterms:modified>
  <cp:revision>129</cp:revision>
  <dc:subject/>
  <dc:title>1.01</dc:title>
</cp:coreProperties>
</file>