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wmf" ContentType="image/x-wmf"/>
  <Override PartName="/ppt/media/image4.jpeg" ContentType="image/jpeg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CE8BD3E-397C-4191-96BA-DB9490178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2C1C40B-14EB-4840-BDD2-C0C2E63BC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2CB64EE-72AF-45E4-83E2-0E40FCCB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5EE720-E682-483D-8A2C-AD15BF230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792B82-A1FF-48C9-9F35-5556CC92F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55210D4-566C-44A8-8587-5EE7C1A2A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112B23-0C00-40C8-AC98-EFF90E20F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D629D0-7E43-4BAE-B2B5-CE3B21222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FE4E2C5-677F-4E77-BB75-E2BD42D54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251DB1E-2C34-4E44-98C1-3797E9276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CF67E5-0379-45E5-A366-D09033353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E74D5C8-B4CB-4D89-AD57-D09900BE5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58B844-90A6-4642-8980-BAC20ACB2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148DABA-D440-46CB-B39C-A18D6732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D44E7E-8F36-4BC9-8A29-A794343F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FE96512-9F71-4608-A322-C67E44F76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8AEB49-49A8-4F12-9F3C-1A3231D5F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BE11A1-CC0C-43F7-8C03-61F063434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922B81F-FA84-47A3-B1AF-2301F3E4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0DD0BBD-1855-4E1A-9DEF-9836DEA1F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FBC2191-49C2-4A76-B168-AAE9745F5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3EE7189-8CBD-4784-A9EF-E7336783B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35304C3-EF9D-4F17-A238-A3D98C9DB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799C3A-B4D3-432D-A372-8DCEF4354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FA4A89-6EAA-444E-A8A1-B22AC334B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7AB96D4-A5E6-499D-B2D8-12CC5F96C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9B9E1A5-6F39-414D-A158-41D78BC69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C4E859D-39BE-4BB1-BF1C-62B0952C3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933002-F932-4E1C-9580-1322DC3C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E441084-CEE5-47AD-ABDB-47D294E90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B49B365-4A2D-4D10-A88B-1ABC161FE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26D323C-6AF5-4675-B850-57235EFC0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4601D10-C14C-4191-B75F-99C357255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135CDCE-9198-4550-90BE-ECF957579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FDA4F1-BD44-4DEB-B109-CEFD1BBF4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0DF847-6769-4360-9847-4566F039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D5CE34-FD35-4559-8FB2-7D0FAB9F8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8E2BFE4-B0DD-4A29-BA5B-6C281947A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963D04-2715-43E9-8DE7-7A350EF87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09164D-5BEE-433E-B1EC-01BCFDB7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9840" y="4409640"/>
            <a:ext cx="55990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99636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10.</a:t>
            </a:r>
            <a:fld id="{F3A06544-BE9D-44C9-A9C6-36C6239F2888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1652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1396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Lecture 4:  </a:t>
            </a:r>
            <a:br>
              <a:rPr sz="4300"/>
            </a:b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758960" y="1359000"/>
            <a:ext cx="59468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5440" y="1211040"/>
            <a:ext cx="73436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fixed length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logical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osition to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write </a:t>
            </a:r>
            <a:r>
              <a:rPr b="1" i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ther Access Method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58052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built on top of base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involve creation of an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d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dex in memory for fast determination of location of data to be operated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oo large, index (in memory) of the index (on dis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917720" y="2944800"/>
            <a:ext cx="51102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6960" y="1374480"/>
            <a:ext cx="737064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reeform 19"/>
          <p:cNvSpPr/>
          <p:nvPr/>
        </p:nvSpPr>
        <p:spPr>
          <a:xfrm>
            <a:off x="2538360" y="1962000"/>
            <a:ext cx="4186440" cy="1473480"/>
          </a:xfrm>
          <a:custGeom>
            <a:avLst/>
            <a:gdLst>
              <a:gd name="textAreaLeft" fmla="*/ 0 w 4186440"/>
              <a:gd name="textAreaRight" fmla="*/ 4186800 w 4186440"/>
              <a:gd name="textAreaTop" fmla="*/ 0 h 1473480"/>
              <a:gd name="textAreaBottom" fmla="*/ 1473840 h 147348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Freeform 20"/>
          <p:cNvSpPr/>
          <p:nvPr/>
        </p:nvSpPr>
        <p:spPr>
          <a:xfrm>
            <a:off x="2362320" y="3886200"/>
            <a:ext cx="4262400" cy="160020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1600200"/>
              <a:gd name="textAreaBottom" fmla="*/ 1600560 h 1600200"/>
            </a:gdLst>
            <a:ahLst/>
            <a:rect l="textAreaLeft" t="textAreaTop" r="textAreaRight" b="textAreaBottom"/>
            <a:pathLst>
              <a:path w="2637" h="928">
                <a:moveTo>
                  <a:pt x="10" y="328"/>
                </a:moveTo>
                <a:cubicBezTo>
                  <a:pt x="14" y="291"/>
                  <a:pt x="6" y="248"/>
                  <a:pt x="28" y="219"/>
                </a:cubicBezTo>
                <a:cubicBezTo>
                  <a:pt x="124" y="92"/>
                  <a:pt x="264" y="66"/>
                  <a:pt x="410" y="37"/>
                </a:cubicBezTo>
                <a:cubicBezTo>
                  <a:pt x="516" y="16"/>
                  <a:pt x="457" y="14"/>
                  <a:pt x="583" y="10"/>
                </a:cubicBezTo>
                <a:cubicBezTo>
                  <a:pt x="728" y="5"/>
                  <a:pt x="874" y="3"/>
                  <a:pt x="1019" y="0"/>
                </a:cubicBezTo>
                <a:cubicBezTo>
                  <a:pt x="1146" y="3"/>
                  <a:pt x="1274" y="3"/>
                  <a:pt x="1401" y="10"/>
                </a:cubicBezTo>
                <a:cubicBezTo>
                  <a:pt x="1485" y="15"/>
                  <a:pt x="1571" y="41"/>
                  <a:pt x="1655" y="55"/>
                </a:cubicBezTo>
                <a:cubicBezTo>
                  <a:pt x="1733" y="86"/>
                  <a:pt x="1819" y="108"/>
                  <a:pt x="1901" y="128"/>
                </a:cubicBezTo>
                <a:cubicBezTo>
                  <a:pt x="1942" y="148"/>
                  <a:pt x="1975" y="152"/>
                  <a:pt x="2019" y="164"/>
                </a:cubicBezTo>
                <a:cubicBezTo>
                  <a:pt x="2098" y="185"/>
                  <a:pt x="2162" y="200"/>
                  <a:pt x="2246" y="210"/>
                </a:cubicBezTo>
                <a:cubicBezTo>
                  <a:pt x="2293" y="226"/>
                  <a:pt x="2338" y="230"/>
                  <a:pt x="2382" y="255"/>
                </a:cubicBezTo>
                <a:cubicBezTo>
                  <a:pt x="2439" y="287"/>
                  <a:pt x="2477" y="343"/>
                  <a:pt x="2519" y="391"/>
                </a:cubicBezTo>
                <a:cubicBezTo>
                  <a:pt x="2536" y="410"/>
                  <a:pt x="2562" y="423"/>
                  <a:pt x="2573" y="446"/>
                </a:cubicBezTo>
                <a:cubicBezTo>
                  <a:pt x="2594" y="488"/>
                  <a:pt x="2606" y="529"/>
                  <a:pt x="2619" y="573"/>
                </a:cubicBezTo>
                <a:cubicBezTo>
                  <a:pt x="2624" y="591"/>
                  <a:pt x="2637" y="628"/>
                  <a:pt x="2637" y="628"/>
                </a:cubicBezTo>
                <a:cubicBezTo>
                  <a:pt x="2634" y="654"/>
                  <a:pt x="2634" y="707"/>
                  <a:pt x="2619" y="737"/>
                </a:cubicBezTo>
                <a:cubicBezTo>
                  <a:pt x="2582" y="812"/>
                  <a:pt x="2477" y="854"/>
                  <a:pt x="2401" y="873"/>
                </a:cubicBezTo>
                <a:cubicBezTo>
                  <a:pt x="2341" y="911"/>
                  <a:pt x="2270" y="909"/>
                  <a:pt x="2201" y="919"/>
                </a:cubicBezTo>
                <a:cubicBezTo>
                  <a:pt x="1832" y="915"/>
                  <a:pt x="1500" y="928"/>
                  <a:pt x="1146" y="873"/>
                </a:cubicBezTo>
                <a:cubicBezTo>
                  <a:pt x="917" y="837"/>
                  <a:pt x="702" y="728"/>
                  <a:pt x="474" y="700"/>
                </a:cubicBezTo>
                <a:cubicBezTo>
                  <a:pt x="465" y="697"/>
                  <a:pt x="455" y="695"/>
                  <a:pt x="446" y="691"/>
                </a:cubicBezTo>
                <a:cubicBezTo>
                  <a:pt x="434" y="686"/>
                  <a:pt x="423" y="677"/>
                  <a:pt x="410" y="673"/>
                </a:cubicBezTo>
                <a:cubicBezTo>
                  <a:pt x="297" y="636"/>
                  <a:pt x="185" y="632"/>
                  <a:pt x="83" y="564"/>
                </a:cubicBezTo>
                <a:cubicBezTo>
                  <a:pt x="47" y="512"/>
                  <a:pt x="45" y="458"/>
                  <a:pt x="28" y="400"/>
                </a:cubicBezTo>
                <a:cubicBezTo>
                  <a:pt x="28" y="400"/>
                  <a:pt x="5" y="332"/>
                  <a:pt x="1" y="319"/>
                </a:cubicBezTo>
                <a:cubicBezTo>
                  <a:pt x="0" y="315"/>
                  <a:pt x="7" y="325"/>
                  <a:pt x="10" y="3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990720" y="5638680"/>
            <a:ext cx="7602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61840" y="1120680"/>
            <a:ext cx="7043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n be subdivided in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art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or partitions can be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agains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containing file system 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volume containing file system also tracks that file syste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nfo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irectory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table of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well 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eneral-purpose file system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pecial-purpose file syste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requently all within the same operating system or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508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9" name="Picture 6" descr="10"/>
          <p:cNvPicPr/>
          <p:nvPr/>
        </p:nvPicPr>
        <p:blipFill>
          <a:blip r:embed="rId1"/>
          <a:stretch/>
        </p:blipFill>
        <p:spPr>
          <a:xfrm>
            <a:off x="1322280" y="1187280"/>
            <a:ext cx="6910560" cy="36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23760" y="150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6400" y="10918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9000" y="24120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Directory Organization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00240" y="1626840"/>
            <a:ext cx="643896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900000" y="1079640"/>
            <a:ext cx="718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y is organized logically  to obtai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5200" y="1106280"/>
            <a:ext cx="709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ulti-us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ser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users, allowing permissions and protections to be per-user</a:t>
            </a:r>
            <a:br>
              <a:rPr sz="1800"/>
            </a:b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Group I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of a file /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7240" y="208080"/>
            <a:ext cx="85312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67960" y="1095120"/>
            <a:ext cx="7853400" cy="52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99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lient-serv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8400" y="193320"/>
            <a:ext cx="7929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nterfa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5705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nd 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5880" y="1091880"/>
            <a:ext cx="7451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78000" y="90360"/>
            <a:ext cx="78645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Windows 7 Access-Control List Management</a:t>
            </a:r>
            <a:endParaRPr b="1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2" name="Picture 2" descr="11_16.pdf"/>
          <p:cNvPicPr/>
          <p:nvPr/>
        </p:nvPicPr>
        <p:blipFill>
          <a:blip r:embed="rId1"/>
          <a:stretch/>
        </p:blipFill>
        <p:spPr>
          <a:xfrm>
            <a:off x="2841480" y="1120680"/>
            <a:ext cx="353376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File System Implementation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7320" y="213840"/>
            <a:ext cx="80470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974880" y="1531800"/>
            <a:ext cx="70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23760" y="198000"/>
            <a:ext cx="77630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53920" y="1107720"/>
            <a:ext cx="731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system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s on secondary storage (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user interface to storage, mapping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efficient and convenient access to disk by allowing data to be stored, located retrieved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provides in-place rewrite and 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transfers performed i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c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ually 51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orage structure consisting of information about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the physical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organized int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ered File Syste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3252960" y="1203480"/>
            <a:ext cx="247644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38080" y="1108080"/>
            <a:ext cx="74707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vice driv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 I/O devices at the I/O contro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s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drive1, cylinder 72, track 2, sector 10, into memory location 106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s low-level hardware specific commands to hardwar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sic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command like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block 123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lates to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manages memory buffers and caches (allocation, freeing, replace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hold data in trans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s hold frequently us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 organization modu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s files, logical address, and physica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logical block # to physical block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free space, disk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3412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53560" y="1122480"/>
            <a:ext cx="7029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ical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metadata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ing useful for reducing complexity and redundancy, but adds overhead and can decrease performanceTranslates file name into file number, file handle, location by maintaining file control blocks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o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layers can be implemented by any coding method according to OS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System Layer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060560"/>
            <a:ext cx="6870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file systems, sometimes many within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with its own forma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as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U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FFS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has FAT, FAT32, NTFS as well as floppy, CD, DV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has more than 40 types, with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tended file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 and ext3 leading; plus distributed file systems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61920" y="166320"/>
            <a:ext cx="7724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System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70120" y="1076040"/>
            <a:ext cx="720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system calls at the API level, but how do we implement their func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-disk and in-mem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oot control block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info needed by system to boot OS from that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ed if volume contains OS, usually first block of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Volume control block (superblock, master file table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volume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locks, # of free blocks, block size, free block pointers or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MS PGothic"/>
              </a:rPr>
              <a:t>Per-file File Control Block (FCB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contains many details ab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93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61480" y="1120680"/>
            <a:ext cx="76489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nts defined by file’s cre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ext file, source file, executabl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18880" y="198000"/>
            <a:ext cx="75675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69760" y="1153800"/>
            <a:ext cx="704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le names with pointer to th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keep ordered alphabetically via linked list or use B+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near list with hash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4440" y="198000"/>
            <a:ext cx="7731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Contiguou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7640" y="1233360"/>
            <a:ext cx="707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ocation method refers to how disk blocks are allocated fo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tiguous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occupies set of contiguous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performance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only starting location (block #) and length (number of blocks)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 finding space for file, knowing file size, external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304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6400" y="1233000"/>
            <a:ext cx="384480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1"/>
          <p:cNvGrpSpPr/>
          <p:nvPr/>
        </p:nvGrpSpPr>
        <p:grpSpPr>
          <a:xfrm>
            <a:off x="2655720" y="2129040"/>
            <a:ext cx="1917720" cy="1382400"/>
            <a:chOff x="2655720" y="2129040"/>
            <a:chExt cx="1917720" cy="1382400"/>
          </a:xfrm>
        </p:grpSpPr>
        <p:sp>
          <p:nvSpPr>
            <p:cNvPr id="186" name="Text Box 4"/>
            <p:cNvSpPr/>
            <p:nvPr/>
          </p:nvSpPr>
          <p:spPr>
            <a:xfrm>
              <a:off x="2655720" y="2586240"/>
              <a:ext cx="1265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/51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3768480" y="2129040"/>
              <a:ext cx="804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3825720" y="3145320"/>
              <a:ext cx="635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Line 7"/>
            <p:cNvSpPr/>
            <p:nvPr/>
          </p:nvSpPr>
          <p:spPr>
            <a:xfrm flipV="1">
              <a:off x="3675240" y="2436840"/>
              <a:ext cx="30924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Line 8"/>
            <p:cNvSpPr/>
            <p:nvPr/>
          </p:nvSpPr>
          <p:spPr>
            <a:xfrm>
              <a:off x="3711600" y="2954520"/>
              <a:ext cx="27288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Rectangle 10"/>
          <p:cNvSpPr/>
          <p:nvPr/>
        </p:nvSpPr>
        <p:spPr>
          <a:xfrm>
            <a:off x="635040" y="3740040"/>
            <a:ext cx="404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Block to be accessed = Q + starting addr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isplacement into block = 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975200" y="1623960"/>
            <a:ext cx="3576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Link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8080" y="1060200"/>
            <a:ext cx="7266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inked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each file a linked list of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ends at nil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block contains pointer to next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ompaction, ex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space management system called when new block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efficiency by clustering blocks into groups but increases 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ng a block can take many I/Os and disk s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608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– Linked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0602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 (File Allocation Table)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ning of volume has table, indexed by block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like a linked list, but faster on disk and cache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block allocatio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1120" y="213840"/>
            <a:ext cx="76453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2576520" y="1308240"/>
            <a:ext cx="4543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88640" y="213840"/>
            <a:ext cx="7597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-Allocation Tabl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1870200" y="1233360"/>
            <a:ext cx="548136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llocation Methods - Indexed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its own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ndex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) of pointers to its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195720" y="2843280"/>
            <a:ext cx="2286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Example of Indexed Allocat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5" name="Picture 4" descr="11"/>
          <p:cNvPicPr/>
          <p:nvPr/>
        </p:nvPicPr>
        <p:blipFill>
          <a:blip r:embed="rId1"/>
          <a:stretch/>
        </p:blipFill>
        <p:spPr>
          <a:xfrm>
            <a:off x="2224080" y="1230480"/>
            <a:ext cx="49672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70120" y="1137960"/>
            <a:ext cx="7154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method depends on file acces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great for sequential and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good for sequential, not 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 access type at creation -&gt; select either contiguous or lin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ed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block access could require 2 index block reads then data block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ing can help improve throughput, reduce CPU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80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4840" y="1091880"/>
            <a:ext cx="7591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077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Consistency check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compares data in directory structure with data blocks on disk, and tries to fix inconsist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slow and sometimes fai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ystem programs to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disk to another storage device (magnetic tape, other magnetic disk, optic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lost file or disk b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storing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7920" y="229680"/>
            <a:ext cx="75088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og Structured File System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56800" y="1058400"/>
            <a:ext cx="735660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g structured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journa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ile systems record each metadata update to the file system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are written to a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considered committed once it is written to the log (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s in the log are asynchronously written to the file system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file system structures are modified, the transaction is removed from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system crashes, all remaining transactions in the log must still b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covery from crash, removes chance of inconsistency of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807840"/>
            <a:ext cx="7772400" cy="21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Mass-Storage System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3800" y="167760"/>
            <a:ext cx="768348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verview of Mass Storage Structur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65080" y="1096920"/>
            <a:ext cx="7996320" cy="52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Magnetic disks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ulk of secondary storage of moder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rotate at 60 to 250 time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Transfer rat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rate at which data flow between drive and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Positioning time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andom-acces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time to move disk arm to desired cylinder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time for desired sector to rotate under the disk head (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otational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Head crash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from disk head making contact with the disk surface  -- 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b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s can be remov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 attached to computer vi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/O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8480" y="182160"/>
            <a:ext cx="7527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oving-head Disk Mechanism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6" name="Picture 1" descr="10_01.pdf"/>
          <p:cNvPicPr/>
          <p:nvPr/>
        </p:nvPicPr>
        <p:blipFill>
          <a:blip r:embed="rId1"/>
          <a:stretch/>
        </p:blipFill>
        <p:spPr>
          <a:xfrm>
            <a:off x="2252520" y="1200240"/>
            <a:ext cx="51580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94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olid-State Disk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60400" y="1110960"/>
            <a:ext cx="7191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volatile memory used like a hard d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technology var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more reliable than HD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expensive per 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be have shorter life s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uch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ses can be too slow -&gt; connect directly to PCI 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oving parts, so no seek time or rotational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2819520" y="4730760"/>
            <a:ext cx="370512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9040" y="126720"/>
            <a:ext cx="7637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gnetic Tap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47800" y="1096560"/>
            <a:ext cx="6999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early secondary-storag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ly permanent and holds large quantitie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ime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~1000 times slower tha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used for backup, storage of infrequently-used data, transfer medium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data under head, transfer rates comparable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0MB/sec and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GB to 1.5TB typic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5346720" y="4346640"/>
            <a:ext cx="35211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chedul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88480" y="1123920"/>
            <a:ext cx="694548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responsible for using hardware efficiently — for the disk drives, this means having a fast access time and disk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see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k tim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ek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bandwidth</a:t>
            </a: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total number of bytes transferred, divided by the total time between the first request for service and the completion of the last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11360" y="140760"/>
            <a:ext cx="79754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Disk Scheduling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88480" y="1023840"/>
            <a:ext cx="73947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sources of disk I/O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request includes input or output mode, disk address, memory address, number of sectors to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maintains queue of requests, per disk or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disk can immediately work on I/O request, busy disk means work must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rive controllers have small buffers and can manage a queue of I/O requ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algorithms exist to schedule the servicing of disk I/O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hat is RAID?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s for Redundant Array of Independent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’s a technology that enables greater levels of performance, reliability and/or large volumes when dealing with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?? By concurrent use of two or more ‘hard disk drives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Exactly?? Mirroring, Stripping (of data) and Error correction techniques combined with multiple disk arrays give you the reliability and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34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info Window on 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Picture 4" descr="11_01.pdf"/>
          <p:cNvPicPr/>
          <p:nvPr/>
        </p:nvPicPr>
        <p:blipFill>
          <a:blip r:embed="rId1"/>
          <a:stretch/>
        </p:blipFill>
        <p:spPr>
          <a:xfrm>
            <a:off x="3637080" y="1041480"/>
            <a:ext cx="192060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flavor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monly used 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1+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types used…but rarely: RAID 2,3,4,6,50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88"/>
              </a:spcBef>
              <a:buClr>
                <a:srgbClr val="ffffff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5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0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splits data among two or more di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good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ack of data redundancy means there is no fail over support with this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diagram to the right, the odd blocks are written to disk 0 and the even blocks to disk 1 such that A1, A2, A3, A4, … would be the order of blocks read if read sequentially from the begi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6680160" y="1263600"/>
            <a:ext cx="2301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312480"/>
            <a:ext cx="792468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1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5181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D1 is ‘data mirroring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copies of the data are held on two physical disks, and the data is always iden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9933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ice as many disks are required to store the same data when compared to RAID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42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74600"/>
            <a:ext cx="792468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5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88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ID 5 is an ideal combination of good performance, good fault tolerance and high capacity and storage efficien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 arrangement of parity and CRC to help rebuilding drive data in case of disk fail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5791320" y="1996920"/>
            <a:ext cx="32004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11000" y="201600"/>
            <a:ext cx="79246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AID 1+0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480060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bines RAID 1 and RAID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means having the pleasure of both - good performance and good failover hand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88"/>
              </a:spcBef>
              <a:buClr>
                <a:srgbClr val="99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so called ‘Nested RAI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5616720" y="1276200"/>
            <a:ext cx="31240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6524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8880" y="1106280"/>
            <a:ext cx="67755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write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read point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 -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earch the directory structure on disk for ent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ove the content of e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5200" y="1120680"/>
            <a:ext cx="6804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Open-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tracks ope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ile-open cou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8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06040" y="1106280"/>
            <a:ext cx="7142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eader-writer 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milar to reader lock – several processes can acquir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Exclusive 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writer 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8320" y="165240"/>
            <a:ext cx="781848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498760" y="1209600"/>
            <a:ext cx="4336920" cy="4632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>Lucent End User</dc:creator>
  <dc:description/>
  <dc:language>en-US</dc:language>
  <cp:lastModifiedBy>USER</cp:lastModifiedBy>
  <dcterms:modified xsi:type="dcterms:W3CDTF">2017-10-17T17:39:46Z</dcterms:modified>
  <cp:revision>129</cp:revision>
  <dc:subject/>
  <dc:title>1.01</dc:title>
</cp:coreProperties>
</file>