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514A-E082-4374-AD04-07EE16973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2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789B-83FA-409C-9274-49CD44CF4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096C-9207-4D42-98F3-7FDA522B4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9FB9-C8C3-430E-BCCA-7A3916B64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5F6B-E653-4FD7-9174-1825BFF1F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9C0E-E139-4595-B862-B6B36FBC9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97B3-1E96-49D1-983B-CD65C46A3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AF19-1700-4BAF-86D9-64334A139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1ECE-3CCD-421D-95DB-D11A1FA61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82F3-510F-4533-8C93-CA0520C6F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E109-1611-4A05-ADEC-D28D0425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57E8-C8B1-4EC8-A059-353D84F05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9837-169D-4732-8106-AE985A054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2FC4-C283-456E-B556-F2DAD60B8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9575-A0C7-4BC9-B609-A7C7D8C7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8F43-5DA7-488C-BA6D-C327EED06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F0FF-5D1D-440A-96C7-5D073AC35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486F-A6DC-4EDB-8D81-3BCF2C12D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5E3EB-5822-45A1-8607-96DB9206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953EC-9069-42D1-8226-55FED86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2EBC1-F824-4313-B376-66B97491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A68FB-94A8-4996-8BE1-4FC7458F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8914-088B-4D1D-916B-7E7337CF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FA10-691F-4085-A21A-45E4B5CC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2865-3410-4C0D-822F-89BBBB4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2D3B9-0609-4837-9CF4-55B84CB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EFDC0-95B8-4241-9B6C-F28C2542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9828B-4E3D-4C3F-A73B-C611C39A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16D8D-DD86-49D0-8FCC-B8972A8C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92210-8F5D-4121-A86C-DBCDA8AA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15414-F63B-4627-94BD-9DB3A235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601D0-BE41-4FEF-BE60-567E3695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4D8BB-ECA0-49EA-8FB9-4849CBCE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881C8-8CC4-419E-A188-AFDA4ECD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C6294-DD73-4C14-AE0F-57DCA17F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663D9-8997-4267-B9B5-D2A36BE4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D71BE-A194-4F3B-B3BB-CA884182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6FBC-054C-4A7B-B84D-8FFFBFB3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3CB5F-37C9-43D4-9680-F86921A8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A6B-2569-44C3-B594-A858FDBB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CE935-E441-41F7-8AA1-119FCDD8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70F74-6A0D-4619-A293-DED4536B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320EE-B99B-41E7-B6FE-BDE2A1E4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A8034-7EBB-4818-8A10-E5B192D3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B6868-5451-4978-822E-D0F379E9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474F2-2DDA-4898-B6F8-87415CA7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98298-E277-4795-8998-A73A7831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2182-897D-47BB-8749-711D3B1F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FE911-7E31-4739-A84C-E8C5302A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EED62-3617-4794-B116-A325F51A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447-D854-447D-8AD5-840D37B9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8EA16-583C-4E2A-BCD2-8C94A6C9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3BA67-3A00-4D76-BAC4-6861130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6CA20-9AB8-46A8-B263-F3961F31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6C078-BAB0-4497-A2BB-F44B30EA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DF198-D538-43D2-A479-C62A597F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AD8A4-D1A3-4907-A800-44C9BB49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34F34-519C-423A-90BA-92258E76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6BFEF-EC83-4FEB-8421-8311724A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AE232-D10D-418A-A0CD-6B4CCC3B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37071-38C9-496A-A253-C986975F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B51-F3DA-4DA8-8BBA-04C8D88E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E4ABE-FA64-489E-8560-A0838E56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B37FD-1A78-4BCB-A45E-99CAFC36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02CA6-9541-4999-90F2-EA2C5FA9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B1B6-80BD-408C-A158-939E1732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095D8-3567-4D82-9B90-88323970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BE760-8D66-4BCB-8DED-BD62A00C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ECD05-5F53-4B7A-96BA-3D255445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63775-79B6-4041-B5FA-C6ADACD5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0656A-A2B3-4D57-A5E3-63E917A4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11070-84FC-42EF-BE38-F0CE73C8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B8E-A456-4629-AA5C-4B88C605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BBD8C-6350-49A9-B3F6-68633D7D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3C67F-469E-4CD1-BEDB-16D018DF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7A933-E3CE-454C-9976-7F3C788C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11624-2834-4C07-97B2-A1E454E9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945DE-B64B-4F31-B64B-998B412C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7C0B7-0ABA-460F-A3D1-80469B79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D11C0-8531-414F-BCDF-8DE374AD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06E03-A0DC-44B2-B262-7F579FDD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D2D85-28BC-4312-B624-4D127F96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0C90F-8BFA-4608-8790-DCEDDAFF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4C5-D900-4D7B-B726-34121442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3D885-6F87-4036-BB34-1AF939BE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71BA9-4D64-47CE-8062-69852405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4340B-E72E-4923-B2FD-DB9169FC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7CC8C-D3F3-49F0-A89C-78DD89EB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FAF5B-7881-40FD-A24B-BA3682EF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44126-580A-4137-9A08-E802260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6F8CF-16A9-4A1C-BA64-92B48236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71287-1AC7-4F5E-A9F4-8C3D36B8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724CF-47ED-4E75-BE91-AD8A39ED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C0484-69CB-419F-A59A-6388724B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5B9-46F7-4C54-82CE-B5168792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E549B-2E7D-4BD2-9BE8-5342E5BA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ADA8F-BFF1-45DE-A1FF-15735342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8A38D-E653-4FE7-A9CC-678963FB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58410-F841-4C04-965C-EB7AFE37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E88B7-05C3-45D7-915C-77C85EAB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CC6F2-A330-4CC9-8303-44888A1D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F69DF-DBA0-4632-B0D6-3CE127AA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C7745-D9A8-4F3A-8FF4-2D6AE4E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24A16-8509-4A83-BA37-912407B9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BEA58-E554-49BB-AC8D-D751519F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3FE-D82E-4FD9-86B4-B9FC2BC9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1E4B2-5588-4F72-B1C9-10F07D4C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ED8FA-5BCC-4304-930B-86C4833B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5FDBF-C9C6-40B1-A9DA-30FB06F0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8F410-E2C3-4700-ADA5-003DD10F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15D33-F574-4F1A-862E-B42F1481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3CB1D-2A3D-4CCE-9CA8-8E678461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37207-57CF-4B03-824F-7BDE8561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6272B-5E20-46E5-9CA8-C6ABC7B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3D555-C4B7-48EF-B301-E273B466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31D47-C774-4B5C-B1A2-B4262632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052-6C55-4D4E-9A7B-4EF06FB2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67AD8-CBE8-420D-976F-CFBB312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0AFBA-D582-428D-B456-253C115C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24481-DD67-4796-A535-35EAFA3B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607AE-5278-411D-9960-97600346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53E6B-B41F-4C79-B1EF-C1F10ED3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00DBF-5D00-4E3B-B2D8-99DC7FE6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F6067-68B7-4A24-BE9B-F168E952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FB8FF-4C47-44B4-84A8-0A02B30D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70463-9D1A-4C70-89A7-33F99789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CC690-E8D4-4185-9171-B34BF3FE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2C4-F3B2-4712-B79C-99B9C33E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B02E8-29BF-4148-AECF-767626CF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5CE21-B7F6-4933-B3FB-379805D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89E21-CB4B-42C3-ACE9-12E42651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1AF1A-8F11-4622-B586-45A82361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1A164-5681-4E11-A40A-0BBF2AA5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A298F-772F-4510-B93C-31ECB3F5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29F8F-A592-4088-AED0-87B8E72F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F6FA1-CE84-4B57-9F03-3D538109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FBF8D-232C-48FC-89EE-88E077AB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2FCAA-CE87-4FB7-A1BA-B04ADCAD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4C2-1287-49C4-8229-99DB43F4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9D4C9-24F8-4A2E-BAFB-58FC0245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0AA85-20E3-408A-9A34-5F93516B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EB155-7FE4-4566-A4A8-E5310433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DA1E7-2F99-453D-BC29-EA7FC0F0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AD978-2A93-4FDA-A833-CFF310D2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ED07A-ED2A-42B7-931B-F190F5F1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B08BE-D51F-4501-B452-2C499189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45384-4336-4D0A-81AC-EB45CB6F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2F731-853B-4BF9-A6FD-CCCA9DDE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29E47-985A-4A3C-8D59-254C5293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D34-AD42-4C8F-9DA4-706EA645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8D80A-1AFD-41AF-A63A-B51F6D0E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05741-5178-4504-ACF8-3638F475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E5E1B-BE33-4FC5-B890-95D4B1F3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B892D-CA25-4651-A632-F3A6C873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B1371-CE42-49BD-9ED2-36025FE1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B52BD-FD69-444C-946F-26F2D287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4F0B3-6A43-4AAF-8E3A-DAFACB44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EAC9A-9BBD-4BD0-9F18-272B8DCF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912A2-DAC9-486A-AEB4-75111B3B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D77DE-EAD9-4B2C-A551-ED72CDE6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2D1-B81C-4CDE-9735-1280BA56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B33905-C9C2-4678-AE0E-720528A7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7728A-D7FB-410D-AE8F-2767781B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AF250-B851-412F-A815-FC69DF69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FF9A3-EBC2-4AA2-944F-CB6375D3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E0D0A9-850F-4B20-B3EF-631B3A42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E13D8-099C-4D13-83A0-5922F375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177B1-7CBF-4886-9C2A-9A8EE020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AD658-FD57-49E0-8C94-F2FF6DA3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5F25E-4A2E-49CA-98BC-FAE0890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95EE7-B28D-4E99-93BC-E307471D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1CC0-332E-460A-B672-D7F37645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80809-3205-4953-AA75-D3F9F207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420B2-9FE6-47CB-AA3F-DBB64680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0CB06-FD7B-478C-8D4E-AAD3E384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98C60-842F-43B2-B2BC-063ABFF2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1F3D3-93C7-4737-AFA8-68A56A70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45F2C-861B-4E13-8E50-6E29BD97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B3947-374B-4828-856B-0E32EC39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1BA8C-8BD7-47C0-A56A-9B13F647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4D8EB-4ABF-4638-843C-CA80C0DF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CD83F-72A4-4A37-B2B2-91ADA2E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A543-2046-4972-81D1-9D3108AB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2893D-E3CD-479F-B350-8DF288FF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1BFEC-6864-4203-9D3A-659C0D0C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6FFD0-9E09-4D2C-AECF-DEB89828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30508-6DE3-4C6C-8AFD-73570739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293DB-84CA-430B-A7FD-F7864006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30F43-055D-4D40-9515-09504B43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6C472-B31C-4245-AD6D-8B4901CF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A9CE3-7624-4235-A469-CFB7E76E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EBFFF-6455-4FAC-8C0D-E01AF65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43DF58-853D-4E32-92F0-F765A301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AFDA-445E-46D7-9DC7-618A936A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114D46-38AD-4FF2-8137-7A7C2110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64E18-7E27-407D-AE54-68CBE874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64EAE-4AC8-46C1-9449-99C463D3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15645-C5A6-47E6-A4F6-E07FFE8A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FF7A11-B0BD-4296-8E5A-73401573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DFF3F-99EB-4631-AB21-5F3F0402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8E5D36-B5DC-4F4E-B503-975E2DA5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F641B-5A47-48E9-B953-2291C443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D58FDC-2471-4274-9AD7-323B125B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53A0C4-0543-41BC-9103-142EBD08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C993-6CC4-4C6F-AD1B-A0BE645E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6D39A-1A95-428C-B75F-3D6362C9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E0D83-89AD-49E2-8D7D-54C5F383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A1F55-3DE6-420E-B779-30C0345F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1A52D-484A-471F-8291-DEF1D2F0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2F092B-CEF9-4DDD-ADA0-5B2C255E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06C0D-9645-4ACA-AB62-EB7B13CC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FD4DA-F644-4A50-AC5D-990EF549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FA89DC-6C18-4DBE-BB00-6E5FD066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6E4A46-5477-4F56-AD7F-30E02395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DBB4-E794-46FB-B512-0DA21156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25ED-E296-4220-B9F7-1DB64AE4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13F8-E762-4DAF-9D7C-FFF9A589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A1B4-6E71-4336-A75A-5C20811D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0B89-61AF-4907-B21B-95B0D8C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0418-B346-4163-9738-8BBFAE4C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931E-20A3-44FA-B4C3-55C5292A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B5E9-6BD3-4F93-8123-59907954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3872-83C2-480C-9F0B-E143EE53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810D-1433-42CC-8024-82F00F7F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D85D-67EC-4D0E-A6F2-5BD3A06A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D430F-7CA3-451D-A4B4-A176BA3E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B708-736C-4E0E-8F80-49104545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1E85-004E-4604-9ABF-6F70C4EC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E4CC-5F8B-4C1C-B316-863141F9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E1679-700E-40C9-94F0-A45935E6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EA4DD-3F56-4C6A-9AB1-B43BBFF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0742-0F33-4804-B5CA-AF9E8FE3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3739-D823-4AF7-BFA3-638EB17C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85F4-9E92-4D1C-9770-0C6462E0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A24AA-D58F-442A-800B-68E4F82A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3158A-75F2-460E-ACB6-C4863CD7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7DF53-5BA2-4881-8D01-86A465DB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D6276-BE7D-486A-8730-DD333ECD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DDDE-D2EC-4976-8D60-4E012669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E8BA-EB84-4F35-A223-239E21C1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54631-BDF1-43B0-8941-447D1BE6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177B-2A2E-423C-B09C-4ABDF4DC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8D5AC-8D27-45C1-B26C-998A8F06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BBFE0-0555-4F1F-B3CC-EABD6E22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A252D-1409-4963-9B61-351085DF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4A8E0-9869-4FF0-BBDA-983D7174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A90A-231D-4D1E-A81D-53FC9035B8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9B40-8E24-4DBA-86CA-DAF04409E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2523-F2C9-43AF-BFFF-591452C7FC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DE2B-64A1-4A25-AC0E-BBC5A1C72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8C47-27F4-4ABE-8759-0872B262D4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4CDA-7B22-4F38-B5EF-CB0317BF7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5FEC-574F-4D95-89BF-E5EC49E57B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F75F-1AB3-4885-B8D6-A9B8EAF5D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C5F3-0D59-4E5D-BCC5-5682CEC420A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43C4-044F-476F-B818-924F38915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DB06-F4EB-4093-8877-67E255FE46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FD0E-6A0D-4BA8-8130-570BD80D8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D493-6D88-4938-8796-D9C68ACDFC9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0527-DDC4-4C9E-997F-191C59F29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BB98-4FAE-4249-8A37-43BB0C68D6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363D-ACC0-4696-91FF-3A50E89BE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A889-B250-4E3F-A0AC-5064DC21BE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9F3B-6643-4250-B315-ADC539624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0BB2-D637-42DC-91CD-43724855E8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B684-5C91-4175-96B2-3FE0DA454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F05E-D024-434C-85E1-034CEA262E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94F7-B926-4404-8867-042C3AC73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9ABA-5EE0-4551-B554-450653FCB3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1CE4-633A-4CDD-B766-07986C935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4E3-72DB-4115-B40F-E7F854783AD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693B-61F3-4512-A1F0-13A4680C2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B079-DD72-4A24-B3D7-48FECC7BA7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DAAC-8D68-4A9E-932B-ECF334CB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AE57-8D44-4421-8FDB-F21D2DB318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B262-53BE-4E80-A6C8-E1B4CC77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14FC-61E6-4F48-8DEB-1D8D39D461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2EC6-828F-435C-94CA-34586CEC2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439F-E6BE-458B-BE08-52A75AD4A4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157D-2020-4D32-A1E1-B75521495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1C87-DC48-4AB3-9269-F96BD65955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C0B1-1E4B-4CCC-801B-CE2F3005E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745D-EB71-4AB2-9AA3-6B78C797715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C266-E47D-479A-9E20-665199D7B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145B-FE5B-4333-A9F5-8EE5855E6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19FF-1445-4763-AD6A-6DBD7C216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CF00-EC75-48EB-94C6-5E4F0BD7D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D707-4AAE-4E89-A9EE-A5313061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2880"/>
                <a:gridCol w="366840"/>
                <a:gridCol w="274680"/>
                <a:gridCol w="365040"/>
                <a:gridCol w="274680"/>
                <a:gridCol w="36504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0928-30D1-4AA4-BDA0-48C4FBF36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EFB1-C0D5-488D-BE06-B044F3858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1E13-4633-4299-86F7-2662A21D2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4760" y="1371600"/>
                <a:ext cx="255924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85520" y="1690200"/>
                <a:ext cx="2309760" cy="68976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11880"/>
              <a:ext cx="2313360" cy="68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6464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6E1C-09A7-40BD-B513-106A80A11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670A-7D5E-48AC-B371-F362096A0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A705-8D73-4102-83EF-166D9FCA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0FF1-249A-4165-9AA0-4A82229AE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52D7-B0D7-40B4-A845-A556E2479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E128-0BDA-49B9-80EE-6AC04FB5D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49CB-88D8-437D-A3B5-266E9AB89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8C31-5E1C-45E2-BF0A-A9C95FB44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22B0-1CCE-436B-A487-0893CD395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Nouf</cp:lastModifiedBy>
  <dcterms:modified xsi:type="dcterms:W3CDTF">2017-10-24T08:59:05Z</dcterms:modified>
  <cp:revision>119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