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BB2-34AB-4241-9927-E2EFDB0C8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66E-F3FB-43AC-B710-F50B9CB6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4E8-3233-43DB-B9AA-CF66A17E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15B-02F0-458F-A4BA-357A27C4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7DB-5205-47F3-9697-AA63DF2F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D8A-0FAD-45D9-86D9-A8C0AB4F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0E75-F4E9-4F37-A9A5-EC9926DA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FF4-6A4A-4A99-9976-C48F07AE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770-8923-46EA-A6DC-9B727CC8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05C-8AD0-4AEA-B6F2-E97AEEF5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ED5-F06F-4E65-B1BF-B2707506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591-A06A-4826-9A0D-D45DD52F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937-473C-430B-B6E3-4FEA8D7DE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3EAE-B4F3-46A6-B92A-0E0C7398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D7E-8199-4948-B5C5-198AD661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B97-B4F3-4137-9C5C-CF59B357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232F-A997-46A3-A2D7-E8868D0A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EA3-8986-4743-8AB9-2991C909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5A2A-1B30-4FB7-A11C-3A20A553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A2300-401F-433D-B9C7-9380C379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7865B-4FDE-4C5C-965A-55E003E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B0D6-853B-467B-89E2-6BE098B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6F35-054E-4B28-BB3B-26D1502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40D4-03F4-4756-9BF2-48BD28E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2534-9F61-4FB4-88A7-CF04690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BCB9-66DD-40DE-B165-9D467F9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3623-52CE-4997-BA64-804AD2B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284B-55ED-4CE7-AA6D-1685A233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FCEA-E6A3-4EA2-9300-44855805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D08B-EC35-43F5-99ED-89627F6E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C4B0-A4AB-431F-B964-47A07754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21CA-471D-4DC2-AE12-63C73C1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8EE9-63CE-499D-BE28-21B2A19B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2613-0C34-4950-8D9E-E784EA59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1C83-D8E9-40BE-8D84-005521E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919A5-E878-431F-882F-54F3D892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A017-9760-4C23-B788-8FB2D37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9A4D-379F-4F13-8328-82AB7A0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CF07-D679-4540-B81D-FF934B8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5EB-C5D4-42DC-AADD-BD6D638C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2D9C-20E1-4605-B1EE-D4D33D82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D392-BEB3-4B73-82F5-0C2D0AFF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D1FE-69FA-4CA1-A154-7A6B9542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61D0-253C-4DBD-8FF7-399BDCD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E648-1AAB-4D1E-8393-120886B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62EC1-9645-4E60-8A3D-3DE7171B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6FFF-68B8-42D1-8684-2ADA17C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DDB1-A401-4C6F-B581-31E2CBD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100C-D14C-4A46-9C4E-C7C8842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1E044-B35C-47A0-9797-D6C7AB3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1BC-3283-45E5-881B-047F0663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3D5A-9C9B-4D70-929C-037F1D2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4DF8-CB0C-4E8A-A875-C61B1C8A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DD2A-76B9-450A-BEC0-A0FA85F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2987-1DB0-4E8C-9556-6E2F7E03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3D7F-051C-437F-BB37-2700B5D9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300B-F50F-4929-B3CC-0E93F7F4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A435-AB6C-4738-9D63-A270630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1CFA-7246-4C0E-8D72-6BF3D899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569A9-6348-43D5-9CB0-9F4E104B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972D6-FB16-4449-BA82-C1399A4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A6E-459B-4FED-9281-BFCC2C3E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F491-D9DC-4956-BE53-BBE7C791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09DE8-CA81-40E7-A9C7-DCDEEDCE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11187-EC44-41F1-9D08-8EF16CF5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7237-6400-42E0-BD9B-266FCDA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8880-2A1E-4CBD-858F-670D893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0148A-43B6-4DA6-BFA8-851AD384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C5A84-2EFF-4ABA-ABCF-B8A5F61F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4FE49-C796-43B6-AE46-916886EC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70F9-D2C2-4F55-8BB2-413E666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2CBB7-E124-40D6-9F66-92784F8D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821-44FD-4469-9058-43D977A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1E76-13D2-4478-B3DA-CDB20FB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D1BDA-8C8B-40D2-8448-09683B3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C252-B24D-4550-AB8F-EB9ED5AE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AF0E0-9634-4BCB-A955-DE596660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C7CD6-343E-46F3-872A-1B15E15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93E1-0FC0-4F5A-B283-5C0B597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CAE5C-167E-4D11-8DC3-A69EFB27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02E7-CC9D-4B79-B8B9-A1D450E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1BED0-7A91-48C1-A6E0-E5D721A2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7F948-3105-4664-B069-EA941024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D9B-67BD-46CC-B724-DFDCB287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8305F-6976-41BE-92A0-2F16D4B2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DFD63-BAA0-4AC5-87C8-5CD4FD2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10C3A-9DE6-407E-BD00-33F07299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FA45F-DD3E-4518-83B9-62A44DE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51C4F-4EC5-48F0-9398-BECF3DA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BDE7F-729D-42A0-B0F5-7C284E3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562EA-A54A-48AE-824E-D8CD9A9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94CA1-652A-478B-A042-C5A8C6E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30CE1-A2AA-4698-A1C0-05806975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A4D82-77C0-43B0-A7E4-B12C2228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E8B-0520-49E3-A1EF-42CC39F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3420A-5BFD-4A98-8C4A-5AA5FA4F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30985-2DB3-4E14-A7F0-58438F76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3556-7229-4395-84DE-10F1B534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EE53-9CBD-45B8-A35A-F779328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1997-9582-4A20-AC27-063FD2C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E71C-72E7-4C37-8062-B516F6B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3F69F-2A4C-42AF-A4F1-9C2A7C6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91C4A-15BF-4D78-B146-B4EDA84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6CBE-495B-4A29-AB73-4E79BAA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36C9C-7F70-40B6-9383-87A7C993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A68-E655-40CA-BD45-870A1ED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B0417-410C-41C8-AAAE-4CD1590C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C1E34-BDFD-4835-9ABF-92A501C8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E928-EE44-4953-A79B-54EB38BD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E79C2-D851-4495-A01A-17E896CE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DE1D-DC5E-448E-926D-B54A668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6E4E9-2769-4FE4-8BD7-4C2B4DE5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0DAB5-9B83-4F6D-B010-31D1189A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CFB59-6E6D-448C-8D83-75D3A994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B6983-95A4-469E-99E7-C5949A7D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DE467-877D-4A4C-AA48-47BB4FD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BEE-8B50-4FBA-BAFF-43524F8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6793B-8F6B-49D2-AFA4-0C52453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38596-32C7-4748-947C-35EBED3A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75EB-65B5-4015-85DE-0C00A8C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8405D-A05E-418C-B82A-96E6CA04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4A96F-E5B4-4001-AC89-801CA2C0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6F192-6F35-4CA9-AF50-6044E49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2E7D8-1E4A-4082-8179-351B400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6A0CC-DC99-4A3C-85F7-8D3FA1D4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D10F9-0397-40BE-8E74-64D2A7B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C0D18-AE02-4308-B355-325862F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BB3-2A7B-4217-A40A-41FB962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17B10-41BC-470B-B5A7-326D9F7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CDDEA-A611-45B3-9B4E-96CB7E9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95556-FF0A-49D6-BBE0-1CDFC6A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6CD8D-203C-4A47-8BBB-0780B675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39885-8D96-4933-8531-BBA75A4A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DDD2C-0745-4108-9D17-F54E0DEF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EBFD1-165D-4BC6-B1D1-6AA1FBEE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71E63-2535-4A9E-9D33-86C2AAD5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06426-6CE9-4E36-832B-AD951AF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2A526-48AF-4E8A-A328-6B20B726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981-281E-4180-95A6-479DB6C4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331E1-B3B1-4B8B-BDE0-1EDE272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847A1-8581-46EA-A2E0-4E6579A3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CDBA8-610E-4462-AE17-4C5DF55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2739F-9852-4F47-B639-C28F03F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792E1-4081-4566-9848-8E4717E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4F185-C01A-43AC-92AF-B4F6403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0B419-85B3-4D69-AB2B-D264750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51EB6-7E32-4C1B-80D0-40171C1F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28E2D-3E98-445A-A69F-6FE9FB38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60743-3F1F-425F-B418-D0463ACA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0F8-D47A-4C66-A156-61C1021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F0550-8ADD-4439-B80C-883A0747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8C4D1-CB8C-428A-B48A-3115978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03FB2-7D51-4D5B-97CF-C894ED2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9FE3D-1C42-4CD6-A2E8-A2081C2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7839D-7C6B-4A3E-B0FD-593E044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9917C-8AEF-40C9-81A9-F9FCC86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43F08-5D27-41C1-920C-379F5CE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FAC25-3DDF-4796-B67F-F1C5F4B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2814E-3CD2-48A2-8CB9-DD0B312D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A892D-D5E1-457A-802C-4D29A972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E75-B856-4019-BECA-703BAE23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8668D-CEBF-4200-B627-BB7C8FD7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99AC3-F0FC-4716-8605-087DAC0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7C694-826A-4AB8-8CDF-71004B0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01A86-C4C2-42E7-9A11-6340062E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9904F-3F56-427C-97E1-3FDB3888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F7D9B-BB3A-40BE-924F-92E6615F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F65B7-49DE-4375-904D-70262D6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E085C-1957-47CC-9626-A9489C2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71182F-449D-4429-8990-53BD3F6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83A15-FFE7-43AB-B500-F91DA57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5EA-BB49-4D61-98BC-E05B17D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67ABB-50B7-4269-8628-D963A620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48D80-3197-484C-B50C-05E101E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F7687-36BC-454F-9DA6-05D7B69E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B3B9D-2D6C-4BEA-BCE3-584950D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59E45-38BC-4F15-B0EF-AA281C6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B3145-43FC-419E-BE55-A7F2C0C1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1A921-4ED4-4603-AEA1-A5CF8D6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584BE-561F-47C6-B297-03DABB7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396CB-521E-45A4-AC0F-5C3282AC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4954C-4953-4BA2-ADA3-F6BCC6B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E5C6-6129-4EC0-A568-45773E6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AB82C-5CA6-4B53-A680-DC62A0E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F033E-389A-4517-8155-A872C18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80659-8A04-49EA-BC78-531BA706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4371B-E1F7-436A-B321-8DCA806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2D13E-B856-49B7-A271-276A6AB6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8EAA3-2054-4FC0-BDBB-76CD9F98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BFAAB-1249-4042-9F7B-1D5F23C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9E957-FC94-4821-8785-049CD36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D30D8-1FAF-4667-BE6D-FC76DD7D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523DB-7AD1-4839-AF12-5044DC4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1C12-97D8-4D6A-BBFB-141A2908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D7145-08E6-42A5-B4A1-3014B21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74DB1-6858-42CB-8F4D-2C130E3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F993A-0943-42B5-8B5D-3C70F35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D3320-4E2E-4310-ACE1-1D6A6DF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B529A-2594-4DA4-B571-43BB3B3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73535-E54C-4D4E-845F-D0E345FE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A7F13-B388-495F-AB8A-D2E67458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E6757-48A0-4577-AA7A-B7304C93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CFFE0-6588-44F5-8D05-6425FC6D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4F451-F777-4D3F-BC0B-946398EE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2CC-C43D-43BF-B7B1-999B125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8F41B-8FDA-43F2-9D62-B83C299A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64B06-BB8D-4F28-A99F-A284CEC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47175-A446-4D2B-B424-0BFDED1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BB0C3-5BB6-4EC5-BBB6-DE97E05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9F60B-4D55-487C-B934-A4AC155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19D99-4783-4942-9CC6-6C9949B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64F97-695D-488A-85EA-169A107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35FD7-AF4B-40BA-8D64-8E6E11F4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21061-C311-4EAA-A814-0A410614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8C37-2170-47D1-A332-1D52029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4EF8-73C8-477D-98B2-846DF7B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1B9-E0E8-46CD-9762-75746A8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1B2-C4A2-4108-9A79-E257D5A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B2E-685A-4880-B618-F8A143F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8CA8-3C45-4278-BE3D-311E448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6C7-B868-4810-97E5-3A0268DB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E08-F757-4D50-AB1D-3748A6FF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4783-E918-4CBB-8EB0-007E7838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84E2-AFEF-4BCB-AB18-62A179C2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C643-4479-4DBB-9B1C-B3B87FA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8C0-F2C0-4040-AB0D-D1473DD9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9C66-7712-459D-9669-3C90F29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907F-716C-4216-B8C3-0D5EB7A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D367-B4D7-4E84-BBBE-BA505E2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5486-51C1-4067-B8D9-67941F0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2318-3785-469C-B31C-45A3919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ADAA-B0B9-490E-9F0C-B74BC508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323E-FED0-458F-8560-0525299E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B6E0-9EF2-47AF-83D1-59FF571F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1C81-ADE3-451F-8B8A-B86BF8B6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305E-E8FC-4562-8CA0-3F3E5B3B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7F52-9076-452C-8014-560E4FB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5955-B604-42DE-80C7-C87CCD6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CEC1-5A9D-401C-B574-A4A1D40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9E62-DE3C-4805-AE4F-831068BD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CFEF-83CD-4241-A9C0-88EF5B5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3803-6A36-42AB-85BB-80FBF2B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894E-39BE-419C-A53C-C33DABD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18DF6-D838-4B0A-A51C-B08D16FC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6ECC-0858-47EC-A180-BF6BC97C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A5F0-1BF1-4B0F-A88A-EA311851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1C7-CB73-4F8C-AD69-E71F7231AE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AB9-89F2-4C90-A80E-2E0F66DC0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F16-029F-42D4-84CA-B3F3BF9F07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358-0722-4C01-BA5F-459DA1F8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B7E8-77C7-41CF-9686-706B788B3D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D8F6-1043-4C29-AAC9-579E92FBE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44B-3219-4F9B-A2BD-419897592B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3C1-D23A-430E-921F-EE60027CD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E4DC-83EA-48F6-AAA7-825B06131D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E919-B925-46B1-949E-CE096E27A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2AE8-778E-4ACE-B122-C0225374298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499-C0C6-402D-B6C3-0F16C68A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E31-64A3-48C4-8A6F-70552EC5EA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51E-DC85-4027-807A-A677CA327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65D-F66A-4F1A-AE4E-5DD28F1499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756-BFD5-4B12-A759-870A8B398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0A9-2893-4746-A59C-461E5FE4E5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F27-5EAF-4653-B044-93C3BC32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EE9-5C7A-4C9E-A950-4FD6E53FC4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DF1D-8C5D-482D-88A9-C9E0A493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5E8-6ECD-40A7-8C01-9FA1B4954B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9BB-97E6-4CA3-BF84-D4CD66B5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FD1-1A88-48D7-A9A6-823454F911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B34D-2753-4BC7-888D-7FCD6E91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16EF-E8EC-48F5-8485-FF1524392D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FDE-E974-4029-B0A6-DE3F1A2AC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555-E34E-45A2-8697-0541140081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A8D-944A-43CF-AEB9-52EB7C53D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03F-907C-4DB3-909E-765EA35016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E7A-E429-442D-9CAA-04DAE90F6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5E95-2692-49CB-BA0A-A52BA76A6B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479-8A72-41BE-B815-BB35DAB2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EB6-9A46-4205-A77A-E9E01AA7F3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CB2-C86A-4846-A4C8-4C79324E6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869-10DB-4671-8189-99824B9947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773D-1013-404B-AD8F-5FE68E71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E8D-F26C-4CCF-9FF3-FB53B5682C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61C7-9920-465E-84A0-CB3BCB11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44BC-38C5-4082-AB7B-533687428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D1CC-4FC6-4891-BF72-D8B96700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A715-DE22-4A36-BDC6-1ED98BB9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2E4-7611-44E5-91B6-5B9E5851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577-F7A1-4E22-BD03-1EA54960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1E4-9671-42A8-97E9-CC602381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7BE-762B-4A92-802A-47BE2DA6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4760" y="1371600"/>
                <a:ext cx="255924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85520" y="1690200"/>
                <a:ext cx="2309760" cy="68976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11880"/>
              <a:ext cx="2313360" cy="68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646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5AF-9C2D-4086-AEB7-BBA62EF3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83FB-E328-44B0-95B0-6996E946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A264-9472-4DEB-9578-9D9B40DE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C81-6C10-43D1-B799-457277DE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3291-1391-4A76-8444-8FADF667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7E7-AF18-424E-B34B-23F3A0247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CE8-A32F-46D5-AA98-77C4C012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229-7966-4A0C-ABA6-4B887551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165-E126-4124-8FBB-51E26FADA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Nouf</cp:lastModifiedBy>
  <dcterms:modified xsi:type="dcterms:W3CDTF">2017-10-24T08:59:05Z</dcterms:modified>
  <cp:revision>119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