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050-38E0-4A48-ADC4-444EDBC7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3AC-9A78-4FB7-A8FA-F912981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1B3-5008-4B1E-9DF6-29EB4BDB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D5D-99A4-42F9-9B14-3006C7A7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4A0-C079-4498-93A0-B47B628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099-2C1A-4105-A37B-48044EAC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98A-612A-4B44-8803-FBE89A1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7A8-1AF5-492E-AE77-B99C2D58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7CD-CE6F-4D92-AF19-6E7DCE5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CA4-51E9-4E29-9C78-BE610CC7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D43-7FC4-43DF-A525-53BBB144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BFC-C2A6-42FB-9B5F-CCFB7F5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A70-7867-4B46-BFB4-241C04772D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44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57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8710-4DDA-4FB3-9D33-172E551068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64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73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77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84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1AB-020C-4454-94BD-2AC3AFA2CC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92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03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2B4-C6C5-4174-A4F7-B0E595AB75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14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المستخدم</cp:lastModifiedBy>
  <dcterms:modified xsi:type="dcterms:W3CDTF">2017-03-01T06:28:52Z</dcterms:modified>
  <cp:revision>341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