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E8AE-C9B3-465C-8EC8-456D7093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2CE-346F-4B79-BD69-D9A20F98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443-CFA0-4472-99AF-9F59F95C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06C-2F42-47D1-9DD8-A6336B21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0F6-5AAB-4791-ACBF-35DAF0B7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A2F-8F99-49B3-B4DD-07919359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36D-8D05-40B1-BC23-2600ECC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B0C-8CFC-48EF-B9E1-8DFB7A78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DF8B-3433-486F-80E0-4EFAA8CC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1B8-7B7A-4F9D-A0A4-28695F2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7253-7E74-4D7B-9809-5AC0B50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1F9-3E24-4CD3-A488-593F90D9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D55B-ECD7-4A61-AA96-43A0EBCE3F8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44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57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BF5-F53B-4803-B382-BF0234F78C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64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73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77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84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0625-2D2A-4A66-8B75-EBD5E58026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92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03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1C30-978E-4EDD-835A-7BCDC4DB78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14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المستخدم</cp:lastModifiedBy>
  <dcterms:modified xsi:type="dcterms:W3CDTF">2017-03-01T06:28:52Z</dcterms:modified>
  <cp:revision>341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