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557C-62C1-4D0D-A203-C5E27B93AFF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0D24-F3EE-4FEC-BF3F-F29964DD5B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58D-C57E-45DF-B2FB-09B4F752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76A-0A64-40AD-846B-9EF522D5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D50-573E-4C74-A825-7DA296A4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38F-1ED7-4214-A8B9-FE3301B2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598F-95CA-4C28-8151-9154E9AF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66E7-1EE2-4879-BADF-9CC3CF0E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4CF1-63F9-497E-941B-F0954A7D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104-DA31-4E5D-96BA-23928611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F290-3CBB-4E2F-A208-B76D3CCA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C8A5-D8AD-4C0C-85A9-2CE14AC5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C9EB-663D-404C-A39F-C1EFD68A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324-46D9-43AE-B734-ECD65DA4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A791-D4C7-4F11-B43D-826E290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7C5A-CDE8-4EEF-B661-B2E9F4D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8A28-70A7-49A9-9BB5-6EA559E8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3E95-3087-4275-ABD3-809C43A5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729C-929F-4FF2-8247-14A7253C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700B-594F-4F05-B1F8-8D212F40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3AB8-4824-4383-B484-7027B84F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7664-CFA1-455B-B91F-6558EFC3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CB91-6C4E-4742-8410-ED3751D8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B820B-698D-43AC-9C60-FC48B2BB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A5E-4583-4B6A-B39D-B9516852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D0244-C778-48F3-991D-4B1948C4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4A41-2C3B-4F66-987B-EFA269C6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AA02A-8068-4FCE-87E5-678E1B3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B88A-EB03-4675-8D87-0087591F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1701-FF95-4CCE-922B-A674CCAA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C041-F041-4B04-B982-7270637E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5572-07DB-4097-8BDB-0EDE26E7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616-7D93-4E3B-AEA8-34127383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060-741B-4501-ACEE-5F545251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8FB-9DBD-4C58-94EA-73635977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4E3A-AC8F-478F-93EB-DE583A4C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F2DF-3917-4969-AED8-EB90D684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D4E-A7B1-48EE-B4BD-EA8F12C0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8DDA-50F9-4511-B1F9-4010AA38EA0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F993-AC12-4A57-8199-2C530C2800A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8A12-D395-4CB1-8EA4-52D73133471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Cell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very of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figure 5-1b"/>
          <p:cNvPicPr/>
          <p:nvPr/>
        </p:nvPicPr>
        <p:blipFill>
          <a:blip r:embed="rId1"/>
          <a:stretch/>
        </p:blipFill>
        <p:spPr>
          <a:xfrm>
            <a:off x="5410080" y="2362320"/>
            <a:ext cx="3505320" cy="2357280"/>
          </a:xfrm>
          <a:prstGeom prst="rect">
            <a:avLst/>
          </a:prstGeom>
          <a:ln w="0">
            <a:noFill/>
          </a:ln>
        </p:spPr>
      </p:pic>
      <p:sp>
        <p:nvSpPr>
          <p:cNvPr id="199" name="Line 5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152280" y="28440"/>
            <a:ext cx="781200" cy="99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152280" y="1904760"/>
            <a:ext cx="5029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rson to se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Hooke in 16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was looking at a thin slice of cork through a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he found what he described as "tiny rooms" that he call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8, the German botanist Matthias Schleiden concluded that all plants were composed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39, Theodor Schwann concluded the same thing fo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55, Rudolf Virchow noted that all cells come from oth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cell theory states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ll living organisms are made of one or more c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are the basic units of structure and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ells come only from pre-existing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ell is the smallest unit that can carry on all of the processes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737320" y="2071800"/>
            <a:ext cx="183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  <p:sp>
        <p:nvSpPr>
          <p:cNvPr id="206" name="Line 9"/>
          <p:cNvSpPr/>
          <p:nvPr/>
        </p:nvSpPr>
        <p:spPr>
          <a:xfrm>
            <a:off x="990720" y="685800"/>
            <a:ext cx="81532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2A54-D10D-4B4E-B97D-74638F87AE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52280" y="266688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7086600" y="24382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حقيقية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"/>
          <p:cNvSpPr/>
          <p:nvPr/>
        </p:nvSpPr>
        <p:spPr>
          <a:xfrm>
            <a:off x="2895480" y="304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Types 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712800" y="4551480"/>
            <a:ext cx="31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a and related 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5410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البكتيريا وكائنات دقيقة شبية ب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3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Domains of Living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9" descr="p1"/>
          <p:cNvPicPr/>
          <p:nvPr/>
        </p:nvPicPr>
        <p:blipFill>
          <a:blip r:embed="rId2"/>
          <a:stretch/>
        </p:blipFill>
        <p:spPr>
          <a:xfrm>
            <a:off x="1981080" y="1447920"/>
            <a:ext cx="5410440" cy="4640040"/>
          </a:xfrm>
          <a:prstGeom prst="rect">
            <a:avLst/>
          </a:prstGeom>
          <a:ln w="0">
            <a:noFill/>
          </a:ln>
        </p:spPr>
      </p:pic>
      <p:sp>
        <p:nvSpPr>
          <p:cNvPr id="223" name="Line 7"/>
          <p:cNvSpPr/>
          <p:nvPr/>
        </p:nvSpPr>
        <p:spPr>
          <a:xfrm>
            <a:off x="304920" y="10476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3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340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omain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469880" y="1066680"/>
            <a:ext cx="5311800" cy="59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)- Prokaryota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2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cha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بدائيات وتضم البكتيريا ال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ubacteria),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البكتيريا الحق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)- Eukaryota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قيقيات النوا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4 Kingdo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ungi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فطر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otesta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طلائعي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lantae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نبات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im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ملكة الحيوانات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04920" y="99072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شبه ال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2209680" y="1519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4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2514600" y="129528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04920" y="1905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a nucleus, while prokaryotes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have membrane-bound organelles, while prokaryotes do n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ic cells are, on average, ten times the size of prokaryotic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eukaryotes is much more complex and therefore much more extensive than the DNA of prokary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have a cell wall composed of peptidoglycan,. Many types of eukaryotic cells also have cell walls, but none made of peptidogly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NA of prokaryotes floats freely inside the cell; the DNA of eukaryotes is held within its nucleus and associated with histones (prote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undergo mitosi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eiosis; prokaryotes divide by binary fission (simple cell divi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4"/>
          <p:cNvGrpSpPr/>
          <p:nvPr/>
        </p:nvGrpSpPr>
        <p:grpSpPr>
          <a:xfrm>
            <a:off x="2362320" y="2666880"/>
            <a:ext cx="5862600" cy="3111480"/>
            <a:chOff x="2362320" y="2666880"/>
            <a:chExt cx="5862600" cy="3111480"/>
          </a:xfrm>
        </p:grpSpPr>
        <p:sp>
          <p:nvSpPr>
            <p:cNvPr id="240" name="Oval 22"/>
            <p:cNvSpPr/>
            <p:nvPr/>
          </p:nvSpPr>
          <p:spPr>
            <a:xfrm>
              <a:off x="2362320" y="2666880"/>
              <a:ext cx="5862600" cy="31114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7"/>
            <p:cNvSpPr/>
            <p:nvPr/>
          </p:nvSpPr>
          <p:spPr>
            <a:xfrm>
              <a:off x="4937760" y="2776680"/>
              <a:ext cx="274248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Nucle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Endoplasmic reticul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Golgi apparat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Lys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Vacuo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  <a:ea typeface="MS PGothic"/>
                </a:rPr>
                <a:t>Cytoskele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Group 13" descr=""/>
          <p:cNvPicPr/>
          <p:nvPr/>
        </p:nvPicPr>
        <p:blipFill>
          <a:blip r:embed="rId1"/>
          <a:stretch/>
        </p:blipFill>
        <p:spPr>
          <a:xfrm>
            <a:off x="762120" y="2670120"/>
            <a:ext cx="3992400" cy="31212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8"/>
          <p:cNvSpPr/>
          <p:nvPr/>
        </p:nvSpPr>
        <p:spPr>
          <a:xfrm>
            <a:off x="1902960" y="228600"/>
            <a:ext cx="51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MS PGothic"/>
              </a:rPr>
              <a:t>Comparison and Cont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304920" y="1143000"/>
            <a:ext cx="8459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5"/>
          <p:cNvSpPr/>
          <p:nvPr/>
        </p:nvSpPr>
        <p:spPr>
          <a:xfrm>
            <a:off x="1295280" y="1752480"/>
            <a:ext cx="2438640" cy="838440"/>
          </a:xfrm>
          <a:prstGeom prst="downArrowCallout">
            <a:avLst>
              <a:gd name="adj1" fmla="val 72720"/>
              <a:gd name="adj2" fmla="val 72714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6"/>
          <p:cNvSpPr/>
          <p:nvPr/>
        </p:nvSpPr>
        <p:spPr>
          <a:xfrm>
            <a:off x="4419720" y="1752480"/>
            <a:ext cx="2438280" cy="838440"/>
          </a:xfrm>
          <a:prstGeom prst="downArrowCallout">
            <a:avLst>
              <a:gd name="adj1" fmla="val 72709"/>
              <a:gd name="adj2" fmla="val 72703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7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4:50Z</dcterms:modified>
  <cp:revision>48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F18A715-23FA-4BC3-B070-F83B2FD50F30</vt:lpwstr>
  </property>
  <property fmtid="{D5CDD505-2E9C-101B-9397-08002B2CF9AE}" pid="3" name="ArticulatePath">
    <vt:lpwstr>Lecture 4</vt:lpwstr>
  </property>
</Properties>
</file>