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B630-C431-4D33-B975-D855C4E10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6764-6C87-40A6-BC3C-B9E82EF92D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A603-696F-4A4B-8878-7B4DA7FD68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sert spaces between el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8744-E168-4CA1-858C-A33893D26A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sert correct bullets and place to left so they don’t overlap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lete periods to keep consistent with 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st bullet should read, “IF there WAS a relationship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6978-9669-4498-96C6-594E57B09F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48E1-C109-42F2-9CCF-F0860C8B4C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9FAD-55B9-4681-A8BE-2A36BAF835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C1AD-480F-47A2-87A2-D53A0F60E7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E77A-502D-4FC1-86A3-E1181BC460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B657-2425-4D20-9237-8D1D23351F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E16D-780C-429A-A134-A17C961E48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3746-64F7-44A9-BDBF-F38AFF2FE8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BB57-C068-4B44-BAF8-A01E1F53AB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0264-0724-41DD-8272-C54A2323F2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EC1C-0A7C-4F0E-B5A3-0E9ED946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37530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019F-DE29-4C9C-87E7-8E1EFA28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37530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2840" y="37530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F9BF-0A43-4882-BFD3-89501708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560" y="15238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3960" y="15238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37530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560" y="37530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3960" y="37530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6DEE-6448-49B8-9166-497794B1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F458-2CD2-4A9A-B2CF-E79D966A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3440-11DE-4DCA-83E4-55D4321B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8ADB-7811-4002-AF1F-F5A9D195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2999-F233-4E71-87C2-A09B10BF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8BC2-FA12-4AB9-9154-361D1316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160" y="152280"/>
            <a:ext cx="800100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0977-640F-478C-BD78-62FE195D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7530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9151-CF90-4FC0-B1B0-8CB2AF1E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ECA4-6869-4CF8-9596-7D889E18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2840" y="37530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5394-4B7B-4945-B0B0-41EF3677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37530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F878-8AA6-4D30-BD58-F82F0AE5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160" y="37530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BE98-E589-409A-B4B4-AD00B990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37530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2840" y="37530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280E-078B-4294-B308-61B3847D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8560" y="15238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3960" y="15238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160" y="37530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8560" y="37530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3960" y="37530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549E-57AB-4519-807D-C7543376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B10E-DDE9-4427-93DD-73E65EF5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CB83-BE57-4829-AA29-25A2F573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D21-A703-4C51-A17F-1C9E2322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160" y="152280"/>
            <a:ext cx="800100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10C3-8988-4130-989B-DC049D55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37530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357-45CF-4D31-B1C9-2D1B7680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2840" y="37530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E00C-776E-4992-AD72-EC09298B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37530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80EE-5220-46B3-BA83-A048B90A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14300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E9A6-E230-49AC-915A-50A8D2C26C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>
            <a:off x="685800" y="236232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5164-10AA-46AF-9C81-82B272B6FD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hapter 2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nderstanding the Research Proc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fference Ques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ks to make comparisons between or within groups of inter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ten associated with experimental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there a difference between the control group and the experimental group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arison of one group to another on the basis of existing characterist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es participation in Special Olympics affect the self-esteem of adults with mental retardation?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Major, 1998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iteria for Selecting a Probl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st importa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gnific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oretical valu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actical valu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imelin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ternal revie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ertise, time,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ree from personal bi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blem Distill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cess of refining the question or idea into a problem and making it sufficient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pecif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o that it is amenable to investig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process should lead to the development of a “statement of the problem” that is clear, concise, and defini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atement of the Proble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ery specific statement which clearly identifies the problem being studied; will usually identify the key variables as well as give some information about the scope of the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in either question or declarative 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include inherent sub-problems, if appropri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mulation of problem statement takes place after an initial review of related literature and the distillation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blem State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blem of this study was to …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study was concerned with …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study is designed to …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urpose of this investigation is to …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mple Problem State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oblem was to investigate the effects of exercise on blood lipids among college-age fema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study was designed to determine the relationship between stability performance and physical growth characteristics of preschool childre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esent study was designed to identify those characteristics which differentiate between students who binge drink and those that do no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oblem of the study was to determine is there is a relationship between self-efficacy and self-reported alcohol usage among middle-aged adult fema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limit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limitations define the scope of the study. That is, they set the boundaries of the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rmally under control of the researc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 inclu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mber and kinds of subje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eatment condi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sts, measures, instruments us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ype of equip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cation, environmental set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ype of training (time and duratio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mit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mitations are very similar to delimitations, but they tend to focus on potential weaknesses of the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 inclu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mpling problems (representativeness of subjec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controlled factors and extraneous variab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aulty research design and techniqu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liability and validity of measuring instru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romises to internal/external valid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imitations continu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sible shortcomings of the study . . . usually cannot be controlled by the researc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researcher will, of course, try to eliminate extremely serious weaknesses before the study is commenc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a result of assumptions not being m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study is perfect; the researcher recognizes the weakn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ssump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ptions are basic, fundamental conditions that must exist in order for the research to proce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ic premises required in the study... the researcher does everything possible to increase the credibility of the assumptions, but does not have absolute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ptions could be made about (1) the motivation of the subjects, (2) whether subjects responded truthfully, (3) the validity of the measuring instrument, and (4) whether subjects followed directions correct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362320" y="2438280"/>
            <a:ext cx="326052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2362320" y="3276720"/>
            <a:ext cx="326052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362320" y="4114800"/>
            <a:ext cx="328608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2362320" y="4952880"/>
            <a:ext cx="326052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ages of the Scientific Metho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362320" y="1600200"/>
            <a:ext cx="326052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>
            <a:off x="1135080" y="1671480"/>
            <a:ext cx="1440" cy="4286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1135080" y="5977080"/>
            <a:ext cx="91440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3878280" y="197640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3878280" y="2814480"/>
            <a:ext cx="14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3878280" y="365292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3878280" y="449100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3878280" y="5329080"/>
            <a:ext cx="14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2737800" y="1595520"/>
            <a:ext cx="241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Question Iden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2908080" y="2433600"/>
            <a:ext cx="2391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Hypothesis 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3095640" y="3271680"/>
            <a:ext cx="1790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search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2506680" y="4110120"/>
            <a:ext cx="30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Data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2922120" y="4948200"/>
            <a:ext cx="211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sults Analy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0"/>
          <p:cNvSpPr/>
          <p:nvPr/>
        </p:nvSpPr>
        <p:spPr>
          <a:xfrm>
            <a:off x="2354400" y="1595520"/>
            <a:ext cx="1440" cy="44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"/>
          <p:cNvSpPr/>
          <p:nvPr/>
        </p:nvSpPr>
        <p:spPr>
          <a:xfrm>
            <a:off x="2362320" y="5791320"/>
            <a:ext cx="326052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2"/>
          <p:cNvSpPr/>
          <p:nvPr/>
        </p:nvSpPr>
        <p:spPr>
          <a:xfrm>
            <a:off x="3177720" y="5786280"/>
            <a:ext cx="1550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oncl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3"/>
          <p:cNvSpPr/>
          <p:nvPr/>
        </p:nvSpPr>
        <p:spPr>
          <a:xfrm>
            <a:off x="1154160" y="1671480"/>
            <a:ext cx="914400" cy="1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4"/>
          <p:cNvSpPr/>
          <p:nvPr/>
        </p:nvSpPr>
        <p:spPr>
          <a:xfrm flipV="1">
            <a:off x="1135080" y="3766680"/>
            <a:ext cx="1440" cy="221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5"/>
          <p:cNvSpPr/>
          <p:nvPr/>
        </p:nvSpPr>
        <p:spPr>
          <a:xfrm>
            <a:off x="2422440" y="646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8"/>
          <p:cNvSpPr/>
          <p:nvPr/>
        </p:nvSpPr>
        <p:spPr>
          <a:xfrm>
            <a:off x="6172200" y="21337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s within the research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ept of Variab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ariable is a characteristic, trait, or attribute of a person or thing that can be classified or measu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titu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nd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art r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air col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able - the condition or characteristic which in a given study may have more than one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assification of Variab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ntitative – measured numeric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cre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inuou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ative – categorical in n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dependent Variab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ariable that is presumed to influence another variable; the variable under study or the one that the researcher manipul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tive – variable is actually manipula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ttribute – cannot be manipulated because it is preexisting trait; sometimes called a “categorical” variable (e.g., race, gender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pendent Variab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ariable that is expected to change as a result of the manipulation of the independent variable; that which is measured in a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traneous Variab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ariable that could contribute some type of error in a research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referred to as . .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ounding 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vening 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ifying vari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ror-producing variable that the researcher should attempt to eliminate or contro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affect the relationship between the independent variable and the dependent variable if not adequately controll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05560" cy="9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trolling Extraneous Variab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luding the var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ndom selection of research particip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ching cases according to some criter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teps in Conducting Researc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964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ic steps guide the research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steps is indetermin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ous steps may be combin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der of steps may vary somewh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ortance of specific steps is vari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 Steps of Research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609480" y="60948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846000" y="1600200"/>
            <a:ext cx="7608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research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review of lit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lling the question to a researchabl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d review of lit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ion of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basic research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the population and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ing the data collec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ng or developing data collection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ing the method of 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ing the research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ing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059920" y="304920"/>
            <a:ext cx="540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 Steps of Research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e Research Ques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undation of the research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all begins with a ques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4" descr="j0078711[1]"/>
          <p:cNvPicPr/>
          <p:nvPr/>
        </p:nvPicPr>
        <p:blipFill>
          <a:blip r:embed="rId1"/>
          <a:stretch/>
        </p:blipFill>
        <p:spPr>
          <a:xfrm>
            <a:off x="3429000" y="2819520"/>
            <a:ext cx="200340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inding a Research Ques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where ??????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rios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ormation Ga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vers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plic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terature Revie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ther Peo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..??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4" descr="j0078830[1]"/>
          <p:cNvPicPr/>
          <p:nvPr/>
        </p:nvPicPr>
        <p:blipFill>
          <a:blip r:embed="rId1"/>
          <a:stretch/>
        </p:blipFill>
        <p:spPr>
          <a:xfrm>
            <a:off x="4876920" y="2438280"/>
            <a:ext cx="287964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ypes of Research Ques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ualize that a research study can ask three types of ques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criptive ques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lationship ques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fference ques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general classification scheme helps not only with the design of the study, but also in choosing the type of data analysis proced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scriptive Ques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ks to describe phenomena or characteristics of a particular group of subjects being stud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swers the question “what is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king questions of the research particip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sting or measuring their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rvey re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are the attitudes of rural parents toward the inclusion of sexuality education in the school curriculum?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Welshimer &amp; Harris, 1994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lationship Ques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stigates the degree to which two or more variables are associated with each 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es not establish “cause-and-effect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identifies extent of relationship between variab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s there an association between self-esteem and eating behaviors among collegiate female swimmers?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Fey, 1998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20:17:34Z</dcterms:created>
  <dc:creator>Larry Hensley</dc:creator>
  <dc:description/>
  <dc:language>en-US</dc:language>
  <cp:lastModifiedBy>Elham Fayad</cp:lastModifiedBy>
  <dcterms:modified xsi:type="dcterms:W3CDTF">2014-11-06T05:02:09Z</dcterms:modified>
  <cp:revision>7</cp:revision>
  <dc:subject/>
  <dc:title>Chapter 2  The Research Problem</dc:title>
</cp:coreProperties>
</file>