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0A32-9D1D-454F-92C9-98316E76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DB1C-7A9A-470C-9CE6-D8F585D804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021C-BBB4-4C81-BCDE-1B43AADEF7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ert spaces between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185B-F077-437F-A406-9BEB8A72FC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ert correct bullets and place to left so they don’t overlap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lete periods to keep consistent with 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st bullet should read, “IF there WAS a relationshi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75B6-33CB-4312-BB4B-38555FAF61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1D72-9534-4DAE-B9FE-2BFF7E0562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640D-348D-40C7-A4BD-FABFDE6A63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B59F-3EEA-4DE4-AB44-11905FA239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F75C-13EC-474C-8F93-C011208BF2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D59A-D1A8-47F2-B74B-1B897B9E80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87D2-997A-4CD0-B90D-9852DDAE09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B0C1-8F18-4FD0-9FB3-5F12B02D1D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DF60-250F-4388-8023-078F836B86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93FA-2624-4A30-906B-CCD5D89425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2F8-EDFA-4B2D-AD66-5536E5C6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530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4F6-1828-4930-A8AC-0EFFA42F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284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0E6-270A-4D66-91E9-F2D5F4FC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5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39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9A0-66BE-475B-A4B0-405BE045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0317-2BD2-4B2B-94DF-374D16B8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3E21-3967-4894-B312-B107F0D4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4980-2A1E-4748-BBA3-BDCBC307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418B-9089-4B23-837D-790F8461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7AD4-E240-4DD1-9A4A-729AD905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800100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47D2-D4A5-4D73-AE94-D050E86F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1C78-2BBA-4D54-BEFD-648C019E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B58-E516-4018-91BE-F87A8AE7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284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1F65-54D4-475E-BBA0-CE5AD1C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C4B4-D32C-4A70-AF86-F1AFEB5C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530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83CF-D543-4B21-9ACD-C0BFE0E2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284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6EAB-1024-49BA-9CA3-A3C61998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85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39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ED31-FA03-4320-88B3-4A693568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3A6-2BEA-45E9-BD4E-D91C1265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94C-9CB7-4B34-A697-3411D6C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FC8-4532-4490-97AB-291F9975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800100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58D-ADF4-4CDF-AE79-2A4A5D3F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FF6-9A14-488A-B4A8-2249FF1C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284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3E0-6972-4A97-8347-EBB522A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2CD-55D3-4924-A7AA-B762D525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1430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F845-D5C6-443C-BE92-278CDD7799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6232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2D5E-A84B-409A-A18D-DCDE3F7830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pter 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derstanding the Research Pro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fference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s to make comparisons between or within groups of 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ten associated with experimental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re a difference between the control group and the experimental grou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ison of one group to another on the basis of existing characteris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es participation in Special Olympics affect the self-esteem of adults with mental retardation?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ajor, 199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eria for Selecting a Probl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import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oretical val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actical val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imeli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rnal revie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ertise, time,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ee from personal bi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blem Distill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cess of refining the question or idea into a problem and making it sufficient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 that it is amenable to invest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ocess should lead to the development of a “statement of the problem” that is clear, concise, and defin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atement of the Probl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ery specific statement which clearly identifies the problem being studied; will usually identify the key variables as well as give some information about the scope of the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in either question or declarative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clude inherent sub-problems, if appropri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tion of problem statement takes place after an initial review of related literature and the distillati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blem Stat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of this study was to 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tudy was concerned with 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tudy is designed to 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rpose of this investigation is to 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ple Problem Stat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blem was to investigate the effects of exercise on blood lipids among college-age fema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tudy was designed to determine the relationship between stability performance and physical growth characteristics of preschool childr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esent study was designed to identify those characteristics which differentiate between students who binge drink and those that do no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blem of the study was to determine is there is a relationship between self-efficacy and self-reported alcohol usage among middle-aged adult fema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limit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imitations define the scope of the study. That is, they set the boundaries of the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ly under control of the resear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cl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and kinds of su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atment cond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, measures, instruments u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of equi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cation, environmental set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of training (time and dur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ations are very similar to delimitations, but they tend to focus on potential weaknesses of the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cl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pling problems (representativeness of subjec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ontrolled factors and extraneous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ulty research design and techniq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iability and validity of measuring instru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romises to internal/external valid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contin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shortcomings of the study . . . usually cannot be controlled by the resear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searcher will, of course, try to eliminate extremely serious weaknesses before the study is commenc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 result of assumptions not being m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tudy is perfect; the researcher recognizes the weakn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ptions are basic, fundamental conditions that must exist in order for the research to proc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c premises required in the study... the researcher does everything possible to increase the credibility of the assumptions, but does not have absolut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ptions could be made about (1) the motivation of the subjects, (2) whether subjects responded truthfully, (3) the validity of the measuring instrument, and (4) whether subjects followed directions correc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362320" y="243828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362320" y="327672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362320" y="4114800"/>
            <a:ext cx="3286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362320" y="495288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ages of the Scientific Meth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362320" y="160020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135080" y="1671480"/>
            <a:ext cx="1440" cy="428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135080" y="5977080"/>
            <a:ext cx="9144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878280" y="197640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3878280" y="28144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3878280" y="36529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3878280" y="449100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3878280" y="53290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737800" y="1595520"/>
            <a:ext cx="241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Question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908080" y="2433600"/>
            <a:ext cx="2391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Hypothesis 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3095640" y="3271680"/>
            <a:ext cx="179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earch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2506680" y="4110120"/>
            <a:ext cx="30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ata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922120" y="494820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ults Analy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2354400" y="1595520"/>
            <a:ext cx="1440" cy="44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2362320" y="579132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3177720" y="5786280"/>
            <a:ext cx="155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1154160" y="1671480"/>
            <a:ext cx="9144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 flipV="1">
            <a:off x="1135080" y="3766680"/>
            <a:ext cx="1440" cy="221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2422440" y="64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6172200" y="21337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s within the resear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pt of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ariable is a characteristic, trait, or attribute of a person or thing that can be classified or meas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titu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art r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ir co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ble - the condition or characteristic which in a given study may have more than one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sification of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ntitative – measured numer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r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ative – categorical in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pendent Vari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ariable that is presumed to influence another variable; the variable under study or the one that the researcher manipul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– variable is actually manipula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tribute – cannot be manipulated because it is preexisting trait; sometimes called a “categorical” variable (e.g., race, gende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riable that is expected to change as a result of the manipulation of the independent variable; that which is measured in a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traneous Vari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ariable that could contribute some type of error in a research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referred to as 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ounding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vening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ror-producing variable that the researcher should attempt to eliminate or contro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affect the relationship between the independent variable and the dependent variable if not adequately control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0556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rolling Extraneous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ding th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dom selection of research 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ing cases according to some 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eps in Conducting Resear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 steps guide the research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steps is indetermin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ous steps may be comb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der of steps may vary somew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specific steps is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Steps of Research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09480" y="6094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46000" y="1600200"/>
            <a:ext cx="760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research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view of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lling the question to a researchabl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review of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on of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basic research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the population and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ing the data colle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or developing data collection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method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the re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59920" y="304920"/>
            <a:ext cx="54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 Steps of Research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Research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undation of the research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all begins with a ques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j0078711[1]"/>
          <p:cNvPicPr/>
          <p:nvPr/>
        </p:nvPicPr>
        <p:blipFill>
          <a:blip r:embed="rId1"/>
          <a:stretch/>
        </p:blipFill>
        <p:spPr>
          <a:xfrm>
            <a:off x="3429000" y="2819520"/>
            <a:ext cx="20034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nding a Research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where ????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ios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 Ga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vers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lic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terature Revie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..??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j0078830[1]"/>
          <p:cNvPicPr/>
          <p:nvPr/>
        </p:nvPicPr>
        <p:blipFill>
          <a:blip r:embed="rId1"/>
          <a:stretch/>
        </p:blipFill>
        <p:spPr>
          <a:xfrm>
            <a:off x="4876920" y="2438280"/>
            <a:ext cx="28796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Research Ques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ualize that a research study can ask three types of ques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ptive ques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onship ques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ce ques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general classification scheme helps not only with the design of the study, but also in choosing the type of data analysis 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criptive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s to describe phenomena or characteristics of a particular group of subjects being stud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s the question “what is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ing questions of the research particip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ing or measuring thei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rvey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are the attitudes of rural parents toward the inclusion of sexuality education in the school curriculum?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Welshimer &amp; Harris, 199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lationship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igates the degree to which two or more variables are associated with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es not establish “cause-and-effect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identifies extent of relationship between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there an association between self-esteem and eating behaviors among collegiate female swimmers?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Fey, 199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0:17:34Z</dcterms:created>
  <dc:creator>Larry Hensley</dc:creator>
  <dc:description/>
  <dc:language>en-US</dc:language>
  <cp:lastModifiedBy>Elham Fayad</cp:lastModifiedBy>
  <dcterms:modified xsi:type="dcterms:W3CDTF">2014-11-06T05:02:09Z</dcterms:modified>
  <cp:revision>7</cp:revision>
  <dc:subject/>
  <dc:title>Chapter 2  The Research Problem</dc:title>
</cp:coreProperties>
</file>