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280A-5A4A-4479-8515-92C75BA5847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F561-7EDA-4889-9D92-1CAC11E200F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11D-D04A-4348-985F-20B993B4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8DF-45FE-4379-B729-4B899DEE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EAD-D541-42ED-98E5-F2D5E06F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3BA-0F46-4E46-A3BB-219488FD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8F7A-A4D3-4BF5-904A-8AD242E2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818C-360A-42E2-A89B-58EC00BE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2E88-6E3C-4BFB-AFB9-38D15C48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713C-2498-428A-A927-48191013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42BE-0C81-41E9-8130-4C01ED64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C303-6C13-4EF7-BC77-E0259D80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1BE7-0EF0-4030-BFA5-D2FB8FA2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27A-D880-41AA-88D1-9AD42A73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207F-0D0D-4FE8-A1C4-4EF27D14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FE7D-F040-4E25-A5FF-E0E2967C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1D4B-8702-4F7D-8EA0-7B8CAC89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F65B-FD1F-418A-AD8E-4BECD0D2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BAB4-6ADD-4345-9378-8684C1EF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539B-934A-46B0-AB4E-D2B56111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3C894-BC54-4844-8F5B-D12FD1ED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34C8F-884E-4DB4-BC16-E95CBBF2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A80C2-72C8-496B-8427-828167EE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4BE35-6BB6-4F21-BDCF-17FFC544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D7A-216E-4949-851B-A92680AE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D15C-8135-4CD7-B023-FA605B83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30099-7C58-464A-9647-E7E8DC83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46F0-EC60-4A61-B702-2FCAD5C4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79EFB-FAFE-4A1C-9EC0-FA4EBB54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CE6D-14BF-4DB2-A392-B073F09B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892EB-F9AB-4775-88D2-6D7D6000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63E3C-B0A8-4CA0-8165-38E23A02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9D8-2F9A-40BC-A58B-E530D012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31B-75A4-48E1-994F-77509B9C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A32-8A00-4480-ACF6-EE6891B8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C3B-C46E-42F2-8A9F-FB35C3CC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988-FFB0-40CA-8BB5-A389FF08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B81-8027-4138-B5DE-03DF740D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DCD6-1A99-4708-9670-B1435CDB513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C36D-45DA-4AAF-BE83-21BE839816E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935D-9C46-4EDB-AED6-7ECC8A25E90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ell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figure 5-1b"/>
          <p:cNvPicPr/>
          <p:nvPr/>
        </p:nvPicPr>
        <p:blipFill>
          <a:blip r:embed="rId1"/>
          <a:stretch/>
        </p:blipFill>
        <p:spPr>
          <a:xfrm>
            <a:off x="5410080" y="23623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52280" y="19047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  <p:sp>
        <p:nvSpPr>
          <p:cNvPr id="206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28BF-F696-440D-A355-B8F87B95D3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52280" y="2666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708660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12800" y="455148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and related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البكتيريا وكائنات دقيقة شبية ب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p1"/>
          <p:cNvPicPr/>
          <p:nvPr/>
        </p:nvPicPr>
        <p:blipFill>
          <a:blip r:embed="rId2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223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e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شبه ال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prokaryotes floats freely inside the cell; the DNA of eukaryotes is held within its nucleus and associated with histones (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undergo mitos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iosis; prokaryotes divide by binary fission (simple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240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4937760" y="2776680"/>
              <a:ext cx="27424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13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3992400" cy="31212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8"/>
          <p:cNvSpPr/>
          <p:nvPr/>
        </p:nvSpPr>
        <p:spPr>
          <a:xfrm>
            <a:off x="1902960" y="22860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304920" y="11430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4:50Z</dcterms:modified>
  <cp:revision>4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F18A715-23FA-4BC3-B070-F83B2FD50F30</vt:lpwstr>
  </property>
  <property fmtid="{D5CDD505-2E9C-101B-9397-08002B2CF9AE}" pid="3" name="ArticulatePath">
    <vt:lpwstr>Lecture 4</vt:lpwstr>
  </property>
</Properties>
</file>