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855E8-0105-4BC2-B11F-927C26587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C9C29-0CFF-4FAD-8377-B277D0EA9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B4E1F7-D8EF-48DC-A977-AE909BF51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AF090-18FE-4EA2-B60B-B73C65B07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69B138-9105-4B03-9973-B61635C6FD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40D3E-2E61-4392-AF5A-8A74F5C88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7D002-0648-4E27-9E91-8D863129E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332BF-6B47-455B-AF44-3609E33090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EF5D7-A4ED-433B-957C-1DEBD40DF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D39F8-B421-4D84-A150-C5F1270F1A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C7204F-AB49-4D44-8511-C94BCC8C23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8C6A56-8E4D-4829-A945-4E722F271B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5BBC5-459B-4361-B021-6DE7C6E4F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BE64BC-6162-43C3-93AC-395FCDE2A8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839FB-6499-46DB-9140-5098A9397E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76070A-18D4-48E4-928F-B12B3AB313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B608C1-1AA4-4A9D-AB4C-F04F4CBE83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F2BFF4-79CA-4DA3-8C2E-FAAB50A866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9D6AD4-9999-4464-941F-1B52D6BEDC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A62356-3C24-47F1-8E52-1243682D7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6EB25-3558-4536-AFD1-96C1A18AC4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C636A2-EEF2-4FE9-BB9A-ED70641527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C31215-6047-4C04-A895-FAAF58AE4B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749D9-4CCA-4DF8-9099-F4445984C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4E4883-3A8C-4044-B239-D69C45BDF65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149063-FEC6-4D93-9836-B725A00B11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F994DB-A661-4B72-AE0A-44BA28FC55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A149BE-6C2B-4A6A-AE3F-6838CB42A4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54E437-B4FC-4440-BF3A-DE9B56F4B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D36AB-BF6C-4B92-8E1E-4E5757C369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0AB80C-53CA-44D0-AB6D-D8E82801BB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098E71-CA45-4EA9-9444-2FC24DB45C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454E28-3C79-4FCF-93D7-07B333EDC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94143C-90BF-4406-99D0-356F2B361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9E026-B70E-4C5C-B427-E2C341B3A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D5D9C8-A254-4A74-AF1C-BC099505C7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F081FD-121E-4BC0-815B-2C6CCF33CB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E72E21-7693-4EE9-89CC-0ED4CA8A98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B8C903-BBD6-4CF0-918E-B38B387D69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499B7B-3EE7-4ACA-A27C-5A115EF237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C179B-0DEF-4FAC-9E23-354B7C2936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289C12-825F-4001-B4E8-70F51A0FD5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947E2F-C005-41C2-ADE3-E55CA1E989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984859-C033-4D7D-87C1-F2446073D6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1ED161-9949-4757-9119-1BB2857DA7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385CB-3198-4E10-AF47-1E0B3DE21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C1D10-7491-4E18-84A3-D1E1D5D1E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BDF2ED-71E7-43F9-80D4-757587B7E8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645BC4-2DA9-4E74-8BDD-304707BF6D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E83D72-C2DE-42D3-AA5C-45E3A95969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794AB9-B321-4E87-A898-5EDD832EA2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C41239-E338-4908-86FA-231465DC5CF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DDB9EB-48BE-4E91-BEB5-7E1CE4A7F4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56B2B1-B7F4-4BAC-B03E-0864F5E37A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1A65C1-66E5-468C-BCE0-976A533D21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B3D192-3DDB-4EF4-B469-F68883655E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84B43-7B62-4752-9482-16D75E23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C07AA0-38DD-4EB1-85E6-442025E6AE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2075DE-FF56-4AB5-801F-399A780293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266DBA-C994-4611-9291-5B2FEE0BA7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4260E2-87AC-4958-8AA7-70082F2C95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FBE33D-D470-4A70-90F9-9A671C5F8F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0CCE70-0447-4B71-B5B2-3F421CFA4C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CFE243-45A6-4F2B-BC66-B43203B805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422A0C9-47F9-4511-A7E6-5E04550651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859676-D889-473B-A9F7-407D38E881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449F2A-E884-473C-BF32-958397EF55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28A5A-3940-47A6-B602-D773C89E2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80462F-048B-4FCC-A12A-0C45AEC24F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8816DB-ADDC-492D-9940-AD0FF42C34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70BF15-F4B7-44FB-BA40-CE6834B0C2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1D902F-9F6F-427B-A3E3-0EB760D54D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5770D0-4D77-44A4-87C5-CE13BBCD27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6466E8-3249-4286-A83B-67EEFB6F32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D37674-6361-454A-B1C4-26C9A09CF6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165BBA-75AF-4B1B-8CB8-2B9D5F5AB7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E9FB044-6B78-4CF0-B244-FA0AF77D945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82AB950-F299-4AB8-9F8D-1A22708A85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7AFE6-F430-4528-A0B6-90533685C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8F7BF5-6010-4F1E-8229-A7743A29DD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6A89E13-C50E-49DE-9351-7288140380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AA27A3-6C0A-42FB-8D73-B4F7611466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6D5D71-0C7B-4D14-A2D5-6BCC422D5F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20962A-EE92-4245-B6C2-CC0161EEA2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3E37A8-D8EB-472B-8A8B-F8461F0D60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AB1B9A-F91C-4F00-98B8-43E9DA9C44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9B7525-0C5F-464E-BE5E-37F23F521D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D0EE7C-07DA-4623-82FC-AD82BF4966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DB4E429-9726-4B5B-BA09-2CB581FC23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5987C-ECD4-45D2-A6BE-95E95190D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EB88627-9E32-47C0-8035-A91DBD3CDC9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7CF6B2-74B2-4B0F-A00F-655382F3B99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930CB6-BC50-4B98-985F-2694CCF5F8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581486-8B25-4E73-80BD-E586B70BA3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6CCF4C-E41D-45B7-81FD-BF3EE6C2B3C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33D1C6-564B-49F7-BA92-54181E9208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F1C942-FC41-4734-AC4D-A3634CACF7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5DE28A-F9FF-4499-921C-3955A15EA7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87CD80-2C63-4540-A2F2-46B6E6E6EC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8BBE0A-B3EA-43B7-9835-7C1B1778C5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FFDD2-805A-4D9E-9852-00D70201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FA80E3-1479-4526-B604-7C88EA5157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B4E62A-16F0-4F07-BAAA-55EF6E2C4AB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02A8C6-370F-4FF9-8E09-5AE9B4DC864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1B4E7C5-A30B-47BA-A011-809C78AE1A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B4C3A4C-9CB7-47A6-8256-4324AD3393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8E45A3-F475-4B0C-BBD7-1928535FBD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023935-A3C7-46E1-B185-2736027BA8A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1AC297-5210-4B99-876A-F77951924D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A94C22-CB61-4DE0-91DB-32138532963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42D6AF-2067-43B5-98AC-E7CFC3E008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48E67-6A85-4875-BC78-9D2D7AAD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FBC79-D243-48C1-BC2F-E5CCD488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41BAC4-2D3C-4429-8F1F-7EF69A75E1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3ADD52-BA33-48A1-86B0-F9CF3A828F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6746CB-096A-43DD-B66F-B0ACDA196A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E2AF2E8-7A69-4BA6-A337-1834C42228B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88EB31F-9810-4131-8B96-8308676CB66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80E8-6FB9-4AEB-8317-EA3EAA961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3B448-7AEF-4DAD-A6F5-37C0A0AD0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74EFD-3BEF-4F70-B9F4-B08D51E21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F80DB-6679-43EC-98F5-AB9D4D251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C161AB-5C3E-424E-9560-11AF1C9222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CB029-4ED5-445B-BAFD-604AC0228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861D0-0F17-4761-A6F0-AC8D6E302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9FFA1-67B2-4F21-84A2-4300C6BAE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D5697-95BD-48F1-B9E2-EA3E43091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6D709-833E-4AE6-A24A-E9353CBC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0BF4B-A5C7-4534-8B75-6FE24FC01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EE585-08D2-4675-B224-7EB4C4907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FA549-B4A1-43B5-B1C7-FC610F76C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72C81-96FF-4E68-997B-0EEAB24F4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D1C12-D2FE-43A9-B5A3-D29AE4C77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0DB42-4CCD-4DB5-9ED0-05822B3CB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FA2A1-3445-4025-84AA-8B2470BF9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5EFB4-7655-4030-86B7-B9A444D84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0C703-DD3D-41F8-BCEC-B1ECFF581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D8E6A-7627-41F8-863B-5488701E4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DF7E6-E403-490C-9AA9-48A23331C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14770-108D-46E7-A4A3-BF81735FE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8CDC5-E3F6-4780-AE9D-E2DE4A7C3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B4990-DA00-408B-972A-D331EA0C7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96ACF-56DE-43BA-8CE5-53D7268E4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B2F82-B33A-4D9E-9F87-7FAF1D7A9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27F26-B3AA-42A2-8EA0-9719B9A74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45AB2-E5C0-4C0E-AB66-17A127831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4A283B-6A9F-4AD1-B20D-84C0FDFCEE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D3E90A-1D94-4C8F-B1AA-8AC6A8BAE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1CECA9-9660-4B3E-8DCD-D3413AA319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1FE0-1E68-4336-AAF9-7A595840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3547C0-DB7D-4D6B-9B09-F841851AE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BD439-3513-4943-AAFD-FA8596058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8568B-A999-4EEA-B052-911C2B92F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FEF5A-5432-46A3-9C59-F8AAABBB0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253AB-BA10-4D3C-AB41-8491BD5B6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D4B93-6753-4CAD-8965-2A8690B0F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D8483-CEC2-4C42-BCE2-459C40FFC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A94BF-4AE6-4777-8582-5DADBD073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B9590-63BF-4C58-AB31-F3C7931FC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5770E-8EAE-4DF0-B720-793C5084F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2A23-EBD7-424C-86E4-9B0A885F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8DC75-C599-490A-AE20-15D984229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C28D4B-FAB6-4E8B-91BD-A243EB1D2C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E0349D-7D6F-4AD6-A5AA-0733CF61FB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B9A23-8FF9-4E29-A864-DD11E4F49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8B9BD-4973-4972-BC0E-0C835FFFF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42D38-FA24-4D12-A14C-62E3D8CC0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0FE84-74EC-4E70-8102-83B55AEC0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F126F-AE0F-4C95-9D20-64C28A409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870CD-AFC1-4C0F-B8A2-3E38A27D5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7E5CD-E152-4B11-B901-F87A41BD8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C56D-AC48-4BD4-910E-2534BE27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8F2B5-17CA-4F2B-A2AD-71815D6AE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5A9A8D-9569-4528-80FE-AEF25E812D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66957E-3632-4FB4-B246-7C9729EDC2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6DB682-53D2-421E-9280-768C1CED4B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D54ED-4C0A-48BB-977E-7211BABB34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9446B-16E0-4792-BC95-DF3684D394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40B01-E7B8-4359-BDC5-ED4433F7F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C04985-8AE9-43AB-87D1-633E6A690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6261A-0BE0-4819-AC60-4A7D6F5AD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8E9B5-F82F-450E-BEA8-1D4F1D29F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A2CEF-D4AF-482E-8012-EB2411F0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4C1E0-6813-4A48-824D-E9273A6F8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56D67-EE0A-48F1-9EFD-FF0D939E7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CB8D4-61F5-4A54-87FB-7B960E34BA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3A092D-DCAB-43E1-BB55-AC3AC371A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F104B2-2102-4935-85CA-194D5B259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A883E-EFF5-4D74-985F-C3D7D250E6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14077-E16A-4B5A-AA3D-DE2E49208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712D3C-75B6-485C-B0D5-4FF572CEA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F2385-9B3B-4190-AE13-C11DAC99F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0D0181-B9C3-458C-8407-8476C3AFA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1404-7A16-4447-A6D2-F375C7C25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7F7C11-3A18-48C4-8C83-49125E21E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301FB3-0C24-4FED-9878-FE994AA7C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FE48B-FC31-4837-B2D3-8B94F8FF1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26B41-8FF4-4175-B469-442F73443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1E362-9F88-4684-8FBC-7CD6F6E7B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239D3-C159-4AAA-8DB2-9A1B59C9B4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9C273-6C48-468A-8EC5-938629FCB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4D081-0445-4227-A206-66A6B504A6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B35F9-DD09-4EB4-B650-ABE1D108F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48D302-4FCA-4141-A647-8CF6396DCE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8B5F8-8557-4938-BBA7-9A3CEE6140E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6FE97-BE14-4147-83D0-49B161C051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70B6E-66C6-43E6-9BEB-8F6965FAF00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FD22E-0A43-41DE-8E77-BD48893102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44840-6AD9-439C-8CBE-21B89364530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C67C6-83FC-4C45-8664-75C3B65D313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92F1D-A970-4AAA-BC5C-0F0CCD31434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B06F6-CEE3-4DC8-9509-FBC531F500A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9FD01-CB5E-4528-A966-45FA2448F2B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9A3DE-E09F-44A1-8D4B-7EC37C7B1E7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F6898-64A7-4043-AA91-A56A8EC281A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98C8E-6E74-467D-8D52-BBD1C5EE06A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6C254-1831-4013-A8D9-5823CFA2761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95C0A-7EF1-49B7-8F4C-A01249CB1C6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76D42-CCA5-40A3-AEEE-E4FEE8B480B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24FC1-844D-46DF-A9C6-865D2946559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91DD4-9C37-4205-8F44-4E89CB9F96E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893680" y="2365200"/>
            <a:ext cx="7364520" cy="173376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900"/>
            </a:br>
            <a:br>
              <a:rPr sz="4900"/>
            </a:br>
            <a:r>
              <a:rPr b="0" lang="ar-SA" sz="3200" spc="-1" strike="noStrike">
                <a:solidFill>
                  <a:srgbClr val="262626"/>
                </a:solidFill>
                <a:latin typeface="Century Gothic"/>
              </a:rPr>
              <a:t>التعريب (المحاضرة </a:t>
            </a:r>
            <a:r>
              <a:rPr b="0" lang="ar-SA" sz="3200" spc="-1" strike="noStrike">
                <a:solidFill>
                  <a:srgbClr val="262626"/>
                </a:solidFill>
                <a:latin typeface="Century Gothic"/>
              </a:rPr>
              <a:t>4</a:t>
            </a:r>
            <a:r>
              <a:rPr b="0" lang="ar-SA" sz="3200" spc="-1" strike="noStrike">
                <a:solidFill>
                  <a:srgbClr val="262626"/>
                </a:solidFill>
                <a:latin typeface="Century Gothic"/>
              </a:rPr>
              <a:t>)</a:t>
            </a:r>
            <a:br>
              <a:rPr sz="3200"/>
            </a:br>
            <a:br>
              <a:rPr sz="3200"/>
            </a:br>
            <a:endParaRPr b="0" lang="en-US" sz="3200" spc="-1" strike="noStrike">
              <a:solidFill>
                <a:srgbClr val="262626"/>
              </a:solidFill>
              <a:latin typeface="Century Gothic"/>
            </a:endParaRPr>
          </a:p>
        </p:txBody>
      </p:sp>
      <p:sp>
        <p:nvSpPr>
          <p:cNvPr id="1177" name="PlaceHolder 2"/>
          <p:cNvSpPr>
            <a:spLocks noGrp="1"/>
          </p:cNvSpPr>
          <p:nvPr>
            <p:ph type="subTitle"/>
          </p:nvPr>
        </p:nvSpPr>
        <p:spPr>
          <a:xfrm>
            <a:off x="2441160" y="4272120"/>
            <a:ext cx="8915400" cy="112680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د. سلوى الحارثي</a:t>
            </a:r>
            <a:endParaRPr b="0" lang="en-US" sz="1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أستاذ مساعد في قسم اللغة الإنجليزية والترجمة، كلية اللغات والترجمة</a:t>
            </a:r>
            <a:endParaRPr b="0" lang="en-US" sz="1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مع الشكر الجزيل للدكتورة ريم السالم على تعاونها في إثراء المحتوى العلمي لهذه الما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76640" y="106488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تعريب التعليم بعد الاستقلال</a:t>
            </a:r>
            <a:endParaRPr b="0" lang="en-US" sz="3200" spc="-1" strike="noStrike">
              <a:solidFill>
                <a:srgbClr val="262626"/>
              </a:solidFill>
              <a:latin typeface="Century Gothic"/>
            </a:endParaRPr>
          </a:p>
        </p:txBody>
      </p:sp>
      <p:sp>
        <p:nvSpPr>
          <p:cNvPr id="1195" name=""/>
          <p:cNvSpPr txBox="1"/>
          <p:nvPr/>
        </p:nvSpPr>
        <p:spPr>
          <a:xfrm>
            <a:off x="2315880" y="2071440"/>
            <a:ext cx="8915400" cy="443844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ستقلت دول المغرب العربي بعد قرن وثلث قرن في الجزائر</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cs typeface="Times New Roman"/>
              </a:rPr>
              <a:t>وثلاثة أرباع القرن في تونس</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ea typeface="Times New Roman"/>
              </a:rPr>
              <a:t>	</a:t>
            </a:r>
            <a:r>
              <a:rPr b="0" lang="ar-SA" sz="2200" spc="-1" strike="noStrike">
                <a:solidFill>
                  <a:srgbClr val="404040"/>
                </a:solidFill>
                <a:latin typeface="Times New Roman"/>
                <a:cs typeface="Times New Roman"/>
              </a:rPr>
              <a:t>وأربع وأربعين سنة في المغرب</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لم تعرب كل مراحل التعليم حتى الآن، ولكن جهود التعريب مستمرة وخاصة أن الازدواجية في التعليم مرهقة للدولة وتؤدي إلى ضعف المستوى وإضعاف الهوية العربية وإضعاف الروابط مع دول المشرق العربي.</a:t>
            </a:r>
            <a:endParaRPr b="0" lang="en-US" sz="22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452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197" name=""/>
          <p:cNvSpPr txBox="1"/>
          <p:nvPr/>
        </p:nvSpPr>
        <p:spPr>
          <a:xfrm>
            <a:off x="2588760" y="1147680"/>
            <a:ext cx="8915400" cy="4764240"/>
          </a:xfrm>
          <a:prstGeom prst="rect">
            <a:avLst/>
          </a:prstGeom>
          <a:noFill/>
          <a:ln w="0">
            <a:noFill/>
          </a:ln>
        </p:spPr>
        <p:txBody>
          <a:bodyPr anchor="t">
            <a:normAutofit/>
          </a:bodyPr>
          <a:p>
            <a:pPr algn="ct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تأخر التعريب بعد الاستقلال للأسباب التالية:</a:t>
            </a:r>
            <a:endParaRPr b="0" lang="en-US" sz="2800" spc="-1" strike="noStrike">
              <a:solidFill>
                <a:srgbClr val="404040"/>
              </a:solidFill>
              <a:latin typeface="Century Gothic"/>
            </a:endParaRPr>
          </a:p>
          <a:p>
            <a:pPr algn="ct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خطورة التغيير الفجائي الذي قد يسبب انهيار لنظام التعليم بأكمله.</a:t>
            </a:r>
            <a:endParaRPr b="0" lang="en-US" sz="24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قلة الأطر التعليمية المعربة وبخاصة في المواد العلمية.</a:t>
            </a:r>
            <a:endParaRPr b="0" lang="en-US" sz="2400" spc="-1" strike="noStrike">
              <a:solidFill>
                <a:srgbClr val="404040"/>
              </a:solidFill>
              <a:latin typeface="Century Gothic"/>
            </a:endParaRPr>
          </a:p>
          <a:p>
            <a:pPr algn="r" rtl="1">
              <a:lnSpc>
                <a:spcPct val="150000"/>
              </a:lnSpc>
              <a:spcBef>
                <a:spcPts val="1001"/>
              </a:spcBef>
              <a:buClr>
                <a:srgbClr val="a5301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لم يقتنع بعض المسؤولين بضرورة التعريب.</a:t>
            </a:r>
            <a:endParaRPr b="0" lang="en-US" sz="2400" spc="-1" strike="noStrike">
              <a:solidFill>
                <a:srgbClr val="404040"/>
              </a:solidFill>
              <a:latin typeface="Century Gothic"/>
            </a:endParaRPr>
          </a:p>
          <a:p>
            <a:pPr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162160" y="162252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موقع اللغات الأجنبية في حركة التعريب</a:t>
            </a:r>
            <a:endParaRPr b="0" lang="en-US" sz="2800" spc="-1" strike="noStrike">
              <a:solidFill>
                <a:srgbClr val="262626"/>
              </a:solidFill>
              <a:latin typeface="Century Gothic"/>
            </a:endParaRPr>
          </a:p>
        </p:txBody>
      </p:sp>
      <p:sp>
        <p:nvSpPr>
          <p:cNvPr id="1199" name=""/>
          <p:cNvSpPr txBox="1"/>
          <p:nvPr/>
        </p:nvSpPr>
        <p:spPr>
          <a:xfrm>
            <a:off x="2547720" y="2806560"/>
            <a:ext cx="8915400" cy="377856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حرصت دول المغرب العربي على إفساح المجال لتعلم اللغات.</a:t>
            </a:r>
            <a:endParaRPr b="0" lang="en-US" sz="22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فعربت المدارس الابتدائية والثانوية.</a:t>
            </a:r>
            <a:endParaRPr b="0" lang="en-US" sz="22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وأفسحت المجال للغات الأجنبية في الجامعات بمبرر تمكين الطلاب من مسايرة العصر في علومه وتقنياته.</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2066400" y="1549080"/>
            <a:ext cx="891252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تعريب الإدارة</a:t>
            </a:r>
            <a:endParaRPr b="0" lang="en-US" sz="3200" spc="-1" strike="noStrike">
              <a:solidFill>
                <a:srgbClr val="262626"/>
              </a:solidFill>
              <a:latin typeface="Century Gothic"/>
            </a:endParaRPr>
          </a:p>
        </p:txBody>
      </p:sp>
      <p:sp>
        <p:nvSpPr>
          <p:cNvPr id="1201" name=""/>
          <p:cNvSpPr txBox="1"/>
          <p:nvPr/>
        </p:nvSpPr>
        <p:spPr>
          <a:xfrm>
            <a:off x="2620440" y="2742840"/>
            <a:ext cx="8915400" cy="377820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دخلت الفرنسية والإسبانية في كل مجال.</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من لا يتقن الفرنسية لا يعين في وظائف مهمة ويعاني من الفقر.</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استغرقت مغربة الإدارة والإقتصاد وقتاً طويلاً بسبب قلة الأطر الوطنية.</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كان القضاء أول ما تعرب وعملية التعريب مستمرة. </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246400" y="149652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521808"/>
                </a:solidFill>
                <a:latin typeface="Times New Roman"/>
                <a:cs typeface="Times New Roman"/>
              </a:rPr>
              <a:t>المراجع</a:t>
            </a:r>
            <a:endParaRPr b="0" lang="en-US" sz="3600" spc="-1" strike="noStrike">
              <a:solidFill>
                <a:srgbClr val="262626"/>
              </a:solidFill>
              <a:latin typeface="Century Gothic"/>
            </a:endParaRPr>
          </a:p>
        </p:txBody>
      </p:sp>
      <p:sp>
        <p:nvSpPr>
          <p:cNvPr id="1203" name=""/>
          <p:cNvSpPr txBox="1"/>
          <p:nvPr/>
        </p:nvSpPr>
        <p:spPr>
          <a:xfrm>
            <a:off x="2568240" y="28587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عبدالكريم غلاب (</a:t>
            </a:r>
            <a:r>
              <a:rPr b="0" lang="ar-SA" sz="2000" spc="-1" strike="noStrike">
                <a:solidFill>
                  <a:srgbClr val="404040"/>
                </a:solidFill>
                <a:latin typeface="Times New Roman"/>
                <a:ea typeface="Times New Roman"/>
              </a:rPr>
              <a:t>1986</a:t>
            </a:r>
            <a:r>
              <a:rPr b="0" lang="ar-SA" sz="2000" spc="-1" strike="noStrike">
                <a:solidFill>
                  <a:srgbClr val="404040"/>
                </a:solidFill>
                <a:latin typeface="Times New Roman"/>
                <a:ea typeface="Times New Roman"/>
              </a:rPr>
              <a:t>) «التعريب ودوره في حركات التحرر في المغرب العربي» في </a:t>
            </a:r>
            <a:r>
              <a:rPr b="0" lang="ar-SA" sz="2000" spc="-1" strike="noStrike" u="sng">
                <a:solidFill>
                  <a:srgbClr val="404040"/>
                </a:solidFill>
                <a:uFillTx/>
                <a:latin typeface="Times New Roman"/>
                <a:cs typeface="Times New Roman"/>
              </a:rPr>
              <a:t>التعريب ودوره في تدعيم الوجود العربي والوحدة العربية. </a:t>
            </a:r>
            <a:r>
              <a:rPr b="0" lang="ar-SA" sz="2000" spc="-1" strike="noStrike">
                <a:solidFill>
                  <a:srgbClr val="404040"/>
                </a:solidFill>
                <a:latin typeface="Times New Roman"/>
                <a:cs typeface="Times New Roman"/>
              </a:rPr>
              <a:t>الناشر مركز دراسات الوحدة العربية، بيروت، لبنان.</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940040" y="824040"/>
            <a:ext cx="8912160" cy="1280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rPr>
              <a:t>التعريب في المغرب العربي</a:t>
            </a:r>
            <a:r>
              <a:rPr b="0" lang="en-US" sz="4000" spc="-1" strike="noStrike">
                <a:solidFill>
                  <a:srgbClr val="262626"/>
                </a:solidFill>
                <a:latin typeface="Century Gothic"/>
              </a:rPr>
              <a:t>:</a:t>
            </a:r>
            <a:br>
              <a:rPr sz="4400"/>
            </a:br>
            <a:r>
              <a:rPr b="0" lang="ar-SA" sz="4400" spc="-1" strike="noStrike">
                <a:solidFill>
                  <a:srgbClr val="521808"/>
                </a:solidFill>
                <a:latin typeface="Century Gothic"/>
                <a:cs typeface="Akhbar MT"/>
              </a:rPr>
              <a:t>الاستعمار الفرنسي في شمال أفريقيا</a:t>
            </a:r>
            <a:endParaRPr b="0" lang="en-US" sz="4400" spc="-1" strike="noStrike">
              <a:solidFill>
                <a:srgbClr val="262626"/>
              </a:solidFill>
              <a:latin typeface="Century Gothic"/>
            </a:endParaRPr>
          </a:p>
        </p:txBody>
      </p:sp>
      <p:sp>
        <p:nvSpPr>
          <p:cNvPr id="1179" name=""/>
          <p:cNvSpPr txBox="1"/>
          <p:nvPr/>
        </p:nvSpPr>
        <p:spPr>
          <a:xfrm>
            <a:off x="2588760" y="2626920"/>
            <a:ext cx="8915400" cy="3778200"/>
          </a:xfrm>
          <a:prstGeom prst="rect">
            <a:avLst/>
          </a:prstGeom>
          <a:noFill/>
          <a:ln w="0">
            <a:noFill/>
          </a:ln>
        </p:spPr>
        <p:txBody>
          <a:bodyPr anchor="t">
            <a:normAutofit fontScale="97000"/>
          </a:bodyPr>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النهضة العربية في المشرق العربي سبقت مثيلتها في المغرب العربي</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كان الاتصال ضعيفا بين المشرق والمغرب العربيين</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أتى الاستعمار الفرنسي في فترة تخلف فاستطاع بنجاح إقصاء اللغة العربية عن الحياة:</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	</a:t>
            </a:r>
            <a:r>
              <a:rPr b="0" lang="ar-SA" sz="2400" spc="-1" strike="noStrike">
                <a:solidFill>
                  <a:srgbClr val="404040"/>
                </a:solidFill>
                <a:latin typeface="Times New Roman"/>
                <a:ea typeface="Times New Roman"/>
              </a:rPr>
              <a:t>- كان التعليم بجميع مراحله وتخصصاته باللغة الفرنسية</a:t>
            </a:r>
            <a:endParaRPr b="0" lang="en-US" sz="2400" spc="-1" strike="noStrike">
              <a:solidFill>
                <a:srgbClr val="404040"/>
              </a:solidFill>
              <a:latin typeface="Century Gothic"/>
            </a:endParaRPr>
          </a:p>
          <a:p>
            <a:pPr marL="332640" indent="-33264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	</a:t>
            </a:r>
            <a:r>
              <a:rPr b="0" lang="ar-SA" sz="2400" spc="-1" strike="noStrike">
                <a:solidFill>
                  <a:srgbClr val="404040"/>
                </a:solidFill>
                <a:latin typeface="Times New Roman"/>
                <a:ea typeface="Times New Roman"/>
              </a:rPr>
              <a:t>- أصبحت الفرنسية اللغة الرسمية في التعليم والعمل والتفكير</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203560" y="81288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أهداف تغليب لغة المستعمر (الفرنسية والأسبانية)</a:t>
            </a:r>
            <a:endParaRPr b="0" lang="en-US" sz="3200" spc="-1" strike="noStrike">
              <a:solidFill>
                <a:srgbClr val="262626"/>
              </a:solidFill>
              <a:latin typeface="Century Gothic"/>
            </a:endParaRPr>
          </a:p>
        </p:txBody>
      </p:sp>
      <p:sp>
        <p:nvSpPr>
          <p:cNvPr id="1181" name=""/>
          <p:cNvSpPr txBox="1"/>
          <p:nvPr/>
        </p:nvSpPr>
        <p:spPr>
          <a:xfrm>
            <a:off x="2588760" y="21333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1</a:t>
            </a:r>
            <a:r>
              <a:rPr b="0" lang="ar-SA" sz="2400" spc="-1" strike="noStrike">
                <a:solidFill>
                  <a:srgbClr val="404040"/>
                </a:solidFill>
                <a:latin typeface="Times New Roman"/>
                <a:ea typeface="Times New Roman"/>
              </a:rPr>
              <a:t>. الغزو الفكري، وفُرِض على العقل العربي دراسة تاريخ فرنسا وجغرافيتها واقتصادها وأدبها وعلمائها بغرض جعل الإنسان المغربي شبيها بالفرنسي ولكن أقل منزلة. وعلى العربي جميع واجبات المواطن الفرنسي من الخدمة في الجندية ودفع الضرائب ولا يحق له التمتع بأي من حقوق الفرنسيين.</a:t>
            </a:r>
            <a:endParaRPr b="0" lang="en-US" sz="24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ea typeface="Times New Roman"/>
              </a:rPr>
              <a:t>2</a:t>
            </a:r>
            <a:r>
              <a:rPr b="0" lang="ar-SA" sz="2400" spc="-1" strike="noStrike">
                <a:solidFill>
                  <a:srgbClr val="404040"/>
                </a:solidFill>
                <a:latin typeface="Times New Roman"/>
                <a:ea typeface="Times New Roman"/>
              </a:rPr>
              <a:t>. تهيئة مساعدين لخدمة الإدارة الفرنسية والأسبانية في المناصب التافهة مثل بيع طوابع البريد أو الترجمة للقرويين أو المساعدة في تحصيل الضرائب من الفلاحين.</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214720" y="150660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أهداف تغليب لغة المستعمر (الفرنسية والأسبانية)</a:t>
            </a:r>
            <a:endParaRPr b="0" lang="en-US" sz="3200" spc="-1" strike="noStrike">
              <a:solidFill>
                <a:srgbClr val="262626"/>
              </a:solidFill>
              <a:latin typeface="Century Gothic"/>
            </a:endParaRPr>
          </a:p>
        </p:txBody>
      </p:sp>
      <p:sp>
        <p:nvSpPr>
          <p:cNvPr id="1183" name=""/>
          <p:cNvSpPr txBox="1"/>
          <p:nvPr/>
        </p:nvSpPr>
        <p:spPr>
          <a:xfrm>
            <a:off x="2557080" y="260640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ea typeface="Times New Roman"/>
              </a:rPr>
              <a:t>3</a:t>
            </a:r>
            <a:r>
              <a:rPr b="0" lang="ar-SA" sz="2200" spc="-1" strike="noStrike">
                <a:solidFill>
                  <a:srgbClr val="404040"/>
                </a:solidFill>
                <a:latin typeface="Times New Roman"/>
                <a:ea typeface="Times New Roman"/>
              </a:rPr>
              <a:t>. ربط الاقتصاد المغربي بالاقتصادين الفرنسي والأسباني من أجل تمكين استغلال الأرض والموارد الاقتصادية المغربية لمصلحة الاقتصادين الفرنسي والأسباني.</a:t>
            </a:r>
            <a:endParaRPr b="0" lang="en-US" sz="22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ذن اللغة الفرنسية في دول المغرب العربي لم تكن وسيلة تثقيف أو تنمية وإنما وسيلة لمحو الهوية العربية الإسلامية.</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023560" y="1160640"/>
            <a:ext cx="891252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21808"/>
                </a:solidFill>
                <a:latin typeface="Times New Roman"/>
                <a:cs typeface="Times New Roman"/>
              </a:rPr>
              <a:t>محاولة تمزيق وحدة المغرب العربي</a:t>
            </a:r>
            <a:endParaRPr b="0" lang="en-US" sz="2800" spc="-1" strike="noStrike">
              <a:solidFill>
                <a:srgbClr val="262626"/>
              </a:solidFill>
              <a:latin typeface="Century Gothic"/>
            </a:endParaRPr>
          </a:p>
        </p:txBody>
      </p:sp>
      <p:sp>
        <p:nvSpPr>
          <p:cNvPr id="1185" name=""/>
          <p:cNvSpPr txBox="1"/>
          <p:nvPr/>
        </p:nvSpPr>
        <p:spPr>
          <a:xfrm>
            <a:off x="2588760" y="2133360"/>
            <a:ext cx="8915400" cy="3778200"/>
          </a:xfrm>
          <a:prstGeom prst="rect">
            <a:avLst/>
          </a:prstGeom>
          <a:noFill/>
          <a:ln w="0">
            <a:noFill/>
          </a:ln>
        </p:spPr>
        <p:txBody>
          <a:bodyPr anchor="t">
            <a:normAutofit/>
          </a:bodyPr>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حاول الاستعمار في الجزائر تقسيم البلاد إلى عرب وبربر على أساس اللغة والحكم والقضاء وقانون الأحكام ثم حاول نشر المسيحية في الأجزاء التي يسكنها البربر.</a:t>
            </a: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أنشأ الاستعمار معركة مصطنعة أسماها بالصراع العربي البربري تدور حول السلطة والإدارة للتمكين للسيطرة الفرنسية.</a:t>
            </a:r>
            <a:endParaRPr b="0" lang="en-US" sz="2000" spc="-1" strike="noStrike">
              <a:solidFill>
                <a:srgbClr val="404040"/>
              </a:solidFill>
              <a:latin typeface="Century Gothic"/>
            </a:endParaRPr>
          </a:p>
          <a:p>
            <a:pPr marL="343080" indent="-343080" algn="r" rtl="1">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cs typeface="Times New Roman"/>
              </a:rPr>
              <a:t>وهذه المحاولات أحبطتها الحركة الوطن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09800" y="93996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التحرير</a:t>
            </a:r>
            <a:endParaRPr b="0" lang="en-US" sz="3200" spc="-1" strike="noStrike">
              <a:solidFill>
                <a:srgbClr val="262626"/>
              </a:solidFill>
              <a:latin typeface="Century Gothic"/>
            </a:endParaRPr>
          </a:p>
        </p:txBody>
      </p:sp>
      <p:sp>
        <p:nvSpPr>
          <p:cNvPr id="1187" name=""/>
          <p:cNvSpPr txBox="1"/>
          <p:nvPr/>
        </p:nvSpPr>
        <p:spPr>
          <a:xfrm>
            <a:off x="2588760" y="2069640"/>
            <a:ext cx="8915400" cy="4388040"/>
          </a:xfrm>
          <a:prstGeom prst="rect">
            <a:avLst/>
          </a:prstGeom>
          <a:noFill/>
          <a:ln w="0">
            <a:noFill/>
          </a:ln>
        </p:spPr>
        <p:txBody>
          <a:bodyPr anchor="t">
            <a:normAutofit/>
          </a:bodyPr>
          <a:p>
            <a:pPr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imes New Roman"/>
                <a:ea typeface="Times New Roman"/>
              </a:rPr>
              <a:t>       الثورة الحربية: الأمير عبدالقادر في الجزائر</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وعمر بن عثمان في تونس</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وعبدالكريم الخطابي في المغرب</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cs typeface="Times New Roman"/>
              </a:rPr>
              <a:t>الحركة الوطنية (حركة نجم الشمال الأفريقي + جمعية العلماء الجزائريين):</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عمل للحفاظ على الهوية الجزائرية والتونسية والمغربية</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طالب باللغة العربية لغة قومية في الجزائر</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تأسيس المدارس العربية</a:t>
            </a:r>
            <a:endParaRPr b="0" lang="en-US" sz="2000" spc="-1" strike="noStrike">
              <a:solidFill>
                <a:srgbClr val="404040"/>
              </a:solidFill>
              <a:latin typeface="Century Gothic"/>
            </a:endParaRPr>
          </a:p>
          <a:p>
            <a:pPr lvl="1" marL="457200" algn="r" rtl="1">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a:t>
            </a:r>
            <a:r>
              <a:rPr b="0" lang="ar-SA" sz="2000" spc="-1" strike="noStrike">
                <a:solidFill>
                  <a:srgbClr val="404040"/>
                </a:solidFill>
                <a:latin typeface="Times New Roman"/>
                <a:ea typeface="Times New Roman"/>
              </a:rPr>
              <a:t>- بث الثقافة العربية الإسلام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023560" y="1192320"/>
            <a:ext cx="891252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مقاومة الغربة اللغوية</a:t>
            </a:r>
            <a:endParaRPr b="0" lang="en-US" sz="3200" spc="-1" strike="noStrike">
              <a:solidFill>
                <a:srgbClr val="262626"/>
              </a:solidFill>
              <a:latin typeface="Century Gothic"/>
            </a:endParaRPr>
          </a:p>
        </p:txBody>
      </p:sp>
      <p:sp>
        <p:nvSpPr>
          <p:cNvPr id="1189" name=""/>
          <p:cNvSpPr txBox="1"/>
          <p:nvPr/>
        </p:nvSpPr>
        <p:spPr>
          <a:xfrm>
            <a:off x="2220480" y="2417400"/>
            <a:ext cx="8915400" cy="3778200"/>
          </a:xfrm>
          <a:prstGeom prst="rect">
            <a:avLst/>
          </a:prstGeom>
          <a:noFill/>
          <a:ln w="0">
            <a:noFill/>
          </a:ln>
        </p:spPr>
        <p:txBody>
          <a:bodyPr anchor="t">
            <a:normAutofit fontScale="88000"/>
          </a:bodyPr>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أسيس مدرسة باردو: كتابة خلاصة دروس الأساتذة الأجانب بالعربية وترجمة الكتب الأوروبية</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أسيس المدرسة الصادقية</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صلاح التعليم في جامعة الزيتونة بتونس</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ستمرار جامعة القرويين في فاس في القيام بدورها</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نشاء المكتبات</a:t>
            </a:r>
            <a:endParaRPr b="0" lang="en-US" sz="2200" spc="-1" strike="noStrike">
              <a:solidFill>
                <a:srgbClr val="404040"/>
              </a:solidFill>
              <a:latin typeface="Century Gothic"/>
            </a:endParaRPr>
          </a:p>
          <a:p>
            <a:pPr marL="301680" indent="-3016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شجيع الطباعة والنشر</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08160" y="1359000"/>
            <a:ext cx="8912160" cy="1280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521808"/>
                </a:solidFill>
                <a:latin typeface="Times New Roman"/>
                <a:cs typeface="Times New Roman"/>
              </a:rPr>
              <a:t>مقاومة المستعمر لتعريب التعليم</a:t>
            </a:r>
            <a:endParaRPr b="0" lang="en-US" sz="3200" spc="-1" strike="noStrike">
              <a:solidFill>
                <a:srgbClr val="262626"/>
              </a:solidFill>
              <a:latin typeface="Century Gothic"/>
            </a:endParaRPr>
          </a:p>
        </p:txBody>
      </p:sp>
      <p:sp>
        <p:nvSpPr>
          <p:cNvPr id="1191" name=""/>
          <p:cNvSpPr txBox="1"/>
          <p:nvPr/>
        </p:nvSpPr>
        <p:spPr>
          <a:xfrm>
            <a:off x="2504880" y="2501640"/>
            <a:ext cx="8915400" cy="3778200"/>
          </a:xfrm>
          <a:prstGeom prst="rect">
            <a:avLst/>
          </a:prstGeom>
          <a:noFill/>
          <a:ln w="0">
            <a:noFill/>
          </a:ln>
        </p:spPr>
        <p:txBody>
          <a:bodyPr anchor="t">
            <a:normAutofit/>
          </a:bodyPr>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أقفل المستعمر عددا من المدارس</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نفى المشرفين عليها إلى أماكن نائية</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شرد تلاميذها وأساتذتها</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فرض رقابة على بعضها الآخر</a:t>
            </a:r>
            <a:endParaRPr b="0" lang="en-US" sz="2400" spc="-1" strike="noStrike">
              <a:solidFill>
                <a:srgbClr val="404040"/>
              </a:solidFill>
              <a:latin typeface="Century Gothic"/>
            </a:endParaRPr>
          </a:p>
          <a:p>
            <a:pPr marL="343080" indent="-34308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imes New Roman"/>
                <a:cs typeface="Times New Roman"/>
              </a:rPr>
              <a:t>زرع الشك في نفوس المواطنين في تلك المدارس</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94040" y="1442520"/>
            <a:ext cx="891216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521808"/>
                </a:solidFill>
                <a:latin typeface="Times New Roman"/>
                <a:cs typeface="Times New Roman"/>
              </a:rPr>
              <a:t>استمرار الحركة الوطنية في تعريب التعليم</a:t>
            </a:r>
            <a:endParaRPr b="0" lang="en-US" sz="3000" spc="-1" strike="noStrike">
              <a:solidFill>
                <a:srgbClr val="262626"/>
              </a:solidFill>
              <a:latin typeface="Century Gothic"/>
            </a:endParaRPr>
          </a:p>
        </p:txBody>
      </p:sp>
      <p:sp>
        <p:nvSpPr>
          <p:cNvPr id="1193" name=""/>
          <p:cNvSpPr txBox="1"/>
          <p:nvPr/>
        </p:nvSpPr>
        <p:spPr>
          <a:xfrm>
            <a:off x="2252160" y="2585880"/>
            <a:ext cx="8915400" cy="3778560"/>
          </a:xfrm>
          <a:prstGeom prst="rect">
            <a:avLst/>
          </a:prstGeom>
          <a:noFill/>
          <a:ln w="0">
            <a:noFill/>
          </a:ln>
        </p:spPr>
        <p:txBody>
          <a:bodyPr anchor="t">
            <a:normAutofit fontScale="85000"/>
          </a:bodyPr>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نشاء المدارس الوطنية في كل مدينة وقرية لبناء المواطن الجديد المرتبط بالعروبة والإسلام.</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اضطرار الإستعمار إلى الإكتفاء بمراقبة تلك المدارس مع عدم الاعتراف بشهاداتها أو تقديم منح لها.</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إرسال خريجي المدارس الوطنية إلى جامعات مصر وسوريا والعراق وجامعات أوروبية وأمريكية.</a:t>
            </a:r>
            <a:endParaRPr b="0" lang="en-US" sz="2200" spc="-1" strike="noStrike">
              <a:solidFill>
                <a:srgbClr val="404040"/>
              </a:solidFill>
              <a:latin typeface="Century Gothic"/>
            </a:endParaRPr>
          </a:p>
          <a:p>
            <a:pPr marL="291600" indent="-291600" algn="r" rtl="1">
              <a:lnSpc>
                <a:spcPct val="15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404040"/>
                </a:solidFill>
                <a:latin typeface="Times New Roman"/>
                <a:cs typeface="Times New Roman"/>
              </a:rPr>
              <a:t>تقديم نماذج من المثقفين والمفكرين من المشرق العربي وتقديم إنتاجهم الفكري والأدبي.</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1:26:29Z</dcterms:created>
  <dc:creator>Reem Alsalem</dc:creator>
  <dc:description/>
  <dc:language>en-US</dc:language>
  <cp:lastModifiedBy>Salwa Alharthi</cp:lastModifiedBy>
  <dcterms:modified xsi:type="dcterms:W3CDTF">2016-10-16T05:07:30Z</dcterms:modified>
  <cp:revision>32</cp:revision>
  <dc:subject/>
  <dc:title>التعريب (المحاضرة 4) التعريب في المغرب العربي</dc:title>
</cp:coreProperties>
</file>