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E5B5F-6BDB-4CC1-87C6-411AACA81C38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91859-2511-42F8-AA0A-0F975CD4F817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718B8-B77D-4518-AF74-1FF388159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5AFCF-0298-4763-8014-8192270ED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CF33F-E9C6-4271-A98E-9774362DD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B04CB-8238-4A62-AC5F-76739EA29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12137-007D-4AB2-880D-87C3A95C3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D9567-E02E-442A-AFFF-6763B2FCE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C004B-E353-41AD-B13C-7C817EDFC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3BF0D-E8BD-42E7-99CB-3DED1C7B3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1EBA8-850E-4B24-9FD1-D145E611A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B3DEA-AD5A-4C34-B203-678F2EFEA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00594-C625-4657-8684-8DE321E93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BCED6-8793-4CCE-BF8C-2F714DCBF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B1D85-F9BE-4D6E-BC3F-B5FAD59BF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F3E52-B438-42BF-9755-352ABB57D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AAEFE-979B-42C8-BBBE-97B827049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0C051-F98A-4096-9A39-6D24BB954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37B94-40F4-4115-B600-102128427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FBD14A-EC99-44C6-9ECE-5A1C46A54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8B09BB-2AD1-4803-AB1F-31344494B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FEB2CF-57C9-4B63-A3A2-374BF706C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7D84D3-C804-4B52-94EE-2E7E99846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436FB3-04BD-4579-B696-60F8B902D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3D0C5-D7CC-4945-A158-DF5784AA3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27BFD9-8806-46C6-BDEC-5AECDC995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D1133E-BEA1-418D-9C86-A33B73CE7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02C94F-502A-40F8-9307-A05066BB5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1DA72D-F5AE-4416-B60D-AAC870DE1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28ADC6-2C8C-4355-9EDF-2D6131677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5FA040-1563-485E-BB1C-62D60E5E5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A36887-1A2F-4416-BCEC-6B31FC154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53A02-2C32-4CD5-9B61-A7B72102F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5E5FD-C309-454F-B38F-A35CE0691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9355F-3031-4450-A721-827FCD2A4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ED544-EA8F-40AD-B19D-391AB027E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ED920-6035-490B-AC9C-15B3D9EC7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356B7-2E26-4E21-A79F-4876A33C9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E7AC9-2A85-456D-A14E-04A5C7A6D1B2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0944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376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0944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094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0944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0944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0944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0944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09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9A6DF-423B-4C26-8296-3CF4E5DAF4EF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117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FB400-F21E-4470-9CF3-50A19AC1E0A8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The Cell: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scovery of the C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4" descr="figure 5-1b"/>
          <p:cNvPicPr/>
          <p:nvPr/>
        </p:nvPicPr>
        <p:blipFill>
          <a:blip r:embed="rId1"/>
          <a:stretch/>
        </p:blipFill>
        <p:spPr>
          <a:xfrm>
            <a:off x="5410080" y="2362320"/>
            <a:ext cx="3505320" cy="2357280"/>
          </a:xfrm>
          <a:prstGeom prst="rect">
            <a:avLst/>
          </a:prstGeom>
          <a:ln w="0">
            <a:noFill/>
          </a:ln>
        </p:spPr>
      </p:pic>
      <p:sp>
        <p:nvSpPr>
          <p:cNvPr id="199" name="Line 5"/>
          <p:cNvSpPr/>
          <p:nvPr/>
        </p:nvSpPr>
        <p:spPr>
          <a:xfrm>
            <a:off x="0" y="1066680"/>
            <a:ext cx="9144000" cy="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6" descr=""/>
          <p:cNvPicPr/>
          <p:nvPr/>
        </p:nvPicPr>
        <p:blipFill>
          <a:blip r:embed="rId2"/>
          <a:srcRect l="18610" t="8060" r="4064" b="0"/>
          <a:stretch/>
        </p:blipFill>
        <p:spPr>
          <a:xfrm>
            <a:off x="152280" y="28440"/>
            <a:ext cx="781200" cy="99072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 txBox="1"/>
          <p:nvPr/>
        </p:nvSpPr>
        <p:spPr>
          <a:xfrm>
            <a:off x="152280" y="1904760"/>
            <a:ext cx="50292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first person to see cel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bert Hooke in 166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e was looking at a thin slice of cork through a microsco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 he found what he described as "tiny rooms" that he called ce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7596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The Cell The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1838, the German botanist Matthias Schleiden concluded that all plants were composed of ce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1839, Theodor Schwann concluded the same thing for anim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1855, Rudolf Virchow noted that all cells come from other ce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The cell theory states tha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all living organisms are made of one or more cell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cells are the basic units of structure and function,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cells come only from pre-existing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cell is the smallest unit that can carry on all of the processes of li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5737320" y="2071800"/>
            <a:ext cx="1839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8" descr=""/>
          <p:cNvPicPr/>
          <p:nvPr/>
        </p:nvPicPr>
        <p:blipFill>
          <a:blip r:embed="rId1"/>
          <a:srcRect l="18610" t="8060" r="4064" b="0"/>
          <a:stretch/>
        </p:blipFill>
        <p:spPr>
          <a:xfrm>
            <a:off x="76320" y="76320"/>
            <a:ext cx="780840" cy="990360"/>
          </a:xfrm>
          <a:prstGeom prst="rect">
            <a:avLst/>
          </a:prstGeom>
          <a:ln w="0">
            <a:noFill/>
          </a:ln>
        </p:spPr>
      </p:pic>
      <p:sp>
        <p:nvSpPr>
          <p:cNvPr id="206" name="Line 9"/>
          <p:cNvSpPr/>
          <p:nvPr/>
        </p:nvSpPr>
        <p:spPr>
          <a:xfrm>
            <a:off x="990720" y="685800"/>
            <a:ext cx="8153280" cy="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Slide Number Placeholder 3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50D2B-3174-41B3-8B47-9DBAC084114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Oval 4"/>
          <p:cNvSpPr/>
          <p:nvPr/>
        </p:nvSpPr>
        <p:spPr>
          <a:xfrm>
            <a:off x="1066680" y="2971800"/>
            <a:ext cx="2286000" cy="1371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Prokaryo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l 5"/>
          <p:cNvSpPr/>
          <p:nvPr/>
        </p:nvSpPr>
        <p:spPr>
          <a:xfrm>
            <a:off x="6172200" y="2895480"/>
            <a:ext cx="2286000" cy="1447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Eukaryo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6"/>
          <p:cNvSpPr/>
          <p:nvPr/>
        </p:nvSpPr>
        <p:spPr>
          <a:xfrm>
            <a:off x="533520" y="228600"/>
            <a:ext cx="2819160" cy="1447920"/>
          </a:xfrm>
          <a:prstGeom prst="rect">
            <a:avLst/>
          </a:prstGeom>
          <a:solidFill>
            <a:srgbClr val="0000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yp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of cel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8"/>
          <p:cNvSpPr/>
          <p:nvPr/>
        </p:nvSpPr>
        <p:spPr>
          <a:xfrm>
            <a:off x="5943600" y="449568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ll other forms  of li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13"/>
          <p:cNvSpPr/>
          <p:nvPr/>
        </p:nvSpPr>
        <p:spPr>
          <a:xfrm>
            <a:off x="152280" y="2666880"/>
            <a:ext cx="1676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0000"/>
                </a:solidFill>
                <a:latin typeface="Arial"/>
              </a:rPr>
              <a:t>بدائية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النوا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15"/>
          <p:cNvSpPr/>
          <p:nvPr/>
        </p:nvSpPr>
        <p:spPr>
          <a:xfrm>
            <a:off x="7086600" y="2438280"/>
            <a:ext cx="1828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حقيقية النوا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17"/>
          <p:cNvSpPr/>
          <p:nvPr/>
        </p:nvSpPr>
        <p:spPr>
          <a:xfrm>
            <a:off x="2895480" y="304920"/>
            <a:ext cx="45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ff"/>
                </a:solidFill>
                <a:latin typeface="Arial"/>
              </a:rPr>
              <a:t>Types of cel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7"/>
          <p:cNvSpPr/>
          <p:nvPr/>
        </p:nvSpPr>
        <p:spPr>
          <a:xfrm>
            <a:off x="712800" y="4551480"/>
            <a:ext cx="317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teria and related micro-organis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14"/>
          <p:cNvSpPr/>
          <p:nvPr/>
        </p:nvSpPr>
        <p:spPr>
          <a:xfrm>
            <a:off x="838080" y="541008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800" spc="-1" strike="noStrike">
                <a:solidFill>
                  <a:srgbClr val="ff0000"/>
                </a:solidFill>
                <a:latin typeface="Arial"/>
              </a:rPr>
              <a:t>البكتيريا وكائنات دقيقة شبية ب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556E-017 1.11111E-006 L 0.3125 0.39444 E">
                                      <p:cBhvr>
                                        <p:cTn id="33" dur="1000" fill="hold"/>
                                        <p:tgtEl>
                                          <p:spTgt spid="2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Three Domains of Living 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5">
            <a:hlinkClick r:id="" action="ppaction://hlinkshowjump?jump=nextslide"/>
          </p:cNvPr>
          <p:cNvSpPr/>
          <p:nvPr/>
        </p:nvSpPr>
        <p:spPr>
          <a:xfrm>
            <a:off x="591336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6">
            <a:hlinkClick r:id="" action="ppaction://hlinkshowjump?jump=endshow"/>
          </p:cNvPr>
          <p:cNvSpPr/>
          <p:nvPr/>
        </p:nvSpPr>
        <p:spPr>
          <a:xfrm>
            <a:off x="792468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7">
            <a:hlinkClick r:id="" action="ppaction://hlinkshowjump?jump=previousslide"/>
          </p:cNvPr>
          <p:cNvSpPr/>
          <p:nvPr/>
        </p:nvSpPr>
        <p:spPr>
          <a:xfrm>
            <a:off x="5079960" y="63118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8">
            <a:hlinkClick r:id="rId1" action="ppaction://hlinksldjump"/>
          </p:cNvPr>
          <p:cNvSpPr/>
          <p:nvPr/>
        </p:nvSpPr>
        <p:spPr>
          <a:xfrm>
            <a:off x="6781680" y="6311880"/>
            <a:ext cx="9144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9" descr="p1"/>
          <p:cNvPicPr/>
          <p:nvPr/>
        </p:nvPicPr>
        <p:blipFill>
          <a:blip r:embed="rId2"/>
          <a:stretch/>
        </p:blipFill>
        <p:spPr>
          <a:xfrm>
            <a:off x="1981080" y="1447920"/>
            <a:ext cx="5410440" cy="4640040"/>
          </a:xfrm>
          <a:prstGeom prst="rect">
            <a:avLst/>
          </a:prstGeom>
          <a:ln w="0">
            <a:noFill/>
          </a:ln>
        </p:spPr>
      </p:pic>
      <p:sp>
        <p:nvSpPr>
          <p:cNvPr id="223" name="Line 7"/>
          <p:cNvSpPr/>
          <p:nvPr/>
        </p:nvSpPr>
        <p:spPr>
          <a:xfrm>
            <a:off x="304920" y="1047600"/>
            <a:ext cx="845964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12" descr=""/>
          <p:cNvPicPr/>
          <p:nvPr/>
        </p:nvPicPr>
        <p:blipFill>
          <a:blip r:embed="rId3"/>
          <a:srcRect l="18610" t="8060" r="4064" b="0"/>
          <a:stretch/>
        </p:blipFill>
        <p:spPr>
          <a:xfrm>
            <a:off x="76320" y="76320"/>
            <a:ext cx="780840" cy="99036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619280" y="115560"/>
            <a:ext cx="534024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Domains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of li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6"/>
          <p:cNvSpPr/>
          <p:nvPr/>
        </p:nvSpPr>
        <p:spPr>
          <a:xfrm>
            <a:off x="1469880" y="1066680"/>
            <a:ext cx="5311800" cy="59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A)- Prokaryota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بدائيات النوا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2 Kingdom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Archae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مملكة البدائيات وتضم البكتيريا البدائ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Bacteri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Eubacteria), 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مملكة االبكتيريا الحقيق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B)- Eukaryota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حقيقيات النواة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4 Kingdom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Fungi 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مملكة الفطريات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Protesta 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مملكة الطلائعيات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Plantae 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مملكة النباتات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Animali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مملكة الحيوانات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7"/>
          <p:cNvSpPr/>
          <p:nvPr/>
        </p:nvSpPr>
        <p:spPr>
          <a:xfrm>
            <a:off x="304920" y="990720"/>
            <a:ext cx="845964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15" descr=""/>
          <p:cNvPicPr/>
          <p:nvPr/>
        </p:nvPicPr>
        <p:blipFill>
          <a:blip r:embed="rId1"/>
          <a:srcRect l="18610" t="8060" r="4064" b="0"/>
          <a:stretch/>
        </p:blipFill>
        <p:spPr>
          <a:xfrm>
            <a:off x="76320" y="76320"/>
            <a:ext cx="780840" cy="99036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151920" y="2209320"/>
            <a:ext cx="891540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499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 cells are surrounded by a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asma membrane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غشاء بلازمى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499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semi-fluid substance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المادة </a:t>
            </a:r>
            <a:r>
              <a:rPr b="1" lang="ar-EG" sz="1800" spc="-1" strike="noStrike">
                <a:solidFill>
                  <a:srgbClr val="ff0000"/>
                </a:solidFill>
                <a:latin typeface="Arial"/>
              </a:rPr>
              <a:t>شبه ال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سائل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in the cell is called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“cytosol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السيتوبلازم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aining the cell organelles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عِضيات الخلي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499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 cells contain chromosomes which have genes in the form of D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499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 cells have tiny organelles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عضيات صغير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led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Ribosomes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hat make protei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title"/>
          </p:nvPr>
        </p:nvSpPr>
        <p:spPr>
          <a:xfrm>
            <a:off x="2209680" y="151920"/>
            <a:ext cx="59436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Prokaryotic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 and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eukaryotic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 cells</a:t>
            </a:r>
            <a:br>
              <a:rPr sz="2600"/>
            </a:b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     differ in size and complexity</a:t>
            </a:r>
            <a:endParaRPr b="1" lang="en-US" sz="2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1" name="Line 4"/>
          <p:cNvSpPr/>
          <p:nvPr/>
        </p:nvSpPr>
        <p:spPr>
          <a:xfrm>
            <a:off x="152280" y="106668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6"/>
          <p:cNvSpPr/>
          <p:nvPr/>
        </p:nvSpPr>
        <p:spPr>
          <a:xfrm>
            <a:off x="2514600" y="1600200"/>
            <a:ext cx="41148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800080"/>
                </a:solidFill>
                <a:uFillTx/>
                <a:latin typeface="Arial"/>
              </a:rPr>
              <a:t>Similarities</a:t>
            </a: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 </a:t>
            </a:r>
            <a:r>
              <a:rPr b="0" lang="ar-EG" sz="2400" spc="-1" strike="noStrike">
                <a:solidFill>
                  <a:srgbClr val="800080"/>
                </a:solidFill>
                <a:latin typeface="Arial"/>
                <a:cs typeface="Al-Mothnna"/>
              </a:rPr>
              <a:t>أوجه التشاب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9" descr=""/>
          <p:cNvPicPr/>
          <p:nvPr/>
        </p:nvPicPr>
        <p:blipFill>
          <a:blip r:embed="rId1"/>
          <a:srcRect l="18610" t="8060" r="4064" b="0"/>
          <a:stretch/>
        </p:blipFill>
        <p:spPr>
          <a:xfrm>
            <a:off x="76320" y="76320"/>
            <a:ext cx="780840" cy="99036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Line 4"/>
          <p:cNvSpPr/>
          <p:nvPr/>
        </p:nvSpPr>
        <p:spPr>
          <a:xfrm>
            <a:off x="152280" y="114300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981080" y="152280"/>
            <a:ext cx="5943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Prokaryotic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 and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eukaryotic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 cells</a:t>
            </a:r>
            <a:br>
              <a:rPr sz="2600"/>
            </a:b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     differ in size and complexity</a:t>
            </a:r>
            <a:endParaRPr b="1" lang="en-US" sz="2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6" name="Text Box 7"/>
          <p:cNvSpPr/>
          <p:nvPr/>
        </p:nvSpPr>
        <p:spPr>
          <a:xfrm>
            <a:off x="2514600" y="1295280"/>
            <a:ext cx="510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800080"/>
                </a:solidFill>
                <a:uFillTx/>
                <a:latin typeface="Arial"/>
              </a:rPr>
              <a:t>Differences</a:t>
            </a: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 </a:t>
            </a:r>
            <a:r>
              <a:rPr b="0" lang="ar-EG" sz="2400" spc="-1" strike="noStrike">
                <a:solidFill>
                  <a:srgbClr val="800080"/>
                </a:solidFill>
                <a:latin typeface="Arial"/>
                <a:cs typeface="Al-Mothnna"/>
              </a:rPr>
              <a:t>أوجه الإختلا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8"/>
          <p:cNvSpPr/>
          <p:nvPr/>
        </p:nvSpPr>
        <p:spPr>
          <a:xfrm>
            <a:off x="304920" y="1905120"/>
            <a:ext cx="86868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71680" indent="-571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ukaryotes have a nucleus, while prokaryotes do no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ukaryotes have membrane-bound organelles, while prokaryotes do no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ukaryotic cells are, on average, ten times the size of prokaryotic cel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DNA of eukaryotes is much more complex and therefore much more extensive than the DNA of prokaryo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499"/>
              </a:spcBef>
              <a:buClr>
                <a:srgbClr val="0000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karyotes have a cell wall composed of peptidoglycan,. Many types of eukaryotic cells also have cell walls, but none made of peptidoglyca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499"/>
              </a:spcBef>
              <a:buClr>
                <a:srgbClr val="0000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DNA of prokaryotes floats freely inside the cell; the DNA of eukaryotes is held within its nucleus and associated with histones (protei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499"/>
              </a:spcBef>
              <a:buClr>
                <a:srgbClr val="0000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ukaryotes undergo mitosis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meiosis; prokaryotes divide by binary fission (simple cell divis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9" descr=""/>
          <p:cNvPicPr/>
          <p:nvPr/>
        </p:nvPicPr>
        <p:blipFill>
          <a:blip r:embed="rId1"/>
          <a:srcRect l="18610" t="8060" r="4064" b="0"/>
          <a:stretch/>
        </p:blipFill>
        <p:spPr>
          <a:xfrm>
            <a:off x="76320" y="76320"/>
            <a:ext cx="780840" cy="99036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9" name="Group 14"/>
          <p:cNvGrpSpPr/>
          <p:nvPr/>
        </p:nvGrpSpPr>
        <p:grpSpPr>
          <a:xfrm>
            <a:off x="2362320" y="2666880"/>
            <a:ext cx="5862600" cy="3111480"/>
            <a:chOff x="2362320" y="2666880"/>
            <a:chExt cx="5862600" cy="3111480"/>
          </a:xfrm>
        </p:grpSpPr>
        <p:sp>
          <p:nvSpPr>
            <p:cNvPr id="240" name="Oval 22"/>
            <p:cNvSpPr/>
            <p:nvPr/>
          </p:nvSpPr>
          <p:spPr>
            <a:xfrm>
              <a:off x="2362320" y="2666880"/>
              <a:ext cx="5862600" cy="311148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Text Box 27"/>
            <p:cNvSpPr/>
            <p:nvPr/>
          </p:nvSpPr>
          <p:spPr>
            <a:xfrm>
              <a:off x="4937760" y="2776680"/>
              <a:ext cx="2742480" cy="25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  <a:ea typeface="MS PGothic"/>
                </a:rPr>
                <a:t>Nucleu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  <a:ea typeface="MS PGothic"/>
                </a:rPr>
                <a:t>Endoplasmic reticulu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  <a:ea typeface="MS PGothic"/>
                </a:rPr>
                <a:t>Golgi apparatu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  <a:ea typeface="MS PGothic"/>
                </a:rPr>
                <a:t>Lysosom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  <a:ea typeface="MS PGothic"/>
                </a:rPr>
                <a:t>Vacuol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  <a:ea typeface="MS PGothic"/>
                </a:rPr>
                <a:t>Mitochondri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  <a:ea typeface="MS PGothic"/>
                </a:rPr>
                <a:t>Cytoskelet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42" name="Group 13" descr=""/>
          <p:cNvPicPr/>
          <p:nvPr/>
        </p:nvPicPr>
        <p:blipFill>
          <a:blip r:embed="rId1"/>
          <a:stretch/>
        </p:blipFill>
        <p:spPr>
          <a:xfrm>
            <a:off x="762120" y="2670120"/>
            <a:ext cx="3992400" cy="3121200"/>
          </a:xfrm>
          <a:prstGeom prst="rect">
            <a:avLst/>
          </a:prstGeom>
          <a:ln w="0">
            <a:noFill/>
          </a:ln>
        </p:spPr>
      </p:pic>
      <p:sp>
        <p:nvSpPr>
          <p:cNvPr id="243" name="Text Box 28"/>
          <p:cNvSpPr/>
          <p:nvPr/>
        </p:nvSpPr>
        <p:spPr>
          <a:xfrm>
            <a:off x="1902960" y="228600"/>
            <a:ext cx="517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MS PGothic"/>
              </a:rPr>
              <a:t>Comparison and Contr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7"/>
          <p:cNvSpPr/>
          <p:nvPr/>
        </p:nvSpPr>
        <p:spPr>
          <a:xfrm>
            <a:off x="304920" y="1143000"/>
            <a:ext cx="845964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AutoShape 15"/>
          <p:cNvSpPr/>
          <p:nvPr/>
        </p:nvSpPr>
        <p:spPr>
          <a:xfrm>
            <a:off x="1295280" y="1752480"/>
            <a:ext cx="2438640" cy="838440"/>
          </a:xfrm>
          <a:prstGeom prst="downArrowCallout">
            <a:avLst>
              <a:gd name="adj1" fmla="val 72720"/>
              <a:gd name="adj2" fmla="val 72714"/>
              <a:gd name="adj3" fmla="val 16667"/>
              <a:gd name="adj4" fmla="val 666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Prokaryo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AutoShape 16"/>
          <p:cNvSpPr/>
          <p:nvPr/>
        </p:nvSpPr>
        <p:spPr>
          <a:xfrm>
            <a:off x="4419720" y="1752480"/>
            <a:ext cx="2438280" cy="838440"/>
          </a:xfrm>
          <a:prstGeom prst="downArrowCallout">
            <a:avLst>
              <a:gd name="adj1" fmla="val 72709"/>
              <a:gd name="adj2" fmla="val 72703"/>
              <a:gd name="adj3" fmla="val 16667"/>
              <a:gd name="adj4" fmla="val 666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Eukaryo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17" descr=""/>
          <p:cNvPicPr/>
          <p:nvPr/>
        </p:nvPicPr>
        <p:blipFill>
          <a:blip r:embed="rId2"/>
          <a:srcRect l="18610" t="8060" r="4064" b="0"/>
          <a:stretch/>
        </p:blipFill>
        <p:spPr>
          <a:xfrm>
            <a:off x="76320" y="76320"/>
            <a:ext cx="780840" cy="99036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0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1T18:57:57Z</dcterms:created>
  <dc:creator>Ash Ahm</dc:creator>
  <dc:description/>
  <dc:language>en-US</dc:language>
  <cp:lastModifiedBy>HP</cp:lastModifiedBy>
  <dcterms:modified xsi:type="dcterms:W3CDTF">2014-01-07T15:34:50Z</dcterms:modified>
  <cp:revision>48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ticulateGUID">
    <vt:lpwstr>5F18A715-23FA-4BC3-B070-F83B2FD50F30</vt:lpwstr>
  </property>
  <property fmtid="{D5CDD505-2E9C-101B-9397-08002B2CF9AE}" pid="3" name="ArticulatePath">
    <vt:lpwstr>Lecture 4</vt:lpwstr>
  </property>
</Properties>
</file>