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8DF11-029A-4015-A271-1192AC19198B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E6DC7-9D0D-478D-A8FD-8FAF9C5CCB6A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AFDC1-7435-4EB8-A576-B6C4B6C91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0C758-5719-4B24-8002-7611E182E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7DBF6-DCFB-45C8-8949-9A4FACB0D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07668-6E08-4155-A718-D733663D3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545F3-9CA7-4DB2-9D2C-95ED32996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CB39F-D1B3-4B84-811F-DA10AC974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0DA18-FD08-4CE0-96A0-B7E74AE3F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0F0D4-4A38-46B5-88BB-EE42D69D1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699AA-FFF5-482E-BF95-3268DDF06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501C0-4B35-4CDB-82BE-0382234CA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902A5-2726-4154-A07A-49B6C326E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31DCA-0A2A-4A9A-B361-9D0EB3710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A8C2B-CEDE-44E8-A365-0DA019E12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8D83A-87CC-499E-AD41-4F35CF605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A889F-13BE-499D-A7DB-23A61C275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F8FF4-AEE5-4C23-AA6D-3BDAAC381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A34D0-D690-4468-97BD-B672D50E9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DA943C-09B4-4405-8078-078ADFA0C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79345F-B124-4C26-B24A-8A8569A2F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A58BA4-1DCB-407B-BAB9-3D9F0B92A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963296-8B12-4F76-B423-6525CBA7D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DE6DDA-1959-4B3F-B9ED-70E5683FF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BCF5A-370C-4533-8BB3-D3AF0F97A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08BEE7-A079-4D93-999A-BD652F5CE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ABF41A-A449-467D-8FD6-B97FD5F23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2A5730-0438-4183-8CCB-66F420483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884446-86FA-48F1-8249-38F424525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775505-9833-4FFC-836C-78622E19B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99A602-596B-4372-9ACE-2B330B2FB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F7B5ED-6057-4EBF-861F-80FDA1CEF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CDDFB-B3B6-482E-80CB-C5AC4A007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12B43-01FB-4EA5-B12E-B4C1EB82F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07238-A0D2-4119-B65A-F5E07DB51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9C829-BBE8-49C5-BEA6-96F60F1CA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CF57D-A1B2-4F42-AC41-C5C4390DA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14826-D09C-4EC4-9AB7-B8B353067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E7EDB-211A-4CFB-823E-58A1513D46FB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0944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376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0944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094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0944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0944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0944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0944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09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67574-F173-4515-95A8-4475FE73F391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117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9A843-0F2A-403D-8D65-6C4B53D0954E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The Cell: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scovery of the C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4" descr="figure 5-1b"/>
          <p:cNvPicPr/>
          <p:nvPr/>
        </p:nvPicPr>
        <p:blipFill>
          <a:blip r:embed="rId1"/>
          <a:stretch/>
        </p:blipFill>
        <p:spPr>
          <a:xfrm>
            <a:off x="5410080" y="2362320"/>
            <a:ext cx="3505320" cy="2357280"/>
          </a:xfrm>
          <a:prstGeom prst="rect">
            <a:avLst/>
          </a:prstGeom>
          <a:ln w="0">
            <a:noFill/>
          </a:ln>
        </p:spPr>
      </p:pic>
      <p:sp>
        <p:nvSpPr>
          <p:cNvPr id="199" name="Line 5"/>
          <p:cNvSpPr/>
          <p:nvPr/>
        </p:nvSpPr>
        <p:spPr>
          <a:xfrm>
            <a:off x="0" y="1066680"/>
            <a:ext cx="9144000" cy="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6" descr=""/>
          <p:cNvPicPr/>
          <p:nvPr/>
        </p:nvPicPr>
        <p:blipFill>
          <a:blip r:embed="rId2"/>
          <a:srcRect l="18610" t="8060" r="4064" b="0"/>
          <a:stretch/>
        </p:blipFill>
        <p:spPr>
          <a:xfrm>
            <a:off x="152280" y="28440"/>
            <a:ext cx="781200" cy="99072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 txBox="1"/>
          <p:nvPr/>
        </p:nvSpPr>
        <p:spPr>
          <a:xfrm>
            <a:off x="152280" y="1904760"/>
            <a:ext cx="50292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first person to see cel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bert Hooke in 166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e was looking at a thin slice of cork through a microsco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 he found what he described as "tiny rooms" that he called ce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7596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The Cell The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1838, the German botanist Matthias Schleiden concluded that all plants were composed of ce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1839, Theodor Schwann concluded the same thing for anim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1855, Rudolf Virchow noted that all cells come from other ce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The cell theory states tha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all living organisms are made of one or more cell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cells are the basic units of structure and function,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cells come only from pre-existing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cell is the smallest unit that can carry on all of the processes of li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5737320" y="2071800"/>
            <a:ext cx="1839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8" descr=""/>
          <p:cNvPicPr/>
          <p:nvPr/>
        </p:nvPicPr>
        <p:blipFill>
          <a:blip r:embed="rId1"/>
          <a:srcRect l="18610" t="8060" r="4064" b="0"/>
          <a:stretch/>
        </p:blipFill>
        <p:spPr>
          <a:xfrm>
            <a:off x="76320" y="76320"/>
            <a:ext cx="780840" cy="990360"/>
          </a:xfrm>
          <a:prstGeom prst="rect">
            <a:avLst/>
          </a:prstGeom>
          <a:ln w="0">
            <a:noFill/>
          </a:ln>
        </p:spPr>
      </p:pic>
      <p:sp>
        <p:nvSpPr>
          <p:cNvPr id="206" name="Line 9"/>
          <p:cNvSpPr/>
          <p:nvPr/>
        </p:nvSpPr>
        <p:spPr>
          <a:xfrm>
            <a:off x="990720" y="685800"/>
            <a:ext cx="8153280" cy="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Slide Number Placeholder 3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B7A63-1F0C-408C-B2DF-020E3D1351A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Oval 4"/>
          <p:cNvSpPr/>
          <p:nvPr/>
        </p:nvSpPr>
        <p:spPr>
          <a:xfrm>
            <a:off x="1066680" y="2971800"/>
            <a:ext cx="2286000" cy="1371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Prokaryo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l 5"/>
          <p:cNvSpPr/>
          <p:nvPr/>
        </p:nvSpPr>
        <p:spPr>
          <a:xfrm>
            <a:off x="6172200" y="2895480"/>
            <a:ext cx="2286000" cy="1447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Eukaryo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6"/>
          <p:cNvSpPr/>
          <p:nvPr/>
        </p:nvSpPr>
        <p:spPr>
          <a:xfrm>
            <a:off x="533520" y="228600"/>
            <a:ext cx="2819160" cy="1447920"/>
          </a:xfrm>
          <a:prstGeom prst="rect">
            <a:avLst/>
          </a:prstGeom>
          <a:solidFill>
            <a:srgbClr val="0000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yp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of cel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8"/>
          <p:cNvSpPr/>
          <p:nvPr/>
        </p:nvSpPr>
        <p:spPr>
          <a:xfrm>
            <a:off x="5943600" y="449568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ll other forms  of li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13"/>
          <p:cNvSpPr/>
          <p:nvPr/>
        </p:nvSpPr>
        <p:spPr>
          <a:xfrm>
            <a:off x="152280" y="2666880"/>
            <a:ext cx="1676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0000"/>
                </a:solidFill>
                <a:latin typeface="Arial"/>
              </a:rPr>
              <a:t>بدائية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النوا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15"/>
          <p:cNvSpPr/>
          <p:nvPr/>
        </p:nvSpPr>
        <p:spPr>
          <a:xfrm>
            <a:off x="7086600" y="2438280"/>
            <a:ext cx="1828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حقيقية النوا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17"/>
          <p:cNvSpPr/>
          <p:nvPr/>
        </p:nvSpPr>
        <p:spPr>
          <a:xfrm>
            <a:off x="2895480" y="304920"/>
            <a:ext cx="45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ff"/>
                </a:solidFill>
                <a:latin typeface="Arial"/>
              </a:rPr>
              <a:t>Types of cel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7"/>
          <p:cNvSpPr/>
          <p:nvPr/>
        </p:nvSpPr>
        <p:spPr>
          <a:xfrm>
            <a:off x="712800" y="4551480"/>
            <a:ext cx="317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teria and related micro-organis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14"/>
          <p:cNvSpPr/>
          <p:nvPr/>
        </p:nvSpPr>
        <p:spPr>
          <a:xfrm>
            <a:off x="838080" y="541008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800" spc="-1" strike="noStrike">
                <a:solidFill>
                  <a:srgbClr val="ff0000"/>
                </a:solidFill>
                <a:latin typeface="Arial"/>
              </a:rPr>
              <a:t>البكتيريا وكائنات دقيقة شبية ب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556E-017 1.11111E-006 L 0.3125 0.39444 E">
                                      <p:cBhvr>
                                        <p:cTn id="33" dur="1000" fill="hold"/>
                                        <p:tgtEl>
                                          <p:spTgt spid="2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Three Domains of Living 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5">
            <a:hlinkClick r:id="" action="ppaction://hlinkshowjump?jump=nextslide"/>
          </p:cNvPr>
          <p:cNvSpPr/>
          <p:nvPr/>
        </p:nvSpPr>
        <p:spPr>
          <a:xfrm>
            <a:off x="591336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6">
            <a:hlinkClick r:id="" action="ppaction://hlinkshowjump?jump=endshow"/>
          </p:cNvPr>
          <p:cNvSpPr/>
          <p:nvPr/>
        </p:nvSpPr>
        <p:spPr>
          <a:xfrm>
            <a:off x="792468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7">
            <a:hlinkClick r:id="" action="ppaction://hlinkshowjump?jump=previousslide"/>
          </p:cNvPr>
          <p:cNvSpPr/>
          <p:nvPr/>
        </p:nvSpPr>
        <p:spPr>
          <a:xfrm>
            <a:off x="5079960" y="63118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8">
            <a:hlinkClick r:id="rId1" action="ppaction://hlinksldjump"/>
          </p:cNvPr>
          <p:cNvSpPr/>
          <p:nvPr/>
        </p:nvSpPr>
        <p:spPr>
          <a:xfrm>
            <a:off x="6781680" y="6311880"/>
            <a:ext cx="9144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9" descr="p1"/>
          <p:cNvPicPr/>
          <p:nvPr/>
        </p:nvPicPr>
        <p:blipFill>
          <a:blip r:embed="rId2"/>
          <a:stretch/>
        </p:blipFill>
        <p:spPr>
          <a:xfrm>
            <a:off x="1981080" y="1447920"/>
            <a:ext cx="5410440" cy="4640040"/>
          </a:xfrm>
          <a:prstGeom prst="rect">
            <a:avLst/>
          </a:prstGeom>
          <a:ln w="0">
            <a:noFill/>
          </a:ln>
        </p:spPr>
      </p:pic>
      <p:sp>
        <p:nvSpPr>
          <p:cNvPr id="223" name="Line 7"/>
          <p:cNvSpPr/>
          <p:nvPr/>
        </p:nvSpPr>
        <p:spPr>
          <a:xfrm>
            <a:off x="304920" y="1047600"/>
            <a:ext cx="845964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12" descr=""/>
          <p:cNvPicPr/>
          <p:nvPr/>
        </p:nvPicPr>
        <p:blipFill>
          <a:blip r:embed="rId3"/>
          <a:srcRect l="18610" t="8060" r="4064" b="0"/>
          <a:stretch/>
        </p:blipFill>
        <p:spPr>
          <a:xfrm>
            <a:off x="76320" y="76320"/>
            <a:ext cx="780840" cy="99036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619280" y="115560"/>
            <a:ext cx="534024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Domains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of li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6"/>
          <p:cNvSpPr/>
          <p:nvPr/>
        </p:nvSpPr>
        <p:spPr>
          <a:xfrm>
            <a:off x="1469880" y="1066680"/>
            <a:ext cx="5311800" cy="59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A)- Prokaryota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بدائيات النوا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2 Kingdom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Archae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مملكة البدائيات وتضم البكتيريا البدائ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Bacteri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Eubacteria), 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مملكة االبكتيريا الحقيق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B)- Eukaryota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حقيقيات النواة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4 Kingdom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Fungi 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مملكة الفطريات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Protesta 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مملكة الطلائعيات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Plantae 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مملكة النباتات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Animali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مملكة الحيوانات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7"/>
          <p:cNvSpPr/>
          <p:nvPr/>
        </p:nvSpPr>
        <p:spPr>
          <a:xfrm>
            <a:off x="304920" y="990720"/>
            <a:ext cx="845964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15" descr=""/>
          <p:cNvPicPr/>
          <p:nvPr/>
        </p:nvPicPr>
        <p:blipFill>
          <a:blip r:embed="rId1"/>
          <a:srcRect l="18610" t="8060" r="4064" b="0"/>
          <a:stretch/>
        </p:blipFill>
        <p:spPr>
          <a:xfrm>
            <a:off x="76320" y="76320"/>
            <a:ext cx="780840" cy="99036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151920" y="2209320"/>
            <a:ext cx="891540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499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 cells are surrounded by a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asma membrane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غشاء بلازمى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499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semi-fluid substance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المادة </a:t>
            </a:r>
            <a:r>
              <a:rPr b="1" lang="ar-EG" sz="1800" spc="-1" strike="noStrike">
                <a:solidFill>
                  <a:srgbClr val="ff0000"/>
                </a:solidFill>
                <a:latin typeface="Arial"/>
              </a:rPr>
              <a:t>شبه ال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سائل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in the cell is called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“cytosol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السيتوبلازم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aining the cell organelles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عِضيات الخلي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499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 cells contain chromosomes which have genes in the form of D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499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 cells have tiny organelles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عضيات صغير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led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Ribosomes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hat make protei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title"/>
          </p:nvPr>
        </p:nvSpPr>
        <p:spPr>
          <a:xfrm>
            <a:off x="2209680" y="151920"/>
            <a:ext cx="59436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Prokaryotic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 and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eukaryotic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 cells</a:t>
            </a:r>
            <a:br>
              <a:rPr sz="2600"/>
            </a:b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     differ in size and complexity</a:t>
            </a:r>
            <a:endParaRPr b="1" lang="en-US" sz="2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1" name="Line 4"/>
          <p:cNvSpPr/>
          <p:nvPr/>
        </p:nvSpPr>
        <p:spPr>
          <a:xfrm>
            <a:off x="152280" y="106668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6"/>
          <p:cNvSpPr/>
          <p:nvPr/>
        </p:nvSpPr>
        <p:spPr>
          <a:xfrm>
            <a:off x="2514600" y="1600200"/>
            <a:ext cx="41148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800080"/>
                </a:solidFill>
                <a:uFillTx/>
                <a:latin typeface="Arial"/>
              </a:rPr>
              <a:t>Similarities</a:t>
            </a: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 </a:t>
            </a:r>
            <a:r>
              <a:rPr b="0" lang="ar-EG" sz="2400" spc="-1" strike="noStrike">
                <a:solidFill>
                  <a:srgbClr val="800080"/>
                </a:solidFill>
                <a:latin typeface="Arial"/>
                <a:cs typeface="Al-Mothnna"/>
              </a:rPr>
              <a:t>أوجه التشاب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9" descr=""/>
          <p:cNvPicPr/>
          <p:nvPr/>
        </p:nvPicPr>
        <p:blipFill>
          <a:blip r:embed="rId1"/>
          <a:srcRect l="18610" t="8060" r="4064" b="0"/>
          <a:stretch/>
        </p:blipFill>
        <p:spPr>
          <a:xfrm>
            <a:off x="76320" y="76320"/>
            <a:ext cx="780840" cy="99036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Line 4"/>
          <p:cNvSpPr/>
          <p:nvPr/>
        </p:nvSpPr>
        <p:spPr>
          <a:xfrm>
            <a:off x="152280" y="114300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981080" y="152280"/>
            <a:ext cx="5943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Prokaryotic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 and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eukaryotic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 cells</a:t>
            </a:r>
            <a:br>
              <a:rPr sz="2600"/>
            </a:b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     differ in size and complexity</a:t>
            </a:r>
            <a:endParaRPr b="1" lang="en-US" sz="2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6" name="Text Box 7"/>
          <p:cNvSpPr/>
          <p:nvPr/>
        </p:nvSpPr>
        <p:spPr>
          <a:xfrm>
            <a:off x="2514600" y="1295280"/>
            <a:ext cx="510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800080"/>
                </a:solidFill>
                <a:uFillTx/>
                <a:latin typeface="Arial"/>
              </a:rPr>
              <a:t>Differences</a:t>
            </a: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 </a:t>
            </a:r>
            <a:r>
              <a:rPr b="0" lang="ar-EG" sz="2400" spc="-1" strike="noStrike">
                <a:solidFill>
                  <a:srgbClr val="800080"/>
                </a:solidFill>
                <a:latin typeface="Arial"/>
                <a:cs typeface="Al-Mothnna"/>
              </a:rPr>
              <a:t>أوجه الإختلا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8"/>
          <p:cNvSpPr/>
          <p:nvPr/>
        </p:nvSpPr>
        <p:spPr>
          <a:xfrm>
            <a:off x="304920" y="1905120"/>
            <a:ext cx="86868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71680" indent="-571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ukaryotes have a nucleus, while prokaryotes do no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ukaryotes have membrane-bound organelles, while prokaryotes do no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ukaryotic cells are, on average, ten times the size of prokaryotic cel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DNA of eukaryotes is much more complex and therefore much more extensive than the DNA of prokaryo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499"/>
              </a:spcBef>
              <a:buClr>
                <a:srgbClr val="0000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karyotes have a cell wall composed of peptidoglycan,. Many types of eukaryotic cells also have cell walls, but none made of peptidoglyca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499"/>
              </a:spcBef>
              <a:buClr>
                <a:srgbClr val="0000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DNA of prokaryotes floats freely inside the cell; the DNA of eukaryotes is held within its nucleus and associated with histones (protei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499"/>
              </a:spcBef>
              <a:buClr>
                <a:srgbClr val="0000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ukaryotes undergo mitosis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meiosis; prokaryotes divide by binary fission (simple cell divis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9" descr=""/>
          <p:cNvPicPr/>
          <p:nvPr/>
        </p:nvPicPr>
        <p:blipFill>
          <a:blip r:embed="rId1"/>
          <a:srcRect l="18610" t="8060" r="4064" b="0"/>
          <a:stretch/>
        </p:blipFill>
        <p:spPr>
          <a:xfrm>
            <a:off x="76320" y="76320"/>
            <a:ext cx="780840" cy="99036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9" name="Group 14"/>
          <p:cNvGrpSpPr/>
          <p:nvPr/>
        </p:nvGrpSpPr>
        <p:grpSpPr>
          <a:xfrm>
            <a:off x="2362320" y="2666880"/>
            <a:ext cx="5862600" cy="3111480"/>
            <a:chOff x="2362320" y="2666880"/>
            <a:chExt cx="5862600" cy="3111480"/>
          </a:xfrm>
        </p:grpSpPr>
        <p:sp>
          <p:nvSpPr>
            <p:cNvPr id="240" name="Oval 22"/>
            <p:cNvSpPr/>
            <p:nvPr/>
          </p:nvSpPr>
          <p:spPr>
            <a:xfrm>
              <a:off x="2362320" y="2666880"/>
              <a:ext cx="5862600" cy="311148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Text Box 27"/>
            <p:cNvSpPr/>
            <p:nvPr/>
          </p:nvSpPr>
          <p:spPr>
            <a:xfrm>
              <a:off x="4937760" y="2776680"/>
              <a:ext cx="2742480" cy="25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  <a:ea typeface="MS PGothic"/>
                </a:rPr>
                <a:t>Nucleu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  <a:ea typeface="MS PGothic"/>
                </a:rPr>
                <a:t>Endoplasmic reticulu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  <a:ea typeface="MS PGothic"/>
                </a:rPr>
                <a:t>Golgi apparatu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  <a:ea typeface="MS PGothic"/>
                </a:rPr>
                <a:t>Lysosom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  <a:ea typeface="MS PGothic"/>
                </a:rPr>
                <a:t>Vacuol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  <a:ea typeface="MS PGothic"/>
                </a:rPr>
                <a:t>Mitochondri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  <a:ea typeface="MS PGothic"/>
                </a:rPr>
                <a:t>Cytoskelet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42" name="Group 13" descr=""/>
          <p:cNvPicPr/>
          <p:nvPr/>
        </p:nvPicPr>
        <p:blipFill>
          <a:blip r:embed="rId1"/>
          <a:stretch/>
        </p:blipFill>
        <p:spPr>
          <a:xfrm>
            <a:off x="762120" y="2670120"/>
            <a:ext cx="3992400" cy="3121200"/>
          </a:xfrm>
          <a:prstGeom prst="rect">
            <a:avLst/>
          </a:prstGeom>
          <a:ln w="0">
            <a:noFill/>
          </a:ln>
        </p:spPr>
      </p:pic>
      <p:sp>
        <p:nvSpPr>
          <p:cNvPr id="243" name="Text Box 28"/>
          <p:cNvSpPr/>
          <p:nvPr/>
        </p:nvSpPr>
        <p:spPr>
          <a:xfrm>
            <a:off x="1902960" y="228600"/>
            <a:ext cx="517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MS PGothic"/>
              </a:rPr>
              <a:t>Comparison and Contr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7"/>
          <p:cNvSpPr/>
          <p:nvPr/>
        </p:nvSpPr>
        <p:spPr>
          <a:xfrm>
            <a:off x="304920" y="1143000"/>
            <a:ext cx="845964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AutoShape 15"/>
          <p:cNvSpPr/>
          <p:nvPr/>
        </p:nvSpPr>
        <p:spPr>
          <a:xfrm>
            <a:off x="1295280" y="1752480"/>
            <a:ext cx="2438640" cy="838440"/>
          </a:xfrm>
          <a:prstGeom prst="downArrowCallout">
            <a:avLst>
              <a:gd name="adj1" fmla="val 72720"/>
              <a:gd name="adj2" fmla="val 72714"/>
              <a:gd name="adj3" fmla="val 16667"/>
              <a:gd name="adj4" fmla="val 666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Prokaryo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AutoShape 16"/>
          <p:cNvSpPr/>
          <p:nvPr/>
        </p:nvSpPr>
        <p:spPr>
          <a:xfrm>
            <a:off x="4419720" y="1752480"/>
            <a:ext cx="2438280" cy="838440"/>
          </a:xfrm>
          <a:prstGeom prst="downArrowCallout">
            <a:avLst>
              <a:gd name="adj1" fmla="val 72709"/>
              <a:gd name="adj2" fmla="val 72703"/>
              <a:gd name="adj3" fmla="val 16667"/>
              <a:gd name="adj4" fmla="val 666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Eukaryo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17" descr=""/>
          <p:cNvPicPr/>
          <p:nvPr/>
        </p:nvPicPr>
        <p:blipFill>
          <a:blip r:embed="rId2"/>
          <a:srcRect l="18610" t="8060" r="4064" b="0"/>
          <a:stretch/>
        </p:blipFill>
        <p:spPr>
          <a:xfrm>
            <a:off x="76320" y="76320"/>
            <a:ext cx="780840" cy="99036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0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1T18:57:57Z</dcterms:created>
  <dc:creator>Ash Ahm</dc:creator>
  <dc:description/>
  <dc:language>en-US</dc:language>
  <cp:lastModifiedBy>HP</cp:lastModifiedBy>
  <dcterms:modified xsi:type="dcterms:W3CDTF">2014-01-07T15:34:50Z</dcterms:modified>
  <cp:revision>48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ticulateGUID">
    <vt:lpwstr>5F18A715-23FA-4BC3-B070-F83B2FD50F30</vt:lpwstr>
  </property>
  <property fmtid="{D5CDD505-2E9C-101B-9397-08002B2CF9AE}" pid="3" name="ArticulatePath">
    <vt:lpwstr>Lecture 4</vt:lpwstr>
  </property>
</Properties>
</file>