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E843-8749-4215-A8DB-420C47E4D17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4C16-8A58-44B9-A203-01537D33CC9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CA03-9276-4777-8F4D-07EC7C2B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9DF-3F57-4664-ADB2-7698411F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6C22-CE48-4FC0-A94A-96814AB9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293-6D71-4B3C-A815-3B6F76CE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0E35-B737-4CC9-B7D5-6C6CEA67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3BB2-F07D-4998-BC54-74320F2E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6957-E965-49DA-B203-325AEECD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73BC-BD57-467F-A1A9-6EC87F22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AE71-F9C4-41A5-BCA0-7D83FDDC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419E-3308-47AD-92A0-DAD7AF6A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61AA-20D3-4CF7-A559-794BC964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0ED-1EC1-4430-8C81-FA9AA2FA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A740-C33B-4606-AAE1-8BD1CBEB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61BB-1977-4F2F-A355-AAB38624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0102-A33F-4F4E-9028-BDD3490B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A987-6799-4467-BF7C-0FFA01F3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7B79-4902-43CE-81F9-F5476E36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D4643-1D27-4F9F-BFDE-70ADBF49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E6A20-4E4D-4B58-B96E-4AA98A0A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A5163-6117-4EAC-BDE6-043CE6ED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68420-8835-4968-ACBE-BBA76305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A2F2A-03EA-4A27-A077-7492B716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111-A79D-47CF-A8AE-324DA0DD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82664-609F-42CD-96A1-45D90FC9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0F095-15DF-43EB-8130-7EE69827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9526A-2720-48DD-90D3-A0FB68B8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F20A2-7A79-4B7A-8CB5-4ECB71C7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A69A9-10F7-41B1-ACE2-4BF59EE2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69C73-26DD-45F7-9F97-137E5587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3209B-F567-49D3-90EA-7D1F011E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856-80CF-43BA-A66A-BFA6A5EF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7A4-F8CD-4069-851C-11B5612E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8C1-9B18-49CF-B05D-A0B216A6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65CE-87D5-49DB-BB8B-0BF19EA3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5DC-852C-4A29-A754-0BA0B55B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68A0-EFC1-4212-9C07-3B7D29C8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ADA0-2CD6-438D-BABB-69BD9B4139A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A211-CF85-43F7-A6D8-85DDACED0F1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B37A-59C5-4855-BD5B-05596A6A646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Cell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y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figure 5-1b"/>
          <p:cNvPicPr/>
          <p:nvPr/>
        </p:nvPicPr>
        <p:blipFill>
          <a:blip r:embed="rId1"/>
          <a:stretch/>
        </p:blipFill>
        <p:spPr>
          <a:xfrm>
            <a:off x="5410080" y="2362320"/>
            <a:ext cx="3505320" cy="2357280"/>
          </a:xfrm>
          <a:prstGeom prst="rect">
            <a:avLst/>
          </a:prstGeom>
          <a:ln w="0">
            <a:noFill/>
          </a:ln>
        </p:spPr>
      </p:pic>
      <p:sp>
        <p:nvSpPr>
          <p:cNvPr id="199" name="Line 5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152280" y="2844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52280" y="190476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person to see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Hooke in 16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s looking at a thin slice of cork through a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e found what he described as "tiny rooms" that he call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8, the German botanist Matthias Schleiden concluded that all plants were composed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9, Theodor Schwann concluded the same thing fo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55, Rudolf Virchow noted that all cells come from oth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cell theory stat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 living organisms are made of one or more ce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are the basic units of structure and function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come only from pre-existing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ell is the smallest unit that can carry on all of the processe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  <p:sp>
        <p:nvSpPr>
          <p:cNvPr id="206" name="Line 9"/>
          <p:cNvSpPr/>
          <p:nvPr/>
        </p:nvSpPr>
        <p:spPr>
          <a:xfrm>
            <a:off x="990720" y="685800"/>
            <a:ext cx="81532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C2FC-F329-48B9-BDB0-AD3F5F6247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1066680" y="297180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6172200" y="289548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33520" y="228600"/>
            <a:ext cx="281916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9436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52280" y="2666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7086600" y="24382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حقيقية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289548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712800" y="4551480"/>
            <a:ext cx="31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 and related 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البكتيريا وكائنات دقيقة شبية ب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3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Domains of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p1"/>
          <p:cNvPicPr/>
          <p:nvPr/>
        </p:nvPicPr>
        <p:blipFill>
          <a:blip r:embed="rId2"/>
          <a:stretch/>
        </p:blipFill>
        <p:spPr>
          <a:xfrm>
            <a:off x="1981080" y="1447920"/>
            <a:ext cx="5410440" cy="4640040"/>
          </a:xfrm>
          <a:prstGeom prst="rect">
            <a:avLst/>
          </a:prstGeom>
          <a:ln w="0">
            <a:noFill/>
          </a:ln>
        </p:spPr>
      </p:pic>
      <p:sp>
        <p:nvSpPr>
          <p:cNvPr id="223" name="Line 7"/>
          <p:cNvSpPr/>
          <p:nvPr/>
        </p:nvSpPr>
        <p:spPr>
          <a:xfrm>
            <a:off x="304920" y="10476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3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omain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469880" y="1066680"/>
            <a:ext cx="531180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)- Prokaryota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2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بدائيات وتضم البكتيريا البد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البكتيريا الحق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)- Eukaryota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قيقيات النو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4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gi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فطر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testa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طلائع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tae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نبات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حيوان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304920" y="9907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51920" y="2209320"/>
            <a:ext cx="8915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ادة 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شبه ال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سائ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514600" y="16002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4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251460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04920" y="19051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a nucleus, while prokaryotes do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membrane-bound organelles, while prokaryotes do n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ic cells are, on average, ten times the size of prokaryotic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eukaryotes is much more complex and therefore much more extensive than the DNA of prokary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have a cell wall composed of peptidoglycan,. Many types of eukaryotic cells also have cell walls, but none made of peptidogly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prokaryotes floats freely inside the cell; the DNA of eukaryotes is held within its nucleus and associated with histones (prote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undergo mitosi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eiosis; prokaryotes divide by binary fission (simple cell di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4"/>
          <p:cNvGrpSpPr/>
          <p:nvPr/>
        </p:nvGrpSpPr>
        <p:grpSpPr>
          <a:xfrm>
            <a:off x="2362320" y="2666880"/>
            <a:ext cx="5862600" cy="3111480"/>
            <a:chOff x="2362320" y="2666880"/>
            <a:chExt cx="5862600" cy="3111480"/>
          </a:xfrm>
        </p:grpSpPr>
        <p:sp>
          <p:nvSpPr>
            <p:cNvPr id="240" name="Oval 22"/>
            <p:cNvSpPr/>
            <p:nvPr/>
          </p:nvSpPr>
          <p:spPr>
            <a:xfrm>
              <a:off x="2362320" y="2666880"/>
              <a:ext cx="5862600" cy="31114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4937760" y="2776680"/>
              <a:ext cx="274248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Nucle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Endoplasmic reticul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Golgi apparat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Lys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Vacuo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Mitoch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Cytoskele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13" descr=""/>
          <p:cNvPicPr/>
          <p:nvPr/>
        </p:nvPicPr>
        <p:blipFill>
          <a:blip r:embed="rId1"/>
          <a:stretch/>
        </p:blipFill>
        <p:spPr>
          <a:xfrm>
            <a:off x="762120" y="2670120"/>
            <a:ext cx="3992400" cy="31212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28"/>
          <p:cNvSpPr/>
          <p:nvPr/>
        </p:nvSpPr>
        <p:spPr>
          <a:xfrm>
            <a:off x="1902960" y="228600"/>
            <a:ext cx="51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MS PGothic"/>
              </a:rPr>
              <a:t>Comparison and 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304920" y="11430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5"/>
          <p:cNvSpPr/>
          <p:nvPr/>
        </p:nvSpPr>
        <p:spPr>
          <a:xfrm>
            <a:off x="1295280" y="1752480"/>
            <a:ext cx="2438640" cy="838440"/>
          </a:xfrm>
          <a:prstGeom prst="downArrowCallout">
            <a:avLst>
              <a:gd name="adj1" fmla="val 72720"/>
              <a:gd name="adj2" fmla="val 72714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6"/>
          <p:cNvSpPr/>
          <p:nvPr/>
        </p:nvSpPr>
        <p:spPr>
          <a:xfrm>
            <a:off x="4419720" y="1752480"/>
            <a:ext cx="2438280" cy="838440"/>
          </a:xfrm>
          <a:prstGeom prst="downArrowCallout">
            <a:avLst>
              <a:gd name="adj1" fmla="val 72709"/>
              <a:gd name="adj2" fmla="val 72703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7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4:50Z</dcterms:modified>
  <cp:revision>4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F18A715-23FA-4BC3-B070-F83B2FD50F30</vt:lpwstr>
  </property>
  <property fmtid="{D5CDD505-2E9C-101B-9397-08002B2CF9AE}" pid="3" name="ArticulatePath">
    <vt:lpwstr>Lecture 4</vt:lpwstr>
  </property>
</Properties>
</file>