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9B7C-1333-4FA1-A3C9-872DD720A2E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08DD-BCE6-4F49-9826-D7313308DC1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B7E-29A1-4F4F-8420-888EAA02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8958-2434-4E00-805D-556942FA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DCE1-A336-4ADD-A655-D605856A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E437-0AD8-4D1B-8157-A0A20E81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CB03-73A0-4DE2-B839-EECD9228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2F41-A4C9-4727-A28F-308E49AD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E0A9-4EA1-4FC4-91E7-4E32E6C8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08F2-B1F3-4FAA-A0B5-4997CFC4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A674-BE89-4CE1-BE0D-96345B3A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FE44-70B5-4A39-B8BF-2004B345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0A72-A1BF-434E-9187-08EF9D1C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B0F1-9F34-4AC4-AB8E-4359224A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65B5-5D0E-475C-8D15-791462C7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B04A-D98B-482C-8DC2-5832F5B8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4796-D4F0-4E6F-B74D-4C897E2F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EDE4-151D-4F88-BA5E-3E55532C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0F56-0F50-4F2C-BB90-F9D4BE18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6B8C7-86D8-4B06-99EC-9B224376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A00BA-5836-47A0-8E7D-FCED5BAA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F5903-1FAC-4612-958A-617F29BE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C2A65-8FE1-4E28-9D85-3B0CB83A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9595E-1CD2-4354-91CB-81B0CE99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822B-240F-42F6-8312-FB649810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B419D-D700-4919-ADEA-17A4BF57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F33CD-2F07-44F7-85E1-006ABB08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A5842-EBC4-4C22-A431-31E0E9D1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E59A5-BECB-461F-B136-108C7114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86FBD-B0F2-47E9-8885-74106EBF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E53FB-9F22-434A-8769-B752FC3A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0F925-B357-4B08-AD07-3E77F375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19D-CD59-4B97-803C-7E42BCF4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9A9-F209-4A31-8E61-212E732B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5F83-443F-4913-8182-6901C948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8FB-90D4-4F5D-AF2D-DA216703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F1BE-4BDF-475D-84F2-F3D22444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83D-77F5-48C3-A353-6DEB70E2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C870-0828-4FCA-8801-C3CAD446A9D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791E-FB9F-4689-936E-79A7D39966B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5E34-829B-47D8-BEFE-E99EBCBBA32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Cell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very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figure 5-1b"/>
          <p:cNvPicPr/>
          <p:nvPr/>
        </p:nvPicPr>
        <p:blipFill>
          <a:blip r:embed="rId1"/>
          <a:stretch/>
        </p:blipFill>
        <p:spPr>
          <a:xfrm>
            <a:off x="5410080" y="2362320"/>
            <a:ext cx="3505320" cy="2357280"/>
          </a:xfrm>
          <a:prstGeom prst="rect">
            <a:avLst/>
          </a:prstGeom>
          <a:ln w="0">
            <a:noFill/>
          </a:ln>
        </p:spPr>
      </p:pic>
      <p:sp>
        <p:nvSpPr>
          <p:cNvPr id="199" name="Line 5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152280" y="2844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52280" y="190476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person to see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Hooke in 16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s looking at a thin slice of cork through a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e found what he described as "tiny rooms" that he call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8, the German botanist Matthias Schleiden concluded that all plants were composed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9, Theodor Schwann concluded the same thing fo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55, Rudolf Virchow noted that all cells come from oth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cell theory stat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 living organisms are made of one or more ce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are the basic units of structure and function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come only from pre-existing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ell is the smallest unit that can carry on all of the processe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  <p:sp>
        <p:nvSpPr>
          <p:cNvPr id="206" name="Line 9"/>
          <p:cNvSpPr/>
          <p:nvPr/>
        </p:nvSpPr>
        <p:spPr>
          <a:xfrm>
            <a:off x="990720" y="685800"/>
            <a:ext cx="81532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F6D1-B457-4506-8126-F86EF651C8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1066680" y="297180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6172200" y="289548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33520" y="228600"/>
            <a:ext cx="281916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9436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52280" y="2666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7086600" y="24382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حقيقية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289548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712800" y="4551480"/>
            <a:ext cx="31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 and related 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البكتيريا وكائنات دقيقة شبية ب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3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Domains of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9" descr="p1"/>
          <p:cNvPicPr/>
          <p:nvPr/>
        </p:nvPicPr>
        <p:blipFill>
          <a:blip r:embed="rId2"/>
          <a:stretch/>
        </p:blipFill>
        <p:spPr>
          <a:xfrm>
            <a:off x="1981080" y="1447920"/>
            <a:ext cx="5410440" cy="4640040"/>
          </a:xfrm>
          <a:prstGeom prst="rect">
            <a:avLst/>
          </a:prstGeom>
          <a:ln w="0">
            <a:noFill/>
          </a:ln>
        </p:spPr>
      </p:pic>
      <p:sp>
        <p:nvSpPr>
          <p:cNvPr id="223" name="Line 7"/>
          <p:cNvSpPr/>
          <p:nvPr/>
        </p:nvSpPr>
        <p:spPr>
          <a:xfrm>
            <a:off x="304920" y="10476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3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omain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469880" y="1066680"/>
            <a:ext cx="531180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)- Prokaryota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2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بدائيات وتضم البكتيريا البدائ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البكتيريا الحق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)- Eukaryota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قيقيات النو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4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gi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فطر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testa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طلائع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ntae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نبات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حيوان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304920" y="9907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51920" y="2209320"/>
            <a:ext cx="8915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ادة 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شبه ال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سائ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514600" y="16002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4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251460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04920" y="19051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a nucleus, while prokaryotes do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membrane-bound organelles, while prokaryotes do n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ic cells are, on average, ten times the size of prokaryotic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eukaryotes is much more complex and therefore much more extensive than the DNA of prokary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have a cell wall composed of peptidoglycan,. Many types of eukaryotic cells also have cell walls, but none made of peptidogly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prokaryotes floats freely inside the cell; the DNA of eukaryotes is held within its nucleus and associated with histones (prote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undergo mitosi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eiosis; prokaryotes divide by binary fission (simple cell div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4"/>
          <p:cNvGrpSpPr/>
          <p:nvPr/>
        </p:nvGrpSpPr>
        <p:grpSpPr>
          <a:xfrm>
            <a:off x="2362320" y="2666880"/>
            <a:ext cx="5862600" cy="3111480"/>
            <a:chOff x="2362320" y="2666880"/>
            <a:chExt cx="5862600" cy="3111480"/>
          </a:xfrm>
        </p:grpSpPr>
        <p:sp>
          <p:nvSpPr>
            <p:cNvPr id="240" name="Oval 22"/>
            <p:cNvSpPr/>
            <p:nvPr/>
          </p:nvSpPr>
          <p:spPr>
            <a:xfrm>
              <a:off x="2362320" y="2666880"/>
              <a:ext cx="5862600" cy="31114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4937760" y="2776680"/>
              <a:ext cx="274248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Nucle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Endoplasmic reticul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Golgi apparat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Lys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Vacuo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Mitoch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Cytoskele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Group 13" descr=""/>
          <p:cNvPicPr/>
          <p:nvPr/>
        </p:nvPicPr>
        <p:blipFill>
          <a:blip r:embed="rId1"/>
          <a:stretch/>
        </p:blipFill>
        <p:spPr>
          <a:xfrm>
            <a:off x="762120" y="2670120"/>
            <a:ext cx="3992400" cy="31212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28"/>
          <p:cNvSpPr/>
          <p:nvPr/>
        </p:nvSpPr>
        <p:spPr>
          <a:xfrm>
            <a:off x="1902960" y="228600"/>
            <a:ext cx="51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MS PGothic"/>
              </a:rPr>
              <a:t>Comparison and 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304920" y="11430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5"/>
          <p:cNvSpPr/>
          <p:nvPr/>
        </p:nvSpPr>
        <p:spPr>
          <a:xfrm>
            <a:off x="1295280" y="1752480"/>
            <a:ext cx="2438640" cy="838440"/>
          </a:xfrm>
          <a:prstGeom prst="downArrowCallout">
            <a:avLst>
              <a:gd name="adj1" fmla="val 72720"/>
              <a:gd name="adj2" fmla="val 72714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6"/>
          <p:cNvSpPr/>
          <p:nvPr/>
        </p:nvSpPr>
        <p:spPr>
          <a:xfrm>
            <a:off x="4419720" y="1752480"/>
            <a:ext cx="2438280" cy="838440"/>
          </a:xfrm>
          <a:prstGeom prst="downArrowCallout">
            <a:avLst>
              <a:gd name="adj1" fmla="val 72709"/>
              <a:gd name="adj2" fmla="val 72703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7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4:50Z</dcterms:modified>
  <cp:revision>4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F18A715-23FA-4BC3-B070-F83B2FD50F30</vt:lpwstr>
  </property>
  <property fmtid="{D5CDD505-2E9C-101B-9397-08002B2CF9AE}" pid="3" name="ArticulatePath">
    <vt:lpwstr>Lecture 4</vt:lpwstr>
  </property>
</Properties>
</file>