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29A2-A339-4078-8BFC-F49CB16DF0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900A-A9E4-43EA-B7F9-4AEFDE862DA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A00-6F7A-405E-8002-BB3392D7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381-F39D-4659-9AAC-4ED876D2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AFB-0642-41B9-86F0-D6D3AC31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73E-3085-4F34-BFB4-66714E32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5E3D-5DF9-47A0-90EE-8FF2C70C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FA2F-64E3-4CF5-8CCD-61371ED4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985D-32CD-4F0E-A192-DC6E437A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EAE2-0BF3-4DD2-B36D-E499F95A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D02C-3AEC-438D-B8C5-1F11FA7D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D12A-E493-471D-A42E-952163B9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1245-2BF0-4D60-9D4A-DB26D4B9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878-9900-41BC-AF76-67C83CA8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BFFD-B42A-430D-8080-9F73AE8F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7E89-E0E9-4D5E-976D-60A9697E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586B-CEAD-45BE-BE02-14B860CA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A9DD-65DD-4341-B71A-E506AB6C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B3FD-BDF4-4C91-8734-E78846A7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AEB6-1CF2-43D6-B7B8-89D8FFAA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99954-3B04-4855-AD0B-293BE0B0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80B10-53EC-44EE-BD70-4C26865D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FA59-7242-451D-8411-1F0ABE15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0F966-26A5-4AFE-9A2E-ABDCF75C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FC4C-970F-4C05-96D2-0F885649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29774-FEAE-4651-8EF6-32FF38E2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9995-A4DB-431E-8A6B-AA3B1BB3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0F15F-F114-4AB5-B231-A61F45A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6C6C6-31E6-4BF1-81D2-AB3617C7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AF1FC-2208-4910-98D4-B89261C3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B7DFB-63EF-4863-A7E4-F3267C0D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A160A-15D4-4D2B-BDFE-634A2B72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7EF-5B0B-4270-8F2C-B4C33794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E13-6949-44BD-B75F-07331316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941-3953-417F-B104-B4577CED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BB2-A8D1-4927-B88A-4E1BEC59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5D9-B566-4C19-A066-FA7E73A1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53C-255A-45D6-8949-9E4E6874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14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2602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1924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60480" indent="-219240">
              <a:spcBef>
                <a:spcPts val="55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98440" indent="-236520">
              <a:spcBef>
                <a:spcPts val="55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198440" indent="-23652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198440" indent="-23652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B962-3A5B-4081-B2F7-5EC0008476CE}" type="slidenum">
              <a:rPr b="0" lang="ar-SA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14480"/>
            <a:ext cx="792000" cy="971280"/>
            <a:chOff x="8153280" y="114480"/>
            <a:chExt cx="792000" cy="971280"/>
          </a:xfrm>
        </p:grpSpPr>
        <p:sp>
          <p:nvSpPr>
            <p:cNvPr id="7" name="Oval 9"/>
            <p:cNvSpPr/>
            <p:nvPr/>
          </p:nvSpPr>
          <p:spPr>
            <a:xfrm>
              <a:off x="8153280" y="114480"/>
              <a:ext cx="119880" cy="89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14480"/>
              <a:ext cx="118440" cy="89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14480"/>
              <a:ext cx="113760" cy="89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240120"/>
              <a:ext cx="119880" cy="88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240120"/>
              <a:ext cx="118440" cy="88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240120"/>
              <a:ext cx="113760" cy="88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240120"/>
              <a:ext cx="109440" cy="88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366120"/>
              <a:ext cx="119880" cy="81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366120"/>
              <a:ext cx="118440" cy="81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366120"/>
              <a:ext cx="113760" cy="810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366120"/>
              <a:ext cx="109440" cy="810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366120"/>
              <a:ext cx="119880" cy="810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492120"/>
              <a:ext cx="119880" cy="89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492120"/>
              <a:ext cx="118440" cy="89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492120"/>
              <a:ext cx="113760" cy="89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492120"/>
              <a:ext cx="109440" cy="89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618120"/>
              <a:ext cx="119880" cy="89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618120"/>
              <a:ext cx="118440" cy="89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618120"/>
              <a:ext cx="113760" cy="89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618120"/>
              <a:ext cx="109440" cy="89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618120"/>
              <a:ext cx="119880" cy="89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744120"/>
              <a:ext cx="119880" cy="8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744120"/>
              <a:ext cx="118440" cy="8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744120"/>
              <a:ext cx="113760" cy="8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744120"/>
              <a:ext cx="109440" cy="8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870120"/>
              <a:ext cx="119880" cy="83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870120"/>
              <a:ext cx="118440" cy="83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870120"/>
              <a:ext cx="113760" cy="83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870120"/>
              <a:ext cx="109440" cy="83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996120"/>
              <a:ext cx="118440" cy="89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996120"/>
              <a:ext cx="109440" cy="89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A316-1883-44B4-9679-6B786AF91C8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800280"/>
            <a:ext cx="0" cy="33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244600"/>
            <a:ext cx="1337760" cy="1641240"/>
            <a:chOff x="7493040" y="2244600"/>
            <a:chExt cx="1337760" cy="1641240"/>
          </a:xfrm>
        </p:grpSpPr>
        <p:sp>
          <p:nvSpPr>
            <p:cNvPr id="117" name="Oval 9"/>
            <p:cNvSpPr/>
            <p:nvPr/>
          </p:nvSpPr>
          <p:spPr>
            <a:xfrm>
              <a:off x="7493040" y="224460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24460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24460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245772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245772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245772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2457720"/>
              <a:ext cx="201240" cy="150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2669760"/>
              <a:ext cx="201240" cy="151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2669760"/>
              <a:ext cx="201240" cy="151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2669760"/>
              <a:ext cx="201240" cy="151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2669760"/>
              <a:ext cx="201240" cy="151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2669760"/>
              <a:ext cx="201240" cy="151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2882520"/>
              <a:ext cx="201240" cy="151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2882520"/>
              <a:ext cx="201240" cy="151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2882520"/>
              <a:ext cx="201240" cy="151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2882520"/>
              <a:ext cx="201240" cy="151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3095640"/>
              <a:ext cx="201240" cy="1522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3095640"/>
              <a:ext cx="201240" cy="1522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3095640"/>
              <a:ext cx="201240" cy="1522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3095640"/>
              <a:ext cx="201240" cy="1522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3095640"/>
              <a:ext cx="201240" cy="152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3308760"/>
              <a:ext cx="201240" cy="151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3308760"/>
              <a:ext cx="201240" cy="151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3308760"/>
              <a:ext cx="201240" cy="151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3308760"/>
              <a:ext cx="201240" cy="1519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3522960"/>
              <a:ext cx="201240" cy="1522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3522960"/>
              <a:ext cx="201240" cy="1522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3522960"/>
              <a:ext cx="201240" cy="152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3522960"/>
              <a:ext cx="201240" cy="152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3735000"/>
              <a:ext cx="201240" cy="150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3735000"/>
              <a:ext cx="201240" cy="150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11464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2602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1924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60480" indent="-219240">
              <a:spcBef>
                <a:spcPts val="55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98440" indent="-236520">
              <a:spcBef>
                <a:spcPts val="55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198440" indent="-23652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198440" indent="-23652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02CB-A163-4001-9C4C-D9571A5F0A6C}" type="slidenum">
              <a:rPr b="0" lang="ar-SA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428480" y="1028520"/>
            <a:ext cx="6172200" cy="33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bert Hook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166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was looking at a thin slice of cork through a       simpl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found what he described as "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iny roo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 that he called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CEL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85720" y="17100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Discovery of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figure 5-1b"/>
          <p:cNvPicPr/>
          <p:nvPr/>
        </p:nvPicPr>
        <p:blipFill>
          <a:blip r:embed="rId1"/>
          <a:stretch/>
        </p:blipFill>
        <p:spPr>
          <a:xfrm>
            <a:off x="4172040" y="2587680"/>
            <a:ext cx="3714840" cy="249876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>
            <a:off x="1143000" y="800280"/>
            <a:ext cx="6858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2"/>
          <a:srcRect l="18610" t="8084" r="4046" b="0"/>
          <a:stretch/>
        </p:blipFill>
        <p:spPr>
          <a:xfrm>
            <a:off x="1257480" y="20520"/>
            <a:ext cx="5857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9"/>
          <p:cNvSpPr/>
          <p:nvPr/>
        </p:nvSpPr>
        <p:spPr>
          <a:xfrm>
            <a:off x="1542960" y="782640"/>
            <a:ext cx="61153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71200" y="171360"/>
            <a:ext cx="5372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Cell Theory </a:t>
            </a:r>
            <a:r>
              <a:rPr b="1" lang="ar-SA" sz="1500" spc="-1" strike="noStrike">
                <a:solidFill>
                  <a:srgbClr val="000000"/>
                </a:solidFill>
                <a:latin typeface="Arial"/>
              </a:rPr>
              <a:t>النظرية الخلوي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85720" y="97164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38, the German botanis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tthias Schlei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cluded that all plants were composed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39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Theodor Schwan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cluded the same thing for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55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udolf Virc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ted that all cells come from other cells and after reaching a definite size every cell divides or repro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ells are the basic units of structure and func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5446800" y="155412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"/>
          <p:cNvPicPr/>
          <p:nvPr/>
        </p:nvPicPr>
        <p:blipFill>
          <a:blip r:embed="rId1"/>
          <a:srcRect l="18610" t="8084" r="4046" b="0"/>
          <a:stretch/>
        </p:blipFill>
        <p:spPr>
          <a:xfrm>
            <a:off x="1200240" y="57240"/>
            <a:ext cx="58572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058080" y="4686480"/>
            <a:ext cx="1600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D141-B8B2-4197-A60B-EDFBA6FFC5B6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943280" y="2228760"/>
            <a:ext cx="1714320" cy="10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5772240" y="2171880"/>
            <a:ext cx="1714320" cy="1085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581280" y="133200"/>
            <a:ext cx="2114640" cy="10861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657440" y="342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600880" y="33717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2209680" y="1657440"/>
            <a:ext cx="1257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1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1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1657440" y="371484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100" spc="-1" strike="noStrike">
                <a:solidFill>
                  <a:srgbClr val="000000"/>
                </a:solidFill>
                <a:latin typeface="Arial"/>
              </a:rPr>
              <a:t>الكائنات الدقيقة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5867280" y="1657440"/>
            <a:ext cx="1371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85720" y="114480"/>
            <a:ext cx="5886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>
            <a:hlinkClick r:id="" action="ppaction://hlinkshowjump?jump=nextslide"/>
          </p:cNvPr>
          <p:cNvSpPr/>
          <p:nvPr/>
        </p:nvSpPr>
        <p:spPr>
          <a:xfrm>
            <a:off x="5578560" y="4743360"/>
            <a:ext cx="4795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>
            <a:hlinkClick r:id="" action="ppaction://hlinkshowjump?jump=endshow"/>
          </p:cNvPr>
          <p:cNvSpPr/>
          <p:nvPr/>
        </p:nvSpPr>
        <p:spPr>
          <a:xfrm>
            <a:off x="7086600" y="4743360"/>
            <a:ext cx="4795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>
            <a:hlinkClick r:id="" action="ppaction://hlinkshowjump?jump=previousslide"/>
          </p:cNvPr>
          <p:cNvSpPr/>
          <p:nvPr/>
        </p:nvSpPr>
        <p:spPr>
          <a:xfrm>
            <a:off x="4952880" y="4734000"/>
            <a:ext cx="4795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>
            <a:hlinkClick r:id="rId1" action="ppaction://hlinksldjump"/>
          </p:cNvPr>
          <p:cNvSpPr/>
          <p:nvPr/>
        </p:nvSpPr>
        <p:spPr>
          <a:xfrm>
            <a:off x="6229440" y="4734000"/>
            <a:ext cx="6858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" descr="p1"/>
          <p:cNvPicPr/>
          <p:nvPr/>
        </p:nvPicPr>
        <p:blipFill>
          <a:blip r:embed="rId2"/>
          <a:stretch/>
        </p:blipFill>
        <p:spPr>
          <a:xfrm>
            <a:off x="1676520" y="1047600"/>
            <a:ext cx="5790960" cy="3822840"/>
          </a:xfrm>
          <a:prstGeom prst="rect">
            <a:avLst/>
          </a:prstGeom>
          <a:ln w="0">
            <a:noFill/>
          </a:ln>
        </p:spPr>
      </p:pic>
      <p:sp>
        <p:nvSpPr>
          <p:cNvPr id="222" name="Line 7"/>
          <p:cNvSpPr/>
          <p:nvPr/>
        </p:nvSpPr>
        <p:spPr>
          <a:xfrm>
            <a:off x="1371600" y="785880"/>
            <a:ext cx="63453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"/>
          <p:cNvPicPr/>
          <p:nvPr/>
        </p:nvPicPr>
        <p:blipFill>
          <a:blip r:embed="rId3"/>
          <a:srcRect l="18610" t="8084" r="4046" b="0"/>
          <a:stretch/>
        </p:blipFill>
        <p:spPr>
          <a:xfrm>
            <a:off x="1200240" y="57240"/>
            <a:ext cx="5857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357280" y="87480"/>
            <a:ext cx="400536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941480" y="746280"/>
            <a:ext cx="6211800" cy="43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i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1371600" y="743040"/>
            <a:ext cx="63453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5" descr=""/>
          <p:cNvPicPr/>
          <p:nvPr/>
        </p:nvPicPr>
        <p:blipFill>
          <a:blip r:embed="rId1"/>
          <a:srcRect l="18610" t="8084" r="4046" b="0"/>
          <a:stretch/>
        </p:blipFill>
        <p:spPr>
          <a:xfrm>
            <a:off x="1200240" y="57240"/>
            <a:ext cx="5857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1657440"/>
            <a:ext cx="73533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200000"/>
              </a:lnSpc>
              <a:spcBef>
                <a:spcPts val="374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3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200000"/>
              </a:lnSpc>
              <a:spcBef>
                <a:spcPts val="374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300" spc="-1" strike="noStrike">
                <a:solidFill>
                  <a:srgbClr val="000000"/>
                </a:solidFill>
                <a:latin typeface="Arial"/>
              </a:rPr>
              <a:t>المادة النصف سائلة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3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3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200000"/>
              </a:lnSpc>
              <a:spcBef>
                <a:spcPts val="374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200000"/>
              </a:lnSpc>
              <a:spcBef>
                <a:spcPts val="374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3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800440" y="114120"/>
            <a:ext cx="44575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1900"/>
            </a:b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1257480" y="800280"/>
            <a:ext cx="65721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3029040" y="1200240"/>
            <a:ext cx="3085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"/>
          <p:cNvPicPr/>
          <p:nvPr/>
        </p:nvPicPr>
        <p:blipFill>
          <a:blip r:embed="rId1"/>
          <a:srcRect l="18610" t="8084" r="4046" b="0"/>
          <a:stretch/>
        </p:blipFill>
        <p:spPr>
          <a:xfrm>
            <a:off x="1200240" y="57240"/>
            <a:ext cx="5857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4"/>
          <p:cNvSpPr/>
          <p:nvPr/>
        </p:nvSpPr>
        <p:spPr>
          <a:xfrm>
            <a:off x="1257480" y="857160"/>
            <a:ext cx="65721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629080" y="114120"/>
            <a:ext cx="4457520" cy="74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1900"/>
            </a:b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3029040" y="971640"/>
            <a:ext cx="38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28600" y="1352520"/>
            <a:ext cx="861048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ukaryotes have a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while prokaryotes do no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ukaryotes have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membrane-bound organell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while prokaryotes do no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ukaryotic cells are, on average,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ten times larger than the siz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of prokaryotic cell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DNA of eukaryotes is much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more comple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therefore much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more extensiv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than the DNA of prokaryot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karyotes have a cell wall composed of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peptidoglyca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 Many types of eukaryotic cells  (plant cells) also have cell walls, but none is made up of peptidoglyca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DNA of prokaryotes floats freely around the cell; the DNA of eukaryotes is held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within its nucleu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associated with histones (proteins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ukaryotes undergo 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mitosi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; prokaryotes divide by </a:t>
            </a:r>
            <a:r>
              <a:rPr b="0" lang="en-US" sz="1500" spc="-1" strike="noStrike" u="sng">
                <a:solidFill>
                  <a:srgbClr val="ff0000"/>
                </a:solidFill>
                <a:uFillTx/>
                <a:latin typeface="Arial"/>
              </a:rPr>
              <a:t>binary fiss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simple cell division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8610" t="8084" r="4046" b="0"/>
          <a:stretch/>
        </p:blipFill>
        <p:spPr>
          <a:xfrm>
            <a:off x="1200240" y="57240"/>
            <a:ext cx="5857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14"/>
          <p:cNvGrpSpPr/>
          <p:nvPr/>
        </p:nvGrpSpPr>
        <p:grpSpPr>
          <a:xfrm>
            <a:off x="2914560" y="2000160"/>
            <a:ext cx="4397400" cy="2333880"/>
            <a:chOff x="2914560" y="2000160"/>
            <a:chExt cx="4397400" cy="2333880"/>
          </a:xfrm>
        </p:grpSpPr>
        <p:sp>
          <p:nvSpPr>
            <p:cNvPr id="239" name="Oval 22"/>
            <p:cNvSpPr/>
            <p:nvPr/>
          </p:nvSpPr>
          <p:spPr>
            <a:xfrm>
              <a:off x="2914560" y="2000160"/>
              <a:ext cx="4397400" cy="23338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4855320" y="2082240"/>
              <a:ext cx="2107080" cy="19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Group 13" descr=""/>
          <p:cNvPicPr/>
          <p:nvPr/>
        </p:nvPicPr>
        <p:blipFill>
          <a:blip r:embed="rId1"/>
          <a:stretch/>
        </p:blipFill>
        <p:spPr>
          <a:xfrm>
            <a:off x="1706400" y="1994040"/>
            <a:ext cx="3011760" cy="23587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28"/>
          <p:cNvSpPr/>
          <p:nvPr/>
        </p:nvSpPr>
        <p:spPr>
          <a:xfrm>
            <a:off x="2591640" y="17136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>
            <a:off x="1371600" y="857160"/>
            <a:ext cx="63453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2114640" y="1314360"/>
            <a:ext cx="1828800" cy="628920"/>
          </a:xfrm>
          <a:prstGeom prst="downArrowCallout">
            <a:avLst>
              <a:gd name="adj1" fmla="val 72703"/>
              <a:gd name="adj2" fmla="val 72696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6"/>
          <p:cNvSpPr/>
          <p:nvPr/>
        </p:nvSpPr>
        <p:spPr>
          <a:xfrm>
            <a:off x="4457880" y="1314360"/>
            <a:ext cx="1828800" cy="628920"/>
          </a:xfrm>
          <a:prstGeom prst="downArrowCallout">
            <a:avLst>
              <a:gd name="adj1" fmla="val 72703"/>
              <a:gd name="adj2" fmla="val 72696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7" descr=""/>
          <p:cNvPicPr/>
          <p:nvPr/>
        </p:nvPicPr>
        <p:blipFill>
          <a:blip r:embed="rId2"/>
          <a:srcRect l="18594" t="8067" r="4052" b="0"/>
          <a:stretch/>
        </p:blipFill>
        <p:spPr>
          <a:xfrm>
            <a:off x="1168560" y="25560"/>
            <a:ext cx="701640" cy="8888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User</cp:lastModifiedBy>
  <dcterms:modified xsi:type="dcterms:W3CDTF">2015-02-05T05:24:13Z</dcterms:modified>
  <cp:revision>486</cp:revision>
  <dc:subject/>
  <dc:title>Slide 1</dc:title>
</cp:coreProperties>
</file>