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662E-AE90-43E8-9C45-46DC9DACACA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23B2-0252-41A6-BA6E-DB981387C8E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56C1-5484-4727-BB92-16ED1158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7FB-EFBE-4A81-9AF2-35467695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791-7953-459A-8AEB-AB745283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2568-4F59-4367-9778-C37D182A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D9DE-64ED-49B9-A602-7A8BAEBF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AF78-DBE7-4560-BBCA-38D0B6D4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7FAA-02FC-4C7E-B3C5-8ABCEEA2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3441-5CED-4123-89AB-FA20FB8C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78DF-3B90-4CB1-9F0E-EF3A5AE1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3956-FBDB-4FC7-9B0B-F3B38DBF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0AAD-E376-403F-9A7A-D3E5A08F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603-5C92-4953-872D-7210A5D0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71AC-6DB2-45FB-B38A-6A1D2720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0CF8-3491-4DCF-90A5-7F161B68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33B3-70B9-4B93-9F1B-6753C5EF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8DFC-ED64-474A-9841-EA51D789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6A7F-80BB-492C-9D03-82A9DEB7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5F30D-0D06-470E-A9E4-0B9A1581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47149-CB98-47BD-A2F1-2F30CE57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002E2-8898-4F0F-B697-FD08E0C3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FDE214-B80D-4F74-A08C-482229A6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0AE18-7626-43C8-981A-D85C0937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B2E-1C85-4A21-8439-A7654DD7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6CCD05-E3A8-4096-AC44-9E9FEE0D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856BA-BE9B-4879-87B5-22C1AE34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BD799-57F6-457C-98D2-37069C9C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89C96-0723-4DBB-B4D0-3C2FA256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DD177-0272-44B9-AA29-AA654B34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C1DF6-FC76-435B-AB1E-2206E410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EB836-0CAF-4FCD-97E9-6B6429BA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8DF62-8657-41B3-B7F0-32FB8168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4D0A6-C83E-482A-AE30-A9B3009C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0506A-AA6E-48E4-9459-D9751A9E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7D42-924D-4291-88CE-812188E9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569A3-8F59-4678-9044-02926E63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3C3DD-7A86-4199-BFEC-B28D96E4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058C2-68CF-458A-BB3E-0835B295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0AC1C-0BBE-4A90-AA1C-68101E34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563F8-95C3-49BD-8A32-8D6DEE1B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8C07A-D0CB-4864-BB5F-3DACAC24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4EDA0-3FCF-4A8F-AB9D-9F005F88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5C552-9871-4485-95FE-49B12C5C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D3470-8498-43F8-AB42-104D3849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B31B9A-31E3-478B-83B5-96975546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678-C172-455C-A7FB-93356EC5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EAC8E-73EC-40D1-8A36-C822112A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BF401-A666-4A8C-9614-94D6E23A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C46730-38B4-4DD1-A0ED-79DF0AEF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A5296-AF60-42E5-85EC-70D9F465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180C4C-3693-4805-9AC8-F9199BEA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C2F4E4-67A2-4326-AF19-CD750B06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ABB7A-C4DB-4D47-94AD-95B5E95E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C9D721-26ED-44E5-B2D9-AA9D445F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C20717-AA76-4D29-8656-9DF2A8AE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50D08F-0DA7-4723-ADE3-0A46C183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9FB-82C2-42BF-8FEF-93E51A35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5A990A-1B43-4838-9551-1BBDFF51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A058A3-AE69-4AD3-9122-F98B01A1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301E6D-4F32-48EC-AD6B-62600C96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CDB576-E765-4130-B7A5-1D8374E9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B2828A-F14B-4981-A87E-C1E0A557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D134F7-4BAC-4947-AD57-7609D94E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413156-882C-44A6-8632-2E8769B5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CF6D99-193F-4711-A74E-A3D794F8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E92233-F6B6-4514-B932-B5510A39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05DF4F-CF2A-470F-80E4-F874BC99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93B-1A1C-4886-806F-81F52651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C31BD0-5177-41AC-9689-5944F3B8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6DD251-25AD-41D6-B1BA-F45D01CA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9B73CF-14E6-4E19-9108-24B85670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D2D01-0447-4104-B389-3B196A43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1EDA05-027C-431C-8719-A43F2F28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EF7CA7-C1FB-4F23-A90B-A88A56A5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027E4B-7269-4A6F-9BEF-3B4E3BAE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343D98-2237-4356-B80E-5F45104C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B04D35-DAF7-4656-B79D-729DEFA1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DD3D1C-C549-4008-B3F6-C6F46EA8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9540-F3DE-4227-A151-96489D10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776FED-D597-44AB-B814-BE002DB1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9630E5-515E-40DB-B433-09EC6763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D5A383-14D6-467A-812D-1BDF4915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94BA6F-FA6F-4A33-8245-62E18713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ABD765-0121-4AFF-8144-D342F245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428-F93E-4B5D-9392-62228ACA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8B7A-B759-4A0B-A3A6-B05353B2C6DD}" type="datetime"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AEE8-44D1-4738-925B-B5DA0C25135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0ABE-A0C7-479D-8732-6855B8C3E607}" type="datetime"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8480-9EC7-4994-8D96-103FA8FC2C9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E2C3-AB1A-4E1A-AF4A-BF04EFCF894E}" type="datetime"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DBA7-5470-4CA3-9172-920380023F1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5945-EEC9-463F-9A4B-BCF7962D0A93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7B1E-469B-474D-BBC0-5A09C8455F3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4021-9147-4D2C-B72A-F9CDBCE83DF0}" type="datetime"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0320-CF4F-4B83-9F4E-1DC8A0B507A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CA7C-6F64-410A-9E0E-3B4A6A8097F5}" type="datetime"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9FE4-9091-483B-A025-7C1630C1DA8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A746-F951-44CE-B539-0DE3A1534A45}" type="datetime"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B785-BF97-4623-B9B8-7CD30E897669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09320" y="2133360"/>
            <a:ext cx="6172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13f9a"/>
                </a:solidFill>
                <a:latin typeface="Calisto MT"/>
              </a:rPr>
              <a:t>ARTERIAL </a:t>
            </a:r>
            <a:r>
              <a:rPr b="1" lang="en-US" sz="3600" spc="-1" strike="noStrike">
                <a:solidFill>
                  <a:srgbClr val="b13f9a"/>
                </a:solidFill>
                <a:latin typeface="Calisto MT"/>
              </a:rPr>
              <a:t>BLOOD GASES</a:t>
            </a:r>
            <a:br>
              <a:rPr sz="3600"/>
            </a:br>
            <a:r>
              <a:rPr b="1" lang="en-US" sz="3200" spc="-1" strike="noStrike">
                <a:solidFill>
                  <a:srgbClr val="b13f9a"/>
                </a:solidFill>
                <a:latin typeface="Calisto MT"/>
              </a:rPr>
              <a:t>BY </a:t>
            </a:r>
            <a:br>
              <a:rPr sz="3200"/>
            </a:br>
            <a:r>
              <a:rPr b="1" lang="en-US" sz="3200" spc="-1" strike="noStrike">
                <a:solidFill>
                  <a:srgbClr val="b13f9a"/>
                </a:solidFill>
                <a:latin typeface="Calisto MT"/>
              </a:rPr>
              <a:t>HEBA ELMANZALWAY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96DA-0A79-498B-ABD7-1FE53C61A8B7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itle 1"/>
          <p:cNvSpPr/>
          <p:nvPr/>
        </p:nvSpPr>
        <p:spPr>
          <a:xfrm>
            <a:off x="1371600" y="304920"/>
            <a:ext cx="61722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3f9a"/>
                </a:solidFill>
                <a:uFillTx/>
                <a:latin typeface="Century Schoolbook"/>
              </a:rPr>
              <a:t>ALLEN’S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ubtitle 2"/>
          <p:cNvSpPr/>
          <p:nvPr/>
        </p:nvSpPr>
        <p:spPr>
          <a:xfrm>
            <a:off x="1143000" y="1219320"/>
            <a:ext cx="6629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a test done to determine that collateral circulation is present from the ulnar  artery in case thrombosis occur in the ra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C:\Users\Afnan\Desktop\critical labs\allen's%20test_edited.jpg"/>
          <p:cNvPicPr/>
          <p:nvPr/>
        </p:nvPicPr>
        <p:blipFill>
          <a:blip r:embed="rId1"/>
          <a:stretch/>
        </p:blipFill>
        <p:spPr>
          <a:xfrm>
            <a:off x="533520" y="2895480"/>
            <a:ext cx="3657600" cy="3505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C:\Users\Afnan\Desktop\critical labs\allen's%20test3.jpg"/>
          <p:cNvPicPr/>
          <p:nvPr/>
        </p:nvPicPr>
        <p:blipFill>
          <a:blip r:embed="rId2"/>
          <a:stretch/>
        </p:blipFill>
        <p:spPr>
          <a:xfrm>
            <a:off x="4419720" y="2895480"/>
            <a:ext cx="3619440" cy="3556080"/>
          </a:xfrm>
          <a:prstGeom prst="rect">
            <a:avLst/>
          </a:prstGeom>
          <a:ln w="0">
            <a:noFill/>
          </a:ln>
        </p:spPr>
      </p:pic>
      <p:sp>
        <p:nvSpPr>
          <p:cNvPr id="39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C823-7ECF-4268-A3FD-ACD56AFFBCBB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3f9a"/>
                </a:solidFill>
                <a:uFillTx/>
                <a:latin typeface="Century Schoolbook"/>
              </a:rPr>
              <a:t>SITES FOR OBTAINING ABG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218960"/>
            <a:ext cx="46483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00800" indent="-1008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dial artery ( most common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00800" indent="-1008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achial art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00800" indent="-1008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emoral art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00800" indent="-10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00800" indent="-10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dial 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ost preferabl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te used becaus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00800" indent="-1008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easy to acc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00800" indent="-1008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not a deep artery which facilitate palpation, stabilization and puncturin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00800" indent="-1008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artery has a collateral blood circul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00800" indent="-10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2E5D-9A25-4D88-96B7-77674239FD20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6" descr="C:\Users\Afnan\Desktop\critical labs\critical\blood-gases-test.jpg"/>
          <p:cNvPicPr/>
          <p:nvPr/>
        </p:nvPicPr>
        <p:blipFill>
          <a:blip r:embed="rId1"/>
          <a:stretch/>
        </p:blipFill>
        <p:spPr>
          <a:xfrm>
            <a:off x="4952880" y="3733920"/>
            <a:ext cx="3276720" cy="26208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C:\Users\Afnan\Desktop\critical labs\critical\9076.jpg"/>
          <p:cNvPicPr/>
          <p:nvPr/>
        </p:nvPicPr>
        <p:blipFill>
          <a:blip r:embed="rId2"/>
          <a:stretch/>
        </p:blipFill>
        <p:spPr>
          <a:xfrm>
            <a:off x="5181480" y="990720"/>
            <a:ext cx="32004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9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9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3f9a"/>
                </a:solidFill>
                <a:uFillTx/>
                <a:latin typeface="Century Schoolbook"/>
              </a:rPr>
              <a:t>PERFORMANCE PHASE: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1426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sh han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ut on glo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lpate the artery for maximum puls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f radial, perform Allen's te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ce a small towel roll under the patient wri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struct the patient to breath normally during the test and warn him that he may feel brief cramping or throbbing pain at the puncture si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ean with alcohol swab in circular mo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kin and subcutaneous tissue may be infiltrated with local anesthetic agent if need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382C-DCE2-4E33-9B34-B9F8B52C5A6E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609480" y="609480"/>
            <a:ext cx="42674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sert needle at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radial ,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brachial and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femo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ithdraw the needle and apply digital pressur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eck bubbles in syrin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ce the capped syringe in the container of ice immediatel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intain firm pressure on the puncture site for 5 minutes, if patient has coagulation abnormalities apply pressure for 10 – 15 minu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5375-F9D2-41EF-876D-D4CE07DEEFBD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7" descr="C:\Users\Afnan\Desktop\critical labs\critical\abgflash.jpg"/>
          <p:cNvPicPr/>
          <p:nvPr/>
        </p:nvPicPr>
        <p:blipFill>
          <a:blip r:embed="rId1"/>
          <a:stretch/>
        </p:blipFill>
        <p:spPr>
          <a:xfrm>
            <a:off x="4876920" y="1523880"/>
            <a:ext cx="3581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9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3f9a"/>
                </a:solidFill>
                <a:uFillTx/>
                <a:latin typeface="Century Schoolbook"/>
              </a:rPr>
              <a:t>FOLLOW UP PHASE: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1426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nd labeled, iced specimen to the lab immediate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lpate the pulse distal to the puncture si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sess for cold hands, numbness, tingling or discolo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cumentation include: results of Allen's test, time the sample was drawn, temperature, puncture site, time pressure was applied and if 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rapy is the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ke sure it’s noted on the slip whether the patient is breathing room air or oxygen. If oxygen, document the number of liters . If the patient is receiving mechanical ventilation, FIO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hould be documented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A29C-BD15-4174-8FDB-4FA57F55D3B9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3f9a"/>
                </a:solidFill>
                <a:uFillTx/>
                <a:latin typeface="Century Schoolbook"/>
              </a:rPr>
              <a:t>COMPLICATION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37720" y="1600200"/>
            <a:ext cx="7086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teriospasm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mato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morrh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tal ischem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f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mbn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E6A8-3AB3-4DB6-9272-C1B5126EC55C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48708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13f9a"/>
                </a:solidFill>
                <a:latin typeface="Century Schoolbook"/>
              </a:rPr>
              <a:t>A LOOK AT ACIDS AND BASES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523880"/>
            <a:ext cx="7696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body constantly works to maintain a balanc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(homeostasis) between acids and bases. Without that balance, cells can’t function properly. As cells use nutrient to produce the energy, two by-products are formed H+ &amp; CO2. acid-base balance depends on the regulation of the free hydrogen ion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Even slight imbalance can affect metabolism and essential body functions. Several conditions as infection or trauma and medications can affect acid-base balance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1B8A-67A7-4941-85DE-CC06C9DB769F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467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13f9a"/>
                </a:solidFill>
                <a:latin typeface="Century Schoolbook"/>
              </a:rPr>
              <a:t>INTERPRETATION OF ABG RESULTS</a:t>
            </a:r>
            <a:endParaRPr b="0" lang="en-US" sz="27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335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           7.30              acidemi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CO2    55 mmhg        increased (respiratory cause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CO3     25 meq/l             normal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O2       80 mmhg           normal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spiratory acid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             7.49            alkalemi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CO2     40 mmhg            norm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CO3       29 meq/l        increased (metabolic cause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O2        85 mmhg           norm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etabolic alkal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E644-1B0F-4EBE-A487-FC36E87CF441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4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4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4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4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4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4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4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4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4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3f9a"/>
                </a:solidFill>
                <a:uFillTx/>
                <a:latin typeface="Century Schoolbook"/>
              </a:rPr>
              <a:t>ACID BASE DISORDERS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pic>
        <p:nvPicPr>
          <p:cNvPr id="431" name="Content Placeholder 5" descr=""/>
          <p:cNvPicPr/>
          <p:nvPr/>
        </p:nvPicPr>
        <p:blipFill>
          <a:blip r:embed="rId1"/>
          <a:stretch/>
        </p:blipFill>
        <p:spPr>
          <a:xfrm>
            <a:off x="981000" y="1670040"/>
            <a:ext cx="6804000" cy="3822840"/>
          </a:xfrm>
          <a:prstGeom prst="rect">
            <a:avLst/>
          </a:prstGeom>
          <a:ln w="0">
            <a:noFill/>
          </a:ln>
        </p:spPr>
      </p:pic>
      <p:sp>
        <p:nvSpPr>
          <p:cNvPr id="43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E4E1-306C-4208-8A09-F814BDBCD8B3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Content Placeholder 5" descr=""/>
          <p:cNvPicPr/>
          <p:nvPr/>
        </p:nvPicPr>
        <p:blipFill>
          <a:blip r:embed="rId1"/>
          <a:stretch/>
        </p:blipFill>
        <p:spPr>
          <a:xfrm>
            <a:off x="981000" y="1676520"/>
            <a:ext cx="6804000" cy="382248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FD7F-1666-4045-9B3B-F4AEC53CDFC3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b13f9a"/>
                </a:solidFill>
                <a:uFillTx/>
                <a:latin typeface="Calisto MT"/>
              </a:rPr>
              <a:t>OUTLINE:</a:t>
            </a:r>
            <a:br>
              <a:rPr sz="3100"/>
            </a:br>
            <a:endParaRPr b="0" lang="en-US" sz="31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33160" y="91440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di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G compon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rmal valu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paratory – performance – follow up ph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licatio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id-base disord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sult interpret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ans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utori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44D2-2706-499B-9617-1F649347AFF8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Content Placeholder 5" descr=""/>
          <p:cNvPicPr/>
          <p:nvPr/>
        </p:nvPicPr>
        <p:blipFill>
          <a:blip r:embed="rId1"/>
          <a:stretch/>
        </p:blipFill>
        <p:spPr>
          <a:xfrm>
            <a:off x="981000" y="1596960"/>
            <a:ext cx="6804000" cy="3822840"/>
          </a:xfrm>
          <a:prstGeom prst="rect">
            <a:avLst/>
          </a:prstGeom>
          <a:ln w="0">
            <a:noFill/>
          </a:ln>
        </p:spPr>
      </p:pic>
      <p:sp>
        <p:nvSpPr>
          <p:cNvPr id="43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1263-2E41-42D4-A0E9-8F99182EE4BC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Content Placeholder 5" descr=""/>
          <p:cNvPicPr/>
          <p:nvPr/>
        </p:nvPicPr>
        <p:blipFill>
          <a:blip r:embed="rId1"/>
          <a:stretch/>
        </p:blipFill>
        <p:spPr>
          <a:xfrm>
            <a:off x="981000" y="1596960"/>
            <a:ext cx="6804000" cy="3822840"/>
          </a:xfrm>
          <a:prstGeom prst="rect">
            <a:avLst/>
          </a:prstGeom>
          <a:ln w="0">
            <a:noFill/>
          </a:ln>
        </p:spPr>
      </p:pic>
      <p:sp>
        <p:nvSpPr>
          <p:cNvPr id="44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AD9C-AF74-409D-A668-C158B0F7F3AC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b13f9a"/>
                </a:solidFill>
                <a:uFillTx/>
                <a:latin typeface="Century Schoolbook"/>
              </a:rPr>
              <a:t>COMPENSATION 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219320"/>
            <a:ext cx="7467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respiratory and metabolic system works together to keep the body’s acid-base balance within normal limits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respiratory system responds to metabolic based PH imbalances in the following manner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* metabolic acidosis: ↑ respiratory rate and depth (↓PaCO2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* metabolic alkalosis: ↓ respiratory rate and depth (↑PaCO2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metabolic system responds to respiratory based PH imbalances in the following manner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*respiratory acidosis: ↑ HCO3 reabsorp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*respiratory alkalosis: ↓HCO3 reabsorption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FB3D-11AB-4DA5-99AF-AEC4933D1166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b13f9a"/>
                </a:solidFill>
                <a:uFillTx/>
                <a:latin typeface="Century Schoolbook"/>
              </a:rPr>
              <a:t>A. RESPIRATORY ACIDOSIS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457200" y="838080"/>
          <a:ext cx="7772400" cy="1006560"/>
        </p:xfrm>
        <a:graphic>
          <a:graphicData uri="http://schemas.openxmlformats.org/drawingml/2006/table">
            <a:tbl>
              <a:tblPr/>
              <a:tblGrid>
                <a:gridCol w="2697120"/>
                <a:gridCol w="1506600"/>
                <a:gridCol w="1625760"/>
                <a:gridCol w="194292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N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449" name=""/>
          <p:cNvSpPr txBox="1"/>
          <p:nvPr/>
        </p:nvSpPr>
        <p:spPr>
          <a:xfrm>
            <a:off x="761760" y="1828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cause there is no response from the kidneys yet to acidosis the HCO3 will remain norm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4A4F-9DCE-47C0-8D4B-1964FD46A1EF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457200" y="4648320"/>
          <a:ext cx="7696080" cy="1006200"/>
        </p:xfrm>
        <a:graphic>
          <a:graphicData uri="http://schemas.openxmlformats.org/drawingml/2006/table">
            <a:tbl>
              <a:tblPr/>
              <a:tblGrid>
                <a:gridCol w="2670120"/>
                <a:gridCol w="1492200"/>
                <a:gridCol w="1609920"/>
                <a:gridCol w="192384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FULL 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457200" y="2666880"/>
          <a:ext cx="7696080" cy="1006560"/>
        </p:xfrm>
        <a:graphic>
          <a:graphicData uri="http://schemas.openxmlformats.org/drawingml/2006/table">
            <a:tbl>
              <a:tblPr/>
              <a:tblGrid>
                <a:gridCol w="3276720"/>
                <a:gridCol w="1295280"/>
                <a:gridCol w="1200240"/>
                <a:gridCol w="192384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ARTIAL 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454" name="Content Placeholder 9"/>
          <p:cNvSpPr/>
          <p:nvPr/>
        </p:nvSpPr>
        <p:spPr>
          <a:xfrm>
            <a:off x="380880" y="586728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 return to normal PaCO2 &amp; HCO3 levels are still high to correct 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Content Placeholder 9"/>
          <p:cNvSpPr/>
          <p:nvPr/>
        </p:nvSpPr>
        <p:spPr>
          <a:xfrm>
            <a:off x="609480" y="3733920"/>
            <a:ext cx="7543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kidneys start to respond to the acidosis by increasing the amount of circulating HCO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b13f9a"/>
                </a:solidFill>
                <a:uFillTx/>
                <a:latin typeface="Century Schoolbook"/>
              </a:rPr>
              <a:t>B. RESPIRATORY ALKALOSIS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457200" y="838080"/>
          <a:ext cx="7772400" cy="1006560"/>
        </p:xfrm>
        <a:graphic>
          <a:graphicData uri="http://schemas.openxmlformats.org/drawingml/2006/table">
            <a:tbl>
              <a:tblPr/>
              <a:tblGrid>
                <a:gridCol w="2697120"/>
                <a:gridCol w="1506600"/>
                <a:gridCol w="1625760"/>
                <a:gridCol w="194292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N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458" name=""/>
          <p:cNvSpPr txBox="1"/>
          <p:nvPr/>
        </p:nvSpPr>
        <p:spPr>
          <a:xfrm>
            <a:off x="761760" y="1828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cause there is no response from the kidneys yet to acidosis the HCO3 will remain norm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7D4C-6747-4F42-B666-3A56F369978C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457200" y="4648320"/>
          <a:ext cx="7696080" cy="1006200"/>
        </p:xfrm>
        <a:graphic>
          <a:graphicData uri="http://schemas.openxmlformats.org/drawingml/2006/table">
            <a:tbl>
              <a:tblPr/>
              <a:tblGrid>
                <a:gridCol w="2670120"/>
                <a:gridCol w="1492200"/>
                <a:gridCol w="1609920"/>
                <a:gridCol w="192384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FULL 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457200" y="2666880"/>
          <a:ext cx="7696080" cy="1006560"/>
        </p:xfrm>
        <a:graphic>
          <a:graphicData uri="http://schemas.openxmlformats.org/drawingml/2006/table">
            <a:tbl>
              <a:tblPr/>
              <a:tblGrid>
                <a:gridCol w="3276720"/>
                <a:gridCol w="1295280"/>
                <a:gridCol w="1200240"/>
                <a:gridCol w="192384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ARTIAL 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463" name="Content Placeholder 9"/>
          <p:cNvSpPr/>
          <p:nvPr/>
        </p:nvSpPr>
        <p:spPr>
          <a:xfrm>
            <a:off x="380880" y="586728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 return to normal PaCO2 &amp; HCO3 levels are still low to correct alka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Content Placeholder 9"/>
          <p:cNvSpPr/>
          <p:nvPr/>
        </p:nvSpPr>
        <p:spPr>
          <a:xfrm>
            <a:off x="609480" y="3733920"/>
            <a:ext cx="7543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kidneys start to respond to the alkalosis by decreasing the amount of circulating HCO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7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b13f9a"/>
                </a:solidFill>
                <a:uFillTx/>
                <a:latin typeface="Century Schoolbook"/>
              </a:rPr>
              <a:t>C. METABOLIC ACIDOSIS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457200" y="838080"/>
          <a:ext cx="7772400" cy="1006560"/>
        </p:xfrm>
        <a:graphic>
          <a:graphicData uri="http://schemas.openxmlformats.org/drawingml/2006/table">
            <a:tbl>
              <a:tblPr/>
              <a:tblGrid>
                <a:gridCol w="2697120"/>
                <a:gridCol w="1506600"/>
                <a:gridCol w="1625760"/>
                <a:gridCol w="194292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N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467" name=""/>
          <p:cNvSpPr txBox="1"/>
          <p:nvPr/>
        </p:nvSpPr>
        <p:spPr>
          <a:xfrm>
            <a:off x="761760" y="1828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cause there is no response from the lungs yet to acidosis the PaCO2 will remain norm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C93F-4FC0-4955-8190-57BA58F4D747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457200" y="4648320"/>
          <a:ext cx="7696080" cy="1006200"/>
        </p:xfrm>
        <a:graphic>
          <a:graphicData uri="http://schemas.openxmlformats.org/drawingml/2006/table">
            <a:tbl>
              <a:tblPr/>
              <a:tblGrid>
                <a:gridCol w="2670120"/>
                <a:gridCol w="1492200"/>
                <a:gridCol w="1609920"/>
                <a:gridCol w="192384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FULL 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457200" y="2666880"/>
          <a:ext cx="7696080" cy="1006560"/>
        </p:xfrm>
        <a:graphic>
          <a:graphicData uri="http://schemas.openxmlformats.org/drawingml/2006/table">
            <a:tbl>
              <a:tblPr/>
              <a:tblGrid>
                <a:gridCol w="3276720"/>
                <a:gridCol w="1295280"/>
                <a:gridCol w="1200240"/>
                <a:gridCol w="192384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ARTIAL 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472" name="Content Placeholder 9"/>
          <p:cNvSpPr/>
          <p:nvPr/>
        </p:nvSpPr>
        <p:spPr>
          <a:xfrm>
            <a:off x="380880" y="586728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 return to normal PaCO2 &amp; HCO3 levels are still low to correct 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Content Placeholder 9"/>
          <p:cNvSpPr/>
          <p:nvPr/>
        </p:nvSpPr>
        <p:spPr>
          <a:xfrm>
            <a:off x="609480" y="3733920"/>
            <a:ext cx="7543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lungs start to respond to the acidosis by decreasing the amount of circulating PaCO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b13f9a"/>
                </a:solidFill>
                <a:uFillTx/>
                <a:latin typeface="Century Schoolbook"/>
              </a:rPr>
              <a:t>D. METABOLIC ALKALOSIS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457200" y="838080"/>
          <a:ext cx="7772400" cy="1006560"/>
        </p:xfrm>
        <a:graphic>
          <a:graphicData uri="http://schemas.openxmlformats.org/drawingml/2006/table">
            <a:tbl>
              <a:tblPr/>
              <a:tblGrid>
                <a:gridCol w="2697120"/>
                <a:gridCol w="1506600"/>
                <a:gridCol w="1625760"/>
                <a:gridCol w="194292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N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476" name=""/>
          <p:cNvSpPr txBox="1"/>
          <p:nvPr/>
        </p:nvSpPr>
        <p:spPr>
          <a:xfrm>
            <a:off x="761760" y="1828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cause there is no response from the lungs yet to alkalosis the PaCO2 will remain norm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7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36C7-B7F3-4027-8B59-097504315AA1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457200" y="4648320"/>
          <a:ext cx="7696080" cy="1006200"/>
        </p:xfrm>
        <a:graphic>
          <a:graphicData uri="http://schemas.openxmlformats.org/drawingml/2006/table">
            <a:tbl>
              <a:tblPr/>
              <a:tblGrid>
                <a:gridCol w="2670120"/>
                <a:gridCol w="1492200"/>
                <a:gridCol w="1609920"/>
                <a:gridCol w="192384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FULL 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457200" y="2666880"/>
          <a:ext cx="7696080" cy="1006560"/>
        </p:xfrm>
        <a:graphic>
          <a:graphicData uri="http://schemas.openxmlformats.org/drawingml/2006/table">
            <a:tbl>
              <a:tblPr/>
              <a:tblGrid>
                <a:gridCol w="3276720"/>
                <a:gridCol w="1295280"/>
                <a:gridCol w="1200240"/>
                <a:gridCol w="1923840"/>
              </a:tblGrid>
              <a:tr h="36612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ARTIAL COMPENS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44640" r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481" name="Content Placeholder 9"/>
          <p:cNvSpPr/>
          <p:nvPr/>
        </p:nvSpPr>
        <p:spPr>
          <a:xfrm>
            <a:off x="380880" y="586728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 return to normal PaCO2 &amp; HCO3 levels are still high to correct  alka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ontent Placeholder 9"/>
          <p:cNvSpPr/>
          <p:nvPr/>
        </p:nvSpPr>
        <p:spPr>
          <a:xfrm>
            <a:off x="609480" y="3733920"/>
            <a:ext cx="7543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lungs start to respond to the alkalosis by increasing the amount of circulating PaCO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4674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3f9a"/>
                </a:solidFill>
                <a:uFillTx/>
                <a:latin typeface="Century Schoolbook"/>
              </a:rPr>
              <a:t>TUTORIAL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0880" y="533520"/>
            <a:ext cx="7848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ane Doe is a 45-year-old female admitted to the nursing unit with a severe asthma attack. She has been experiencing increasing shortness of breath since admission three hours ago.                                                                                      Her arterial blood gas result is as follow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inical Laboratory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H 7.2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CO2 5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CO3  2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llow the step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Assess the pH. It is low  therefore, we have acidosi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Assess the PaCO2. It is high and in the opposite direction of the pH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Assess the HCO3. It has remained within the normal range (22-26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idosis is present (decreased pH) with the PaCO2being increased, reflecting a primary respiratory problem. For this patient, we need to improve the ventilation status by providing oxygen therapy, mechanical ventilation or by administering bronchodilator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5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354F-1BDA-4169-AF7E-C7749EFC8B43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10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4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4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4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56840" y="53352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ohn Doe is a 55-year-old male admitted with a recurring bowel obstruction. He has been experiencing intractable vomiting for the last several hours, Here is his arterial blood gas resul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inical Laboratory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H 7.5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CO2 4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CO3  3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llow the steps again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. Assess the pH. It is high (normal 7.35-7.45), therefore, indicating alkalosi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. Assess the PaCO2. It is within the normal range (normal 35-45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. Assess the HCO3. It is high (normal 22-26) and moving in the same direction as the pH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kalosis is present (increased pH) with the HCO3 increased, reflecti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primary metabolic problem. Treatment of this patient might include administration of I.V. fluids and measures to reduce the excess bas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81E2-95AB-4059-9756-AA18064D22EE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1000"/>
                                        <p:tgtEl>
                                          <p:spTgt spid="4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4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4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4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4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4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4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4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4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4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4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4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b13f9a"/>
                </a:solidFill>
                <a:uFillTx/>
                <a:latin typeface="Century Schoolbook"/>
              </a:rPr>
              <a:t>REFERENCES</a:t>
            </a:r>
            <a:endParaRPr b="0" lang="en-US" sz="36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1772-6844-441A-80B3-F36765780765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andra M. Nettina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MSN, APRN, BC, ANP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Manual of Nursing Practic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Eighth Edi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Patricia Gonce Mort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RN, PHD, ACNP, FAA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ritical Care Nursin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Eighth Edi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467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b13f9a"/>
                </a:solidFill>
                <a:uFillTx/>
                <a:latin typeface="Calisto MT"/>
              </a:rPr>
              <a:t>INTRODUCTION</a:t>
            </a:r>
            <a:br>
              <a:rPr sz="3600"/>
            </a:br>
            <a:endParaRPr b="0" lang="en-US" sz="36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3716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major function of the pulmonary system (lungs and pulmonary circulation) is to deliver oxygen to cells and remove carbon dioxide from the cells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f the patient’s history and physical examination reveal evidence of respiratory dysfunction, diagnostic test will help identify and evaluate the dysfunctio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BG analysis is one of the first tests ordered to assess respiratory status because it helps evaluate gas exchange in the lung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n ABG test can measure how well the person's lungs and kidneys are working and how well the body is using energy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1EAE-10E5-4D5B-A2EB-139A0A5300CA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b13f9a"/>
                </a:solidFill>
                <a:uFillTx/>
                <a:latin typeface="Calisto MT"/>
              </a:rPr>
              <a:t>DEFINITION</a:t>
            </a:r>
            <a:endParaRPr b="0" lang="en-US" sz="28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85440" y="114264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a diagnostic procedure in which a blood is obtained from an artery directly by an arterial puncture or accessed by a way of indwelling arterial cathe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A47D-7A2E-4F40-A6DE-C6D533FE1B47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6" descr="C:\Users\Afnan\Desktop\critical labs\critical\ABG_Picture.jpg"/>
          <p:cNvPicPr/>
          <p:nvPr/>
        </p:nvPicPr>
        <p:blipFill>
          <a:blip r:embed="rId1"/>
          <a:stretch/>
        </p:blipFill>
        <p:spPr>
          <a:xfrm>
            <a:off x="1905120" y="3048120"/>
            <a:ext cx="5181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467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3f9a"/>
                </a:solidFill>
                <a:uFillTx/>
                <a:latin typeface="Calisto MT"/>
              </a:rPr>
              <a:t>INDICATION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09480" y="1218960"/>
            <a:ext cx="74678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obtain information about patient ventilation (PCO2) , oxygenation (PO2) and acid base balan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nitor gas exchange and acid base abnormalities for patient on mechanical ventilator or no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evaluate response to clinical intervention and diagnostic evaluation ( oxygen therapy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 ABG test may be most useful when a person's breathing rate is increased or decreased or when the person has very high blood sugar levels, a severe infection, or heart fail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A888-B57C-4535-ACE1-EB8D77E787A8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b13f9a"/>
                </a:solidFill>
                <a:uFillTx/>
                <a:latin typeface="Century Schoolbook"/>
              </a:rPr>
              <a:t>ABG</a:t>
            </a:r>
            <a:r>
              <a:rPr b="1" lang="en-US" sz="3000" spc="-1" strike="noStrike" u="sng">
                <a:solidFill>
                  <a:srgbClr val="b13f9a"/>
                </a:solidFill>
                <a:uFillTx/>
                <a:latin typeface="Century Schoolbook"/>
              </a:rPr>
              <a:t> </a:t>
            </a:r>
            <a:r>
              <a:rPr b="1" lang="en-US" sz="3600" spc="-1" strike="noStrike" u="sng">
                <a:solidFill>
                  <a:srgbClr val="b13f9a"/>
                </a:solidFill>
                <a:uFillTx/>
                <a:latin typeface="Century Schoolbook"/>
              </a:rPr>
              <a:t>COMPONENT</a:t>
            </a:r>
            <a:endParaRPr b="0" lang="en-US" sz="36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9140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H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measures hydrogen ion concentration in the blood, it shows blood’ acidity or alkalinit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CO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t is the partial pressure of CO2  that is carried by the blood for excretion by the lungs, known as respiratory parame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O2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t is the partial pressure of O2 that is dissolved in the blood , it reflects the body ability to pick up oxygen from the lung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CO3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known as the metabolic parameter, it reflects the kidney’s ability to retain and excrete bicarbonate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0A93-C9E6-4ED4-9376-D4A5E2EE6D72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8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Arial"/>
              </a:rPr>
              <a:t>A .Y 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3f9a"/>
                </a:solidFill>
                <a:uFillTx/>
                <a:latin typeface="Century Schoolbook"/>
              </a:rPr>
              <a:t>NORMAL VALUES: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828440" y="1679400"/>
            <a:ext cx="563868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     =       7.35 – 7.4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CO2  =       35 – 45    mmh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2   =        80 – 100  mmh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CO3 =        22 – 28    meq/L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4AB5-8D6C-4B61-91AF-9CE10F28D9E2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b13f9a"/>
                </a:solidFill>
                <a:uFillTx/>
                <a:latin typeface="Century Schoolbook"/>
              </a:rPr>
              <a:t>EQUIPMENT</a:t>
            </a:r>
            <a:endParaRPr b="0" lang="en-US" sz="28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526760"/>
            <a:ext cx="74674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lood gas kit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ml syring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3-26 gauge need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opper or ca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cohol swa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posable glo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stic bag &amp; crushed 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docaine  (optiona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ial of heparin (1:100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 code or lab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6843-95D1-499D-A143-A75CF1B70348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13f9a"/>
                </a:solidFill>
                <a:uFillTx/>
                <a:latin typeface="Century Schoolbook"/>
              </a:rPr>
              <a:t>PREPARATORY PHASE:</a:t>
            </a:r>
            <a:endParaRPr b="0" lang="en-US" sz="32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09480" y="1295280"/>
            <a:ext cx="7467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cord patient inspired oxygen concentr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eck patient tempera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plain the procedure to the pati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vide privacy for cli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f not using hepranized syringe , hepranize the need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form Allen's  te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it at least 20 minutes before drawing blood for ABG after initiating, changing, or discontinuing oxygen therapy, or settings of mechanical ventilation, after suctioning the patient or after extuba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6D1C-F3C7-4B35-9C8C-8E76D25F2188}" type="slidenum">
              <a:rPr b="1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Arial"/>
              </a:rPr>
              <a:t>A.Y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7:12:40Z</dcterms:created>
  <dc:creator>Afnan</dc:creator>
  <dc:description/>
  <dc:language>en-US</dc:language>
  <cp:lastModifiedBy>DELL</cp:lastModifiedBy>
  <dcterms:modified xsi:type="dcterms:W3CDTF">2017-02-07T17:01:52Z</dcterms:modified>
  <cp:revision>28</cp:revision>
  <dc:subject/>
  <dc:title>ATERIAL BLOOD GASES</dc:title>
</cp:coreProperties>
</file>