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4BA7-495F-440F-B065-57A5B276003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6308-CF28-498C-B9BA-D07C488FCEB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5553-C470-4BDC-9613-0DA4F2A2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0AB6-8341-44E4-ADC8-89311042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8A3F-2C30-4835-8F7F-E7F38261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49E0-9C8B-4EE5-8F67-D3A40319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CE19-371C-4FA6-9DFE-E0DC7E1A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49E9-5FBC-4F3C-B2E3-F972DD6F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95AE-B98D-43C5-918B-9D4FD4B1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C5F0-A8D6-4A23-8415-AEF1614D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BA00-50C1-4C7F-A243-0BE7AE0F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5C71-0897-4B5E-BDA9-46F2E073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A604-90C1-4518-9462-0AB0EF7B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C77B-CFCA-4780-BCFF-BC0475F8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C45C-5F69-4DF1-BEFD-9771B9FF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89C0-1BCC-439B-BFDE-F812C45B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FF04-337A-408D-A1AE-30EBD1C6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A445-6AA4-4C75-A562-9DE84EA9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A4FE-5BD1-4503-B4EF-24D5CF3A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09C509-9F8D-4C0E-9E34-08A7E27D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94A8F-9B4B-44E6-8BA1-9BAFD1A9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E7264A-984D-453E-861D-7622B420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686DE-3A8F-4259-9A11-3CE71A87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8CB3B9-CA62-4C44-8C20-78E0DAA7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9F01-FD4D-4C58-BDE7-061ED3DB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33A07E-330F-44C9-BF3D-970C3A04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DBD1E5-A665-40D7-946C-560BDDDC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0FDC8-AEE9-407A-973F-F3F21545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E6878-1453-49F0-902B-6016B731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E5AB3-429E-4F2B-BE90-DB7039E0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C4E4C-C549-463F-B0BA-1679E213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0E4CF2-0903-4669-AA2C-CA8CF78C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7BBCA-A6B7-4991-B57E-428EDFF0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A05B9-E35A-4DFB-A4BC-8657E780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07B5A-D42E-4EF4-83AB-275B1B5D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E7A2-B1B6-427C-B717-49D8D036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9F21E-C27F-44F7-96F3-52A32136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69140-2A8D-40D6-B975-898906E1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83E88-2E04-4E0F-9F54-3235E952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9AAEE-4C82-4A81-ACC9-5AB98EF5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033C5-DA7D-4A4B-82EF-E5F1F8A1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76570-1058-426F-BDE9-492BD4B5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9ED3F-6F54-4EDC-92D1-4786AF55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1BA13-75C3-4C7F-B814-31C63FB7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518C7-AB62-4A8F-89B1-2FCED069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C7D753-B8DA-4621-A372-220757099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8D04-DB30-4D37-9AB7-5239175B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D0C012-AA89-4587-BDDD-2BE41EC7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254748-61DD-44FF-AF01-A99EEDAB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B15E35-8064-4D11-B912-C727C13F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E3BAB3-11AF-4D24-8439-C2C1A32C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76F7E6-E576-4C98-A075-415F26D4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6E5CF5-871F-438C-855C-9303134A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9756E2-52CE-4FF1-BACC-B82182AC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3422E8-50DC-4F27-87DF-EAE559B1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96A1DF-7718-4B50-8DFB-8F9BC807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ACFE76-C759-4467-9FD1-8AE93ADF8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E61D-A1B4-4F45-A169-3BFFCA8F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F25DCD-396F-4BBD-8FFC-C9D21A3C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FE658C-B5D1-4FF9-A840-28555733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319A96-B195-42FF-BAC9-32D0EA2F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93C71D-4268-4A42-B0F6-840B617B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6C7519-02FC-450C-878A-AA25AA41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D4FFF0-F332-4278-B2EB-E7394556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56BA85-C37C-41D9-9B9D-03EAE6C7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E6CCFB-7088-4DDA-AB6F-341690C3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2BD6A5-D143-4C77-808F-1563F44F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1C3EA8-82BC-48E1-A5E7-9348ECAE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D8BF-4E61-4BCD-862A-79C70773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2B6F25-9AA6-4BCC-B1F4-99EE9DA3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798DA0-F681-4F78-A1BF-77C9BEBF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EC4B5D-97FD-4FAE-9417-7AE442C1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3C857C-726D-4FBD-B6F5-52F67815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93C4A2-439F-465B-8DCC-53FA6439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446FC4-AA2E-4482-9B0E-3E8C2C71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737FB0-1487-49DB-BC0B-F8A659E5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EE30A6-89F3-43D7-9829-7A81A329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9CE160-B059-4BAF-941C-08D79371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E7504A-8E51-4C2F-9A13-82A63A1F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1AC5-D70C-400E-B3A4-498C0805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8C5652-BB47-48E4-B293-763267FD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FBE014-A5D5-4C9B-878F-F809FB2F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CEEA95-9156-4C77-BDA5-D36F6FA3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FA99A6-BBAB-4935-905A-8E5E548C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2C3263-A70D-48D9-AD26-8B70B40E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430D-1859-411B-A17B-A4B177B9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CF22-72E3-4906-945A-7A10F7C3513D}" type="datetime"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6531-242A-4DE2-8546-6DB4DFFF1C7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30EC-8426-41A8-AEA1-69D85B5244E8}" type="datetime"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3596-6239-44D2-943C-EEF02A705F72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BDC5-AEC6-421E-900E-C94A98281BD4}" type="datetime"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3996-03D9-47EF-AF90-D9C84BAEE19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e7e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FDC5-F7B4-4303-96A3-EF6529DA6E76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658A-342F-4B69-AAD3-8615AD8BF02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9A0F-4A0C-4E2D-9E98-421CA7F7A8AD}" type="datetime"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1464-2CE3-458B-9D38-4131F114D87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E923-B3F0-421C-B25B-8CE2489455FD}" type="datetime"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27F8-E217-4878-9280-E3F87688670E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61F0-529E-4EDA-9134-98AAE25495B2}" type="datetime"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37F4-B808-4678-B32F-13AABD8A546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09320" y="2133360"/>
            <a:ext cx="6172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13f9a"/>
                </a:solidFill>
                <a:latin typeface="Calisto MT"/>
              </a:rPr>
              <a:t>ARTERIAL </a:t>
            </a:r>
            <a:r>
              <a:rPr b="1" lang="en-US" sz="3600" spc="-1" strike="noStrike">
                <a:solidFill>
                  <a:srgbClr val="b13f9a"/>
                </a:solidFill>
                <a:latin typeface="Calisto MT"/>
              </a:rPr>
              <a:t>BLOOD GASES</a:t>
            </a:r>
            <a:br>
              <a:rPr sz="3600"/>
            </a:br>
            <a:r>
              <a:rPr b="1" lang="en-US" sz="3200" spc="-1" strike="noStrike">
                <a:solidFill>
                  <a:srgbClr val="b13f9a"/>
                </a:solidFill>
                <a:latin typeface="Calisto MT"/>
              </a:rPr>
              <a:t>BY </a:t>
            </a:r>
            <a:br>
              <a:rPr sz="3200"/>
            </a:br>
            <a:r>
              <a:rPr b="1" lang="en-US" sz="3200" spc="-1" strike="noStrike">
                <a:solidFill>
                  <a:srgbClr val="b13f9a"/>
                </a:solidFill>
                <a:latin typeface="Calisto MT"/>
              </a:rPr>
              <a:t>HEBA ELMANZALWAY</a:t>
            </a: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2716-A337-4215-91D8-B2541D50D846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3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itle 1"/>
          <p:cNvSpPr/>
          <p:nvPr/>
        </p:nvSpPr>
        <p:spPr>
          <a:xfrm>
            <a:off x="1371600" y="304920"/>
            <a:ext cx="61722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13f9a"/>
                </a:solidFill>
                <a:uFillTx/>
                <a:latin typeface="Century Schoolbook"/>
              </a:rPr>
              <a:t>ALLEN’S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ubtitle 2"/>
          <p:cNvSpPr/>
          <p:nvPr/>
        </p:nvSpPr>
        <p:spPr>
          <a:xfrm>
            <a:off x="1143000" y="1219320"/>
            <a:ext cx="6629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 is a test done to determine that collateral circulation is present from the ulnar  artery in case thrombosis occur in the rad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C:\Users\Afnan\Desktop\critical labs\allen's%20test_edited.jpg"/>
          <p:cNvPicPr/>
          <p:nvPr/>
        </p:nvPicPr>
        <p:blipFill>
          <a:blip r:embed="rId1"/>
          <a:stretch/>
        </p:blipFill>
        <p:spPr>
          <a:xfrm>
            <a:off x="533520" y="2895480"/>
            <a:ext cx="3657600" cy="35053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C:\Users\Afnan\Desktop\critical labs\allen's%20test3.jpg"/>
          <p:cNvPicPr/>
          <p:nvPr/>
        </p:nvPicPr>
        <p:blipFill>
          <a:blip r:embed="rId2"/>
          <a:stretch/>
        </p:blipFill>
        <p:spPr>
          <a:xfrm>
            <a:off x="4419720" y="2895480"/>
            <a:ext cx="3619440" cy="3556080"/>
          </a:xfrm>
          <a:prstGeom prst="rect">
            <a:avLst/>
          </a:prstGeom>
          <a:ln w="0">
            <a:noFill/>
          </a:ln>
        </p:spPr>
      </p:pic>
      <p:sp>
        <p:nvSpPr>
          <p:cNvPr id="398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8C56-6C78-4670-AE2C-AE53FBF2CD55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oter Placeholder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9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13f9a"/>
                </a:solidFill>
                <a:uFillTx/>
                <a:latin typeface="Century Schoolbook"/>
              </a:rPr>
              <a:t>SITES FOR OBTAINING ABG</a:t>
            </a: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218960"/>
            <a:ext cx="46483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00800" indent="-1008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adial artery ( most common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00800" indent="-1008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rachial arte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00800" indent="-1008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emoral arte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00800" indent="-10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00800" indent="-10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adial i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ost preferabl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te used becaus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00800" indent="-1008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 is easy to acc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00800" indent="-1008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 is not a deep artery which facilitate palpation, stabilization and puncturing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00800" indent="-1008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artery has a collateral blood circul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00800" indent="-10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814A-A746-452C-9F77-6C7CA691C073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6" descr="C:\Users\Afnan\Desktop\critical labs\critical\blood-gases-test.jpg"/>
          <p:cNvPicPr/>
          <p:nvPr/>
        </p:nvPicPr>
        <p:blipFill>
          <a:blip r:embed="rId1"/>
          <a:stretch/>
        </p:blipFill>
        <p:spPr>
          <a:xfrm>
            <a:off x="4952880" y="3733920"/>
            <a:ext cx="3276720" cy="26208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C:\Users\Afnan\Desktop\critical labs\critical\9076.jpg"/>
          <p:cNvPicPr/>
          <p:nvPr/>
        </p:nvPicPr>
        <p:blipFill>
          <a:blip r:embed="rId2"/>
          <a:stretch/>
        </p:blipFill>
        <p:spPr>
          <a:xfrm>
            <a:off x="5181480" y="990720"/>
            <a:ext cx="32004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9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9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13f9a"/>
                </a:solidFill>
                <a:uFillTx/>
                <a:latin typeface="Century Schoolbook"/>
              </a:rPr>
              <a:t>PERFORMANCE PHASE:</a:t>
            </a: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6840" y="11426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ash han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ut on glo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lpate the artery for maximum puls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f radial, perform Allen's te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ce a small towel roll under the patient wri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struct the patient to breath normally during the test and warn him that he may feel brief cramping or throbbing pain at the puncture si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ean with alcohol swab in circular mo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kin and subcutaneous tissue may be infiltrated with local anesthetic agent if need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E9E6-C01A-452F-A949-C5901F992F32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609480" y="609480"/>
            <a:ext cx="42674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sert needle at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radial ,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brachial and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femo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ithdraw the needle and apply digital pressur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eck bubbles in syrin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ce the capped syringe in the container of ice immediatel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intain firm pressure on the puncture site for 5 minutes, if patient has coagulation abnormalities apply pressure for 10 – 15 minu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1E2F-ECE6-4D52-A705-39BBCC017A5D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7" descr="C:\Users\Afnan\Desktop\critical labs\critical\abgflash.jpg"/>
          <p:cNvPicPr/>
          <p:nvPr/>
        </p:nvPicPr>
        <p:blipFill>
          <a:blip r:embed="rId1"/>
          <a:stretch/>
        </p:blipFill>
        <p:spPr>
          <a:xfrm>
            <a:off x="4876920" y="1523880"/>
            <a:ext cx="35812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9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13f9a"/>
                </a:solidFill>
                <a:uFillTx/>
                <a:latin typeface="Century Schoolbook"/>
              </a:rPr>
              <a:t>FOLLOW UP PHASE:</a:t>
            </a: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14264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nd labeled, iced specimen to the lab immediate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lpate the pulse distal to the puncture si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sess for cold hands, numbness, tingling or discolor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cumentation include: results of Allen's test, time the sample was drawn, temperature, puncture site, time pressure was applied and if 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rapy is the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ke sure it’s noted on the slip whether the patient is breathing room air or oxygen. If oxygen, document the number of liters . If the patient is receiving mechanical ventilation, FIO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hould be documented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B16E-820B-4C1B-9128-29458D37EAA3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467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13f9a"/>
                </a:solidFill>
                <a:uFillTx/>
                <a:latin typeface="Century Schoolbook"/>
              </a:rPr>
              <a:t>COMPLICATION</a:t>
            </a: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837720" y="1600200"/>
            <a:ext cx="7086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teriospasm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mato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morrh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tal ischem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fe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umbn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7C22-A2EF-46BA-999E-51A747B221B4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48708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13f9a"/>
                </a:solidFill>
                <a:latin typeface="Century Schoolbook"/>
              </a:rPr>
              <a:t>A LOOK AT ACIDS AND BASES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523880"/>
            <a:ext cx="7696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 body constantly works to maintain a balanc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(homeostasis) between acids and bases. Without that balance, cells can’t function properly. As cells use nutrient to produce the energy, two by-products are formed H+ &amp; CO2. acid-base balance depends on the regulation of the free hydrogen ion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Even slight imbalance can affect metabolism and essential body functions. Several conditions as infection or trauma and medications can affect acid-base balance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41BE-4F99-41F4-90D0-7884A9CE4DF0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467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13f9a"/>
                </a:solidFill>
                <a:latin typeface="Century Schoolbook"/>
              </a:rPr>
              <a:t>INTERPRETATION OF ABG RESULTS</a:t>
            </a:r>
            <a:endParaRPr b="0" lang="en-US" sz="27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5335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           7.30              acidemi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CO2    55 mmhg        increased (respiratory cause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CO3     25 meq/l             normal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O2       80 mmhg           normal  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spiratory acid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             7.49            alkalemi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CO2     40 mmhg            norm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CO3       29 meq/l        increased (metabolic cause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O2        85 mmhg           norm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etabolic alkal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C034-18BC-49E9-9FDB-1688EC3ACB2F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4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4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4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4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4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4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4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4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4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4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4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4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4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13f9a"/>
                </a:solidFill>
                <a:uFillTx/>
                <a:latin typeface="Century Schoolbook"/>
              </a:rPr>
              <a:t>ACID BASE DISORDERS</a:t>
            </a: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pic>
        <p:nvPicPr>
          <p:cNvPr id="431" name="Content Placeholder 5" descr=""/>
          <p:cNvPicPr/>
          <p:nvPr/>
        </p:nvPicPr>
        <p:blipFill>
          <a:blip r:embed="rId1"/>
          <a:stretch/>
        </p:blipFill>
        <p:spPr>
          <a:xfrm>
            <a:off x="981000" y="1670040"/>
            <a:ext cx="6804000" cy="3822840"/>
          </a:xfrm>
          <a:prstGeom prst="rect">
            <a:avLst/>
          </a:prstGeom>
          <a:ln w="0">
            <a:noFill/>
          </a:ln>
        </p:spPr>
      </p:pic>
      <p:sp>
        <p:nvSpPr>
          <p:cNvPr id="43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7567-C88A-4E62-9806-E64A89731D99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Content Placeholder 5" descr=""/>
          <p:cNvPicPr/>
          <p:nvPr/>
        </p:nvPicPr>
        <p:blipFill>
          <a:blip r:embed="rId1"/>
          <a:stretch/>
        </p:blipFill>
        <p:spPr>
          <a:xfrm>
            <a:off x="981000" y="1676520"/>
            <a:ext cx="6804000" cy="382248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9FF6-160D-44F6-96BC-BAD205368FC5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b13f9a"/>
                </a:solidFill>
                <a:uFillTx/>
                <a:latin typeface="Calisto MT"/>
              </a:rPr>
              <a:t>OUTLINE:</a:t>
            </a:r>
            <a:br>
              <a:rPr sz="3100"/>
            </a:br>
            <a:endParaRPr b="0" lang="en-US" sz="31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33160" y="914400"/>
            <a:ext cx="7467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di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G compon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rmal valu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paratory – performance – follow up ph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licatio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cid-base disord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sult interpret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ans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utoria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B26A-E144-4A03-A4E8-F2ED4CA79F39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Content Placeholder 5" descr=""/>
          <p:cNvPicPr/>
          <p:nvPr/>
        </p:nvPicPr>
        <p:blipFill>
          <a:blip r:embed="rId1"/>
          <a:stretch/>
        </p:blipFill>
        <p:spPr>
          <a:xfrm>
            <a:off x="981000" y="1596960"/>
            <a:ext cx="6804000" cy="3822840"/>
          </a:xfrm>
          <a:prstGeom prst="rect">
            <a:avLst/>
          </a:prstGeom>
          <a:ln w="0">
            <a:noFill/>
          </a:ln>
        </p:spPr>
      </p:pic>
      <p:sp>
        <p:nvSpPr>
          <p:cNvPr id="43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F5B5-F1C0-40D1-9FE1-4ADA15729A84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Content Placeholder 5" descr=""/>
          <p:cNvPicPr/>
          <p:nvPr/>
        </p:nvPicPr>
        <p:blipFill>
          <a:blip r:embed="rId1"/>
          <a:stretch/>
        </p:blipFill>
        <p:spPr>
          <a:xfrm>
            <a:off x="981000" y="1596960"/>
            <a:ext cx="6804000" cy="3822840"/>
          </a:xfrm>
          <a:prstGeom prst="rect">
            <a:avLst/>
          </a:prstGeom>
          <a:ln w="0">
            <a:noFill/>
          </a:ln>
        </p:spPr>
      </p:pic>
      <p:sp>
        <p:nvSpPr>
          <p:cNvPr id="44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DC82-53B6-4C77-BD2E-9F88B210D11D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467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b13f9a"/>
                </a:solidFill>
                <a:uFillTx/>
                <a:latin typeface="Century Schoolbook"/>
              </a:rPr>
              <a:t>COMPENSATION 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6840" y="1219320"/>
            <a:ext cx="7467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 respiratory and metabolic system works together to keep the body’s acid-base balance within normal limits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 respiratory system responds to metabolic based PH imbalances in the following manner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* metabolic acidosis: ↑ respiratory rate and depth (↓PaCO2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* metabolic alkalosis: ↓ respiratory rate and depth (↑PaCO2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 metabolic system responds to respiratory based PH imbalances in the following manner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*respiratory acidosis: ↑ HCO3 reabsorpt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*respiratory alkalosis: ↓HCO3 reabsorption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1138-4801-4F36-8C42-8491CD04B9C6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2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b13f9a"/>
                </a:solidFill>
                <a:uFillTx/>
                <a:latin typeface="Century Schoolbook"/>
              </a:rPr>
              <a:t>A. RESPIRATORY ACIDOSIS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457200" y="838080"/>
          <a:ext cx="7772400" cy="1006560"/>
        </p:xfrm>
        <a:graphic>
          <a:graphicData uri="http://schemas.openxmlformats.org/drawingml/2006/table">
            <a:tbl>
              <a:tblPr/>
              <a:tblGrid>
                <a:gridCol w="2697120"/>
                <a:gridCol w="1506600"/>
                <a:gridCol w="1625760"/>
                <a:gridCol w="1942920"/>
              </a:tblGrid>
              <a:tr h="36612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C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044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UNCOMPENS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449" name=""/>
          <p:cNvSpPr txBox="1"/>
          <p:nvPr/>
        </p:nvSpPr>
        <p:spPr>
          <a:xfrm>
            <a:off x="761760" y="1828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ecause there is no response from the kidneys yet to acidosis the HCO3 will remain norm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F020-EABA-404E-83E9-CC4EF0121040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457200" y="4648320"/>
          <a:ext cx="7696080" cy="1006200"/>
        </p:xfrm>
        <a:graphic>
          <a:graphicData uri="http://schemas.openxmlformats.org/drawingml/2006/table">
            <a:tbl>
              <a:tblPr/>
              <a:tblGrid>
                <a:gridCol w="2670120"/>
                <a:gridCol w="1492200"/>
                <a:gridCol w="1609920"/>
                <a:gridCol w="1923840"/>
              </a:tblGrid>
              <a:tr h="36612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C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044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FULL COMPENS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457200" y="2666880"/>
          <a:ext cx="7696080" cy="1006560"/>
        </p:xfrm>
        <a:graphic>
          <a:graphicData uri="http://schemas.openxmlformats.org/drawingml/2006/table">
            <a:tbl>
              <a:tblPr/>
              <a:tblGrid>
                <a:gridCol w="3276720"/>
                <a:gridCol w="1295280"/>
                <a:gridCol w="1200240"/>
                <a:gridCol w="1923840"/>
              </a:tblGrid>
              <a:tr h="36612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C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044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ARTIAL COMPENS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454" name="Content Placeholder 9"/>
          <p:cNvSpPr/>
          <p:nvPr/>
        </p:nvSpPr>
        <p:spPr>
          <a:xfrm>
            <a:off x="380880" y="586728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 return to normal PaCO2 &amp; HCO3 levels are still high to correct acid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Content Placeholder 9"/>
          <p:cNvSpPr/>
          <p:nvPr/>
        </p:nvSpPr>
        <p:spPr>
          <a:xfrm>
            <a:off x="609480" y="3733920"/>
            <a:ext cx="7543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kidneys start to respond to the acidosis by increasing the amount of circulating HCO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b13f9a"/>
                </a:solidFill>
                <a:uFillTx/>
                <a:latin typeface="Century Schoolbook"/>
              </a:rPr>
              <a:t>B. RESPIRATORY ALKALOSIS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457200" y="838080"/>
          <a:ext cx="7772400" cy="1006560"/>
        </p:xfrm>
        <a:graphic>
          <a:graphicData uri="http://schemas.openxmlformats.org/drawingml/2006/table">
            <a:tbl>
              <a:tblPr/>
              <a:tblGrid>
                <a:gridCol w="2697120"/>
                <a:gridCol w="1506600"/>
                <a:gridCol w="1625760"/>
                <a:gridCol w="1942920"/>
              </a:tblGrid>
              <a:tr h="36612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C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044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UNCOMPENS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458" name=""/>
          <p:cNvSpPr txBox="1"/>
          <p:nvPr/>
        </p:nvSpPr>
        <p:spPr>
          <a:xfrm>
            <a:off x="761760" y="1828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ecause there is no response from the kidneys yet to acidosis the HCO3 will remain norm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E7AA-8849-4003-A54B-DA644C5B2025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457200" y="4648320"/>
          <a:ext cx="7696080" cy="1006200"/>
        </p:xfrm>
        <a:graphic>
          <a:graphicData uri="http://schemas.openxmlformats.org/drawingml/2006/table">
            <a:tbl>
              <a:tblPr/>
              <a:tblGrid>
                <a:gridCol w="2670120"/>
                <a:gridCol w="1492200"/>
                <a:gridCol w="1609920"/>
                <a:gridCol w="1923840"/>
              </a:tblGrid>
              <a:tr h="36612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C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044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FULL COMPENS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457200" y="2666880"/>
          <a:ext cx="7696080" cy="1006560"/>
        </p:xfrm>
        <a:graphic>
          <a:graphicData uri="http://schemas.openxmlformats.org/drawingml/2006/table">
            <a:tbl>
              <a:tblPr/>
              <a:tblGrid>
                <a:gridCol w="3276720"/>
                <a:gridCol w="1295280"/>
                <a:gridCol w="1200240"/>
                <a:gridCol w="1923840"/>
              </a:tblGrid>
              <a:tr h="36612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C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044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ARTIAL COMPENS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463" name="Content Placeholder 9"/>
          <p:cNvSpPr/>
          <p:nvPr/>
        </p:nvSpPr>
        <p:spPr>
          <a:xfrm>
            <a:off x="380880" y="586728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 return to normal PaCO2 &amp; HCO3 levels are still low to correct alka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Content Placeholder 9"/>
          <p:cNvSpPr/>
          <p:nvPr/>
        </p:nvSpPr>
        <p:spPr>
          <a:xfrm>
            <a:off x="609480" y="3733920"/>
            <a:ext cx="7543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kidneys start to respond to the alkalosis by decreasing the amount of circulating HCO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7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b13f9a"/>
                </a:solidFill>
                <a:uFillTx/>
                <a:latin typeface="Century Schoolbook"/>
              </a:rPr>
              <a:t>C. METABOLIC ACIDOSIS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457200" y="838080"/>
          <a:ext cx="7772400" cy="1006560"/>
        </p:xfrm>
        <a:graphic>
          <a:graphicData uri="http://schemas.openxmlformats.org/drawingml/2006/table">
            <a:tbl>
              <a:tblPr/>
              <a:tblGrid>
                <a:gridCol w="2697120"/>
                <a:gridCol w="1506600"/>
                <a:gridCol w="1625760"/>
                <a:gridCol w="1942920"/>
              </a:tblGrid>
              <a:tr h="36612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C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044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UNCOMPENS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467" name=""/>
          <p:cNvSpPr txBox="1"/>
          <p:nvPr/>
        </p:nvSpPr>
        <p:spPr>
          <a:xfrm>
            <a:off x="761760" y="1828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ecause there is no response from the lungs yet to acidosis the PaCO2 will remain norm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49D4-311E-4141-AA82-362804E84D52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457200" y="4648320"/>
          <a:ext cx="7696080" cy="1006200"/>
        </p:xfrm>
        <a:graphic>
          <a:graphicData uri="http://schemas.openxmlformats.org/drawingml/2006/table">
            <a:tbl>
              <a:tblPr/>
              <a:tblGrid>
                <a:gridCol w="2670120"/>
                <a:gridCol w="1492200"/>
                <a:gridCol w="1609920"/>
                <a:gridCol w="1923840"/>
              </a:tblGrid>
              <a:tr h="36612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C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044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FULL COMPENS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457200" y="2666880"/>
          <a:ext cx="7696080" cy="1006560"/>
        </p:xfrm>
        <a:graphic>
          <a:graphicData uri="http://schemas.openxmlformats.org/drawingml/2006/table">
            <a:tbl>
              <a:tblPr/>
              <a:tblGrid>
                <a:gridCol w="3276720"/>
                <a:gridCol w="1295280"/>
                <a:gridCol w="1200240"/>
                <a:gridCol w="1923840"/>
              </a:tblGrid>
              <a:tr h="36612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C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044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ARTIAL COMPENS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472" name="Content Placeholder 9"/>
          <p:cNvSpPr/>
          <p:nvPr/>
        </p:nvSpPr>
        <p:spPr>
          <a:xfrm>
            <a:off x="380880" y="586728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 return to normal PaCO2 &amp; HCO3 levels are still low to correct acid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Content Placeholder 9"/>
          <p:cNvSpPr/>
          <p:nvPr/>
        </p:nvSpPr>
        <p:spPr>
          <a:xfrm>
            <a:off x="609480" y="3733920"/>
            <a:ext cx="7543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lungs start to respond to the acidosis by decreasing the amount of circulating PaCO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b13f9a"/>
                </a:solidFill>
                <a:uFillTx/>
                <a:latin typeface="Century Schoolbook"/>
              </a:rPr>
              <a:t>D. METABOLIC ALKALOSIS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457200" y="838080"/>
          <a:ext cx="7772400" cy="1006560"/>
        </p:xfrm>
        <a:graphic>
          <a:graphicData uri="http://schemas.openxmlformats.org/drawingml/2006/table">
            <a:tbl>
              <a:tblPr/>
              <a:tblGrid>
                <a:gridCol w="2697120"/>
                <a:gridCol w="1506600"/>
                <a:gridCol w="1625760"/>
                <a:gridCol w="1942920"/>
              </a:tblGrid>
              <a:tr h="36612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C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044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UNCOMPENS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476" name=""/>
          <p:cNvSpPr txBox="1"/>
          <p:nvPr/>
        </p:nvSpPr>
        <p:spPr>
          <a:xfrm>
            <a:off x="761760" y="1828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ecause there is no response from the lungs yet to alkalosis the PaCO2 will remain norm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7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B2C6-C24B-4312-B25C-08A79EB9C731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457200" y="4648320"/>
          <a:ext cx="7696080" cy="1006200"/>
        </p:xfrm>
        <a:graphic>
          <a:graphicData uri="http://schemas.openxmlformats.org/drawingml/2006/table">
            <a:tbl>
              <a:tblPr/>
              <a:tblGrid>
                <a:gridCol w="2670120"/>
                <a:gridCol w="1492200"/>
                <a:gridCol w="1609920"/>
                <a:gridCol w="1923840"/>
              </a:tblGrid>
              <a:tr h="36612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C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044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FULL COMPENS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457200" y="2666880"/>
          <a:ext cx="7696080" cy="1006560"/>
        </p:xfrm>
        <a:graphic>
          <a:graphicData uri="http://schemas.openxmlformats.org/drawingml/2006/table">
            <a:tbl>
              <a:tblPr/>
              <a:tblGrid>
                <a:gridCol w="3276720"/>
                <a:gridCol w="1295280"/>
                <a:gridCol w="1200240"/>
                <a:gridCol w="1923840"/>
              </a:tblGrid>
              <a:tr h="36612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C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044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ARTIAL COMPENS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481" name="Content Placeholder 9"/>
          <p:cNvSpPr/>
          <p:nvPr/>
        </p:nvSpPr>
        <p:spPr>
          <a:xfrm>
            <a:off x="380880" y="586728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 return to normal PaCO2 &amp; HCO3 levels are still high to correct  alka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Content Placeholder 9"/>
          <p:cNvSpPr/>
          <p:nvPr/>
        </p:nvSpPr>
        <p:spPr>
          <a:xfrm>
            <a:off x="609480" y="3733920"/>
            <a:ext cx="7543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lungs start to respond to the alkalosis by increasing the amount of circulating PaCO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5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4674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13f9a"/>
                </a:solidFill>
                <a:uFillTx/>
                <a:latin typeface="Century Schoolbook"/>
              </a:rPr>
              <a:t>TUTORIAL</a:t>
            </a: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0880" y="533520"/>
            <a:ext cx="7848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ane Doe is a 45-year-old female admitted to the nursing unit with a severe asthma attack. She has been experiencing increasing shortness of breath since admission three hours ago.                                                                                      Her arterial blood gas result is as follow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linical Laboratory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H 7.2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CO2 5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CO3  2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llow the step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. Assess the pH. It is low  therefore, we have acidosi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Assess the PaCO2. It is high and in the opposite direction of the pH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Assess the HCO3. It has remained within the normal range (22-26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idosis is present (decreased pH) with the PaCO2being increased, reflecting a primary respiratory problem. For this patient, we need to improve the ventilation status by providing oxygen therapy, mechanical ventilation or by administering bronchodilators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5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86FF-B7A8-41CA-80F0-B2D2D9856821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4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1000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4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4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1000"/>
                                        <p:tgtEl>
                                          <p:spTgt spid="4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4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4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4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456840" y="53352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ample 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ohn Doe is a 55-year-old male admitted with a recurring bowel obstruction. He has been experiencing intractable vomiting for the last several hours, Here is his arterial blood gas result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linical Laboratory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H 7.5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CO2 4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CO3  33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llow the steps again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. Assess the pH. It is high (normal 7.35-7.45), therefore, indicating alkalosi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Assess the PaCO2. It is within the normal range (normal 35-45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Assess the HCO3. It is high (normal 22-26) and moving in the same direction as the pH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kalosis is present (increased pH) with the HCO3 increased, reflecting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primary metabolic problem. Treatment of this patient might include administration of I.V. fluids and measures to reduce the excess bas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F383-ACC2-49BB-BF8F-DAD3430FF655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1000"/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4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1000"/>
                                        <p:tgtEl>
                                          <p:spTgt spid="4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4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1000"/>
                                        <p:tgtEl>
                                          <p:spTgt spid="4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nodeType="clickEffect" fill="hold">
                      <p:stCondLst>
                        <p:cond delay="indefinite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4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4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1000"/>
                                        <p:tgtEl>
                                          <p:spTgt spid="4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4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4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1000"/>
                                        <p:tgtEl>
                                          <p:spTgt spid="4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4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4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4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b13f9a"/>
                </a:solidFill>
                <a:uFillTx/>
                <a:latin typeface="Century Schoolbook"/>
              </a:rPr>
              <a:t>REFERENCES</a:t>
            </a:r>
            <a:endParaRPr b="0" lang="en-US" sz="36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91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821D-B5A4-4038-8F22-A7BE06CFF9D7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Sandra M. Nettina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MSN, APRN, BC, ANP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Manual of Nursing Practic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Eighth Edit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Patricia Gonce Mort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RN, PHD, ACNP, FAA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Critical Care Nursin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Eighth Edit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467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b13f9a"/>
                </a:solidFill>
                <a:uFillTx/>
                <a:latin typeface="Calisto MT"/>
              </a:rPr>
              <a:t>INTRODUCTION</a:t>
            </a:r>
            <a:br>
              <a:rPr sz="3600"/>
            </a:br>
            <a:endParaRPr b="0" lang="en-US" sz="36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3716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 major function of the pulmonary system (lungs and pulmonary circulation) is to deliver oxygen to cells and remove carbon dioxide from the cells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f the patient’s history and physical examination reveal evidence of respiratory dysfunction, diagnostic test will help identify and evaluate the dysfunction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BG analysis is one of the first tests ordered to assess respiratory status because it helps evaluate gas exchange in the lung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n ABG test can measure how well the person's lungs and kidneys are working and how well the body is using energy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CDCC-74A5-4FF7-8176-7C41EB9B9230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b13f9a"/>
                </a:solidFill>
                <a:uFillTx/>
                <a:latin typeface="Calisto MT"/>
              </a:rPr>
              <a:t>DEFINITION</a:t>
            </a:r>
            <a:endParaRPr b="0" lang="en-US" sz="28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85440" y="1142640"/>
            <a:ext cx="7467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 is a diagnostic procedure in which a blood is obtained from an artery directly by an arterial puncture or accessed by a way of indwelling arterial cathe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5D88-F508-4417-884C-2650C3B1F42B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6" descr="C:\Users\Afnan\Desktop\critical labs\critical\ABG_Picture.jpg"/>
          <p:cNvPicPr/>
          <p:nvPr/>
        </p:nvPicPr>
        <p:blipFill>
          <a:blip r:embed="rId1"/>
          <a:stretch/>
        </p:blipFill>
        <p:spPr>
          <a:xfrm>
            <a:off x="1905120" y="3048120"/>
            <a:ext cx="51814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467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13f9a"/>
                </a:solidFill>
                <a:uFillTx/>
                <a:latin typeface="Calisto MT"/>
              </a:rPr>
              <a:t>INDICATION</a:t>
            </a: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09480" y="1218960"/>
            <a:ext cx="74678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 obtain information about patient ventilation (PCO2) , oxygenation (PO2) and acid base balan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nitor gas exchange and acid base abnormalities for patient on mechanical ventilator or no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 evaluate response to clinical intervention and diagnostic evaluation ( oxygen therapy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 ABG test may be most useful when a person's breathing rate is increased or decreased or when the person has very high blood sugar levels, a severe infection, or heart fail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C57E-0BF8-41DD-82E7-2EE9DBDA5883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b13f9a"/>
                </a:solidFill>
                <a:uFillTx/>
                <a:latin typeface="Century Schoolbook"/>
              </a:rPr>
              <a:t>ABG</a:t>
            </a:r>
            <a:r>
              <a:rPr b="1" lang="en-US" sz="3000" spc="-1" strike="noStrike" u="sng">
                <a:solidFill>
                  <a:srgbClr val="b13f9a"/>
                </a:solidFill>
                <a:uFillTx/>
                <a:latin typeface="Century Schoolbook"/>
              </a:rPr>
              <a:t> </a:t>
            </a:r>
            <a:r>
              <a:rPr b="1" lang="en-US" sz="3600" spc="-1" strike="noStrike" u="sng">
                <a:solidFill>
                  <a:srgbClr val="b13f9a"/>
                </a:solidFill>
                <a:uFillTx/>
                <a:latin typeface="Century Schoolbook"/>
              </a:rPr>
              <a:t>COMPONENT</a:t>
            </a:r>
            <a:endParaRPr b="0" lang="en-US" sz="36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9140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H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measures hydrogen ion concentration in the blood, it shows blood’ acidity or alkalinit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CO2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t is the partial pressure of CO2  that is carried by the blood for excretion by the lungs, known as respiratory parame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O2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t is the partial pressure of O2 that is dissolved in the blood , it reflects the body ability to pick up oxygen from the lung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CO3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known as the metabolic parameter, it reflects the kidney’s ability to retain and excrete bicarbonate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7BF6-1F44-4827-A1EE-D30D5FB78E55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8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Arial"/>
              </a:rPr>
              <a:t>A .Y 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13f9a"/>
                </a:solidFill>
                <a:uFillTx/>
                <a:latin typeface="Century Schoolbook"/>
              </a:rPr>
              <a:t>NORMAL VALUES:</a:t>
            </a: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828440" y="1679400"/>
            <a:ext cx="563868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     =       7.35 – 7.4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CO2  =       35 – 45    mmh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2   =        80 – 100  mmh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CO3 =        22 – 28    meq/L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1D74-40E0-4511-85FE-688A6A59E9F0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b13f9a"/>
                </a:solidFill>
                <a:uFillTx/>
                <a:latin typeface="Century Schoolbook"/>
              </a:rPr>
              <a:t>EQUIPMENT</a:t>
            </a:r>
            <a:endParaRPr b="0" lang="en-US" sz="28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526760"/>
            <a:ext cx="746748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Blood gas kit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ml syring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3-26 gauge need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opper or ca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cohol swa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posable glo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stic bag &amp; crushed 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docaine  (optional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ial of heparin (1:1000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r code or lab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2914-CE0A-4CA6-B206-6152B4A2A834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13f9a"/>
                </a:solidFill>
                <a:uFillTx/>
                <a:latin typeface="Century Schoolbook"/>
              </a:rPr>
              <a:t>PREPARATORY PHASE:</a:t>
            </a: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09480" y="1295280"/>
            <a:ext cx="7467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cord patient inspired oxygen concentr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eck patient temperat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plain the procedure to the pati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vide privacy for cli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f not using hepranized syringe , hepranize the need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form Allen's  te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ait at least 20 minutes before drawing blood for ABG after initiating, changing, or discontinuing oxygen therapy, or settings of mechanical ventilation, after suctioning the patient or after extubatio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61BF-3341-4029-8544-8E33EF5BA102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7:12:40Z</dcterms:created>
  <dc:creator>Afnan</dc:creator>
  <dc:description/>
  <dc:language>en-US</dc:language>
  <cp:lastModifiedBy>DELL</cp:lastModifiedBy>
  <dcterms:modified xsi:type="dcterms:W3CDTF">2017-02-07T17:01:52Z</dcterms:modified>
  <cp:revision>28</cp:revision>
  <dc:subject/>
  <dc:title>ATERIAL BLOOD GASES</dc:title>
</cp:coreProperties>
</file>