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8D96-5FA6-4756-A691-2D09512C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A1D-4C70-420E-8785-405CFEE8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210-246E-409B-B962-F63D2A73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C70-B090-4CF7-9FCF-7C4C5171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624-7EB0-4896-A31F-AB986417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748-991C-4C80-BC89-C1EBA984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7C2-18E8-4B45-A3AD-49A5C75D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086-8807-40D9-B47D-76CF8269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350-F9E8-4A10-BC75-A5ABCB0B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F73-DB6A-4D9F-9F1E-C19F259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45B-360C-49DE-996D-B5FA7BE5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5D2-8EC3-4AB0-9165-014D189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79A-D10B-464B-BD3B-A1EB959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E6D-A149-4804-8D85-524B123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BE45-697C-4441-89F5-F0D8424862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Affecting  Autonomic Nervous Sys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-Acting Agent—bethanec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one and motility of bladder and GI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es sphincters in bladder and GI tract, allowing them to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ful for postsurgical atony of the blad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I 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dose or SC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-Act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skeletal muscl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diagnosis and treatmen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everse neuromuscular block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everse anticholinergic poisoning (antid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physostigmine, pyridostig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: 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762200"/>
            <a:ext cx="76356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de effects are a result of overstimulatio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PS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io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dycardia, hypotension, conduction abnormalities (AV block and cardiac arr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ache, dizziness, convul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strointesti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dominal cramps, increased secretion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usea, vom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:  Sid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effects are a resul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timulation of the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bronchial secretions, bronchospa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tion, sweating, salivation, loss of binocular accommodation, m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: 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holinergics, antihistamines, sympath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gonize cholinergic agents, resul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creased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that these agents will stimulate the PSNS and mimic the action of 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allergies, presence of GI or GU obstructions, asthma, peptic ulcer diseas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ronary arte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baseline assessment of VS and system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 should be taken as order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t abruptly stopp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ses should be spread evenly apa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ptimize the effects of the me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osing can cause life-threatening problems. Patients should not adjust the dosages unless directed by the physic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 is the antidote for cholinergic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be available in the patient’s room for immediate use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should notify their physician if they experience muscle weakness, abdominal cramps, diarrhea, or difficulty brea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side effects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respirato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dominal cramp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chospas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y breat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usea and vomi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dycar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swe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964"/>
              </a:spcBef>
              <a:spcAft>
                <a:spcPts val="964"/>
              </a:spcAft>
              <a:buNone/>
              <a:tabLst>
                <a:tab algn="l" pos="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frequency 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gency of voiding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7635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for therapeutic eff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viated signs and symptoms of myasthenia grav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ostoperative patients with decreased GI peristalsis, look f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bowel s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age of fl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rence of bowel m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atients with urinary retention/hypotonic bladder, urination should occur within 60 minutes of bethanecol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Affecting the Autonomic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linergic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olinergic Block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block or inhibit the actions of acetylcholine (ACh) in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ant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 with 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ACh at the muscarinic recep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S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ACh is unable to bind to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 site and cause a cholinergic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se drugs bind to receptors, they inhibit nerve transmission at these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hear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increase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ses:  decrease muscle rigid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em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oses:  drowsiness, disorientation, halluc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ated pupils (mydria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accommodation due to paralys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iliary muscles (cyclopleg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smooth muscle tone of GI 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testinal and gastric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motility and peristal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 Effec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16200"/>
            <a:ext cx="7635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xed detrusor mus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nstriction of internal sphinc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:  urinary re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nd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ed bronchial secretions, salivation, swe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lated bronchial air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muscle rigidity and muscle tre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son’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-induced extrapyramid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 the heart’s conduc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oses: slow the hear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oses: block inhibitory vagal effects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 and AV node pacemak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in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7560"/>
            <a:ext cx="76356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o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cardiovascular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 node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second-degree hear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 bradycardia with hemodynamic compromise (advanced life sup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59120"/>
            <a:ext cx="7635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the cholinergic stimulation of the PS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nopposed action of the S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ecretions from nose, mout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ynx, bron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 smooth muscles in bronch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airway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41240" y="609480"/>
            <a:ext cx="764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that stimulate the parasympathetic nervous system (PS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SNS is the opposing system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S Also known as cholinergic 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parasympath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c the effects of the PSNS neurotransmitter Acetylcholine (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-induced bronchospa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bronch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obstructive pulmonary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7200"/>
            <a:ext cx="763560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NS controls gastric secretions and smooth muscles that produce gastric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 of PSNS resul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ation of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GI motility and 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09480"/>
            <a:ext cx="764856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agents are used to tre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c ulc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le bowe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ypersecretory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7648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Therapeutic U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7200"/>
            <a:ext cx="7635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tour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d detrusor muscles of the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striction of the internal 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 neurogenic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heart rat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excitation, restlessnes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ability, disorient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ucinations, deli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ated pupils, decreased visual accommod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ntraoc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aliv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gastric secretion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mo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y Syste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de/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itour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nary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ronchial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 Inte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ista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with cholinergic block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, cause ADDITIVE cholinerg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, resulting in increase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mind that these agents will blo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on of ACh in the PS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for allergies, presence of BPH, glaucoma, tachycardia, MI, CHF, hiatal hernia, and GI or GU ob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baseline assessment of V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ystem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s should be taken exactly as prescri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ave the maximum therapeutic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osing can cause life-threatening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red vision may cause problems with dri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perating machin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experience sensitivity to ligh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wear dark glasses or sun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s that stimulate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ympathetic nervous system (PS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SNS is the opposing system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cholinergic agonists or parasympathomim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ic the effects of the PSNS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choline (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Blocking Agents: Nursing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iving ophthalmic solutions, apply pressure to the inner canthus to prevent systemic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mouth may occur; can be handled by chewing gum, frequent mouth care, and hard ca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physician before taking any other medication, including OTC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DOTE for atropine is physostigmine salicylate (Antilir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linergic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,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nce stimul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ic receptors and Muscarin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75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D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ary incontin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r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intestinal cr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intestine and b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gastric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gastrointestinal mo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urinary frequenc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pup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iction (mi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intraocular press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alivation and sw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 Effects of Cholinergic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constriction, narrowed air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linergic Ag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apeutic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-Act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glaucoma and intraocula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acetylcholine, carbachol, pilocar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al application due to poor oral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ood Alharbi</cp:lastModifiedBy>
  <dcterms:modified xsi:type="dcterms:W3CDTF">2016-02-13T14:43:0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