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B8D-22B8-4F08-94C6-4C1F7B31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9ED-F074-43FC-B005-767E8399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B7E-813A-4CDF-ACD7-F56117F5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A66-13CF-4234-8BCD-010F1546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3A1-437F-45E0-B725-AC68CFDC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1E2-57BA-42A6-A7B8-9DCB609D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E86-C1CC-414B-B084-F04746F2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FA0-B9ED-4F42-9A9C-959CED1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944-6F7C-46E6-A1B1-468BE30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47E-32B1-4DBE-9F49-DF9DB7DD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785-741E-452A-AA0B-E60152E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6CC-F948-4580-83EF-D77BBA1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EF0-D461-4DDC-98C5-A3CBA9F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616-67AA-4202-84CB-B65B1A0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E7FE-D4BB-4C7B-8EF1-06482CE1CC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Affecting  Autonomic Nervous Sys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-Acting Agent—bethanec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one and motility of bladder and GI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s sphincters in bladder and GI tract, allowing them to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for postsurgical atony of the blad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I 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dose or SC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-Act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skeletal muscl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diagnosis and treatmen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everse neuromuscular block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everse anticholinergic poisoning (antid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physostigmine, pyridostig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: 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762200"/>
            <a:ext cx="76356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de effects are a result of overstimulati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PS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io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dycardia, hypotension, conduction abnormalities (AV block and cardiac arr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ache, dizziness, convul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trointesti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dominal cramps, increased secretion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usea, vom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:  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effects are a resul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timulation of the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ronchial secretions, bronchosp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tion, sweating, salivation, loss of binocular accommodation, m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: 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holinergics, antihistamines, sympath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gonize cholinergic agents, resul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crease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that these agents will stimulate the PSNS and mimic the action of 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allergies, presence of GI or GU obstructions, asthma, peptic ulcer diseas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ronary arte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baseline assessment of VS and system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 should be taken as order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t abruptly stopp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ses should be spread evenly apa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ptimize the effects of the me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osing can cause life-threatening problems. Patients should not adjust the dosages unless directed by the physic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 is the antidote for cholinergic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be available in the patient’s room for immediate use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should notify their physician if they experience muscle weakness, abdominal cramps, diarrhea, or difficulty brea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side effects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respirato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dominal cramp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chospas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y breat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dycar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swe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frequency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gency of voiding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7635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for therapeutic eff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viated signs and symptoms of myasthenia grav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ostoperative patients with decreased GI peristalsis, look f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bowel s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age of fl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rence of bowel m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atients with urinary retention/hypotonic bladder, urination should occur within 60 minutes of bethanecol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Affecting the Autonomic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linergic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linergic Block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block or inhibit the actions of acetylcholine (ACh) in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ant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 with 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ACh at the muscarinic recep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S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ACh is unable to bind to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site and cause a cholinergic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se drugs bind to receptors, they inhibit nerve transmission at these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hear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increase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muscle rigid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em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 drowsiness, disorientation,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d pupils (mydria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accommodation due to paralys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iliary muscles (cyclopleg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smooth muscle tone of GI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testinal and gastric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motility and peristal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16200"/>
            <a:ext cx="7635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xed detrusor mus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nstriction of internal sphinc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:  urinary re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nd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ed bronchial secretions, salivation, swe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lated bronchial air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muscle rigidity and muscle tre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son’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-induced extrapyramid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 the heart’s conduc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oses: slow the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oses: block inhibitory vagal effects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 and AV node pacemak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in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cardiovascular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 node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second-degree hear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 bradycardia with hemodynamic compromise (advanced life sup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59120"/>
            <a:ext cx="763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the cholinergic stimulation of the PS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nopposed action of the S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ecretions from nose, mout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ynx, bron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 smooth muscles in bronch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airway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stimulate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SNS is the opposing system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S Also known as cholinergic 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parasympath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c the effects of the PSNS neurotransmitter Acetylcholine (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-induced bronchospa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bronch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obstructive pulmona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7200"/>
            <a:ext cx="763560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NS controls gastric secretions and smooth muscles that produce gastric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 of PSNS resul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ation of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GI motility and 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c ulc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le bowe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ypersecretory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7200"/>
            <a:ext cx="7635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d detrusor muscles of the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striction of the internal 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 neurogenic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heart rat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excitation, restlessnes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ility, disorient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ucinations, deli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ated pupils, decreased visual accommod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ntraoc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aliv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gastric secretion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mo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tour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nary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 Inte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ista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with cholinergic block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, cause ADDITIVE choliner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, resulting in increase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that these agents will blo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on of ACh in the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allergies, presence of BPH, glaucoma, tachycardia, MI, CHF, hiatal hernia, and GI or GU ob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baseline assessment of V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ystem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s should be taken exactly as prescri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the maximum therapeutic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osing can cause life-threatening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red vision may cause problems with dri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perating machin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experience sensitivity to ligh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wear dark glasses or sun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s that stimulate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ympathetic nervous system (PS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SNS is the opposing system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cholinergic agonists or parasympathomim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the effects of the PSNS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choline (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iving ophthalmic solutions, apply pressure to the inner canthus to prevent systemic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 may occur; can be handled by chewing gum, frequent mouth care, and hard c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physician before taking any other medication, including OTC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DOTE for atropine is physostigmine salicylate (Antilir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,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nce stimul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ic receptors and Muscarin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75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D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ary incontin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r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intestinal cr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intestine and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gastric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gastrointestinal mo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urinary frequenc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pup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iction (mi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intraocular press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alivation and sw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constriction, narrowed air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-Act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glaucoma and intraocula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acetylcholine, carbachol, pilocar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al application due to poor oral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ood Alharbi</cp:lastModifiedBy>
  <dcterms:modified xsi:type="dcterms:W3CDTF">2016-02-13T14:43:0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