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943-3916-4DAA-B072-467F57E0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DB0-CD96-4EE5-84C7-1D325EB8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ADC-CFE1-4E79-867C-CB4BB086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47B-5B7F-4390-81E7-25CEF3C4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3F7-8693-43F8-BD3A-2474301A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B04-8BE3-4D1F-8804-83BCB53B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F09-AE00-4955-95B1-AEC9A74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E07-CCE5-4165-A8A1-CCC189B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557-E1C4-4AEE-9E98-D090922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B8C-32E5-4588-9275-771A108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B0A-11C9-4582-ADB6-D566138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030-7A0F-4C28-937E-9181039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664D-6E23-4933-BD60-ED22F15B96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Affecting  Autonomic Nervous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constriction, narrowed air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commended doses, the cholinergics primarily affect the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 doses, cholinergics stimulate the  NICOT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FFECTS:  from muscarinic receptor st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desirable effects are due to stimulation of the nicotinic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-Ac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intraocula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glaucoma and intraocula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acetylcholine, carbachol, pilocar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al application due to poor 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-Ac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keletal muscle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iagnosis and treatmen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reverse neuromuscular block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reverse anticholinergic poisoning (antid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physostigmine, pyridostig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choline: is essential for all voluntary movement, it is action very short lived it is quickly broken down to choline  by cholinesterase and acetate so it not used therapeu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ach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synthetic substance related to acetylcholine it is not broken down by cholinesterase and it is action are there fore much more prolonged may be given by SC or o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to treat uriary retention following surgical operation, no mechnical ob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de effect: diarrehea, colic, marked fall in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as Bethanec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locarpine: is used only as eye drops where it causes constriction of the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are a result of overstimul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S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ycardia, hypotension, conduction abnormalities (AV block and cardiac ar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, dizziness,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cramps, increased secre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ronchial secretions, broncho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tion, sweating,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n mind that these agents will stimulate the PSNS and mimic the action of 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for allergies, presence of GI or GU obstructions, asthma, peptic ulcer dise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oronary artery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aseline assessment of VS and systems over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stimulate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S Also known as cholinergic 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a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c the effects of the PSNS neurotransmitter Acetylcholine (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 should be taken as order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abruptly stopp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ses should be spread evenly ap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ptimize the effects of the med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dosing can cause life-threatening problems. Patients should not adjust the dosages unless directed by the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s with myasthenia gravis to take medication 30 minutes before eating to help improve chewing and swa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nepezil is prescribed for Alzheimer’s disease, be honest with caregivers and patients that the drug is for manage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ymptoms, not for a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eutic effects of donepezil may not occur for up to 6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opine is the antidote for cholinergic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available in the patient’s room for immediate use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should notify their physician if they experience muscle weakness, abdominal cramps, diarrhea, or difficulty 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for side effect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espir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cramp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chospas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brea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frequency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cy of void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block or inhibit the actions of acetylcholine (ACh) in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Chemica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nthetic/Semi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o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sotro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d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adon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yclo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pyrr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oscy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ocycl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atr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ol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ratrop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prop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buty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th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terod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dihexeth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hear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increase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muscle rigid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e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 drowsiness, disorientation,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 (mydria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ccommodation due to par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iliary muscles (cyclopleg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smooth muscle tone of GI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testinal an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motility and peristal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16200"/>
            <a:ext cx="7635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 detrus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striction of internal sphin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urinary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, salivation,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ed bronchial ai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muscle rigidity and muscle tre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-induced extrapyramid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,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once stimul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ic receptors and Muscarin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the heart’s condu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oses: slow the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oses: block inhibitory vagal effects on the SA and AV node pacemak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in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cardiovascular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us node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second-degree hear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us bradycardia with hemodynamic compromise (advanced life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59120"/>
            <a:ext cx="763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the cholinergic stimulation of the PS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nopposed action of the S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ecretions from nose, mout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ynx, 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 smooth muscles in bronch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airway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-induced bronchospa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c ulce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ble bow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hypersecretory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d detrusor muscles of the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striction of the internal 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neurogenic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heart rat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xcitation, restlessnes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bility, disorientatio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ucinations, deli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, decre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ccommodation, increased intraocula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alivation,      decreased gastric secretions, decreased mo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blo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on of ACh in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BPH, glaucoma, tachycardia, MI, CHF, hiatal hernia, and GI or GU ob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otin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ganglia of both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NS and S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“nicotinic” because can be stimulated by the alkaloid 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 should be taken exactly as prescri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the maximum therapeutic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ing can cause life-threaten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red vision may cause problems with d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perating machin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experience sensitivity to ligh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wear dark glasses or sun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iving ophthalmic solutions, apply pressure to the inner canthus to prevent systemic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 may occur; can be handled by chewing gum, frequent mouth care, and hard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physician before taking any other medication, including OTC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OTE for atropine is physostigmine salicylate (Antilir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holinergics may lead to higher risk for heat stroke due to effects on heat-regulating mech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patients to limit physical exertion, and avoid high temperatures and strenuous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the importance of adequate fluid and salt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the following to their physician: urinary hesitancy and/or retention, constipation, palpitations, tremors, confusion, sedation or amnesia, excessive dry mouth (especially if they have chronic lung infections or disease), or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arin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postsynapt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ac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of parasympathetic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or organs of cholinergic sympathetic fi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“muscarinic” because can be stimulated by the alkaloid musc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ypathomimetic dru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ffect similar to those produced by activating by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cho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ac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anec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carpin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-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the enzyme “cholineste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more ACh is available at th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-Acting Cholinergic Agents (Cholinesterase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cholinesterase for a perio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 to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cholinesterase and form a permanent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must make new cholinest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intestine and bl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gastric se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gastrointestinal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rinary frequenc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iction (mio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intraocular press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salivation and sw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harbi</cp:lastModifiedBy>
  <dcterms:modified xsi:type="dcterms:W3CDTF">2016-02-11T07:51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