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E6990-458F-4F0A-B57D-9DBA80EAC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FC0E2-E014-479A-842F-1B79EE009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A5E12-09C6-4814-9D31-688DC5FA8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CC6B1-F71D-4F87-8253-41DDA3066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64C00-660B-4505-8699-ECFD1B064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833A7-A306-48CF-A2AE-1ABF42DD7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38A56-EE2D-4DE0-9ACD-8FF232F14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5CCAC-F801-4F8A-A28B-20200D1B9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FEC6C-A736-4ACC-99BF-2F3AC20E7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7260C-39BD-4D6D-85C8-10AA75E65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6934D-596E-4B09-8668-2EC6CAD07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BEA11-F67F-4EBB-BA38-0D6EA4BEB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5E58D-957D-429B-AD35-779D7EF4F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679BC-FBCA-4DBB-9A86-04F7B7D23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0749B-50B6-4C62-A53E-B223503EE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38269-6DB2-4F2D-9906-E453E5F66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EB4F5-8F24-4C93-A25B-C76B127A8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D8C733-6067-41AB-A5C7-8F7178C8E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0486A6-0C25-47A3-900C-0B1B7BFA1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D88BF5-5F5D-446B-83C5-A33414201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F39AE1-F258-452E-A0D1-268FE2003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01ADF6-87FF-473E-BC5B-B8E191B68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F671B-73B4-4AAE-B1F0-9038AF0BA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C72A1C-D18B-4F60-A123-30B290C18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7115C0-997D-4FF0-BE15-836951D4E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58D8F4-2CF4-44EF-9D69-CA59260D5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2116CE-E462-4C3F-ADD9-250AE8C01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68082C-A81A-47A6-AC3E-2FA835BDB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01174C-AB4E-4E06-9D63-ECA529DBE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7AC95C-FDBA-4C11-B203-CAFD9DFF9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637044-5F4E-4FC9-BDA1-08419AEBB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B54880-656A-45E6-8069-7E500AD81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7058FF-8097-4A17-9B09-A0AEA473A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C8FB2-CE2D-4658-874E-643555F9D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E6B3A1-440C-48EE-9381-BEC880C66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0AD7FD-E303-4390-9EAD-E53590F5C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379E25-43DB-4181-93B4-60B0344F4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DA56AC-7EA6-47C6-B7FE-CBEC31FDC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C81CCE-5433-4948-BF2D-8C55146E5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3E93BA-1DC8-48CD-A853-09388AACE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9133F0-3E2B-4C28-8DB7-03EBC49DB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6C8507-031F-4D37-91E8-DBA7E3955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5B0ED1-EF28-4763-9FFE-6BACAF7B8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43508-617B-4264-8EEF-67DD89266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D1AA2-3F8D-4822-9608-FF6780AD6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BECBB-870E-4BA4-986E-B2F8EF6EF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947ED-1358-46DA-A11C-9B0CB3C52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1419B-3DB3-4A26-88AC-1439C716B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90E57-EA22-4F8B-A368-17AD788E691E}" type="slidenum">
              <a:rPr b="0" lang="en-US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17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18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Straight Connector 19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20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21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22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23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24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25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26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640" cy="569772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E2B22-06EF-492B-A0B5-273C7AC29085}" type="slidenum">
              <a:rPr b="0" lang="en-US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B8CFF-F32F-44FA-8E83-980F8CF91A5C}" type="slidenum">
              <a:rPr b="0" lang="en-US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3CE27-D588-43D7-93B5-103223269A4E}" type="slidenum">
              <a:rPr b="0" lang="en-US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s://en.wikipedia.org/wiki/Uterus" TargetMode="External"/><Relationship Id="rId2" Type="http://schemas.openxmlformats.org/officeDocument/2006/relationships/hyperlink" Target="https://en.wikipedia.org/wiki/Childbirth" TargetMode="External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4360" y="1268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90c226"/>
                </a:solidFill>
                <a:latin typeface="Trebuchet MS"/>
              </a:rPr>
              <a:t> </a:t>
            </a:r>
            <a:r>
              <a:rPr b="0" lang="en-US" sz="4400" spc="-1" strike="noStrike">
                <a:solidFill>
                  <a:srgbClr val="90c226"/>
                </a:solidFill>
                <a:latin typeface="Trebuchet MS"/>
              </a:rPr>
              <a:t>Diabetes during pregnancy</a:t>
            </a:r>
            <a:endParaRPr b="0" lang="en-US" sz="4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7f7f7f"/>
              </a:solidFill>
              <a:latin typeface="Trebuchet MS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9A935-EE22-4F67-9F41-7054E47BCE45}" type="slidenum">
              <a:rPr b="0" lang="en-US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The impacts between pregnancy and diabete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e pregnancy and diabetes can impact each other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On one hand, the pregnancy can aggravate the diabetes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On the other hand, diabetes can exert  adverse effects on the pregnant effects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43CEF-06AF-454C-86A2-9EACA61C6876}" type="slidenum">
              <a:rPr b="0" lang="en-US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90c226"/>
                </a:solidFill>
                <a:latin typeface="Trebuchet MS"/>
              </a:rPr>
              <a:t>The impact of pregnancy on diabetes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e insulin sensitivity is lowered during pregnancy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We should adjust the dosage of insulin according to the placenta status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8F6C0-9E29-4392-BA52-B26D812E14FD}" type="slidenum">
              <a:rPr b="0" lang="en-US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The adverse effects of diabete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e overt diabetes has more adverse effects than the GDM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e adverse effects on the fetu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e adverse effects on the pregnant women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319EA-BAB7-4DB7-90E4-D0754D4CBA01}" type="slidenum">
              <a:rPr b="0" lang="en-US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The perinatal morbidity and mortality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Miscarriage, preterm birth and fetal death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ongenital malformatio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Macrosomia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hydramnio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Hypoglycemia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Respiratory distress syndrom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ardiomyopath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6C46E-0640-4903-8C45-C84606ED0F2A}" type="slidenum">
              <a:rPr b="0" lang="en-US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90c226"/>
                </a:solidFill>
                <a:latin typeface="Trebuchet MS"/>
              </a:rPr>
              <a:t>Miscarriage, preterm birth and fetal death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Hyperglycemia can results in the elevated the incidence of Miscarriage, preterm birth and fetal death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In general, Miscarriage, preterm birth and fetal death are more rare in GDM population than in overt population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B7155-5A33-4C43-A10A-BE406047B8FF}" type="slidenum">
              <a:rPr b="0" lang="en-US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The congenital malformation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e overt diabetes is related to  the pregestational daibetes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e incidence of the congenital malformation is not elevated in GDM women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76214-9C79-453D-ACC0-9689C6058D7A}" type="slidenum">
              <a:rPr b="0" lang="en-US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Macrosomia 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Glucose can cross the placenta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e Maternal hyperglycemia can cause the fetal hyperglycemia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e hyperglycemia would stimulate the growth of fetus, then macrosomia will occur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59" name="Picture 2" descr=""/>
          <p:cNvPicPr/>
          <p:nvPr/>
        </p:nvPicPr>
        <p:blipFill>
          <a:blip r:embed="rId1"/>
          <a:stretch/>
        </p:blipFill>
        <p:spPr>
          <a:xfrm>
            <a:off x="6659640" y="824040"/>
            <a:ext cx="2361960" cy="1933560"/>
          </a:xfrm>
          <a:prstGeom prst="rect">
            <a:avLst/>
          </a:prstGeom>
          <a:ln w="0">
            <a:noFill/>
          </a:ln>
        </p:spPr>
      </p:pic>
      <p:sp>
        <p:nvSpPr>
          <p:cNvPr id="260" name="Slide Number Placeholder 4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E1B93-D758-485C-9DCC-50E517155D60}" type="slidenum">
              <a:rPr b="0" lang="en-US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Fetal growth restriction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e fetal growth restriction can be seen in the women with overt diabetes, which is related to the vascular disorders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If  women with diabetes during pregnancy could not get sufficient energy, the fetal growth will be influenced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3" name="Slide Number Placeholder 3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D9857-E987-4CB6-BA19-D3400F44A618}" type="slidenum">
              <a:rPr b="0" lang="en-US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Hydramnio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rebuchet MS"/>
              </a:rPr>
              <a:t>Hydramniosis a condition that occurs when too much amniotic fluid builds up during pregnancy. It is also called amniotic fluid disorder, or polyhydramnios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Although diabetic pregnancies are often complicated by hydramnios, the cause is unclear.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s finding suggests that the hydramnios associated with diabetes is a result of increased amnionic fluid glucose concentration.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6" name="Slide Number Placeholder 3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891FB-65F9-407D-A84C-6AC5278C4D4A}" type="slidenum">
              <a:rPr b="0" lang="en-US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Hypoglycemia 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The fetus produces its own insulin to modulate its blood glucose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The hyperinsulinemia will occur in response to the hyperglycemia in the fetus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After delivery, the blood glucose provided by mother will be stopped, but the insulin production would not be reduced, so the hyperglycemia will results in the newborns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9" name="Slide Number Placeholder 3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FB073-A882-4D80-8F7A-1A43347710C1}" type="slidenum">
              <a:rPr b="0" lang="en-US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Introduction 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Diabetes is a endocrinological disorder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e prevalence of diabetes is about 3% in the whole population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e characteristics of diabetes is elevated plasma glucose levels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AC391-D678-4C99-8046-6EE5052860F0}" type="slidenum">
              <a:rPr b="0" lang="en-US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Respiratory distress syndrome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e newborn  respiratory distress syndrome is related to the fetal lung immaturity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Hyperinsulinemia  inhibits fetal lung maturity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o diabetes can result in the respiratory distress syndrome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2" name="Slide Number Placeholder 3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690C1-631D-4F7C-8FCE-AFC0F491C5F7}" type="slidenum">
              <a:rPr b="0" lang="en-US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90c226"/>
                </a:solidFill>
                <a:latin typeface="Trebuchet MS"/>
              </a:rPr>
              <a:t>The adverse effects on the mother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Elevated incidence of the preeclampsia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Dystocia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Infectio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Ketoacidosis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5" name="Slide Number Placeholder 3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0B5C9-16C6-472D-AEBB-EFF7D6F82BF7}" type="slidenum">
              <a:rPr b="0" lang="en-US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Preeclampsia 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rebuchet MS"/>
              </a:rPr>
              <a:t>Preeclampsia is a pregnancy complication characterized by high blood pressure and signs of damage to another organ system, often the kidneys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Preeclampsia is related to glucose control 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Hypertension that is induced or exacerbated by pregnancy is the major complication that most often forces preterm delivery in diabetic women.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8" name="Slide Number Placeholder 3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FB787-0945-4D13-AD33-BAC6E434BE06}" type="slidenum">
              <a:rPr b="0" lang="en-US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Distocia 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Trebuchet MS"/>
              </a:rPr>
              <a:t>Obstructed labour</a:t>
            </a: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, also known as </a:t>
            </a:r>
            <a:r>
              <a:rPr b="1" lang="en-US" sz="1800" spc="-1" strike="noStrike">
                <a:solidFill>
                  <a:srgbClr val="404040"/>
                </a:solidFill>
                <a:latin typeface="Trebuchet MS"/>
              </a:rPr>
              <a:t>labour dystocia</a:t>
            </a: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, is when, even though the </a:t>
            </a:r>
            <a:r>
              <a:rPr b="0" lang="en-US" sz="1800" spc="-1" strike="noStrike" u="sng">
                <a:solidFill>
                  <a:srgbClr val="99ca3c"/>
                </a:solidFill>
                <a:uFillTx/>
                <a:latin typeface="Trebuchet MS"/>
                <a:hlinkClick r:id="rId1"/>
              </a:rPr>
              <a:t>uterus</a:t>
            </a: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 is contracting normally, the baby does not exit the pelvis during </a:t>
            </a:r>
            <a:r>
              <a:rPr b="0" lang="en-US" sz="1800" spc="-1" strike="noStrike" u="sng">
                <a:solidFill>
                  <a:srgbClr val="99ca3c"/>
                </a:solidFill>
                <a:uFillTx/>
                <a:latin typeface="Trebuchet MS"/>
                <a:hlinkClick r:id="rId2"/>
              </a:rPr>
              <a:t>childbirth</a:t>
            </a: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 due to being physically blocked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Distocia is associated with macrosomia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hould distocia can results into serious birth trauma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1" name="Slide Number Placeholder 3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FEEA0-783D-4A07-8F46-D4D25A3F0EFD}" type="slidenum">
              <a:rPr b="0" lang="en-US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Ketoacidosis 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404040"/>
                </a:solidFill>
                <a:latin typeface="Trebuchet MS"/>
              </a:rPr>
              <a:t>Although it affects only approximately 1 percent of diabetic pregnancies, ketoacidosis remains one of the most serious complication .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25800" indent="-325800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25800" indent="-325800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404040"/>
                </a:solidFill>
                <a:latin typeface="Trebuchet MS"/>
              </a:rPr>
              <a:t>The incidence of fetal loss is about 20 percent with ketoacidosis .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25800" indent="-325800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25800" indent="-325800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404040"/>
                </a:solidFill>
                <a:latin typeface="Trebuchet MS"/>
              </a:rPr>
              <a:t>Pregnant women usually have ketoacidosis with lower blood glucose levels than when nonpregnant. 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4" name="Slide Number Placeholder 3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99772-0667-4762-BEEF-5F44BA01B99A}" type="slidenum">
              <a:rPr b="0" lang="en-US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Screening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Most patients with GDM have normal fasting glucose levels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e challenge of glucose tolerance must be done for most cases with GDM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  <a:ea typeface="Cordia New"/>
              </a:rPr>
              <a:t>Plasma glucose after 50 g glucose test (50 gm glucose challenge test –GCT) is the best to identify women at risk for GDM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7" name="Slide Number Placeholder 3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07F93-A61F-440E-9909-73E16DC58F33}" type="slidenum">
              <a:rPr b="0" lang="en-US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Screening – at the first antenatal visi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Routine fasting glucose measuremen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Assess GDM risk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0" name="Slide Number Placeholder 3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2FB8C-2C9E-4EB4-B22F-302E7413672B}" type="slidenum">
              <a:rPr b="0" lang="en-US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The fasting glucose level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Normal:&lt;5.1 mmol/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uspected pregestational diabetes: &gt;7.0mmol/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uspected GDM: 5.1-7.0 mmol/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3" name="Slide Number Placeholder 3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6AF50-33A3-471C-9BA8-119AECEF5BEC}" type="slidenum">
              <a:rPr b="0" lang="en-US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Assess the GDM risk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The maternal age: young or old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Weight before pregnancy: normal or obese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The history of abnormal glucose metabolism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The history of poor obstetrical outcome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The familial history of abnormal glucose metabolism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6" name="Slide Number Placeholder 3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53F86-539D-4FB9-A21A-5A47A6792BF3}" type="slidenum">
              <a:rPr b="0" lang="en-US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Screening –at the 24 weeks visi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404040"/>
                </a:solidFill>
                <a:latin typeface="Trebuchet MS"/>
              </a:rPr>
              <a:t>OGTT should be done.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404040"/>
                </a:solidFill>
                <a:latin typeface="Trebuchet MS"/>
              </a:rPr>
              <a:t>There are some controversies.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404040"/>
                </a:solidFill>
                <a:latin typeface="Trebuchet MS"/>
              </a:rPr>
              <a:t>whether the universal or selective OGTT should be done?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404040"/>
                </a:solidFill>
                <a:latin typeface="Trebuchet MS"/>
              </a:rPr>
              <a:t>Which blood glucose level should be the optimal cutoff for diagnosis?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9" name="Slide Number Placeholder 3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33AFE-8A90-49D6-9759-AEEA180B004E}" type="slidenum">
              <a:rPr b="0" lang="en-US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Diabetes during pregnancy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Diabetes is a common complication of pregnancy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e prevalence of diabetes is about 15% in the pregnant women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e more and more attention was paid to diabetes during pregnancy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B6971-DFF6-4BDB-B41E-451260130EC5}" type="slidenum">
              <a:rPr b="0" lang="en-US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Screening strategy 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In our country, every pregnant woman is advised to do OGTT at about 24 weeks of gestation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If the GDM symptoms are present after 24 weeks, the OGTT should be done again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2" name="Slide Number Placeholder 3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7F543-359F-47BE-B4DC-326857099875}" type="slidenum">
              <a:rPr b="0" lang="en-US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The diagnosis criteria  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  <p:graphicFrame>
        <p:nvGraphicFramePr>
          <p:cNvPr id="305" name="Object 4"/>
          <p:cNvGraphicFramePr/>
          <p:nvPr/>
        </p:nvGraphicFramePr>
        <p:xfrm>
          <a:off x="179280" y="2305080"/>
          <a:ext cx="8353440" cy="2273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0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2305080"/>
                    <a:ext cx="8353440" cy="227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7" name="Slide Number Placeholder 4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DE4BD-50E9-49CE-AD5D-8E31B4DBACBA}" type="slidenum">
              <a:rPr b="0" lang="en-US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90c226"/>
                </a:solidFill>
                <a:latin typeface="Trebuchet MS"/>
              </a:rPr>
              <a:t>Antepartum Management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404040"/>
                </a:solidFill>
                <a:latin typeface="Trebuchet MS"/>
              </a:rPr>
              <a:t>There is a consensus that once diabetes is diagnosed, the treatment should be recommended  for diabetes during pregnancy.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404040"/>
                </a:solidFill>
                <a:latin typeface="Trebuchet MS"/>
              </a:rPr>
              <a:t>The goals of treatment are to prevent macrosomia, avoid ketosis, and detect pregnancy complications (eg, hypertension, intrauterine growth restriction, and fetal distress).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404040"/>
                </a:solidFill>
                <a:latin typeface="Trebuchet MS"/>
              </a:rPr>
              <a:t>The management includes diet, exercise and insulin.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0" name="Slide Number Placeholder 3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E425C-8628-4F00-9F1C-8D63378351E0}" type="slidenum">
              <a:rPr b="0" lang="en-US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Diet therapy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324000" y="1341360"/>
            <a:ext cx="842472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The goals of diet therapy in GDM are to avoid ketosis, achieve normal blood glucose levels, obtain proper nutrition, and gain weight appropriately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The amount and distribution of carbohydrate should be based on clinical outcome measures (eg, hunger, blood glucose levels, weight gain), but a minimum of 175 g of carbohydrate per day should be provided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Carbohydrate should be distributed throughout the day in 5 to 7 meals and snacks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Use of a low–glycemic index diet decreases the need for insulinto maintain euglycemia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3" name="Slide Number Placeholder 3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045B1-372A-444D-840A-9F884806B007}" type="slidenum">
              <a:rPr b="0" lang="en-US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Exercise 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Experts recommend that women with GDM should exercise regularly to control blood glucose levels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but an improvement in clinical outcomes has not been demonstrated from compliance with this recommendation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6" name="Slide Number Placeholder 3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2075C-2E7E-48CC-B262-BDB9680EC6D3}" type="slidenum">
              <a:rPr b="0" lang="en-US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Insulin therapy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rebuchet MS"/>
              </a:rPr>
              <a:t>Traditionally, insulin is used if dietary management does not maintain  blood   glucose at normal levels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29040" indent="-32904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29040" indent="-32904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rebuchet MS"/>
              </a:rPr>
              <a:t>Insulin may be initiated at 0.7 U/kg actual body weight/d given in divided dosages: two-thirds of the daily dosage before breakfast  and the remainder of the dosage before dinner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29040" indent="-32904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29040" indent="-32904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rebuchet MS"/>
              </a:rPr>
              <a:t>Insulin therapy  require close monitoring and adjustment based on blood glucose levels, meal choices, and activity levels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9" name="Slide Number Placeholder 3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6AA96-1A81-4E14-9085-A07296C08E8D}" type="slidenum">
              <a:rPr b="0" lang="en-US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Obstetrics management(1)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404040"/>
                </a:solidFill>
                <a:latin typeface="Trebuchet MS"/>
              </a:rPr>
              <a:t>The goal of intrapartum GDM management is to avoid operative delivery, shoulder dystocia, birth trauma, and neonatal hypoglycemia. 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404040"/>
                </a:solidFill>
                <a:latin typeface="Trebuchet MS"/>
              </a:rPr>
              <a:t>For patients who have maintained excellent control of blood glucose levels with diet and exercise, delivery is recommended at 40 weeks. 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404040"/>
                </a:solidFill>
                <a:latin typeface="Trebuchet MS"/>
              </a:rPr>
              <a:t>For patients with medication-requiring GDM, induction at 38 to 39 weeks’ gestation is recommended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2" name="Slide Number Placeholder 3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F71DD-4EB1-42DA-9916-ADD74E8A4229}" type="slidenum">
              <a:rPr b="0" lang="en-US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Obstetrics management(2)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In general, women with gestational diabetes who do not require insulin seldom require early delivery or other interventions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Elective cesarean delivery to avoid brachial plexus injuries in macrosomic infants is an important issue.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5" name="Slide Number Placeholder 3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3717C-77FB-4B94-8F1D-C3546681175B}" type="slidenum">
              <a:rPr b="0" lang="en-US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Postpartum management(1)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In most women with GDM, hyperglycemia rapidly resolves shortly after delivery.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It is reasonable to measure a single random or fasting blood glucose level before discharge from the hospital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8" name="Slide Number Placeholder 3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CA402-ADCB-4947-8308-66AE9ED496A6}" type="slidenum">
              <a:rPr b="0" lang="en-US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Postpartum management(2)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324000" y="1412640"/>
            <a:ext cx="864072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Postpartum glucose tolerance testing is important for women who had GDM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Women with GDM have a 7-fold increased risk of developing type 2 diabetes mellitus compared with those who had a normoglycemic pregnancy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At 6 to 12 weeks postpartum, only one-third of women with persistent glucose intolerance have an abnormal fasting blood glucose level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Therefore, to detect all women with glucose intolerance, a 75-g, fasting, 2-hour, oral glucose tolerance test is recommended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1" name="Slide Number Placeholder 3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70396-9296-4D09-AFFF-1695421F4857}" type="slidenum">
              <a:rPr b="0" lang="en-US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Pathophysiology -insulin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The glucose metabolism is mainly controlled by insulin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The insulin is secreted by pancreatic βcell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The insulin promote the glucose metabolism in tissues throughout  the body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As the blood glucose is utilized, the blood glucose levels would be lowered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247EA-EC3B-4E28-8B32-027815A12AA1}" type="slidenum">
              <a:rPr b="0" lang="en-US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90c226"/>
                </a:solidFill>
                <a:latin typeface="Trebuchet MS"/>
              </a:rPr>
              <a:t>Pathophysiology -Insulin sensitivity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In two conditions, the blood glucose will be elevated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One is the insufficient insulin secretion by beta cells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The other is the decreased insulin activity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The insulin activity is called as the insulin sensitivity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ED771-CE47-4C18-AE90-FAAC58A2E2DD}" type="slidenum">
              <a:rPr b="0" lang="en-US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Pathophysiology –placenta(1)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e placenta can secrete a variety of  hormones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ese hormones include estrogen, progesterone, cortisol, human placental lactogen, human chorionic gonadotropin, etc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e hormones produced by placenta antagonize the  effects of insulin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It is estimated that the insulin sensitivity will be decreased by 40% in the 3rd trimester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D7B50-146C-45CC-AFCF-048967AAD497}" type="slidenum">
              <a:rPr b="0" lang="en-US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Pathophysiology-placenta(2)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e decreased insulin sensitivity is the key for the mechanism of GDM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r GDM, there are no placental hormones after delivery of placenta, so the insulin sensitivity and the blood glucose levels would be restored to the normal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A45B8-C9EF-442C-BC21-336EB48D883A}" type="slidenum">
              <a:rPr b="0" lang="en-US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assification 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Pregestational or overt: be diagnosed before pregnancy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Gestational diabetes Mellitus(GDM) : be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diagnosed during pregnancy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GDM is more common than the overt diabetes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8BE1C-1593-4CC4-AB77-B8C5BACE69A1}" type="slidenum">
              <a:rPr b="0" lang="en-US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Gestational diabetes mellitu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Definition: any degree carbohydrate intolerance with onset or first recognition during pregnancy.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25800" indent="-32580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25800" indent="-32580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GDM is more common than the overt diabetes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25800" indent="-32580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25800" indent="-32580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e GDM account for more than 90% of the whole diabetes during pregnancy.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25800" indent="-32580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25800" indent="-32580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GDM could contain some pregestaional diabetes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F1FB6-A51D-4E79-B0F6-A485044CF774}" type="slidenum">
              <a:rPr b="0" lang="en-US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4T14:42:58Z</dcterms:created>
  <dc:creator>番茄花园</dc:creator>
  <dc:description/>
  <dc:language>en-US</dc:language>
  <cp:lastModifiedBy>user</cp:lastModifiedBy>
  <dcterms:modified xsi:type="dcterms:W3CDTF">2016-02-15T13:36:28Z</dcterms:modified>
  <cp:revision>14</cp:revision>
  <dc:subject/>
  <dc:title>Gestational Mellitus Diabetes</dc:title>
</cp:coreProperties>
</file>