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F48-B30C-4743-A74F-7B19470D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32E-E268-4FE4-99C1-6F658160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92A-2ACB-4E6A-AFCD-6E162880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CB0-C3FE-4D91-92CF-549FB9DC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2FB5-4CD3-4BFD-AE6C-5FCD38AB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8973-F821-4611-926B-16E72B1E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64F1-6784-4847-B8D6-38100934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4418-EA25-4002-AD4D-3B22331F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3E43-510A-44FA-A46B-B34154D0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FF7A-744B-4134-B8BC-6E06E31D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8634-11FD-4C86-AE32-F666D553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C4D-6552-490C-A719-716B4B9C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ADD8-4DC5-481A-986C-B6D1A9C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C42E-84A0-42E9-A394-7891089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1C44-71D8-4895-900E-66C19EB6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CA0B-FC29-4652-83C7-8E5D0D8D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F30D-FDF7-482C-95A3-73BE7F83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F7FA-BD6B-4D20-951A-185AD65A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6E7E-89EB-45AC-87B6-B39EA88A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4532E-0BB0-425D-B5D2-CB335C31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164C-2C82-40A1-837E-218FA689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A03C-BCB9-4C84-91D2-419E8EF3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61C-68CC-479D-B6E5-8E131998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B312-8760-4020-93E3-9667F9E6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38BF-39C6-453F-84AE-EAE01249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3838-7F86-4344-8BCF-20B70E29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41B4-0FE2-4715-8D11-841F7CA8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E622-897A-4522-9C00-AB439567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2A47-6831-4014-A11A-05D6B20E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DAE6-F59E-44D4-AE15-0E1CCB00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8C51-CF44-4933-9D12-16ED0727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F262-77BF-41A6-8512-38536971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89AB-7D56-4B16-A444-28F24029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292-C072-4D46-83CC-53FBA70D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FE753-602D-41DB-AE12-4B263B3F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C3E5D-7287-40A3-9C38-3FDE1439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7170D-DEB9-471A-A644-2F8D3B3A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71A7A-01FF-4704-9F22-18349A3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BE86-5790-4EA2-90CC-ED4F2DA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F5A2-9D74-493E-9A0E-FB32ED58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F76BE-8880-43F9-805B-A628B699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E771-772B-433C-A9E5-66610C1A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2B98-4655-4EEA-AD06-476C19EC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6AD-7FD4-4EA5-AA34-19EC300F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1CA-E523-48D5-A55C-EC2143DE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9A3-C428-43CF-BF1F-7EA54E5F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99E-6151-4D2D-8F0D-5D62A4A5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409-4E92-488A-949D-FBEABFCF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5416-398F-4C39-856B-D429D3F1256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85A6-5AB5-48DD-BE7C-EDC1E7FC720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CBFA-6ECD-44E6-AAEF-9E9F8E8B324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B71D-4DF3-4975-B9BC-CDB3613FC2B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Uterus" TargetMode="External"/><Relationship Id="rId2" Type="http://schemas.openxmlformats.org/officeDocument/2006/relationships/hyperlink" Target="https://en.wikipedia.org/wiki/Childbirth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C0B3-A96C-477B-B213-B613AD100FE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impacts between pregnancy and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gnancy and diabetes can impact each oth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one hand, the pregnancy can aggravate the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the other hand, diabetes can exert  adverse effects on the pregnant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1BE8-8A56-404E-A6B4-70F5F09C4E0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impact of pregnancy on diabet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sulin sensitivity is lower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should adjust the dosage of insulin according to the placenta stat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9AE3-AAAD-4A94-A245-DF69C397C80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adverse effects of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has more adverse effects than the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fet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62BC-D18F-480F-99F4-01582184574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perinatal morbidity and mortal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scarriage, preterm birth and fetal d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genital malform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croso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dramnio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oglyc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distress syndro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myop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B61A-ED9C-4953-A130-D211BEEAA71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Miscarriage, preterm birth and fetal death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glycemia can results in the elevated the incidence of Miscarriage, preterm birth and fetal deat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Miscarriage, preterm birth and fetal death are more rare in GDM population than in overt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3327-50F3-42DB-B44E-36F5D7E9C0C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ongenital malform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is related to  the pregestational dai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cidence of the congenital malformation is not elevated in GDM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6C57-7F65-4331-881E-890D40BBE3E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acroso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lucose can cross the placen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aternal hyperglycemia can cause the fetal hyperglyce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hyperglycemia would stimulate the growth of fetus, then macrosomia will occu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659640" y="824040"/>
            <a:ext cx="2361960" cy="193356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875F-0E9C-4A71-973A-BDF12BC1A81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etal growth restri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fetal growth restriction can be seen in the women with overt diabetes, which is related to the vascular disorde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 women with diabetes during pregnancy could not get sufficient energy, the fetal growth will be influenc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9971-3BEC-4943-A294-EC9A0CEF1E7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dramnio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Hydramniosis a condition that occurs when too much amniotic fluid builds up during pregnancy. It is also called amniotic fluid disorder, or polyhydramni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lthough diabetic pregnancies are often complicated by hydramnios, the cause is unclear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s finding suggests that the hydramnios associated with diabetes is a result of increased amnionic fluid glucose concentr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E99B-8406-4C3F-AA00-93C42B0B60B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poglyce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etus produces its own insulin to modulate its blood gluco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yperinsulinemia will occur in response to the hyperglycemia in the fetu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fter delivery, the blood glucose provided by mother will be stopped, but the insulin production would not be reduced, so the hyperglycemia will results in the newborn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4116-455E-4D20-A6D4-B3344CF77C4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troduc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endocrinological disord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3% in the whole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racteristics of diabetes is elevated plasma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2F46-C150-4A5E-A881-FEF62BCF2D3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espiratory distress syndro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newborn  respiratory distress syndrome is related to the fetal lung im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insulinemia  inhibits fetal lung 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 diabetes can result in the respiratory distress syndro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738-62B1-444D-B8D3-9ACB8C4F6EA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adverse effects on the mothe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vated incidence of the preeclamps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stoc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e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toacidos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9592-7D8E-4BCD-94A2-D19BB9AC83E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reeclamps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reeclampsia is a pregnancy complication characterized by high blood pressure and signs of damage to another organ system, often the kidne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eclampsia is related to glucose control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tension that is induced or exacerbated by pregnancy is the major complication that most often forces preterm delivery in diabetic wome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2DE9-00FD-49FE-A433-A950F36367D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stoc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Obstructed labou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lso known as 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labour dystocia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is when, even though the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uteru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is contracting normally, the baby does not exit the pelvis during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childbirth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due to being physically block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tocia is associated with macroso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distocia can results into serious birth trau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5ED3-E51B-4640-B430-4FC5B599ADA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etoacidos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Although it affects only approximately 1 percent of diabetic pregnancies, ketoacidosis remains one of the most serious complication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incidence of fetal loss is about 20 percent with ketoacidosis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Pregnant women usually have ketoacidosis with lower blood glucose levels than when nonpregnant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D3F0-9C41-405C-AF09-7CDBDF2CD83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patients with GDM have normal fasting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llenge of glucose tolerance must be done for most cases with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Cordia New"/>
              </a:rPr>
              <a:t>Plasma glucose after 50 g glucose test (50 gm glucose challenge test –GCT) is the best to identify women at risk for GD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4191-66EF-41FD-96A3-929C225F16A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 at the first antenatal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outine fasting glucose measurem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GDM ris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FA1C-A1F3-46A9-A8CD-F4C6BCD9297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fasting glucose lev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rmal:&lt;5.1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pregestational diabetes: &gt;7.0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GDM: 5.1-7.0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8E9C-D5A2-4E2D-85B5-5BC25BD0C34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ssess the GDM ris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maternal age: young or 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ight before pregnancy: normal or obe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poor obstetrical outco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amilial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CC9E-4E13-41BE-96A7-22489E7841A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at the 24 weeks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OGTT should be do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are some controversie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ether the universal or selective OGTT should be don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ich blood glucose level should be the optimal cutoff for diagnosis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C652-7B78-46A1-BCA4-69B8F4A9BCF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common complication of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15% i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and more attention was paid to diabetes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FC3A-4BDF-4A30-8BB0-7690F1EF625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strateg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our country, every pregnant woman is advised to do OGTT at about 24 weeks of gest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he GDM symptoms are present after 24 weeks, the OGTT should be done ag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B03-C920-46C9-A371-7D19BFE91E6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diagnosis criteria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179280" y="2305080"/>
          <a:ext cx="835344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05080"/>
                    <a:ext cx="83534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30F5-B6FB-4EE7-BF4A-B1AAC934D9D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epartum Managemen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is a consensus that once diabetes is diagnosed, the treatment should be recommended  for diabetes during pregnanc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s of treatment are to prevent macrosomia, avoid ketosis, and detect pregnancy complications (eg, hypertension, intrauterine growth restriction, and fetal distress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management includes diet, exercise and insuli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785D-87D7-40E4-AC0C-F85DA881D83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et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oals of diet therapy in GDM are to avoid ketosis, achieve normal blood glucose levels, obtain proper nutrition, and gain weight appropriate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amount and distribution of carbohydrate should be based on clinical outcome measures (eg, hunger, blood glucose levels, weight gain), but a minimum of 175 g of carbohydrate per day should be provi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rbohydrate should be distributed throughout the day in 5 to 7 meals and snack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 of a low–glycemic index diet decreases the need for insulinto maintain euglycem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4323-3871-4AD5-801B-73E7CF83B4D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ercis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rts recommend that women with GDM should exercise regularly to control blood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an improvement in clinical outcomes has not been demonstrated from compliance with this recommend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A3A8-D71B-436F-952F-A7CFCF4B292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sulin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raditionally, insulin is used if dietary management does not maintain  blood   glucose at normal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may be initiated at 0.7 U/kg actual body weight/d given in divided dosages: two-thirds of the daily dosage before breakfast  and the remainder of the dosage before dinn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therapy  require close monitoring and adjustment based on blood glucose levels, meal choices, and activity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65D0-827A-47E8-B187-3A8457BAD29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 of intrapartum GDM management is to avoid operative delivery, shoulder dystocia, birth trauma, and neonatal hypoglycemia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ho have maintained excellent control of blood glucose levels with diet and exercise, delivery is recommended at 40 weeks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ith medication-requiring GDM, induction at 38 to 39 weeks’ gestation is recommend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3D2F-0A0F-4B20-95DB-65B37426519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women with gestational diabetes who do not require insulin seldom require early delivery or other interven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ctive cesarean delivery to avoid brachial plexus injuries in macrosomic infants is an important issue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87EC-6725-4ADD-A8A9-81675A19D70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most women with GDM, hyperglycemia rapidly resolves shortly after delivery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 is reasonable to measure a single random or fasting blood glucose level before discharge from the hospit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B617-8F9A-446C-952D-AC757093E7D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stpartum glucose tolerance testing is important for women who had GD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men with GDM have a 7-fold increased risk of developing type 2 diabetes mellitus compared with those who had a normoglycemic pregnanc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t 6 to 12 weeks postpartum, only one-third of women with persistent glucose intolerance have an abnormal fasting blood glucose leve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refore, to detect all women with glucose intolerance, a 75-g, fasting, 2-hour, oral glucose tolerance test is recommen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1D67-6409-4D31-B039-ADAB7FDF0CB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-insul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lucose metabolism is mainly controlled by insul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is secreted by pancreatic β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promote the glucose metabolism in tissues throughout 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the blood glucose is utilized, the blood glucose levels would be lower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07DE-C164-44EB-B290-A57BF112AA2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athophysiology -Insulin sensi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two conditions, the blood glucose will be elev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ne is the insufficient insulin secretion by beta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other is the decreased insulin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activity is called as the insulin sensi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1A11-C93E-49E8-A112-6C796834ECA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–placenta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placenta can secrete a variety of  hormon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se hormones include estrogen, progesterone, cortisol, human placental lactogen, human chorionic gonadotropin, etc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ormones produced by placenta antagonize the  effects of insul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t is estimated that the insulin sensitivity will be decreased by 40% in the 3rd trimes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5A47-D806-4E42-AD85-1E17AA14594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-placenta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decreased insulin sensitivity is the key for the mechanism of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GDM, there are no placental hormones after delivery of placenta, so the insulin sensitivity and the blood glucose levels would be restored to the norm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2E54-80CB-48F2-81EB-F2838FE1760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assifica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gestational or overt: be diagnosed before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estational diabetes Mellitus(GDM) : 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gnos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69F5-C7B8-44A2-BD50-0C843E04B15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estational diabetes mellitu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finition: any degree carbohydrate intolerance with onset or first recognition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GDM account for more than 90% of the whole diabetes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could contain some pregestaional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268F-5E50-4D64-8EC4-D7095C118EE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42:58Z</dcterms:created>
  <dc:creator>番茄花园</dc:creator>
  <dc:description/>
  <dc:language>en-US</dc:language>
  <cp:lastModifiedBy>user</cp:lastModifiedBy>
  <dcterms:modified xsi:type="dcterms:W3CDTF">2016-02-15T13:36:28Z</dcterms:modified>
  <cp:revision>14</cp:revision>
  <dc:subject/>
  <dc:title>Gestational Mellitus Diabetes</dc:title>
</cp:coreProperties>
</file>