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0D8-BC40-4B57-AE76-9FD07D89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05C-340C-4383-B996-FECB2573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203-85F2-4B9C-BFE1-8E4FF521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7CB-26FF-403C-B2B0-4FF53838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E2C-F26A-491E-BCFE-C1DBC327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528E-116B-46A4-AB7B-E3DCF21D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7DBF-4B41-4591-A736-78EFA3A6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BE3B-A2F4-4340-A94F-6C88F29C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9E8A-4464-4FD4-9323-BF04B741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217F-498D-4331-BF6E-E655679B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8887-9D87-4FFB-BB31-0504B76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EA4-6534-4355-ABC7-1B0ECD2A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41B9-62BB-4ED4-9114-314B2CF1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2D8B-C8BC-4060-BD01-E670DBFB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CCA1-FF55-478B-A493-8B3CFD3A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02B0-3CDE-46AF-893D-86067C46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71A3-0ECC-4162-87C5-F3138B52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D388-24CC-405A-AA47-ADD897C0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A39C1-E741-4D3D-A4CB-A83B9CCE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F8A4-5AEF-4F96-BA41-536D3A80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7B20-B762-4A7E-8355-B3EB6452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89EF-67E3-4640-B5A5-F196211E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99D-0356-413A-8951-A4EAF35F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0F78-F274-49BC-B211-2A6480D9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DF94-6001-4577-B5C6-D0554FC6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8B3D-1CD3-4A10-A256-230692D6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B5B1-5017-4705-95D8-7DFF0A0D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F3EF1-B676-42AE-9C5A-4B0BA877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D7471-1485-4BBE-A690-5B038E9F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E2F0-BDFD-430B-BD1D-E160F107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B0D66-F262-4BF4-9E34-DEE40748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295D9-ED20-4F71-8889-413C423B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5E37F-A4C8-4875-81C7-D33C0111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BF3-567B-4AF0-92BC-90A5C9DB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E809-19C8-4F9A-85E9-8512416D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F7ABD-583B-4E6C-B116-6DAD3830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1A9EB-6264-402F-8FD9-3F484018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8F47-781B-4247-90D3-A9753D13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478F3-04F4-4B7C-BE50-1A1A1C05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FCE7-647B-4B7F-9D93-285419D8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C6DD5-B849-45E4-BCE4-E96E7D1F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E198-C1E0-4F24-B482-C58C20AC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4001E-F46F-4E42-AB38-200AF3E3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00A-738D-4451-AEC8-A783DF94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E2B-D24E-4050-8AB9-6AC54F36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B74-2272-4D36-8A12-99766F86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4B9-B6B7-419D-9782-80656F72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45A-3809-4D0A-9553-AA1F8B75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B2E2-A312-4CC7-9DAA-B64C5A685F6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27ED-6323-4105-8590-4886116A429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A001-A9D3-487D-9FC9-2AF6BD6F8CF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459F-951F-41CD-99BC-47CD8ECFF0A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Uterus" TargetMode="External"/><Relationship Id="rId2" Type="http://schemas.openxmlformats.org/officeDocument/2006/relationships/hyperlink" Target="https://en.wikipedia.org/wiki/Childbirth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f7f7f"/>
              </a:solidFill>
              <a:latin typeface="Trebuchet MS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414A-538B-4C6B-A413-7B5C846A561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impacts between pregnancy and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gnancy and diabetes can impact each oth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one hand, the pregnancy can aggravate the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the other hand, diabetes can exert  adverse effects on the pregnant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46EB-783D-4855-8F89-27FE362C232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impact of pregnancy on diabet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sulin sensitivity is lower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should adjust the dosage of insulin according to the placenta stat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05E8-89F6-4C04-AB1A-5B86966380E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adverse effects of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has more adverse effects than the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fet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E277-1ACA-409D-AEE7-E93EB65C445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perinatal morbidity and mortalit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scarriage, preterm birth and fetal de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genital malform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croso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dramnio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oglyc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piratory distress syndro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rdiomyop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8D60-9CD1-4659-A784-F91DBB748AF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Miscarriage, preterm birth and fetal death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glycemia can results in the elevated the incidence of Miscarriage, preterm birth and fetal death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Miscarriage, preterm birth and fetal death are more rare in GDM population than in overt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FF5B-8097-4A78-AFCD-8A4973A3D0A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ongenital malform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is related to  the pregestational dai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cidence of the congenital malformation is not elevated in GDM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A973-5769-46BE-B584-1B81F035AD8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acroso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lucose can cross the placent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aternal hyperglycemia can cause the fetal hyperglyce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hyperglycemia would stimulate the growth of fetus, then macrosomia will occu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659640" y="824040"/>
            <a:ext cx="2361960" cy="1933560"/>
          </a:xfrm>
          <a:prstGeom prst="rect">
            <a:avLst/>
          </a:prstGeom>
          <a:ln w="0">
            <a:noFill/>
          </a:ln>
        </p:spPr>
      </p:pic>
      <p:sp>
        <p:nvSpPr>
          <p:cNvPr id="260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8AF4-10A7-41F5-BEA9-DAC0BFAD751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etal growth restri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fetal growth restriction can be seen in the women with overt diabetes, which is related to the vascular disorde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 women with diabetes during pregnancy could not get sufficient energy, the fetal growth will be influenc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B19D-F988-4B9E-B4B6-C0C3716657A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dramnio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Hydramniosis a condition that occurs when too much amniotic fluid builds up during pregnancy. It is also called amniotic fluid disorder, or polyhydramni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lthough diabetic pregnancies are often complicated by hydramnios, the cause is unclear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s finding suggests that the hydramnios associated with diabetes is a result of increased amnionic fluid glucose concentr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0E30-711A-4C39-8521-FCECE70CDA3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poglyce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etus produces its own insulin to modulate its blood gluco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yperinsulinemia will occur in response to the hyperglycemia in the fetu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fter delivery, the blood glucose provided by mother will be stopped, but the insulin production would not be reduced, so the hyperglycemia will results in the newborn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AE78-E5CC-4D0E-AEEB-D46EBCE0291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troduc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endocrinological disord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3% in the whole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racteristics of diabetes is elevated plasma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C4BB-619C-4850-B324-892E52A43A3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Respiratory distress syndro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newborn  respiratory distress syndrome is related to the fetal lung im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insulinemia  inhibits fetal lung 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o diabetes can result in the respiratory distress syndrom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157B-A9FA-449D-ADC1-2D65C7F1559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adverse effects on the mothe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vated incidence of the preeclamps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ystoc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e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toacidos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8458-B957-4D8E-AF7B-B8B9D70CCAA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reeclamps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reeclampsia is a pregnancy complication characterized by high blood pressure and signs of damage to another organ system, often the kidney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eclampsia is related to glucose control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tension that is induced or exacerbated by pregnancy is the major complication that most often forces preterm delivery in diabetic wome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B955-8506-4EEC-8ADB-697DC7E977B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stoc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Obstructed labour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also known as 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labour dystocia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is when, even though the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uteru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is contracting normally, the baby does not exit the pelvis during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childbirth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due to being physically block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stocia is associated with macroso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uld distocia can results into serious birth trau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C891-5B5A-4E60-AF8A-F25026168D4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etoacidos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Although it affects only approximately 1 percent of diabetic pregnancies, ketoacidosis remains one of the most serious complication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incidence of fetal loss is about 20 percent with ketoacidosis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Pregnant women usually have ketoacidosis with lower blood glucose levels than when nonpregnant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065A-E0EF-407D-8603-5ABD8B83A46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patients with GDM have normal fasting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llenge of glucose tolerance must be done for most cases with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Cordia New"/>
              </a:rPr>
              <a:t>Plasma glucose after 50 g glucose test (50 gm glucose challenge test –GCT) is the best to identify women at risk for GD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AAF9-0607-49E0-90B2-8AF3AF2F206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 at the first antenatal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outine fasting glucose measurem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GDM ris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B681-E721-4C5D-BDA3-D67964F89C8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fasting glucose lev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rmal:&lt;5.1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pregestational diabetes: &gt;7.0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GDM: 5.1-7.0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4890-9064-4072-8B60-51A2050F296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ssess the GDM ris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maternal age: young or ol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ight before pregnancy: normal or obe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poor obstetrical outco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amilial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1EB8-65C4-4DAF-883A-53579B57261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at the 24 weeks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OGTT should be don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are some controversie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ether the universal or selective OGTT should be don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ich blood glucose level should be the optimal cutoff for diagnosis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DA7C-D03F-4D3D-AEDD-BFB1DEADA83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common complication of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15% i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and more attention was paid to diabetes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DAB6-B07E-4AAF-8B5D-FE0D275752C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strategy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our country, every pregnant woman is advised to do OGTT at about 24 weeks of gest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he GDM symptoms are present after 24 weeks, the OGTT should be done agai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9944-8CDB-4781-AA67-84086B583EE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diagnosis criteria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179280" y="2305080"/>
          <a:ext cx="8353440" cy="22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05080"/>
                    <a:ext cx="83534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D4CB-90DF-4F31-9130-F656179D603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epartum Managemen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is a consensus that once diabetes is diagnosed, the treatment should be recommended  for diabetes during pregnanc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s of treatment are to prevent macrosomia, avoid ketosis, and detect pregnancy complications (eg, hypertension, intrauterine growth restriction, and fetal distress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management includes diet, exercise and insuli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249D-0C86-4FF7-BB65-957C4BD286D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et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oals of diet therapy in GDM are to avoid ketosis, achieve normal blood glucose levels, obtain proper nutrition, and gain weight appropriate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amount and distribution of carbohydrate should be based on clinical outcome measures (eg, hunger, blood glucose levels, weight gain), but a minimum of 175 g of carbohydrate per day should be provi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rbohydrate should be distributed throughout the day in 5 to 7 meals and snack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 of a low–glycemic index diet decreases the need for insulinto maintain euglycem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83D5-97E6-416A-A6C0-1A6990D26C7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ercis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perts recommend that women with GDM should exercise regularly to control blood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ut an improvement in clinical outcomes has not been demonstrated from compliance with this recommend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7576-5909-496B-B583-265F133636D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sulin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raditionally, insulin is used if dietary management does not maintain  blood   glucose at normal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may be initiated at 0.7 U/kg actual body weight/d given in divided dosages: two-thirds of the daily dosage before breakfast  and the remainder of the dosage before dinn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therapy  require close monitoring and adjustment based on blood glucose levels, meal choices, and activity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73BA-3D0A-4DDE-9217-6874B6FC27F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 of intrapartum GDM management is to avoid operative delivery, shoulder dystocia, birth trauma, and neonatal hypoglycemia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ho have maintained excellent control of blood glucose levels with diet and exercise, delivery is recommended at 40 weeks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ith medication-requiring GDM, induction at 38 to 39 weeks’ gestation is recommend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1D38-F5A7-442C-90AB-0A776925AE5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women with gestational diabetes who do not require insulin seldom require early delivery or other interven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ctive cesarean delivery to avoid brachial plexus injuries in macrosomic infants is an important issue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A207-B2AF-4EB6-93DD-38F65252449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most women with GDM, hyperglycemia rapidly resolves shortly after delivery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 is reasonable to measure a single random or fasting blood glucose level before discharge from the hospit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E115-4C54-424C-983C-263804FC60B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ostpartum glucose tolerance testing is important for women who had GD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men with GDM have a 7-fold increased risk of developing type 2 diabetes mellitus compared with those who had a normoglycemic pregnanc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t 6 to 12 weeks postpartum, only one-third of women with persistent glucose intolerance have an abnormal fasting blood glucose level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refore, to detect all women with glucose intolerance, a 75-g, fasting, 2-hour, oral glucose tolerance test is recommen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D4ED-AA8C-4CCB-AE32-A09B8796E78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-insul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lucose metabolism is mainly controlled by insul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is secreted by pancreatic βce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promote the glucose metabolism in tissues throughout  the bod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s the blood glucose is utilized, the blood glucose levels would be lower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94DB-6CAA-4C11-8241-A340A34430C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athophysiology -Insulin sensi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two conditions, the blood glucose will be elev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ne is the insufficient insulin secretion by beta ce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other is the decreased insulin ac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activity is called as the insulin sensi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FB84-E2C5-4288-8DAD-A8172F76C07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–placenta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placenta can secrete a variety of  hormon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se hormones include estrogen, progesterone, cortisol, human placental lactogen, human chorionic gonadotropin, etc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ormones produced by placenta antagonize the  effects of insul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t is estimated that the insulin sensitivity will be decreased by 40% in the 3rd trimes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141E-3B8A-40C1-BD3E-D8FD0341463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-placenta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decreased insulin sensitivity is the key for the mechanism of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GDM, there are no placental hormones after delivery of placenta, so the insulin sensitivity and the blood glucose levels would be restored to the norm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234D-B713-42A4-B57F-33DA1AA5E52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assifica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gestational or overt: be diagnosed before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estational diabetes Mellitus(GDM) : b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gnos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B4F9-DE14-4D34-A69B-90DBE83CF78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Gestational diabetes mellitu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finition: any degree carbohydrate intolerance with onset or first recognition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GDM account for more than 90% of the whole diabetes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could contain some pregestaional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8A96-1EC7-4190-8982-0CB4AE65535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42:58Z</dcterms:created>
  <dc:creator>番茄花园</dc:creator>
  <dc:description/>
  <dc:language>en-US</dc:language>
  <cp:lastModifiedBy>user</cp:lastModifiedBy>
  <dcterms:modified xsi:type="dcterms:W3CDTF">2016-02-15T13:36:28Z</dcterms:modified>
  <cp:revision>14</cp:revision>
  <dc:subject/>
  <dc:title>Gestational Mellitus Diabetes</dc:title>
</cp:coreProperties>
</file>