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37C9-7105-4976-84A1-4FAAF688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546F-5673-4FCD-AE62-96073E32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C1AC-492F-439E-BCA6-E6BCDD9E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E581-F0A2-4B94-8745-1AE6D70E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EE41-3F30-4ED8-801C-7074FAC5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71B5-F2AB-4892-94D0-1D7CE9E7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4833-7673-446B-AEFA-0A36BE81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D86D-FA0E-4936-9BF4-98C79319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A292-F1E8-4F96-971A-E3E4DE90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2918-D2FA-482C-B03D-D55C5FD5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B649-0DDF-4883-AEDE-776B177D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9C92-740C-452A-979A-975AB1D9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ACF9-04DD-412F-B885-5D27E549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5731-2E27-41B9-B632-48027CEE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7C47-E773-4561-BD6F-A222FE3B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63E0-375C-4EEE-B7F4-C928E788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6B8C-6FF6-46B2-90AB-396F56C6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CE9D4-6BC3-49E1-B3AF-1607DA54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FAB5D-907E-4022-B3AB-0F02BDCC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7F7E7-11DB-4BC3-AAC3-237956AA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3D433-E9EC-4162-AE1A-4FE3E864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D1B3F-CE5B-43CE-9915-405E3621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A62E-789B-4A7F-8DE3-4BF0B369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FA3DD-CE85-439E-B394-1DA97D82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FDB75-64DA-46AB-976A-1A98F1EF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D0205-249A-4CC3-8047-20A04031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E39B3-DA48-4852-AEA0-DFEFCAC8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9B1A2-7B8D-4DCD-AD9E-6F782579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5C95C-0AE5-431C-A187-7B21CB7F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651C8-C7BF-47FD-8F50-83264DC0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C6C7E-740A-463A-8680-3F50C2B1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2DCED-05E1-4EDC-9379-0A905D4A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D2AAD-51E3-4E52-BB29-0DEA421C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B4F2-05EE-4FEE-AAB4-7D259AB6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8B4B6-E8B7-4B8E-AE54-3E2AE3B4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2CC3F-E57F-4267-A3E6-AA450F81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F1B54-D6B9-4EFF-B436-268FB1F8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E4182-E641-46C0-B5FA-5A5BC46B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480B9-5405-4065-A020-CA5217AD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ABABA-991A-4EC3-B667-B4B153AD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2DF2E-7CDD-4F31-BA4C-23B20172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3B696-DB6F-427D-B9A5-1612F4BB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F5B13-026D-408A-9054-9D439E12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489-41E7-4B91-9C7C-44A7594B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ED0E-DA3C-4330-8D64-F2000F34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BB08-FA53-4BDD-B312-AF71E0AF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96D9-E622-4650-93F0-B8216B2D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D7A1-009A-429E-813A-20A6E666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B07C-895A-4134-A936-E172C4CB1E0D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F4FC-4495-4D0E-AF46-760FFEB278F1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9601-B5DC-48CF-ADA6-EFF3FC65203C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1BC6-E2E2-4B4A-BCDF-15C09A2B0094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Uterus" TargetMode="External"/><Relationship Id="rId2" Type="http://schemas.openxmlformats.org/officeDocument/2006/relationships/hyperlink" Target="https://en.wikipedia.org/wiki/Childbirth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en-US" sz="4400" spc="-1" strike="noStrike">
                <a:solidFill>
                  <a:srgbClr val="90c226"/>
                </a:solidFill>
                <a:latin typeface="Trebuchet MS"/>
              </a:rPr>
              <a:t>Diabetes during pregnancy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7f7f7f"/>
              </a:solidFill>
              <a:latin typeface="Trebuchet MS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C331-78D4-4B19-9345-7C39CF7F112F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impacts between pregnancy and diabet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pregnancy and diabetes can impact each oth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n one hand, the pregnancy can aggravate the diabet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n the other hand, diabetes can exert  adverse effects on the pregnant effec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A628-2258-4A38-9965-F466ED923904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The impact of pregnancy on diabete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insulin sensitivity is lowered during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e should adjust the dosage of insulin according to the placenta statu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46A2-88B5-4E9A-BEA2-A99952079D1B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adverse effects of diabet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overt diabetes has more adverse effects than the GD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adverse effects on the fet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adverse effects on the pregnant wo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AAB7-CFEE-473A-ADE7-BA6FE6B64C75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perinatal morbidity and mortalit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iscarriage, preterm birth and fetal deat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ongenital malform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acrosomi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dramnio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poglycemi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spiratory distress syndrom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ardiomyopat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ECCA-4D5A-4A58-8D35-A04F477E50AF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Miscarriage, preterm birth and fetal death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perglycemia can results in the elevated the incidence of Miscarriage, preterm birth and fetal death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general, Miscarriage, preterm birth and fetal death are more rare in GDM population than in overt popul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E5FD-2952-4B4C-9496-011A9C677F72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congenital malforma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overt diabetes is related to  the pregestational daibet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incidence of the congenital malformation is not elevated in GDM wo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A977-08F3-4B50-8E4A-B96503556731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Macrosom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lucose can cross the placent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aternal hyperglycemia can cause the fetal hyperglycemi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hyperglycemia would stimulate the growth of fetus, then macrosomia will occu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6659640" y="824040"/>
            <a:ext cx="2361960" cy="1933560"/>
          </a:xfrm>
          <a:prstGeom prst="rect">
            <a:avLst/>
          </a:prstGeom>
          <a:ln w="0">
            <a:noFill/>
          </a:ln>
        </p:spPr>
      </p:pic>
      <p:sp>
        <p:nvSpPr>
          <p:cNvPr id="260" name="Slide Number Placeholder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C365-341B-4F05-ACFD-3430505E25B9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etal growth restri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fetal growth restriction can be seen in the women with overt diabetes, which is related to the vascular disorder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f  women with diabetes during pregnancy could not get sufficient energy, the fetal growth will be influenc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C172-ED96-4CDE-BA00-172672160FC4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ydramnio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Hydramniosis a condition that occurs when too much amniotic fluid builds up during pregnancy. It is also called amniotic fluid disorder, or polyhydramnio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lthough diabetic pregnancies are often complicated by hydramnios, the cause is unclear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s finding suggests that the hydramnios associated with diabetes is a result of increased amnionic fluid glucose concentration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297B-AA88-47D9-A665-462715E034B6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Hypoglycem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fetus produces its own insulin to modulate its blood glucos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hyperinsulinemia will occur in response to the hyperglycemia in the fetu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fter delivery, the blood glucose provided by mother will be stopped, but the insulin production would not be reduced, so the hyperglycemia will results in the newborn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9730-145B-4D40-973D-6F8595A4639A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Introductio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abetes is a endocrinological disord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prevalence of diabetes is about 3% in the whole popul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characteristics of diabetes is elevated plasma glucose lev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ACA1-4091-4314-85C5-25C9EB98D2AB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Respiratory distress syndro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newborn  respiratory distress syndrome is related to the fetal lung immaturit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perinsulinemia  inhibits fetal lung maturit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o diabetes can result in the respiratory distress syndrom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1573-B16D-4486-B716-3A13044137A1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The adverse effects on the mother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levated incidence of the preeclampsi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ystocia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fec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etoacidosi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42B9-B029-4CB2-B9CF-6EAB60340EEF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reeclamps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Preeclampsia is a pregnancy complication characterized by high blood pressure and signs of damage to another organ system, often the kidney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eeclampsia is related to glucose control 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ypertension that is induced or exacerbated by pregnancy is the major complication that most often forces preterm delivery in diabetic women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2341-55AE-47E0-B489-9B2ADFE2665B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istocia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Obstructed labour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, also known as </a:t>
            </a: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labour dystocia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, is when, even though the </a:t>
            </a:r>
            <a:r>
              <a:rPr b="0" lang="en-US" sz="18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uteru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 is contracting normally, the baby does not exit the pelvis during </a:t>
            </a:r>
            <a:r>
              <a:rPr b="0" lang="en-US" sz="1800" spc="-1" strike="noStrike" u="sng">
                <a:solidFill>
                  <a:srgbClr val="99ca3c"/>
                </a:solidFill>
                <a:uFillTx/>
                <a:latin typeface="Trebuchet MS"/>
                <a:hlinkClick r:id="rId2"/>
              </a:rPr>
              <a:t>childbirth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 due to being physically block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stocia is associated with macrosomi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hould distocia can results into serious birth traum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51A7-5188-477E-830B-BCFC2C3C38A8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Ketoacidosi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Although it affects only approximately 1 percent of diabetic pregnancies, ketoacidosis remains one of the most serious complication 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 incidence of fetal loss is about 20 percent with ketoacidosis 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Pregnant women usually have ketoacidosis with lower blood glucose levels than when nonpregnant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8D84-2E7D-4F4D-8F3F-3F0791BF3D26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creen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ost patients with GDM have normal fasting glucose lev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challenge of glucose tolerance must be done for most cases with GD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  <a:ea typeface="Cordia New"/>
              </a:rPr>
              <a:t>Plasma glucose after 50 g glucose test (50 gm glucose challenge test –GCT) is the best to identify women at risk for GD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C8A1-E038-465C-B966-19D3E8D3CB88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creening – at the first antenatal visi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outine fasting glucose measureme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ssess GDM risk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5E42-1EE3-4B29-A78E-C3D644465B0B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fasting glucose level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rmal:&lt;5.1 mmol/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uspected pregestational diabetes: &gt;7.0mmol/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uspected GDM: 5.1-7.0 mmol/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A148-FEA8-48DE-8BA9-2E7C58DDD07D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Assess the GDM ris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maternal age: young or ol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Weight before pregnancy: normal or obe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history of abnormal glucose metabolism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history of poor obstetrical outcom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familial history of abnormal glucose metabolism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CA03-35B9-4C40-A5DF-214C84D1133F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creening –at the 24 weeks visi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OGTT should be done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re are some controversies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whether the universal or selective OGTT should be done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Which blood glucose level should be the optimal cutoff for diagnosis?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414D-C3D2-4031-B5B3-C29904B4F882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iabetes during pregnanc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abetes is a common complication of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prevalence of diabetes is about 15% in the pregnant wo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ore and more attention was paid to diabetes during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BF10-B547-479E-9D11-781EC735E21A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creening strategy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our country, every pregnant woman is advised to do OGTT at about 24 weeks of gest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f the GDM symptoms are present after 24 weeks, the OGTT should be done agai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095D-FCA1-4E91-8A6F-6BE5F40EC71F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diagnosis criteria 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305" name="Object 4"/>
          <p:cNvGraphicFramePr/>
          <p:nvPr/>
        </p:nvGraphicFramePr>
        <p:xfrm>
          <a:off x="179280" y="2305080"/>
          <a:ext cx="8353440" cy="227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305080"/>
                    <a:ext cx="835344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Slide Number Placeholder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06BA-80F9-4175-9CF7-5008651C7631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Antepartum Management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re is a consensus that once diabetes is diagnosed, the treatment should be recommended  for diabetes during pregnancy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 goals of treatment are to prevent macrosomia, avoid ketosis, and detect pregnancy complications (eg, hypertension, intrauterine growth restriction, and fetal distress)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 management includes diet, exercise and insulin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D4CA-EC94-4875-BD45-A6412A5A83F7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iet therap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2400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goals of diet therapy in GDM are to avoid ketosis, achieve normal blood glucose levels, obtain proper nutrition, and gain weight appropriately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amount and distribution of carbohydrate should be based on clinical outcome measures (eg, hunger, blood glucose levels, weight gain), but a minimum of 175 g of carbohydrate per day should be provid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arbohydrate should be distributed throughout the day in 5 to 7 meals and snack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Use of a low–glycemic index diet decreases the need for insulinto maintain euglycemi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4B9E-0426-4952-AFFE-5526F4912503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Exercise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xperts recommend that women with GDM should exercise regularly to control blood glucose lev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ut an improvement in clinical outcomes has not been demonstrated from compliance with this recommendatio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63AA-DA9D-4E59-BA65-1357BE503337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Insulin therap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raditionally, insulin is used if dietary management does not maintain  blood   glucose at normal level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Insulin may be initiated at 0.7 U/kg actual body weight/d given in divided dosages: two-thirds of the daily dosage before breakfast  and the remainder of the dosage before dinner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Insulin therapy  require close monitoring and adjustment based on blood glucose levels, meal choices, and activity level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7C49-B86E-454E-A072-EC5ACBD7A794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Obstetrics management(1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The goal of intrapartum GDM management is to avoid operative delivery, shoulder dystocia, birth trauma, and neonatal hypoglycemia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For patients who have maintained excellent control of blood glucose levels with diet and exercise, delivery is recommended at 40 weeks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rebuchet MS"/>
              </a:rPr>
              <a:t>For patients with medication-requiring GDM, induction at 38 to 39 weeks’ gestation is recommende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03A2-4F61-4765-9266-DEB5988CA813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Obstetrics management(2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general, women with gestational diabetes who do not require insulin seldom require early delivery or other intervention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lective cesarean delivery to avoid brachial plexus injuries in macrosomic infants is an important issue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C173-9D43-4A44-948A-7441890AF881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ostpartum management(1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most women with GDM, hyperglycemia rapidly resolves shortly after delivery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t is reasonable to measure a single random or fasting blood glucose level before discharge from the hospita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76B2-CA10-449F-A42C-F11E2C79CD67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ostpartum management(2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2400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ostpartum glucose tolerance testing is important for women who had GDM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Women with GDM have a 7-fold increased risk of developing type 2 diabetes mellitus compared with those who had a normoglycemic pregnancy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t 6 to 12 weeks postpartum, only one-third of women with persistent glucose intolerance have an abnormal fasting blood glucose level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refore, to detect all women with glucose intolerance, a 75-g, fasting, 2-hour, oral glucose tolerance test is recommend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AC49-6FCF-49FA-BFE0-9CB7BDED53D8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athophysiology -insuli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glucose metabolism is mainly controlled by insuli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insulin is secreted by pancreatic βcel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insulin promote the glucose metabolism in tissues throughout  the bod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As the blood glucose is utilized, the blood glucose levels would be lower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A2FB-C8D5-4114-AF16-0D9E10C87BB2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Pathophysiology -Insulin sensitivity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n two conditions, the blood glucose will be elevat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One is the insufficient insulin secretion by beta cell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other is the decreased insulin activit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e insulin activity is called as the insulin sensitivit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A96E-DC69-4703-92B4-951EBE8D939F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athophysiology –placenta(1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placenta can secrete a variety of  hormon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se hormones include estrogen, progesterone, cortisol, human placental lactogen, human chorionic gonadotropin, etc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hormones produced by placenta antagonize the  effects of insuli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t is estimated that the insulin sensitivity will be decreased by 40% in the 3rd trimester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CC90-61E0-4CC3-9EDA-8C22BD778404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Pathophysiology-placenta(2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decreased insulin sensitivity is the key for the mechanism of GD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GDM, there are no placental hormones after delivery of placenta, so the insulin sensitivity and the blood glucose levels would be restored to the norma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4967-2CD4-41DF-A2BB-FD5D04FD2B93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assificatio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regestational or overt: be diagnosed before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estational diabetes Mellitus(GDM) : b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iagnosed during pregnanc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DM is more common than the overt diabet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8084-0A89-464D-8A77-94958D65CFD2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Gestational diabetes mellitu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Definition: any degree carbohydrate intolerance with onset or first recognition during pregnanc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GDM is more common than the overt diabet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e GDM account for more than 90% of the whole diabetes during pregnanc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GDM could contain some pregestaional diabet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8941-8394-405A-B25F-943D18329179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4:42:58Z</dcterms:created>
  <dc:creator>番茄花园</dc:creator>
  <dc:description/>
  <dc:language>en-US</dc:language>
  <cp:lastModifiedBy>user</cp:lastModifiedBy>
  <dcterms:modified xsi:type="dcterms:W3CDTF">2016-02-15T13:36:28Z</dcterms:modified>
  <cp:revision>14</cp:revision>
  <dc:subject/>
  <dc:title>Gestational Mellitus Diabetes</dc:title>
</cp:coreProperties>
</file>