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41AA-206C-41F8-AB20-B57CAC32701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FEBD-2EE5-4FF2-90EE-17CE6D883F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B7E-7450-4F7A-AD83-8ECDAE5D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2CB-E0CC-4AF0-9379-BAFB0ECD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CC5-19D2-4BFB-B160-62C31A72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3C1-8C58-426C-B72A-6308E595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E74-14E9-46D1-8ECF-CFB33FAE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692-CCEA-4908-829A-E30446CF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4F6-F3F6-40F0-90CC-7B256D87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750-DA6C-46C1-A320-6ABA8CC7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789-18A6-4ADD-86C2-AF82ECD9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E76-B057-484B-8717-95F16747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22B-03BF-479D-B961-B300D3C5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773-92A5-4653-8607-D4BF5D22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C8D8-6264-4000-9B0C-1DB3CB9A58EA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1"/>
          <p:cNvSpPr/>
          <p:nvPr/>
        </p:nvSpPr>
        <p:spPr>
          <a:xfrm>
            <a:off x="684360" y="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daptive (specific ) I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95280" y="47628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aptive immunit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system of defenses that specifically targets billions of different antigens an individual may encounter during its lif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t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MP or other molecule the body recognizes as nonself that triggers an active immun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wo Arms of Adaptive Immun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ll-mediated immune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toxic T cells and NK cells detect and destroy infected or altered body cel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tibody-mediated immune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 cells produce antibodies that bind to specific antigen particles in blood or interstitial fl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0" descr="Image result for interaction between cell mediated and antibody mediated response"/>
          <p:cNvPicPr/>
          <p:nvPr/>
        </p:nvPicPr>
        <p:blipFill>
          <a:blip r:embed="rId1"/>
          <a:srcRect l="3848" t="0" r="5768" b="6105"/>
          <a:stretch/>
        </p:blipFill>
        <p:spPr>
          <a:xfrm>
            <a:off x="1928880" y="549360"/>
            <a:ext cx="7035840" cy="568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0" y="907920"/>
            <a:ext cx="2340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ractions Between Antibody-Mediated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d Cell-Mediated Respo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Image result for interaction between cell mediated and antibody mediated response"/>
          <p:cNvPicPr/>
          <p:nvPr/>
        </p:nvPicPr>
        <p:blipFill>
          <a:blip r:embed="rId1"/>
          <a:stretch/>
        </p:blipFill>
        <p:spPr>
          <a:xfrm>
            <a:off x="198360" y="1268280"/>
            <a:ext cx="8864640" cy="547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Interactions Between 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tibody-Mediated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nd Cell-Mediated Respo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Related image"/>
          <p:cNvPicPr/>
          <p:nvPr/>
        </p:nvPicPr>
        <p:blipFill>
          <a:blip r:embed="rId1"/>
          <a:stretch/>
        </p:blipFill>
        <p:spPr>
          <a:xfrm>
            <a:off x="2077920" y="1341360"/>
            <a:ext cx="5446800" cy="4840200"/>
          </a:xfrm>
          <a:prstGeom prst="rect">
            <a:avLst/>
          </a:prstGeom>
          <a:ln w="0">
            <a:noFill/>
          </a:ln>
        </p:spPr>
      </p:pic>
      <p:sp>
        <p:nvSpPr>
          <p:cNvPr id="77" name="مربع نص 2"/>
          <p:cNvSpPr/>
          <p:nvPr/>
        </p:nvSpPr>
        <p:spPr>
          <a:xfrm>
            <a:off x="1979640" y="333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 Cell Receptor =TC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Related image"/>
          <p:cNvPicPr/>
          <p:nvPr/>
        </p:nvPicPr>
        <p:blipFill>
          <a:blip r:embed="rId1"/>
          <a:srcRect l="0" t="0" r="0" b="14778"/>
          <a:stretch/>
        </p:blipFill>
        <p:spPr>
          <a:xfrm>
            <a:off x="166680" y="982800"/>
            <a:ext cx="8437680" cy="5398920"/>
          </a:xfrm>
          <a:prstGeom prst="rect">
            <a:avLst/>
          </a:prstGeom>
          <a:ln w="0">
            <a:noFill/>
          </a:ln>
        </p:spPr>
      </p:pic>
      <p:sp>
        <p:nvSpPr>
          <p:cNvPr id="79" name="مربع نص 2"/>
          <p:cNvSpPr/>
          <p:nvPr/>
        </p:nvSpPr>
        <p:spPr>
          <a:xfrm>
            <a:off x="2771640" y="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ytok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Image result for cytokines"/>
          <p:cNvPicPr/>
          <p:nvPr/>
        </p:nvPicPr>
        <p:blipFill>
          <a:blip r:embed="rId1"/>
          <a:stretch/>
        </p:blipFill>
        <p:spPr>
          <a:xfrm>
            <a:off x="468360" y="907920"/>
            <a:ext cx="7851600" cy="5896080"/>
          </a:xfrm>
          <a:prstGeom prst="rect">
            <a:avLst/>
          </a:prstGeom>
          <a:ln w="0">
            <a:noFill/>
          </a:ln>
        </p:spPr>
      </p:pic>
      <p:sp>
        <p:nvSpPr>
          <p:cNvPr id="81" name="مربع نص 2"/>
          <p:cNvSpPr/>
          <p:nvPr/>
        </p:nvSpPr>
        <p:spPr>
          <a:xfrm>
            <a:off x="2771640" y="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ytok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mage result for cytokines"/>
          <p:cNvPicPr/>
          <p:nvPr/>
        </p:nvPicPr>
        <p:blipFill>
          <a:blip r:embed="rId1"/>
          <a:stretch/>
        </p:blipFill>
        <p:spPr>
          <a:xfrm>
            <a:off x="0" y="1484280"/>
            <a:ext cx="9131400" cy="5040360"/>
          </a:xfrm>
          <a:prstGeom prst="rect">
            <a:avLst/>
          </a:prstGeom>
          <a:ln w="0">
            <a:noFill/>
          </a:ln>
        </p:spPr>
      </p:pic>
      <p:sp>
        <p:nvSpPr>
          <p:cNvPr id="83" name="مربع نص 2"/>
          <p:cNvSpPr/>
          <p:nvPr/>
        </p:nvSpPr>
        <p:spPr>
          <a:xfrm>
            <a:off x="2556000" y="404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ytokines rece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Related image"/>
          <p:cNvPicPr/>
          <p:nvPr/>
        </p:nvPicPr>
        <p:blipFill>
          <a:blip r:embed="rId1"/>
          <a:stretch/>
        </p:blipFill>
        <p:spPr>
          <a:xfrm>
            <a:off x="468360" y="366840"/>
            <a:ext cx="839952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verview of Adaptive Immun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brate adaptive immunity adapts to different antigens it encounters during its lif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mphocytes and phagocytes interact to effect four defining characteristics: Self/nonself recognition, specificity, diversity, an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559640" cy="71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70ff"/>
                </a:solidFill>
                <a:latin typeface="Comic Sans MS"/>
              </a:rPr>
              <a:t>Key concepts about immune cell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24000" y="1339920"/>
            <a:ext cx="8569080" cy="4610160"/>
          </a:xfrm>
          <a:prstGeom prst="rect">
            <a:avLst/>
          </a:prstGeom>
          <a:solidFill>
            <a:srgbClr val="00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 The principle cells of the immune syste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ntigen-presenting cells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ymphocytes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=&gt;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Effector cel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All immune cells are derived from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“Hematopoietic stem cells”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Bone Marrow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(BM) (&amp; Fetal liver during fetus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  Immune cells are divided into two major lineages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ymphoid &amp; Myelo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 Multiple cell types =&gt;  express distinct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“Surface molecules (markers)”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 classification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 Development and differentiation of different cell typ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pend on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ell interactions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and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ytokines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lf/Nonself Recogni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lf versus nonself re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kind of cell or virus has a unique id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HC ma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sma membrane self-recognition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 cell receptors (TC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en receptors that recognize MHC markers as self, antigens as non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pecificity and Divers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ecifi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ses are tailored to target specific antig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potentially billions of different antigen receptors on T and B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emor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pacity of the adaptive immune system to remember an anti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same antigen appears again, B and T cells make a faster, stronger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rst Step – The Antigen Ale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a B or T cell recognizes and binds to a specific antigen, it begins to divide by mi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descendent cells recognize the same anti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cells do not recognize an antigen unless it is presented by an antigen-presenting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rophages, B cells, and dendritic cells digest particles and display antigen-MHC comp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ell Typ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ector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ted lymphocytes (B and T cells) that act at once to fight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mory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-lived B and T cells reserved for future encounters with the same anti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tigen Process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5" name="Picture1" descr="3809"/>
          <p:cNvPicPr/>
          <p:nvPr/>
        </p:nvPicPr>
        <p:blipFill>
          <a:blip r:embed="rId1"/>
          <a:srcRect l="25500" t="0" r="0" b="0"/>
          <a:stretch/>
        </p:blipFill>
        <p:spPr>
          <a:xfrm>
            <a:off x="611280" y="1484280"/>
            <a:ext cx="807552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9:15:35Z</dcterms:created>
  <dc:creator>User name placeholder</dc:creator>
  <dc:description/>
  <dc:language>en-US</dc:language>
  <cp:lastModifiedBy>المستخدم</cp:lastModifiedBy>
  <dcterms:modified xsi:type="dcterms:W3CDTF">2017-11-26T05:23:21Z</dcterms:modified>
  <cp:revision>103</cp:revision>
  <dc:subject/>
  <dc:title>THE IMMUNE SYSTEM</dc:title>
</cp:coreProperties>
</file>