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  <p:sldId id="268" r:id="rId77"/>
    <p:sldId id="269" r:id="rId78"/>
    <p:sldId id="270" r:id="rId79"/>
    <p:sldId id="271" r:id="rId80"/>
    <p:sldId id="272" r:id="rId81"/>
    <p:sldId id="273" r:id="rId82"/>
    <p:sldId id="274" r:id="rId83"/>
    <p:sldId id="275" r:id="rId84"/>
    <p:sldId id="276" r:id="rId85"/>
    <p:sldId id="277" r:id="rId86"/>
    <p:sldId id="278" r:id="rId87"/>
    <p:sldId id="279" r:id="rId88"/>
    <p:sldId id="280" r:id="rId89"/>
    <p:sldId id="281" r:id="rId90"/>
    <p:sldId id="282" r:id="rId91"/>
    <p:sldId id="283" r:id="rId92"/>
    <p:sldId id="284" r:id="rId93"/>
    <p:sldId id="285" r:id="rId94"/>
    <p:sldId id="286" r:id="rId95"/>
    <p:sldId id="287" r:id="rId96"/>
    <p:sldId id="288" r:id="rId97"/>
    <p:sldId id="289" r:id="rId98"/>
    <p:sldId id="290" r:id="rId99"/>
    <p:sldId id="291" r:id="rId100"/>
    <p:sldId id="292" r:id="rId101"/>
    <p:sldId id="293" r:id="rId102"/>
    <p:sldId id="294" r:id="rId103"/>
    <p:sldId id="295" r:id="rId104"/>
    <p:sldId id="296" r:id="rId105"/>
    <p:sldId id="297" r:id="rId106"/>
    <p:sldId id="298" r:id="rId107"/>
    <p:sldId id="299" r:id="rId108"/>
    <p:sldId id="300" r:id="rId109"/>
    <p:sldId id="301" r:id="rId110"/>
    <p:sldId id="302" r:id="rId111"/>
    <p:sldId id="303" r:id="rId112"/>
    <p:sldId id="304" r:id="rId113"/>
    <p:sldId id="305" r:id="rId114"/>
    <p:sldId id="306" r:id="rId115"/>
    <p:sldId id="307" r:id="rId116"/>
    <p:sldId id="308" r:id="rId117"/>
    <p:sldId id="309" r:id="rId118"/>
    <p:sldId id="310" r:id="rId119"/>
    <p:sldId id="311" r:id="rId120"/>
    <p:sldId id="312" r:id="rId121"/>
    <p:sldId id="313" r:id="rId122"/>
    <p:sldId id="314" r:id="rId123"/>
    <p:sldId id="315" r:id="rId124"/>
    <p:sldId id="316" r:id="rId125"/>
    <p:sldId id="317" r:id="rId126"/>
    <p:sldId id="318" r:id="rId127"/>
    <p:sldId id="319" r:id="rId128"/>
    <p:sldId id="320" r:id="rId129"/>
    <p:sldId id="321" r:id="rId130"/>
    <p:sldId id="322" r:id="rId131"/>
    <p:sldId id="323" r:id="rId132"/>
    <p:sldId id="324" r:id="rId133"/>
    <p:sldId id="325" r:id="rId134"/>
    <p:sldId id="326" r:id="rId135"/>
    <p:sldId id="327" r:id="rId136"/>
    <p:sldId id="328" r:id="rId137"/>
    <p:sldId id="329" r:id="rId138"/>
    <p:sldId id="330" r:id="rId139"/>
    <p:sldId id="331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slide" Target="slides/slide13.xml"/><Relationship Id="rId78" Type="http://schemas.openxmlformats.org/officeDocument/2006/relationships/slide" Target="slides/slide14.xml"/><Relationship Id="rId79" Type="http://schemas.openxmlformats.org/officeDocument/2006/relationships/slide" Target="slides/slide15.xml"/><Relationship Id="rId80" Type="http://schemas.openxmlformats.org/officeDocument/2006/relationships/slide" Target="slides/slide16.xml"/><Relationship Id="rId81" Type="http://schemas.openxmlformats.org/officeDocument/2006/relationships/slide" Target="slides/slide17.xml"/><Relationship Id="rId82" Type="http://schemas.openxmlformats.org/officeDocument/2006/relationships/slide" Target="slides/slide18.xml"/><Relationship Id="rId83" Type="http://schemas.openxmlformats.org/officeDocument/2006/relationships/slide" Target="slides/slide19.xml"/><Relationship Id="rId84" Type="http://schemas.openxmlformats.org/officeDocument/2006/relationships/slide" Target="slides/slide20.xml"/><Relationship Id="rId85" Type="http://schemas.openxmlformats.org/officeDocument/2006/relationships/slide" Target="slides/slide21.xml"/><Relationship Id="rId86" Type="http://schemas.openxmlformats.org/officeDocument/2006/relationships/slide" Target="slides/slide22.xml"/><Relationship Id="rId87" Type="http://schemas.openxmlformats.org/officeDocument/2006/relationships/slide" Target="slides/slide23.xml"/><Relationship Id="rId88" Type="http://schemas.openxmlformats.org/officeDocument/2006/relationships/slide" Target="slides/slide24.xml"/><Relationship Id="rId89" Type="http://schemas.openxmlformats.org/officeDocument/2006/relationships/slide" Target="slides/slide25.xml"/><Relationship Id="rId90" Type="http://schemas.openxmlformats.org/officeDocument/2006/relationships/slide" Target="slides/slide26.xml"/><Relationship Id="rId91" Type="http://schemas.openxmlformats.org/officeDocument/2006/relationships/slide" Target="slides/slide27.xml"/><Relationship Id="rId92" Type="http://schemas.openxmlformats.org/officeDocument/2006/relationships/slide" Target="slides/slide28.xml"/><Relationship Id="rId93" Type="http://schemas.openxmlformats.org/officeDocument/2006/relationships/slide" Target="slides/slide29.xml"/><Relationship Id="rId94" Type="http://schemas.openxmlformats.org/officeDocument/2006/relationships/slide" Target="slides/slide30.xml"/><Relationship Id="rId95" Type="http://schemas.openxmlformats.org/officeDocument/2006/relationships/slide" Target="slides/slide31.xml"/><Relationship Id="rId96" Type="http://schemas.openxmlformats.org/officeDocument/2006/relationships/slide" Target="slides/slide32.xml"/><Relationship Id="rId97" Type="http://schemas.openxmlformats.org/officeDocument/2006/relationships/slide" Target="slides/slide33.xml"/><Relationship Id="rId98" Type="http://schemas.openxmlformats.org/officeDocument/2006/relationships/slide" Target="slides/slide34.xml"/><Relationship Id="rId99" Type="http://schemas.openxmlformats.org/officeDocument/2006/relationships/slide" Target="slides/slide35.xml"/><Relationship Id="rId100" Type="http://schemas.openxmlformats.org/officeDocument/2006/relationships/slide" Target="slides/slide36.xml"/><Relationship Id="rId101" Type="http://schemas.openxmlformats.org/officeDocument/2006/relationships/slide" Target="slides/slide37.xml"/><Relationship Id="rId102" Type="http://schemas.openxmlformats.org/officeDocument/2006/relationships/slide" Target="slides/slide38.xml"/><Relationship Id="rId103" Type="http://schemas.openxmlformats.org/officeDocument/2006/relationships/slide" Target="slides/slide39.xml"/><Relationship Id="rId104" Type="http://schemas.openxmlformats.org/officeDocument/2006/relationships/slide" Target="slides/slide40.xml"/><Relationship Id="rId105" Type="http://schemas.openxmlformats.org/officeDocument/2006/relationships/slide" Target="slides/slide41.xml"/><Relationship Id="rId106" Type="http://schemas.openxmlformats.org/officeDocument/2006/relationships/slide" Target="slides/slide42.xml"/><Relationship Id="rId107" Type="http://schemas.openxmlformats.org/officeDocument/2006/relationships/slide" Target="slides/slide43.xml"/><Relationship Id="rId108" Type="http://schemas.openxmlformats.org/officeDocument/2006/relationships/slide" Target="slides/slide44.xml"/><Relationship Id="rId109" Type="http://schemas.openxmlformats.org/officeDocument/2006/relationships/slide" Target="slides/slide45.xml"/><Relationship Id="rId110" Type="http://schemas.openxmlformats.org/officeDocument/2006/relationships/slide" Target="slides/slide46.xml"/><Relationship Id="rId111" Type="http://schemas.openxmlformats.org/officeDocument/2006/relationships/slide" Target="slides/slide47.xml"/><Relationship Id="rId112" Type="http://schemas.openxmlformats.org/officeDocument/2006/relationships/slide" Target="slides/slide48.xml"/><Relationship Id="rId113" Type="http://schemas.openxmlformats.org/officeDocument/2006/relationships/slide" Target="slides/slide49.xml"/><Relationship Id="rId114" Type="http://schemas.openxmlformats.org/officeDocument/2006/relationships/slide" Target="slides/slide50.xml"/><Relationship Id="rId115" Type="http://schemas.openxmlformats.org/officeDocument/2006/relationships/slide" Target="slides/slide51.xml"/><Relationship Id="rId116" Type="http://schemas.openxmlformats.org/officeDocument/2006/relationships/slide" Target="slides/slide52.xml"/><Relationship Id="rId117" Type="http://schemas.openxmlformats.org/officeDocument/2006/relationships/slide" Target="slides/slide53.xml"/><Relationship Id="rId118" Type="http://schemas.openxmlformats.org/officeDocument/2006/relationships/slide" Target="slides/slide54.xml"/><Relationship Id="rId119" Type="http://schemas.openxmlformats.org/officeDocument/2006/relationships/slide" Target="slides/slide55.xml"/><Relationship Id="rId120" Type="http://schemas.openxmlformats.org/officeDocument/2006/relationships/slide" Target="slides/slide56.xml"/><Relationship Id="rId121" Type="http://schemas.openxmlformats.org/officeDocument/2006/relationships/slide" Target="slides/slide57.xml"/><Relationship Id="rId122" Type="http://schemas.openxmlformats.org/officeDocument/2006/relationships/slide" Target="slides/slide58.xml"/><Relationship Id="rId123" Type="http://schemas.openxmlformats.org/officeDocument/2006/relationships/slide" Target="slides/slide59.xml"/><Relationship Id="rId124" Type="http://schemas.openxmlformats.org/officeDocument/2006/relationships/slide" Target="slides/slide60.xml"/><Relationship Id="rId125" Type="http://schemas.openxmlformats.org/officeDocument/2006/relationships/slide" Target="slides/slide61.xml"/><Relationship Id="rId126" Type="http://schemas.openxmlformats.org/officeDocument/2006/relationships/slide" Target="slides/slide62.xml"/><Relationship Id="rId127" Type="http://schemas.openxmlformats.org/officeDocument/2006/relationships/slide" Target="slides/slide63.xml"/><Relationship Id="rId128" Type="http://schemas.openxmlformats.org/officeDocument/2006/relationships/slide" Target="slides/slide64.xml"/><Relationship Id="rId129" Type="http://schemas.openxmlformats.org/officeDocument/2006/relationships/slide" Target="slides/slide65.xml"/><Relationship Id="rId130" Type="http://schemas.openxmlformats.org/officeDocument/2006/relationships/slide" Target="slides/slide66.xml"/><Relationship Id="rId131" Type="http://schemas.openxmlformats.org/officeDocument/2006/relationships/slide" Target="slides/slide67.xml"/><Relationship Id="rId132" Type="http://schemas.openxmlformats.org/officeDocument/2006/relationships/slide" Target="slides/slide68.xml"/><Relationship Id="rId133" Type="http://schemas.openxmlformats.org/officeDocument/2006/relationships/slide" Target="slides/slide69.xml"/><Relationship Id="rId134" Type="http://schemas.openxmlformats.org/officeDocument/2006/relationships/slide" Target="slides/slide70.xml"/><Relationship Id="rId135" Type="http://schemas.openxmlformats.org/officeDocument/2006/relationships/slide" Target="slides/slide71.xml"/><Relationship Id="rId136" Type="http://schemas.openxmlformats.org/officeDocument/2006/relationships/slide" Target="slides/slide72.xml"/><Relationship Id="rId137" Type="http://schemas.openxmlformats.org/officeDocument/2006/relationships/slide" Target="slides/slide73.xml"/><Relationship Id="rId138" Type="http://schemas.openxmlformats.org/officeDocument/2006/relationships/slide" Target="slides/slide74.xml"/><Relationship Id="rId139" Type="http://schemas.openxmlformats.org/officeDocument/2006/relationships/slide" Target="slides/slide75.xml"/><Relationship Id="rId140" Type="http://schemas.openxmlformats.org/officeDocument/2006/relationships/slide" Target="slides/slide76.xml"/><Relationship Id="rId1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 type="dt" idx="1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 type="ftr" idx="1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6"/>
          <p:cNvSpPr>
            <a:spLocks noGrp="1"/>
          </p:cNvSpPr>
          <p:nvPr>
            <p:ph type="sldNum" idx="1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E08-AC91-4F22-8F3B-84DE143A8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860F-9991-4313-8999-081BCE27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3D00-4BD2-4568-B896-7251BDFA5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E583-AEA2-422E-8BCA-9B8CA9C3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32D1-F4BA-43A7-BDDD-E0A808CE7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877-9142-4969-83BE-9DB54F0D9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E46C-6C38-448D-BB4C-CD8C1FA5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F617-4057-4009-BA71-9E727CA07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19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05D2-8D0C-4A41-A51B-3D8375AF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22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erus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pregnan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–70 g (1.8–2.5 o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1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–1200 g (1.8–2.6 l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= 5000 mL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due to HYPERPLASIA and HYPERTROPH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rimester ESTROGEN ST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same HYPER due to muscle fibers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ckens early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thins late pregnancy (palpate fetal p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5083-0A15-455A-B186-4AAFC157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50% more blood flow through maternal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metabolic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requires more blood f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ipate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to breasts &gt;2–3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in engor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ling of blood of deep and superficial veins of legs/vulva/re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co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rrh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onents increase during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supplementation usually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is a HYPERCOAGULABLE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ability to form c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from hemorrhage during child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risk of clo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39D4-2DBF-4E05-B275-A7562690D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28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50% more blood flow through maternal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metabolic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requires more blood f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ipate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to breasts &gt;2–3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in engor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ling of blood of deep and superficial veins of legs/vulva/re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co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rrh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onents increase during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supplementation usually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is a HYPERCOAGULABLE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ability to form c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from hemorrhage during child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risk of clo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1AEC-02E3-4697-8A81-BF1773EC6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31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adaptation occurs to provide for maternal and fetal n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consum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nal oxygen requirement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the oxygen is used by fetus and plac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 major factor in respiratory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mild hyperventi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VASCULARITY of mucu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respiratory tract more 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ise to NASAL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LA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relaxation of ligaments around r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ribcage exp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s for upward pressure of uterus on diaphra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sensitivity of respiratory center t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mild hyperventi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FE1E-2CED-4C5F-8632-D99A71D3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34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t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ppetite if not naus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gums/gingivitis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salivation (PTYAL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ux of acidic stomach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b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/small intes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TONE and MOTILITY of GI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levated levels of PROGESTER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xes all smooth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/small intes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 takes longer to emp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PATION: decreased motility in large intes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and Gallbla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pushed upward and backward (last trim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function al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tying time prolo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sposed to gall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C754-65A1-49B5-B125-9D5B68C5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pi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patc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k of pregnancy CHLOASMA or ME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 ALBA darkens to become LINEA NIG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h pubis to top of fund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tch marks (stria gravidar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and nails grow more rapi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630E-1A6C-4CEC-814C-5524DDDCF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40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FD52-003B-45C5-9D76-8AAF451D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sldImg"/>
          </p:nvPr>
        </p:nvSpPr>
        <p:spPr>
          <a:xfrm>
            <a:off x="1523880" y="30492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2943" name="PlaceHolder 2"/>
          <p:cNvSpPr>
            <a:spLocks noGrp="1"/>
          </p:cNvSpPr>
          <p:nvPr>
            <p:ph type="body"/>
          </p:nvPr>
        </p:nvSpPr>
        <p:spPr>
          <a:xfrm>
            <a:off x="533520" y="34290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8DF9-7171-473C-8B37-012F3CA58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F5F7-E579-4AB5-8DFD-1713CC75F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227A-BC3A-489D-A9C0-D2BB6C74F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FDFC-23D0-4620-89CC-92E11E447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C03F-4EEF-4912-9583-D761ABE37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1E58-3EDD-4D77-999F-1E6187E77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ing of weight gain during pregnancy is also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ardless of pre-pregnancy weight, women with low weight gain in the second or third trimester increases the risk of growth retardation of the fe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weight gain in the third trimester is also associated with an increased risk of a preterm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03C6-2B82-4A50-9325-993FC0F75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62DD-CFA8-4077-9E4F-73492016E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A584-5EDF-4F4F-97F9-2B95C58D6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285F-E074-4432-94B1-3A8A593F2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AND CHILD NURSING (NUR 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7767-93EC-4D62-B8C1-2D848FA28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314-E7CC-4037-90A3-15392F4D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B71-9423-4CD8-9D93-BAFAB11F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2E36E-8C0D-4020-9CCD-5F423C7E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54B91-FC7C-4600-935A-B99E8FC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3992E-A628-4126-B0BC-937ED1D9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1884C-AA1E-4CDB-BE87-25C910F7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6E59-EDC5-4C1D-A943-BFACE85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62BE-2F9D-4775-99A6-CC64B7B9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AA2B1-4DF3-4026-9D12-EAF153F4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31529-E991-4380-9B9A-890FACFD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6C43E-4AD8-40DD-BAD9-2FFF8AAB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E19794-6669-445C-8DBC-40BFE846E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CCD-A652-4965-A780-4D40AF4A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2C596E-F71F-4B55-9DBD-808B65C086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EF02C8-5292-4F0E-B096-AF9D5EC8C7A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247BF-FF07-4A56-A50D-92419E26ACC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E6B86B-922E-4BFE-B40E-CD382A15EEA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441CD2-ED34-4CAD-B217-FC5362C882F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8E8C02-DEA9-4C6F-AE22-D479B905C4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DD9C57-80C0-4D83-8BD2-00ADADD3C14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51BD5-D01F-48D5-BA8E-20CE8F8E2AA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8F659-1C85-428B-8AD6-48B4023243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99794-59FA-4EB3-BE58-71025CED2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178-6F9B-4677-A1D1-47ABE5F5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B8AC0D-E75D-48DE-9AB1-16E9045CCB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BB415-9633-4D1C-A790-C55EC5F1574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9F323-EF05-479C-9042-61C7E84735A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10DAD-FA42-4130-97FD-9CC5E14AE25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94C06-295F-462A-B665-F38D1F6629C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52B97-5C65-4822-BD77-C6536D47E35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C8A62-38A8-43FE-B763-E5F8132AC21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924EC0-FB63-447B-B21A-23C220948C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954F6-AA08-49C9-BD3F-F3145A9D7D5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7DE50-0775-4DE5-A308-DD9BDA147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6A531-481C-43B2-ABE4-B8356B19D25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D5AD35-57D9-4DBC-AE36-7F1295377E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9FA43-E6A9-41C8-A0BE-9F3D8507BF7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DF08D-AAEC-44DE-A5F9-D52429AFC56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0304A-E33A-409A-ABF3-67950F95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5843C-E8E3-431A-BEBF-874D0A58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F82C9-5AC8-4F6B-BBA0-E7DE41EA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CF9C5-1B60-459A-AA8C-2EF97951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10440-733B-46D5-AEFF-63BF53D6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2B605-CB16-4E00-9BE6-BFBD5912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85A51-9DA5-4813-BFB5-1DB0F07E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92886-1FC0-42C0-B256-9FB7EF7D15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1A8AE-BF25-4B90-B328-0084B4A8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A8EB7-3A60-4208-9BE9-900B08D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E0CD5-951F-4B44-B26C-874293DA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6C7CD-D652-42E6-A534-E7A5870E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0305A-2972-458F-B5B8-C0CFE3FD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6C8F0-95A5-437F-AADD-12EA533F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8A394-8EE6-4FAD-A182-CC05E339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C1954-838F-48E6-916D-7D8DE60F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DE513-E3EB-4BAC-A948-77263BA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08FD6-7BBC-457C-97B3-06C29B2B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E1B9E-0280-4745-B180-F0C56759F9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9B3E8-8C3F-4CEA-B455-BE6F6559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8F3F0-581C-45CB-9030-A9AD023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EE572-80E8-4529-8812-DC211202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CA536-6866-463B-A08F-18F59D81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D5401-A8EE-40D3-A73B-F13536EB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49655-9D34-4978-B9CA-E10E1CC5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2D0CB-AD18-4017-AB11-27B636C2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B4416-7837-404A-9B29-D7D12BD1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2AE80-8FAD-40C5-8F51-BCDFABDD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C4879-BC8A-4CDB-9345-4650C4F9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E63C2-B5BA-4E5B-85A1-6C03A51425C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C198D-E9F0-4EDC-B22C-501259B5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5491C-7483-4D4A-AC16-92353FAB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2AC9E-2B5D-4359-9F89-70D47B08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14F34-7D3F-4587-90D9-328FB58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0C0F5-E1C1-411A-A135-DEE77520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6E04D-FBCD-4050-9B8B-C153343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3666E-E404-403E-88EE-97F71829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3D100-1263-42C8-8834-1C5D5542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BA865-6A17-4BDF-A5FC-1CF99F33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2C716-36E0-4195-AA34-224B9F53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A0F43-9AC0-4FBC-A61E-A65B7218A31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E972A-853E-4B64-AAAC-437E8E14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072BD-EA99-429A-9C6C-DB76AE7A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DAB29-836B-4F83-A370-4DD02E0E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EC45B-7D99-49FA-91C9-E8AD7FB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42032-8AAD-4A13-9BC1-A5741B76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81E08-57D8-4B90-9F08-22EF4D27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59483-166F-41B4-B1F7-E33E8AC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D365D-94F8-463D-89B6-6FB0164C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DF5F6-0F0A-463C-BFEB-C7DA7EBB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9EDCB-C1C0-47E9-A813-459BDF19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AE849-C857-402B-87CF-39151E10921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6163D-21FF-46DD-9693-0717F21F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ABD56D-251C-4EF0-BD0B-7AC267AA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5BE06B-FEAC-4741-958A-189892C0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2F79FA-B6D1-483E-83E0-02ACB225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C71729-8FB6-4460-BDD2-F7B12ED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527D5E-4B49-432E-B818-86CCAD88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8919C3-6C00-47D1-BFF1-25325E9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7F5346-48BE-474F-A006-091947A6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BE3835-694E-40BD-8DDE-C4242D7F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8C27B0-2785-4AF0-B249-9043FEF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1D10F-1B1C-459C-AB21-2948215B2FD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75070E-1534-488E-B489-2F743863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A34AB4-5D9A-4D08-8AA9-87D50DCD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841617-D1B8-4E96-8C56-E400F9C8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C7CBE-5404-4D57-9951-4A09CB1F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0CD30-FC23-472F-B328-80EF561F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4DF2D-024A-4B66-BA91-8D5159D7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39276-5900-44F9-8E40-267A7133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F6EBC-3CC5-4C13-A1B9-C457E84C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D9206-D57E-44DA-BAC1-BA79E7E7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68992-B826-41C1-8503-7AB4C40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0F4-778B-4CE7-919D-15D5804C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F914A-C757-4F1B-A22E-60C72B536E7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EAE57-E54D-4DBF-896A-557454E7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43ADB-5395-4F15-A879-CA39F0A1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48793-3641-428B-85FA-69E36F6B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037EA-E011-4B30-A0A9-28447FD1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0113F-8AC5-417E-8B81-2701AAB9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862890-77E5-4790-9CCD-4442CFBB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B48054-FD23-43BA-A6AA-046EC8F8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CDFD27-47FA-468C-9BE0-0B9E5046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E6DB05-A0CD-4085-8BF1-D3105D38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B26353-A001-4F2A-BF7F-1AC343B0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D749D-D2C1-4D66-9ACF-B39F6568F9D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0064B1-24CC-4AB7-93CE-70CD3A1B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E9DDD9-6D80-4C3C-AF33-F61E0DAE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B5CC9B-622A-489F-B1D5-03146B2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FF608F-5A8B-46D4-9269-90E33C99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1644E5-C71C-4168-8833-0F753D20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DB1E8C-B8FE-4EFD-A335-DA9E2CD6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544FD3-0958-4BE1-9493-8E8C83B0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A1CCF2-D4B1-4216-8844-ED3AB11BF03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49CC8F-EBBD-427E-929E-CE7067BAB6A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47CAB8-A9ED-42BE-ACEA-61BE8206EE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E53CD-8F19-4795-BD2A-6EA01643A49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870D07-AB07-4B8C-A25A-8D421E91B46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BB6CC3-8D36-4457-93EF-D1563D5CD0E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447168-8B5C-43F1-B946-970075A92B8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908316-3525-4D48-9DC9-1EB691CC7E8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D2DAB6-FFDE-4E78-A5DD-CC39DD76CF5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54E64F-E0C4-49BA-B10B-EDD8DC88B53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149D87-0B6A-480A-A4C0-C2AF215E99A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2EA997-965C-4333-AEED-394354DF95B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96A58E-E5CA-4ED5-8A45-57DB7EA7224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B139ECE-8674-4E95-B684-04835254F3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D1B92-1F1B-488C-B224-07AF0570439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A7E80A-6369-4B49-BF95-EED96984495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51BF4A-3013-499E-AFD9-D543FF9095E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AA6654D-24DB-4585-8888-AFDC605DB72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72023E2-E85F-4297-8000-B8D048FBB89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F7DB5F-7F43-4524-BC95-4F82B38E19F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5FF091-F355-4128-985E-F721FEF4DF1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F4E07F-62CE-4157-AD67-749FC1D3BE5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16CEDB8-B642-4F99-AD74-C72C5C0E647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B5A26D-CF3A-43F6-8B3D-FC5FF669478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89DAD5A-D8A7-4548-BB76-1206D44FD9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BF60D-7C79-4599-857C-92BD704799A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70612B-11FF-418B-BB6A-ABB64E1902B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58ED6-D026-4267-9AB3-27F11724BB3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0C1E2-1859-452F-B49C-DCB09443FE4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31F96-2709-4603-9E12-8032F2E02F2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04E53-B654-46EB-96F1-B665034D3C5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E4767-40B3-43D9-8F86-6979BDD411E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0D3B2-8E3F-40E0-8568-8A5FA9723B2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10981-411C-4EF8-92AF-C69427641FF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46D10-29DA-4A1D-9E4A-BD626AE45DB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674F1-17AD-4430-9442-9F4EDE61D9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16D4-0C23-44A0-BFE8-256F2879E57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72C88-9F2F-4CDE-AADB-084D19BCB84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70434-D03D-4AAD-8383-C8E4AD23CA1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81A57-808D-4DB1-A661-C8445D4463A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B37769-350E-486F-8668-4811B4A8D04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B11A79-F60A-4E91-8481-D637941D62A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1F0D49-E21D-4DE6-8673-34EB43E630C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0D9DEE-DEEF-4AFA-8D23-0A1EA90E61E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4A8BFB-385D-4502-9AFF-4CC2A4D3BCA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FCFB16-1288-45A9-8E33-8FEAEC856F7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F56D6F-E107-4A8D-AD42-EF75F3A0CE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00C6-A581-4C3B-AFB2-83ABC1E99E8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1DD9BF-E41F-49B1-8D31-C7CB1DDEF0E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C2DBA2-D1DC-4568-B797-67093F1E548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9F8251-1423-4199-A8E5-CAAEB491D8A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13B474-0E5F-416F-8DB5-8BF5BA1C4DB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F866CC-970F-472A-8211-B50FA9E7856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93AEAC1-E9D4-4DA0-872F-4632805639C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4CEE4E-566E-414E-AF95-DEC279FEB94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02235EC-CE03-4CC2-A308-69A57B21239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B09B382-A0A9-4930-A5AA-D7276233E12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C35AD35-80F8-4876-B58F-D0249546B1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1A6B-0488-45F0-B54C-2CE9F685043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B133187-2FE5-4F37-90E4-35A364E808D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E5D6CA3-A14A-41A8-BC63-BAD574C901E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C1D39F-D9E8-4858-B51B-3FF8A842AEE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4D45AB4-BFCF-4817-9111-4FEB2E277CD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14FC687-7F44-421D-93B1-C862268DCE9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B276C0-E370-4D16-9D31-55E8C9CA993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6C712F-D87E-4ADC-8896-7FC9A8F16B7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94C79-C6B9-4A2F-8897-3B93B39B8BE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052A02-1B39-4156-90C7-893B3E161EB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62A88-9AB0-4F0C-8D61-D43031E90A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3EEE-86A6-4897-BC0A-30B191929A5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1EBEF-2FC0-4EB7-B90B-0920134F6AD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159FF-AC16-4704-8364-9C3CDAF1DB7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8633E-53D6-4E52-B84D-B89D6A108A8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B37C4-85F3-463F-A41C-689A6BF7919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716B7B-408F-4EBC-B764-6300B5311F2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123EA-DC61-4F84-ACF1-AAFCFC114C5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6AF2AA-357E-4778-89D7-8674C4642E4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51386-ADAD-4A2E-A0DE-A4DA20F4214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055D00-D8ED-4167-83DF-64C47C7C2C3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E2DB659-848B-4ACF-80A8-2C13779400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07F8-A0C3-43CA-8C3E-3B2CFB0F9DC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C01B09-8BEE-4392-8AD6-1A166082822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12F5DB-2F70-4AE9-BD84-33FCBDAC7D5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AEBE34-F38C-44CB-9479-25D79397CBE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381C0E-1DDA-4ED5-99EC-002AB32DC07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16FFE2E-90CB-40DF-95F9-7F0AE8E30D2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4D32235-C228-45D8-BE7D-1E6761CCF6B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06DE3A-AA95-4AC3-9916-C60013D3E49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913B36-3D60-4C8D-A6B7-79CBCEFDBC4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0F036C-5092-4B77-9BD2-E4DB831ABBA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8F96B0-DD31-4AD1-8383-E7735A8AC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A4A-9CC8-4026-A78D-8E6999EF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1F76-FDFD-4E63-8C9D-971316DEED9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269837-BE72-474E-8E72-D4318C0B127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9089C3-6854-4BBD-BCC7-CD27758B450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216015-6703-424B-A8BB-54490A7BCCD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9EEEF32-16E6-4AF9-8FEA-50D955B8CAD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E10989B-A5D4-44B6-B32A-05D143CE29C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16B6BD5-68E4-453D-8BAE-C7778732DED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D487987-B677-4B3D-AB83-D553AA6A831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DD04E8-301C-4599-9F82-B73EB60AC5C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03AE61F-E453-4605-B4EC-7613051CB11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A3379B-19CD-4968-8372-23B681D08D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702D-E676-4E2E-9D3E-50D0E272E07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D40FFA-FE7F-4462-93BB-15A638E5A98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583DD7A-D542-4BA7-812B-B53341DA7AD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FDC840C-4AAC-4A16-A1AC-A9F9B3E8E60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B7234E-0102-468B-A361-F15E9E7B2F1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EE9AEC-1D19-4291-B3F6-0579D47C634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5B7CF-DC04-4549-AAB2-D1D7569E614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6F4B75-A43C-4D53-BFC7-16563735819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D68DF1-5814-41EC-9C31-8EB8C0D7527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2F95E-3FE5-4055-B93A-D639ED8EAE4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39162F-5DEA-4439-9C52-9DA114E1A4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109F-59F7-4AB7-A018-C2BEA8A8DED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BCD5D7-E400-4248-8441-9A204562E91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B1804-4B26-4540-9B79-3AFE657008D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46F363-649D-4EF3-BBBB-1B9BCF03473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17236-C91B-4E22-AE87-22DCD7F0806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C91F8-D6E0-4ED1-896A-26F6999E8C6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01C61DC-9A3B-4428-B6D0-F5DE166795C1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C2FEF5-E9B1-45EE-8C18-299B83C0B94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297D6B9-F371-420D-9453-3662CF8DEDE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47C80BA-DF55-4FDD-B8C2-EDBE9BF191F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5754523-BB96-4B32-8F50-7D040E4E28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01D6-60CA-4E95-B21F-A2C302E0134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4A7CDBC-429D-444A-9514-40A5B9B1B7D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DA69446-4E98-436F-8A51-926706CFC52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1956560-4799-4ACD-815A-85D725B5B032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CEA8A8-1923-4BC1-93A2-3637710C8B3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AA5D560-0F1D-4FFE-9B61-6F0CC617116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D7FEDC-BF63-485A-8F13-D8D64126717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C683B3B-95B3-4B3C-8CEF-70FE1109B31F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59C3171-D7DD-452C-B70B-D1ACB96647F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77CEEF2-6752-4F80-8F5A-DB0F065D454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74BABC-AC8B-492F-8B74-71662E7AB8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64F7-F7A0-40AE-9CA6-BF5F6BC6F093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C0A3E00-D68A-4084-99C4-D7A567BD17D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C661166-88F8-4ECC-98D7-45BEE65DF59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F504559-5001-4585-AFCD-92647767372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C00585-2886-4E73-9DF1-B3A3F88781F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7793973-F1E3-43B3-9827-66B236E87A9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27C2845-B773-4ECC-8895-8E788035A6B5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CF8FC7C-D113-4573-8BC7-A4ABEAE4572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7D4202E-6A37-4FAF-ADC3-0704BADBFD5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2F27383-B3D3-4F22-AD10-CF5E3E8C2A7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22A819-AA01-49E8-ABD8-A9E7E9B6E2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2DE8-F767-4A90-BBEF-E8967AC1E96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5943F6-1B35-47CC-9C94-6B869C16BFA7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E10A8-0776-4209-B1CB-77B9F36D86EE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00F907-7BE7-4AD9-8C00-2A52DF5B25B3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E538F-0A52-4094-90F5-072AF1963AE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CBD9E6-4FEC-46FE-86AC-09F8DD76055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7937E9-8202-4946-B0F9-74E4528ADA9C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A4E218-9B35-40A2-B0EC-D8343CFA301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894302-62F7-4D70-AAB4-D824CA179A2F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CE5C63-0143-404A-9307-B2C870C7ECD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B3CDFD-0DC0-43D6-ABEC-BD11AAA8C2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0820-1064-44CF-B288-434F898005C5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6F7F03-7A53-410E-9235-82482D53B15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D57C701-DB23-463A-A4BF-0047BCC750BE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C0C5F47-3022-47CD-B495-7EA3F1C1AD8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80DD6A7-751A-4346-9500-30A2B25947B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4945A84-5ECE-43F3-9492-B004D815605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7967929-9BB5-4101-9646-1F4378687966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5D5E69-7A97-46B1-81DE-BEBBB38476A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8F62FDE-E71B-47E4-9BAE-80F9DB2BD78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8F99119-5125-4924-B64B-61B2AAA935F3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9F09DA-7904-43F7-87DA-F25684E988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6AF3E-618B-4479-8B10-98F49AD43FD4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431C32F-B838-4511-9867-F1F92DD3A8C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042970-8945-4849-993E-8DF6C52C426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75D1C5-AFEC-4A34-8FD3-1E956E3D601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5DCB3D3-1676-4AB0-8533-E65921B9B57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4178BB3-26B5-466F-B7AA-DADCC27CB8DA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7F5660-925B-474A-A187-4104ACAC414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C7B91BC-3B5C-4C32-90FE-969C0D1ECDC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66ABA4B-73DD-436C-864F-7A2117BCF53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3BA197A-F876-437D-BEA8-0D465F72B2C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1D2B991-9E9A-4F87-A2BB-6AAA8CA50C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86185-98F0-4AA9-9E2F-1CA89FDB3547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447AE7-5133-46E9-B93E-7D631EC3586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2AA1AC-F004-4F6F-B33F-DC130F0ABBD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EDDFB31-5E3A-456B-AA8A-5A30D56179D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E4AFB87-01A6-407E-92AB-F2BEE8D137AD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568317F-023B-4ED6-971E-BFA4AF1FD048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FF698E-BC21-4A09-AFCC-60C0E80EFA1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85669F-6469-4BB6-AB5D-CC3E2273D8DB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220C0C-EFD2-4ECD-A188-7FF4FF6447BF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4C3965-30A3-4535-B5E8-85253C500140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F982EF-B294-4DC0-8372-9C19A80A60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8219F-D686-4938-B076-98918A06839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2C52A7-8E27-427F-9FC8-DC1C674DF04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BF0A33-BAE2-4581-9D55-9C1DCD7D2DB7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9DB23C-2167-484F-838C-8955B4E8435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80E39B-974D-444A-951E-07571EFB59D8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4CFEFA-2E43-4DD9-90BC-7DB81241FF3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BA2956-25AD-480B-A9A2-FFE59FE2913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E2E643-97CD-4718-99C5-9C497948DB0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8D795D4-7A2A-4F7D-BD60-632BFE51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64C053B-1FED-4395-A2A8-B30D17D1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049D628-37C1-4C77-B96F-2976747F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5DF-5055-46AB-AB5D-473768C7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0214A-7A8D-4A3A-ABAA-669AE44C472D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C366334-E852-44EA-BD31-8F746E16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A0FBBD1-CE61-4166-8DFC-CDE795B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81608F0-58ED-40A5-B0DC-5A793A4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4A4F708-C144-4941-B0F6-109DFF5F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A405F0F-CCAA-4B39-9234-5E78E3E5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8678FAF-AAEA-4471-8A12-3B46E6E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F8A30F6-A24B-4607-A768-31EACDFC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7E16B38-5FD5-4FC1-98CC-6E10EB68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2DFA1E1-E7EB-48FA-9B8A-ABC8C97C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B8EF73-0A86-4F9A-8D96-5E83D4A6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5D981-C1C4-487C-8459-82E3EEDE1D5C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DC64A1-8DD4-4917-AA24-E3148E5D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944249-BC0E-4748-B1DB-D54A1B7C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CBB1A5-CA83-4369-A714-EF31C2DD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51BF27-EA7C-4C8B-A147-8FAF72B1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39136A-17B7-4E37-8EE6-CF38E5BC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3B58E8-E406-4CA4-89CB-3CDC5E1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E20141-A590-4F9D-937F-D51B1AEE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70E4E6-E5D3-48FB-BC67-70777D02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3FCF55-65CE-4A45-A4C8-5FB56A28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72FCC9-E7BC-4C4D-B9D9-E0B915A7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97A57-11AD-43D0-AB1E-39093AFA8FE4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29564E-F45A-4418-9D69-23E5DD7C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14BEE5-58EE-410E-A2A5-E2935590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4CAE97-DE3A-47BF-A90E-03DB88E2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F15C03-ADF4-47FA-93CD-6C177EBB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F635C0-6EFE-4042-BFF8-B2A399AF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3C711A-3EB7-4D67-A79A-C36C23B0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014505-3808-410A-A5C1-702AD113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1662D4-FB8F-4AD2-963B-74C00954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4E24E0-E622-4B34-B399-73E14EBB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EFFD1D-71C9-4EB9-9AF2-8DE7C12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905EC-424F-4459-9FA4-48AB377CDC75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90D67C-0C9B-4134-B28B-B177995E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E58E1E-EE65-4EAA-8727-255A3E56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F5C7E5-0539-4447-8F85-4EFA78BA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46690C-AB9B-4D1A-A503-21EBE459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ACF69D-11E3-4761-828D-E155FBD1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6E0458-04ED-4002-8DE0-D8B71A1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F696E1-BBC3-4C5E-BDC8-2EBF3163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F98BC0-FA05-41CD-92DE-C4F4813C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06E6C4-B7F4-4310-AA7C-F701928D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3A4662-759C-4D21-B894-4C82721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80B4C-5EA3-4814-AB68-EB2FA70689B5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33BACA-6D9A-4F7E-AABA-FE8FDB2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A76286-8B21-4B71-866D-A49DB147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04BF1D-F4F0-4220-A543-5490C6EB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3353D0-7DAD-4FE1-8740-329A5BF8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01D2EE-99E5-4B42-8C7B-75690B39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3F605A2-9B3B-4D63-ADA8-9F4799EC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B1120FC-56B6-4159-A548-939F51D0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E2FB4B5-CFC6-482A-B30C-FF5034B3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AEE3CBB-C9CC-48DE-B476-76DB1026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D772170-D432-4286-8C78-ECA1D2C1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C7DF3-C788-46C7-8FDE-B88F725B5022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F6B7B6E-9868-4220-91C7-52400BE5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AA78E76-14D3-489F-941C-940FF8B7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75EC3F8-7B79-4593-9476-0B4411A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861C729-C2FD-444B-998E-CB0093D2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C3AD377-1E6A-471F-88B8-71DCA15A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E02F953-E768-44A7-9A17-7143B4F7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BCBB5C3-3771-480B-97E8-7CFE71EE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71FB3E-B72C-46FF-A8DC-5DFC72E2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F6C53C-FFD4-484D-8E5D-717FEF39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F37170-DEEB-4869-A811-E2D45A82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FBE6B-D200-48E9-9512-55D5B41D1499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F680EA-CEA8-40A9-A51B-2EB4124C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D7DE7D-4CAF-4B37-968F-E3803A12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504C74-C7D1-4A86-B5C9-8FE8AB77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834EB4-08A9-49CF-8A6F-8CBC21C0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4EA25C-4EF1-402A-A166-A59EAC86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1B0968-1778-4CAD-AB15-CE3F1EF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5F2715-9127-42FC-8C80-49F1376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DE2AC3-FAE1-4D0F-A02E-C2751E29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39CA29-E33F-40C4-B4BE-EBAEB864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CCC38E3-934C-4AD0-B1FC-A2F52330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33A63-FEEA-4112-AA69-B6D5B9AA57BB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971FA3F-9264-4E1C-8E35-5DA1CC53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C61DC20-856C-40A6-B876-732327BC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D0AE94A-40BE-4D51-AB3E-836BF017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1A1C690-5F52-4BFE-8B8E-D1A38E22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919D9A0-C7F3-4C67-8E21-884DDACD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997689B-21E2-41A3-9FBA-8FBF629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1D94C21-5D76-43F0-93BB-9FF638A7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45A3F8A-E789-4ACF-B074-212FBD9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01DC565-3901-4A26-9F47-E55AB27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1C294BD-F989-4A89-8A81-48192CE0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DD780-C171-414D-9C77-4D876D4537EF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BF51612-C2AF-472E-AAC1-3F8899BE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0D2FF5A-CCE5-45A1-82D2-1A21BBC6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20E7FE7-17B1-4D14-A2E5-144E580A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5436B31-2704-40F8-95CA-BDB7F1FC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955CF1B-C7FD-43E0-9BB1-C402688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F9BC2E0-E552-43E3-AA48-779C0129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90AB23C-D548-4395-8EC9-24D862E5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AA7E125-C1E7-4905-B5E3-F99F9E8F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C460A1-56ED-4FF6-8983-EB4208A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008E814-FE40-45AA-A80C-262B476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41B37-F394-4E2C-871E-138A50187EC1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E3AE4CE-203D-4B6B-BAA9-CC962467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FF563CD-0A9E-4632-88EB-E0BA8D04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8A88028-22C1-4AAC-B636-447F429A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31002B-0795-4152-BB89-66C68A76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8724A3-9525-48F9-ADA8-7AFFD8CD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076F02-0E58-41D2-BA04-CA71A83F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47B706-EEF6-4C95-990C-3642483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C6D19B-F7B4-4AA3-81A0-2B96F8A1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D63D37-1211-4442-A6C6-546E96D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52F3C0-322D-4F3E-8160-5DFB28DA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157-7396-4862-988C-FF58D383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B599E-BC6A-413E-B6A0-DFFD390EBED0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5F18AB-C06A-4381-B526-0357FE7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8B3A37-1C30-4920-BBF8-6192211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5C5526-DF16-4896-BEAA-818CFB30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EA8CD7-BA43-4EC0-BF94-1A99C130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9D7C02-E4F5-4BBC-A7E7-652F354B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608E9D-37EB-4016-AF6C-4B58432E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E12ECB-97F7-419A-B65B-9BDBE137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41F415-D459-443D-99A7-EE9A8485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7E3706-88E4-4D71-BB55-94205BD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48E73C-6692-4B76-9C83-8816053C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679016-A299-48B4-BB7A-F916A9EDB724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ADB0B9-B847-4C80-AD6B-F391B8DE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74BCFE-C87E-4121-A0CA-28F9A71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B18F24-767B-4814-99D0-9BD0E2C8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CECA49-1470-4B97-AFF4-842D725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B42D19-A585-4434-9586-B760F75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08D3B0-4A83-4A51-8CFA-CAA1EA0A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1406E6-13F5-431C-8125-A84E10A2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7B927F-5B9C-452D-A989-43CCB400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14EC5C-B20F-4AB6-8B56-99BFC2D5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1B0AAC-06BD-4C1F-9E1E-B35AADC9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17E5E-CA76-4EED-B706-2797921F96C8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0AC0FB-E468-46FD-85AC-5BD63525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D88C5A-1C2D-4F7D-B739-42959148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3A4FFC-16EE-44BC-A3C6-94BCA1BD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633B99-AD93-4453-B2EA-13B74CB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D4F3A2-F125-4287-A0CD-B66B026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0C5E31-EE41-42B1-8646-C8CE30B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E3B269-95FC-4B26-A649-A5832B20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BB8EAE-1AB6-4FDA-BB34-EE0475C5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0EC680-1F0D-4D28-B101-E05E44C2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BEE948D-3DA9-43D0-BDE9-9D650BDB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F52E7-5BC5-408B-AF52-64FABC64AAF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B6D3531-9492-43F7-A417-3D55C4F3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7926E97-604C-4F68-BFC9-07F638B7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8286875-1698-4AC0-AF3E-920B3D59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CA6BA96-D16B-4498-958F-DABF32AC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29169D8-5B18-4088-AB43-45A067A8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DFF05CC-E625-46CF-B516-A98B1920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2DBC9CC-3AE4-4E54-B9EF-D4CFA1EC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D3A86E0-2707-4380-87EF-1D465E4F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7A36821-A68D-4561-88A7-A7597464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41623AB-714C-4341-B6D5-C31E3272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FE691-22B7-496E-8623-D9AAAD4EA68B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D34C405-A316-423C-B0BE-5EF0AF52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31A50C-9ECF-4B03-A3D9-15E8B0B0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2F48A4-CA6F-4CE4-9B55-97777754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D78430-CF98-4DDB-BDB2-0EC3116C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F58827-9F52-43B8-B401-F1E10D3B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AF5C374-0F66-4C1A-B007-565946D1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2F6C25-C4DF-4FAF-9093-4E3D2514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2A2182-45D6-4D80-AE10-93E7F23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C75A1C-1B95-4F50-A170-C1A2B31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2D4ECC-0A6A-4566-B127-FDD9F88B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9B686-89E4-454F-9787-2B4CFD76D2B9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DEA26F-F1A8-497F-9E32-D85A5872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7A1162-DB78-4DDC-8459-F67DE250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59D7D0-1CBF-476A-9B36-CA96076B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701AFC9-5123-4A36-9110-6CCF37E0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F6FD1D4-221E-4CAC-B0B2-9EA827C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110E13C-A2FB-42D9-B1AC-EFDC6D76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5C04CE5-C4DB-4937-B9FB-3A3A3AF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4BB8D3F-E133-402E-87F6-9CC76065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26DFF9F-2D1C-4FAD-B434-37FE1A9C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08CBF73-D19B-4559-A8ED-C6C92745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94D39-ED50-43CC-89E6-90F0085D0C70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3A2AB6D-87F1-4C89-A334-AAC62C4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1482568-9914-4900-8617-863D667B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2D6009C-74DC-46B2-8E68-842FA9F2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C14D1E6-6042-43A4-9675-9C24B39C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322EBF9-D9F7-4FD4-A04B-747F76FE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8245C0-27FF-4A34-8BB3-C8C998E6604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2B12E2-C0C9-44CB-A66A-5E6D0E2174B3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7AF698C-E9E6-4B97-B7FC-63E47D5B2B2D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3A2482-798E-4DBE-9F6C-2ECB5F4B9293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350BF6-49FE-4DB8-80A7-EB774AAEF5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2A862-8E7F-4A80-9DC5-5BB3CD837504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D72CFD-CBBE-483A-90D3-ABF947B58DA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E12742-2070-4F4B-AEF3-3ADC5EFBF3E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CD570F-0666-4013-86CB-8BC2290EC952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D6DE14-B37B-4CB0-9D38-CB32272C1EAB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6F5F4EF-609C-44BA-9D6D-58EEF33F13EB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AB3DF8-F976-4516-B9CC-B4C8C4C1C118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D01CED-A626-4C06-86CA-1E590B77D78A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B03C0ED-2C1F-4E25-A6B1-CE651F4C3E8B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7564DD4-3F5E-42C3-9FE1-277946DB160D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E666F64-8265-40FB-BCF9-6573A02257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B1C567-F581-4B8F-8A7D-E14A0CA998B1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A2B9B85-357C-4F55-B20E-6BD01F47E2E2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635397C-02E1-4B41-9350-DDA893A25184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741A4AC-528A-4005-AF2A-AED02F87858D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DABED37-5412-4315-8516-E52A008C1842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CCED629-5A53-4FFF-93CF-B33CA4ABB1FB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F9B6DEA-3AA5-4262-9DDD-CD2DA38BE06B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21D1E59-23E0-47B4-9178-ADB6D3EF5564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ABB5636-2C33-42A6-B6D6-4EE75ABADD65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BB057DB-654B-4E36-A7E0-CE2B0F2FE5C4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32BBFB4-6384-46EF-BD1C-80D2B8DD5C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F0225-5D30-45F1-A11B-BC0EA6E1D9AA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C62E755-4430-4ACD-AA7D-0178D51FB887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983E3E4-0C56-45D6-9DB3-176AB33A6B23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C076536-13C5-407E-80C2-8FA0EC40621C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B57207D-E1FB-4C3C-A320-C50B61B9048A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62BCBE7-0DA0-4A0C-BA63-863C4122AC70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03A985F-2DB7-4923-9156-D9CC2F3C5052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826A15E-920C-4D2B-BF56-32832C191637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F58415C-EC3F-4AEB-AE22-0B834C702880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02748AB-756E-4952-884B-72D7D337C5EB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4A4240B-2278-46F7-9860-F949E3FA5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4E6-7D35-48A2-9903-4DCAD6E2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2DDB6-8AB8-4039-84BA-83DBDDEF58F1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1F824C0-FDE4-4A82-BD24-A0DC50AD7772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E55553-17D1-4D18-9AFA-2A9618777579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561953B-FCD7-4A6E-95BA-407982D74E6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B0F698-18F3-4342-9434-DF0317817C30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9AF336-1084-4E7B-B1C0-38B5C144F501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F62CA5-C633-4D9A-89CA-1EDBA0A92867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C69F6CB-4A19-4547-8F4C-59F3ADA35DC0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D93F14-94FD-4BB7-9B76-F0F1CB15B63C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2D5F3F-7F7C-4468-884F-B2A992E91BA3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3D314C-4F3E-4165-BCFE-01B3D2E7A25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10D9-01DA-409E-9AD0-447E6A8E70B4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DB5FBD-A49D-45E3-AAEE-0C469164604B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4A433AB-893D-4A3D-963C-D8FE871714CE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871360-3CF3-4085-8727-B16427A9C8DA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4E297EF-5C52-45F6-9956-077EF9F85D45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439F2D5-68D1-42EC-BD75-5C169D374AA0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36B42E1-FBE7-4E38-B4D7-5BE47888C951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1BB6A21-2843-484F-9E2B-825FCE359CDB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60AEF06-01AB-43AE-A6E2-2513BB13D18E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D20945F-67D5-4050-A3F1-F6CB0DE223AD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A53F1A7-BC87-4AAD-A7B2-5C6F1100FF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A0B4-4853-452B-A8E6-8272F657556D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98A3FAD-74CD-4F9F-B35A-9ED961E36E51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B99987E-2055-4559-A497-A89BEB91C18A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7CDFDC8-08EA-4BB1-8731-582F80BB1EAE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0436AE2-F90D-4F7C-8C46-2BB7DBD99120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4D729D2-677C-4F6B-B04A-5B25953D67F9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D5CF7BB-F474-4CF4-8014-55085D75E12B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F5D7AA6-491B-4278-B864-740A85DB635C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ACDE5B5-413B-4351-8E20-2D96FD2C0ED0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8B90327-86A8-4125-8EFF-46490126A4E5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19F8E8D-AD84-485E-9206-31B91A3C5D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6466E-6B19-45AD-AE16-52BAE0D72319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F60754F-41D8-4C4F-8BC8-C8486DC6A241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38C0CD8-B200-4906-9783-F9C93672AE93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277B10C-D2E4-476C-9591-5FFA44E14526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7683475-9205-4BBB-8E62-124775C2B8B5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0ACCDEE-2C20-4819-B317-6EED75C9E146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CA7AC03-F484-47E0-9BBD-A4B56B679312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3774C75-F727-4BEF-8318-8960B90711E3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CEB7BE-B4AD-4317-812D-C105FEC3CC0A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2248F7-D166-4961-8F30-4AAD15D76DE6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CC5FFF-5EF5-498A-A558-D7268329F4B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18AB-FE51-402B-9A7E-B5B7CCFA0A96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B04D9F-974A-4CF0-A5E3-DE3E545EC3AB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E8E8F8-5640-4F7D-BE43-B5BBCFF20332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88DB3C-0542-4347-A77E-33D65E105E70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E236EB5-0D7E-4F47-B796-500646620EC0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F6514E-DFB4-4A73-90F5-9DE5FAD713F3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17DB8C-FD62-41B4-AEE8-B6D080336D81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A17594-33A3-4F30-85E4-BCA6C74B896D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4ABC0A8-EDAF-4466-AA9C-9E4D7FFD3043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9B9EC9E-EBBA-40BB-8C4A-9944F593E94C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BC8F727-301E-4C46-A939-71964B2B0A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1056E-797A-4884-85C1-F73AA2F3C311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8A24985-FF11-4AE6-802C-09393376E8A8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4C01B4A-208F-40A7-B3D8-FE67D4F2B174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9AE2FA8-6E2C-4D22-9B88-1733FEB3F16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CE5A9D4-BABC-42D0-8683-8EED40BEA6FE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56AB22A-7328-40ED-A9EF-4C280D790C76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38E940F-D08D-48EA-9BCD-EDFBDE2B31B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7A7BF80-CCB0-47AC-94CF-671937CD896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91C40B5-3599-46A6-AD48-F98DF38CFED6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34C78E3-C907-4881-924C-FFE3E23BCA40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270CF28-E178-4ED3-994E-B2BE08197BF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CDD6-FD8F-4839-A759-D8BA4C9B05C7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FADC7BE-19CB-4A17-A2C1-A1C24E9B00B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F44DAAA-52FA-4942-AACD-265EFDD1E20D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9943FF7-9136-4282-BA97-B23DA49C16D8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816928B-10BE-4880-9A92-A93359F4E1B7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A1F9527-216E-47B5-B45E-6FAA7D3A5EC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AC4C200-CBF2-4377-A6C6-D3CBC0279406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83B6527-4C10-4ACB-B9BA-94F6CD77B28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E27AE9B-0A1D-430F-A69A-8623F614E7AC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22A5594-FA50-4B7A-9D34-153E00003391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6238FE6-E922-4E71-B8E4-985376D82BC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5BF6-66AC-4438-8EBF-803CA4329DC5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35E202A-7937-4F67-AFBA-6870D3C9E379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B370621-35A6-488E-8659-80DBC7FC24BB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FF93EA4-3A6D-4BB4-8BC6-85C48000D1DF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AD072D-5E1B-49D1-B63B-7BBAAF121990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A70287-5C56-4121-846E-F32EE01EE6B0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FF7736B-D2EE-45FF-8AC8-E3AA4432A85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A9CCDB8-4C3A-4971-9DB3-0A046D540090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537F78-F419-410F-AE9E-47179C13B47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387406A-4E29-4FB1-B708-CDA958B25ED2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DB2335-E01B-48C2-A386-FA43492F8F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B4CF0-8FA7-4D28-B7AC-9BEF2DCC4672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1FDD4C-935A-4E0A-865B-2943AAFD9AEB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B3E626-086E-4E82-9712-4298E2AC402B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172D29-4E2A-43A4-9475-DB5D95B35BC0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0441E1D-9536-49B1-971B-C3AF807BEC3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5D0B07-9CAD-4D21-9F9D-60DB84C75443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31B4BFA-6F50-4599-AB2A-589FDCF375AC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B292695-69C7-40DE-A961-04C369DCA8A6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7185745-292E-47B5-A7A6-8EE643CA66C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A950261-B0A8-4DAB-939D-30C6D40E3E0C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5664E83-41A7-4D6B-868B-6A09D8BB62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70B1-50B7-4095-B087-40816D4A91E7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956C192-40BA-440E-9BE9-18A1C2B2FFB4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7C09E83-6401-47BC-B64E-42D243BF635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397AD5C-4CF0-4C18-92F4-78B7C379B3D8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3F6816B-CD0A-4702-9518-1F3845E9EB32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A37D700-40C2-4501-BEC6-5F457F734AC9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F1847FF-DA3B-470D-8605-564D455C0762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B8C62F2-0662-43D0-A0B0-277E6320583C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3928CD0-C157-41E0-BA94-505718861D08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AF2274B-C96B-4414-98CB-FFF8CDDF292A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9DA5645-E68B-4696-B479-D7CFEE716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ED0-33D9-4C4D-A1E4-658E3DA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5B72-B43D-4B30-B86E-2D04BEABD9AF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6D7DFD2-6D43-44F6-A7F7-FCB54B0B6C1A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9490CAA-B7A1-4954-8170-A0362A2073B6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9825F0E-6214-4B74-964E-A74737499ACC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065919E-A2B6-47AA-945A-F934F857BFF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86E5213-CF35-4ACD-85B2-4623DE4D200B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06C34AC-51DF-44CB-94B5-BB0603E5FDBA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7138DC4-9161-4637-94A3-D271E5A567D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83427D3-C4DB-45B5-A8F8-BF2B2979243C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DD374CC-2672-4184-89EF-D31DBE3E474B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58078EB-72A8-481F-9D96-5CA3FDE43E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64E4-8B44-4BA6-A2D9-D31A167FDF7F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0DE65F-5756-4E39-9163-890364D72693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E1A390-6B8F-494E-829E-C8B2832B4C07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2592C5-2D9C-41AF-BAD8-2DAC33AD1701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540CA2-7A80-4929-A9E5-B389A7D864FF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7E6041A-0EAB-42FA-8C1F-2AF8928368AC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EC62FC-EDB8-4AF3-92C3-70D6DFFCFDC2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8E514E-1E82-40E2-8256-46C41B976A62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B644D1-5CE5-4C62-8601-ED947FED2B49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5BB5426-2F90-42F3-9613-680BF70BAFB4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E6D042A-C4B5-4A2D-AEDD-B498D8E529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C35AE-72A1-418A-8C20-DF55A10D9120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04A7B91-FF27-475E-940E-4AF0EFC9F353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35B48F3-533F-4EDE-96F4-18593A947A9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9A6F355-B2B5-4267-9B6B-2D7DD8FECEA5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EE1F594-DB74-4072-A639-B1DD62D8182A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69722B7-B863-42ED-8E8F-FA18A386151B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D754D19-8B39-4F2D-B2A8-4B7DE401B839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D868C67-8DF6-4CE9-91F4-3DA0134E33B8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5608EEF-AED4-4B09-8E6B-C02A0CA264D5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5762A9B-BA41-4385-9F41-F1303D944738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3CCD893-BE1E-4F7A-8329-B8DC8FDB499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8E4F0-4394-459E-AC57-EC7F6B85799C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0C2859E-CBEB-4C64-9109-80D44010DC65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D210D8C-8ECB-4A3D-A64A-53D57346D4B4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3EE0B88-0322-47F9-9443-F4DB7D5D12EF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7454418-501C-4AD7-BB79-74ABA1880458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1D80C9E-315E-4F7B-A967-A37919F84C6D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4E4C4DE-DFB1-4D85-9E1F-0A2DB6BC51A4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B570F44-B2C4-4166-A108-65CAE7A577B6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732F1F4-9737-4EB8-9731-C37E8AE48E5E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48DD750-A8CF-4A39-A96F-E24CFE900F87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3480C0C-C1BF-4FBC-9C1A-D1B91E7865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835F3-B021-4BA9-935F-DE8D058759FF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0F4FB06-0249-4B4B-A589-E1EAD3E251D0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C485F3A-0683-4D45-A16E-A1F68CC622CF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93BB896-27E6-4351-85F7-8DAE26F35E43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5D895B9-B94E-4D5E-A2CA-43B9A084FA16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01CD672-4587-4672-A5A7-BA7E0FA12B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1FF84-05EE-4A27-B5AE-2FB4EAC87C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733B4-611C-44E8-A29A-06DA557C3DC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D6105-AF20-4DFA-9542-0D7E2A008A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58494-63C6-48D6-9814-06ECE6EA3EF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93280-A726-4973-9513-DB235C74B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EC9-34A6-42AA-A14D-93667749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DC993-FED2-48B6-8E31-C01F1C9A43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C397E-EDAD-4E8D-8B16-A15B6EB1BB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A2E76-A4FF-4520-BFF0-9CAC8A07994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AFA6A-B1C5-4332-951A-FCEB29ABAC9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E7ADF-70DC-42BE-8311-0C59203F3C6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9E284-CE36-4AA6-AFE5-8895AEB8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04A91-1378-4491-804B-F70F1C51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B952-D363-480D-8D50-0E9A295B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C548C-E638-4410-A90D-F9EF7A1F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CB13-53F2-4910-A441-F7F2EA02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000-8EE5-48E3-AD0D-F351265E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1C011-CC49-411F-A8D1-967A1E16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6ABE5-A351-4158-AC89-E199F65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55869-DA6D-459A-B168-7AFCA8A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0956-62AB-4CAA-BC13-42F2DAD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A5AF6-EAE2-45CF-8708-3FEFD4E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A5207-5EAD-474B-B24D-D0219373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F3776-C89A-409C-A0F5-7B1BB5CC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785F6-BBB1-4294-B39A-6D6A9576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6847-DA39-45AC-AD00-91DF03A0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67E20-86AE-429B-B451-BD49CAC8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7463-CEE4-41EB-A0C5-271A0DEFC42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2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3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613E-3A90-4C02-AD1F-FEE06247C7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4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5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C6E3-D865-4651-A5CA-51BC584385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6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7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8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256B-8CF7-4350-AE2B-44791334CC45}" type="slidenum">
              <a:rPr b="1" lang="en-US" sz="1400" spc="-1" strike="noStrike">
                <a:solidFill>
                  <a:srgbClr val="ebddc3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sldNum" idx="3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5905-D81C-47B7-BF5A-BC9E7DCD7217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681-0CF0-4441-AB2C-DFD61F9C298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3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55DB-33BA-41BA-A62F-CB575846136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ftr" idx="3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0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5212-4208-4912-9F9F-C087F410B842}" type="slidenum">
              <a:rPr b="1" lang="en-US" sz="1400" spc="-1" strike="noStrike">
                <a:solidFill>
                  <a:srgbClr val="775f55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1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42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9BD3-D18E-4AED-AC7F-58CDE49579DF}" type="slidenum"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3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66F5-C850-43C3-8374-68325FF40EF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Num" idx="47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0B8A-3801-478A-B010-5F3A1F7AF8E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48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0C86-3FD7-4466-AF35-6794800B509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sldNum" idx="49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77BB-20AF-40AE-A926-7F8E12F530E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0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sldNum" idx="51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BDBE-D6D6-45C1-8E4E-FD2CFC906DE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2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53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552-B41E-49F3-A15D-D87B0F96820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54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sldNum" idx="55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CCA7-DD9E-480C-AD3E-AA078AF08BC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6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sldNum" idx="57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DD96-CFE9-4D6D-BAEA-0B8325B70A6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8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9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941D-34AA-4FE8-81A2-D0875E3A822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60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Num" idx="61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4133-E7BF-40A0-AA91-9E66481AA57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62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sldNum" idx="63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34F6-BF97-4147-98CA-95B739BD6F5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64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sldNum" idx="65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F8FE-B933-4958-8B5C-D39F19C2544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66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sldNum" idx="67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3265-9A2A-44E2-B6D1-7DD8C228ED6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68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7EB2-5E75-455E-92BE-6B4531B1BF6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sldNum" idx="69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D8D0-4E48-4C45-BC0F-D48D7848A2C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70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sldNum" idx="71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4C52-2F0D-4188-B6E0-E7933BB0D25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 type="ftr" idx="72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sldNum" idx="73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43B2-F863-4B36-BC26-7D8C55DF832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74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sldNum" idx="75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0133-71BD-4151-A358-522692FAE59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76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7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7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7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8D90-7B16-4344-AD10-6E31D1AF9B65}" type="slidenum">
              <a:rPr b="1" lang="en-US" sz="1400" spc="-1" strike="noStrike">
                <a:solidFill>
                  <a:srgbClr val="ebddc3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8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sldNum" idx="8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64F5-FCBF-491D-8C3F-306806E761EC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ftr" idx="8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8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sldNum" idx="8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3BF3-3E41-40B6-87F7-BF7F4F1B962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ftr" idx="8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dt" idx="8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sldNum" idx="8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27C2-B94C-4470-A5F6-24C1924A8BD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 type="ftr" idx="8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8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ftr" idx="9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 type="sldNum" idx="9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76DE-06B9-4855-AB39-8BD768AD60DC}" type="slidenum">
              <a:rPr b="1" lang="en-US" sz="1400" spc="-1" strike="noStrike">
                <a:solidFill>
                  <a:srgbClr val="775f55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9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sldNum" idx="9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3597-DB87-4F33-BFBA-ACEA6E3F8427}" type="slidenum"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ftr" idx="9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37E4-D5C5-42F2-A063-9D8497CC334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dt" idx="9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 type="ftr" idx="9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 type="sldNum" idx="9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4B60-0B61-41E8-A2AD-B573D7C091E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 type="dt" idx="98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 type="ftr" idx="99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 type="sldNum" idx="100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3B9A-4C5D-4CFC-B2B7-9AC461C88B3F}" type="slidenum">
              <a:rPr b="1" lang="en-US" sz="1400" spc="-1" strike="noStrike">
                <a:solidFill>
                  <a:srgbClr val="ebddc3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10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sldNum" idx="102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A9C8-4B0D-4DA5-A689-9E34165907E8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ftr" idx="10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10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sldNum" idx="10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F2E6-FC87-4F90-BD28-08954BBBDAC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ftr" idx="10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 type="dt" idx="10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 type="sldNum" idx="10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BCED-BC97-47F2-B712-26F0AA307A9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 type="ftr" idx="10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 type="dt" idx="1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 type="ftr" idx="1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5"/>
          <p:cNvSpPr>
            <a:spLocks noGrp="1"/>
          </p:cNvSpPr>
          <p:nvPr>
            <p:ph type="sldNum" idx="1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5AF4-A458-4659-AF44-3F2F41835ED3}" type="slidenum">
              <a:rPr b="1" lang="en-US" sz="1400" spc="-1" strike="noStrike">
                <a:solidFill>
                  <a:srgbClr val="775f55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sldNum" idx="1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0F86-173A-4410-A6CB-C69C01163238}" type="slidenum"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ftr" idx="1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C3B-7266-412B-9842-A4EE9C11E8B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 type="ftr" idx="119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 type="sldNum" idx="120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05BC-5BBB-4BF7-8876-603FF5058F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ftr" idx="121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sldNum" idx="122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48F2-B35D-444C-A3BD-711B8CE2E4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0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61D-5344-4D45-BE3E-E3C42947BA4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ftr" idx="123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sldNum" idx="12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1EF0-2ED4-4FB7-8C2E-475B140ED0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ftr" idx="12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sldNum" idx="126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3FA-9D30-4701-AB1A-FE1A15F344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ftr" idx="127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 type="sldNum" idx="128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FD6D-6CDF-4423-B718-9EC49E455E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 type="ftr" idx="129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 type="sldNum" idx="130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3B67-C5C2-4BFA-AA6A-330B040DAB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 type="ftr" idx="131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 type="sldNum" idx="132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B225-5698-431B-88D9-FF0A06C146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 type="ftr" idx="133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 type="sldNum" idx="13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EFD0-C387-4E33-B889-8A4AAEB961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 type="ftr" idx="13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 type="sldNum" idx="136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17FA-0152-42D1-8ED0-96A83CD4CD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ftr" idx="137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sldNum" idx="138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C361-671F-4536-9E26-AE42F9F0CB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 type="ftr" idx="139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 type="sldNum" idx="140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6DC2-1404-4732-A6FB-6F01622B56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ftr" idx="141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sldNum" idx="142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8E6A-D306-4821-AEBD-D8DF6F184E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2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F9A3-8F2B-4561-B1F5-95954865ECB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3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 type="ftr" idx="143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 type="sldNum" idx="14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6C7C-DB6A-4CC4-BBE4-48265D79A3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 type="ftr" idx="14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 type="sldNum" idx="146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62A8-C5E4-47FB-A044-A3832AB577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 type="ftr" idx="147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 type="sldNum" idx="148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1DA2-CFEF-4EF6-8B9A-C86FC3F70F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4"/>
          </p:nvPr>
        </p:nvSpPr>
        <p:spPr>
          <a:xfrm>
            <a:off x="830556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3BE2-BF9B-406B-8842-851B0139B94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5"/>
          </p:nvPr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1F2D-9752-44C5-A44B-0668D519EE0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3C26-D176-487A-AA24-369DD8D3847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iwN32-vLWAhWDVhoKHaymAr4QjRwIBw&amp;url=http%3A%2F%2Fwww.carewellmedicalcentre.com%2Fskin-laser-clinic%2Fmelasma-hyperpigmentation-treatment%2F&amp;psig=AOvVaw1K07llZS1XvbtlXPpFlvUr&amp;ust=1508168169275755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F8JG8m_PWAhVKwBQKHZDdDz8QjRwIBw&amp;url=http%3A%2F%2Fwww.kentmedicalimaging.co.uk%2F3D4D_Ultrasound_Scans&amp;psig=AOvVaw0NNRbkcA5UqmXjZy95iNxK&amp;ust=1508177026165090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4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2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5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2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143000"/>
          </a:xfrm>
          <a:prstGeom prst="rect">
            <a:avLst/>
          </a:prstGeom>
          <a:solidFill>
            <a:srgbClr val="20190b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SimSun"/>
              </a:rPr>
              <a:t>PREGNANCY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78" name="Rectangle 11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77DD-7D04-49A4-9C49-BB4A73861D0F}" type="slidenum">
              <a:rPr b="1" lang="en-US" sz="1400" spc="-1" strike="noStrike">
                <a:solidFill>
                  <a:srgbClr val="ebddc3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9" name="Rounded Rectangle 7" descr=""/>
          <p:cNvPicPr/>
          <p:nvPr/>
        </p:nvPicPr>
        <p:blipFill>
          <a:blip r:embed="rId1"/>
          <a:stretch/>
        </p:blipFill>
        <p:spPr>
          <a:xfrm>
            <a:off x="-6480" y="3780000"/>
            <a:ext cx="34448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065-EC48-4E14-A2C7-95F9541FF29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571680" y="214308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w Cen MT"/>
                <a:ea typeface="SimSun"/>
              </a:rPr>
              <a:t>6 . Pregnancy test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The laboratory test for pregnancy are based on the identification of human chorionic gonadotrophin (</a:t>
            </a:r>
            <a:r>
              <a:rPr b="1" lang="en-US" sz="2800" spc="-1" strike="noStrike">
                <a:solidFill>
                  <a:srgbClr val="ff0066"/>
                </a:solidFill>
                <a:latin typeface="Tw Cen MT"/>
                <a:ea typeface="SimSun"/>
              </a:rPr>
              <a:t>hCG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), which can be detected as early as 7-9 days after fertilization by high sensitive technique. The samples may be blood or urine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7" name="AutoShape 2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</a:rPr>
              <a:t>Sign and symptoms of pregna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178F-940C-466B-B2C4-73F1B5DB0AA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 txBox="1"/>
          <p:nvPr/>
        </p:nvSpPr>
        <p:spPr>
          <a:xfrm>
            <a:off x="214200" y="2142720"/>
            <a:ext cx="76932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w Cen MT"/>
                <a:ea typeface="SimSun"/>
              </a:rPr>
              <a:t>7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Basal body temperature (BB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w Cen MT"/>
                <a:ea typeface="SimSun"/>
              </a:rPr>
              <a:t>A persistent elevation of BBT for longer than 18 days may be presumptive evidence of pregnancy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. Fetal move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. Braxton Hicks contra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. Ballotte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. Auscultation of fetal heart soun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1" name="AutoShape 2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</a:rPr>
              <a:t>Sign and symptoms of pregna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2" name="Picture 6" descr="007009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62720"/>
          </a:xfrm>
          <a:prstGeom prst="rect">
            <a:avLst/>
          </a:prstGeom>
          <a:ln w="0">
            <a:noFill/>
          </a:ln>
        </p:spPr>
      </p:pic>
      <p:sp>
        <p:nvSpPr>
          <p:cNvPr id="261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C5EA-E254-417C-918A-866641C192B5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8688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ooper BlkIt BT"/>
              </a:rPr>
              <a:t>Call the doctor if any of the following occur</a:t>
            </a:r>
            <a:r>
              <a:rPr b="1" lang="en-US" sz="2800" spc="-1" strike="noStrike">
                <a:solidFill>
                  <a:srgbClr val="f2f2f2"/>
                </a:solidFill>
                <a:latin typeface="Cooper BlkIt BT"/>
              </a:rPr>
              <a:t>: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ginal blee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arp abdominal pain or cramp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ss of fluid from the va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re or prolonged nausea or vomi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equent dizz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inful urin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fev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0440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ginal discharge that is irrit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6735-7555-4A21-A6B3-6917B523028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779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nges in Body Systems: Rep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rine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CF98-A6A5-42C6-98D9-4B58E2A0CC22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1" name="Picture 6" descr="007001"/>
          <p:cNvPicPr/>
          <p:nvPr/>
        </p:nvPicPr>
        <p:blipFill>
          <a:blip r:embed="rId1"/>
          <a:stretch/>
        </p:blipFill>
        <p:spPr>
          <a:xfrm>
            <a:off x="2397240" y="304920"/>
            <a:ext cx="4349520" cy="6095880"/>
          </a:xfrm>
          <a:prstGeom prst="rect">
            <a:avLst/>
          </a:prstGeom>
          <a:ln w="0">
            <a:noFill/>
          </a:ln>
        </p:spPr>
      </p:pic>
      <p:sp>
        <p:nvSpPr>
          <p:cNvPr id="2622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F7A3-4C19-4277-BAE0-A3DCFBE372B3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06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anges in Body Systems: Reproductiv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 txBox="1"/>
          <p:nvPr/>
        </p:nvSpPr>
        <p:spPr>
          <a:xfrm>
            <a:off x="0" y="7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adwick’s sig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is a bluish discoloration of the cervix, vagina, and labia resulting from increased blood flo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odell’s 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545454"/>
                </a:solidFill>
                <a:latin typeface="Arial"/>
              </a:rPr>
              <a:t>It is a significant softening of the vaginal portion of the cervix from increased vascu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cus pl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B1B9-F92D-42CF-AF68-6B4CEE9685C2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8" name="Picture 1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380052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9" name="Picture 6" descr="007002"/>
          <p:cNvPicPr/>
          <p:nvPr/>
        </p:nvPicPr>
        <p:blipFill>
          <a:blip r:embed="rId1"/>
          <a:stretch/>
        </p:blipFill>
        <p:spPr>
          <a:xfrm>
            <a:off x="755640" y="1403280"/>
            <a:ext cx="6769080" cy="4186440"/>
          </a:xfrm>
          <a:prstGeom prst="rect">
            <a:avLst/>
          </a:prstGeom>
          <a:ln w="0">
            <a:noFill/>
          </a:ln>
        </p:spPr>
      </p:pic>
      <p:sp>
        <p:nvSpPr>
          <p:cNvPr id="2630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1596-16A1-40D5-A5F9-D1D182A7F30D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680" y="0"/>
            <a:ext cx="8229600" cy="706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anges in Body Systems: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roductiv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agina and vu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ascula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ginal mucosa thic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ginal rugae become prom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roduction of lact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778-E5ED-4629-9771-CE995ECE7099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87440" y="260280"/>
            <a:ext cx="8229600" cy="8510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sterone must be present in adequate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us luteum of the ovaries secretes progeste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ulation ceases during pre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7CC5-673A-4484-AABF-58002CBBC449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7560" y="333000"/>
            <a:ext cx="7924680" cy="809640"/>
          </a:xfrm>
          <a:prstGeom prst="rect">
            <a:avLst/>
          </a:prstGeom>
          <a:solidFill>
            <a:srgbClr val="e6ded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w Cen MT"/>
              </a:rPr>
              <a:t>Reference book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“</a:t>
            </a:r>
            <a:r>
              <a:rPr b="0" lang="en-US" sz="2900" spc="-1" strike="noStrike">
                <a:solidFill>
                  <a:srgbClr val="0070c0"/>
                </a:solidFill>
                <a:latin typeface="Tw Cen MT"/>
              </a:rPr>
              <a:t>Foundations of Maternal-Newborn and Women's Health Nursing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by Sharon Murray, Emily McKinney, 6th Edition; Saunders . 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77C-0AC6-49FB-8489-69A0F56BEAC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-25560" y="11556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e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ogen stimulates the growth of mammary ductal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sterone promotes the growth of the lobes, lobules, and alve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strum is secr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E5F5-4F48-4E09-B1CF-5B259DF8DD7B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4" name="Picture 6" descr="007003"/>
          <p:cNvPicPr/>
          <p:nvPr/>
        </p:nvPicPr>
        <p:blipFill>
          <a:blip r:embed="rId1"/>
          <a:stretch/>
        </p:blipFill>
        <p:spPr>
          <a:xfrm>
            <a:off x="762120" y="771480"/>
            <a:ext cx="7619760" cy="5315040"/>
          </a:xfrm>
          <a:prstGeom prst="rect">
            <a:avLst/>
          </a:prstGeom>
          <a:ln w="0">
            <a:noFill/>
          </a:ln>
        </p:spPr>
      </p:pic>
      <p:sp>
        <p:nvSpPr>
          <p:cNvPr id="2645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4FA5-6B89-4F4B-8EB9-B17FD67FF073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93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Body System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iovas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cles of the heart (myocardium) enlarge 10% to 15% during the first tri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lood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begins by 6 weeks of ge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sma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from 6 to 8 weeks until 32 week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ge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 blood cel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increases by about 20% to 3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184E-52B5-46E4-B3B3-AADC0B6B11F2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-25560" y="3240"/>
            <a:ext cx="8229600" cy="922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Body System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iovascular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ic vascular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during pregn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of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ine 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D785-FE71-4B80-A491-89F2574812B0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5" name="Picture 6" descr="007004"/>
          <p:cNvPicPr/>
          <p:nvPr/>
        </p:nvPicPr>
        <p:blipFill>
          <a:blip r:embed="rId1"/>
          <a:srcRect l="52875" t="0" r="-2726" b="15082"/>
          <a:stretch/>
        </p:blipFill>
        <p:spPr>
          <a:xfrm>
            <a:off x="1187280" y="380880"/>
            <a:ext cx="7402680" cy="5079960"/>
          </a:xfrm>
          <a:prstGeom prst="rect">
            <a:avLst/>
          </a:prstGeom>
          <a:ln w="0">
            <a:noFill/>
          </a:ln>
        </p:spPr>
      </p:pic>
      <p:sp>
        <p:nvSpPr>
          <p:cNvPr id="2656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6786-AAAC-4417-A5A2-C662C711BDA0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Footer Placeholder 2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07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xygen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rmon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ysical effects of the enlarging 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ing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xation of the ligaments around the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B9F4-FCB0-49F3-ABD3-269209E6EF2C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06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s in Body Systems:  Gastrointe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nd small intes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 and gall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0B8A-2665-438C-83A8-EECD688647B9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77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u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pi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s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 nig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aneous vascula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nectiv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ae gravidar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91DD-ED7D-4AAA-8861-26F4F3DD25C2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0" name="Picture 7" descr="نتيجة بحث الصور عن ‪Melasma‬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5157720"/>
            <a:ext cx="5940360" cy="1692360"/>
          </a:xfrm>
          <a:prstGeom prst="rect">
            <a:avLst/>
          </a:prstGeom>
          <a:ln w="0">
            <a:noFill/>
          </a:ln>
        </p:spPr>
      </p:pic>
      <p:pic>
        <p:nvPicPr>
          <p:cNvPr id="2671" name="Picture 8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3516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0" y="2880"/>
            <a:ext cx="8229600" cy="849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tuit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act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yroid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in total thyroxine (T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A606-EBCD-41A0-803C-B9223A3AE5B4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36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Body System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athyroid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homeost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ctuations in insulin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in res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renal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doster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1987-BFC3-43C8-97F3-FA8CE23D6695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925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Whole Period of Pregnancy Can Be Divided Into Three Stages (Trimesters ):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2584" name=""/>
          <p:cNvGraphicFramePr/>
          <p:nvPr/>
        </p:nvGraphicFramePr>
        <p:xfrm>
          <a:off x="857160" y="2143080"/>
          <a:ext cx="7486920" cy="3678120"/>
        </p:xfrm>
        <a:graphic>
          <a:graphicData uri="http://schemas.openxmlformats.org/drawingml/2006/table">
            <a:tbl>
              <a:tblPr/>
              <a:tblGrid>
                <a:gridCol w="5688000"/>
                <a:gridCol w="1798920"/>
              </a:tblGrid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mes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trimester (early pregnanc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trimester (middle pregnanc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-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trimester (late pregnanc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-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5" name="Slide Number Placeholder 21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A506-8345-4DCC-8389-C72F14A474F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777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ications for Fetal Diagnostic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congenital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aluate the condition of the f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Ultra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Doppler Ultra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pha-Fetoprotein Scre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n stress Tes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dentify whether an increase in the FHR occurs w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tus mo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2915-EA20-4216-A2A7-469372D2070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Ultra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frequency sound waves are aimed at body t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irected through tissues of the abdomen or vagina to provide two-dimensional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F408-CC3F-4CB9-B63E-0E0A3671B37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 txBox="1"/>
          <p:nvPr/>
        </p:nvSpPr>
        <p:spPr>
          <a:xfrm>
            <a:off x="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dimensional ultrasound images have greater det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more accurate identification of the extent and size of abnorma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movement as it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observer to see fetal heart mo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C571-5AFC-4993-A9BE-28F1D024A91B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2" name="Picture 2" descr="نتيجة بحث الصور عن ‪Three-dimensional ultrasound images‬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292640"/>
            <a:ext cx="2678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Slide Number Placeholder 5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9130-DE1F-4BAF-8731-4CF73593DE2F}" type="slidenum">
              <a:rPr b="1" lang="en-US" sz="1400" spc="-1" strike="noStrike">
                <a:solidFill>
                  <a:srgbClr val="775f55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4" name="Picture 3" descr="huan5"/>
          <p:cNvPicPr/>
          <p:nvPr/>
        </p:nvPicPr>
        <p:blipFill>
          <a:blip r:embed="rId1"/>
          <a:stretch/>
        </p:blipFill>
        <p:spPr>
          <a:xfrm>
            <a:off x="250920" y="404640"/>
            <a:ext cx="8353440" cy="4608720"/>
          </a:xfrm>
          <a:prstGeom prst="rect">
            <a:avLst/>
          </a:prstGeom>
          <a:ln w="0">
            <a:noFill/>
          </a:ln>
        </p:spPr>
      </p:pic>
      <p:sp>
        <p:nvSpPr>
          <p:cNvPr id="2695" name="Text Box 4"/>
          <p:cNvSpPr/>
          <p:nvPr/>
        </p:nvSpPr>
        <p:spPr>
          <a:xfrm>
            <a:off x="2050920" y="5229360"/>
            <a:ext cx="556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SimSun"/>
              </a:rPr>
              <a:t>Picture of gestational s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Slide Number Placeholder 5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2387-7686-4D19-9984-B94547551EF2}" type="slidenum">
              <a:rPr b="1" lang="en-US" sz="1400" spc="-1" strike="noStrike">
                <a:solidFill>
                  <a:srgbClr val="775f55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Text Box 2"/>
          <p:cNvSpPr/>
          <p:nvPr/>
        </p:nvSpPr>
        <p:spPr>
          <a:xfrm>
            <a:off x="914400" y="4292640"/>
            <a:ext cx="714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icture of normal f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regnancy of 8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regnancy of 18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BL-blad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UT-uteru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S-gestational s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8" name="Picture 3" descr="huan1"/>
          <p:cNvPicPr/>
          <p:nvPr/>
        </p:nvPicPr>
        <p:blipFill>
          <a:blip r:embed="rId1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12240" y="-360"/>
            <a:ext cx="8580600" cy="633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trasound: Emotional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rents are exc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rents report anx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ples expect to know the gender of the fe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do not want to know the ge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7AE-14FF-49A5-B32E-311DFD6D73C0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8229600" cy="849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trasound: First Trim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rm pregn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fy the location of the pregnan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multifetal ges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gestational 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AB34-E8CE-4F5A-9524-AC085F205589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Doppler Ultra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which diagnoses the pregnancy by revealing the heart bea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F505-2ABD-4687-A580-063B352B3147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7920" y="15480"/>
            <a:ext cx="8229600" cy="7779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Alpha-Fetoprotein Scre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concentrations of AFP are associated with serious fetal anomal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w levels of MSAF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chromosomal abnormalities such as trisomy 2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v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SAFP levels are associated with body wall def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encepha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a bif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creening is offered at 16 and 18 weeks of ge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27BD-86EB-47AB-B9BF-306DB3C9332C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1 Month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844520" y="1499760"/>
            <a:ext cx="38862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irst Trimest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four week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1/4 inch in length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art, digestive system, backbone and spinal cord begin to form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acenta begins to develop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ingle fertilized egg is now 10,000 times larger than size at concep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18" name="Picture 5" descr="wc_fd_f-1"/>
          <p:cNvPicPr/>
          <p:nvPr/>
        </p:nvPicPr>
        <p:blipFill>
          <a:blip r:embed="rId1"/>
          <a:stretch/>
        </p:blipFill>
        <p:spPr>
          <a:xfrm>
            <a:off x="0" y="1600200"/>
            <a:ext cx="4381560" cy="4495680"/>
          </a:xfrm>
          <a:prstGeom prst="rect">
            <a:avLst/>
          </a:prstGeom>
          <a:ln w="0">
            <a:noFill/>
          </a:ln>
        </p:spPr>
      </p:pic>
      <p:sp>
        <p:nvSpPr>
          <p:cNvPr id="271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577-88C0-4003-8C25-F1A6BA1C5DF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7148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w Cen MT"/>
              </a:rPr>
              <a:t>GESTATIONAL AGE</a:t>
            </a:r>
            <a:endParaRPr b="0" lang="en-US" sz="49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357120" y="1600200"/>
            <a:ext cx="8408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90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w Cen MT"/>
              </a:rPr>
              <a:t>Nagele’s R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dd 7 days to the first day of the last normal menstrual period, subtract 3 months and add 1 year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ay of LNMP= October, 16 2017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dd 7 days =Oct. 23 2017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btract 3 months = July, 23 2017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dd 1 year =Sept 23 2018, estimated due date (ED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w Cen MT"/>
              </a:rPr>
              <a:t>Johnson’s Rule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:  estimates the weight of the fetus in gra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D0C9-0E4A-475E-92B8-2896DC687010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2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irst Trimest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8 week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1-1/8 inches lo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art is functioni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yes, nose, lips, tongue, ears and teeth are formi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nis begins to appear in boy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moving, although the mother can not yet feel mov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23" name="Picture 5" descr="wc_fd_f-2"/>
          <p:cNvPicPr/>
          <p:nvPr/>
        </p:nvPicPr>
        <p:blipFill>
          <a:blip r:embed="rId1"/>
          <a:stretch/>
        </p:blipFill>
        <p:spPr>
          <a:xfrm>
            <a:off x="0" y="14479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7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DDA8-7EDB-40EC-A059-507351C444B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3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609480" y="1589040"/>
            <a:ext cx="3533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143240" y="1589040"/>
            <a:ext cx="458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First Trimester</a:t>
            </a:r>
            <a:br>
              <a:rPr sz="16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12 week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2 1/2 to 3 inches lo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ight is about 1/2 to 1 ounc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ails start to develop and earlobes are forme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rms, hands, fingers, legs, feet and toes are fully forme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yes are almost fully develope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has developed most of his/her organs and tissue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's heart rate can be heard at 10 weeks with a special instrument called a Dopp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28" name="Picture 5" descr="wc_fd_f-3"/>
          <p:cNvPicPr/>
          <p:nvPr/>
        </p:nvPicPr>
        <p:blipFill>
          <a:blip r:embed="rId1"/>
          <a:stretch/>
        </p:blipFill>
        <p:spPr>
          <a:xfrm>
            <a:off x="0" y="1523880"/>
            <a:ext cx="3714840" cy="4572000"/>
          </a:xfrm>
          <a:prstGeom prst="rect">
            <a:avLst/>
          </a:prstGeom>
          <a:ln w="0">
            <a:noFill/>
          </a:ln>
        </p:spPr>
      </p:pic>
      <p:sp>
        <p:nvSpPr>
          <p:cNvPr id="272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72BE-8466-49E3-BBC7-47F2DF9C741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4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4214880" y="158904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Second Trimester</a:t>
            </a:r>
            <a:br>
              <a:rPr sz="1600"/>
            </a:b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At the end of 4 month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aby is 6 1/2 to 7 inches lo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eight is about 6 to 7 ounce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aby is developing reflexes, such as sucking and swallowing and may begin sucking his/her thumb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ooth buds are develop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weat glands are forming on palms and sole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ingers and toes are well define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ex is identifiabl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kin is bright pink, transparent and covered with soft, downy hair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lthough recognizably human in appearance, the baby would not be able to survive outside the mother's bod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33" name="Picture 5" descr="wc_fd_f-4"/>
          <p:cNvPicPr/>
          <p:nvPr/>
        </p:nvPicPr>
        <p:blipFill>
          <a:blip r:embed="rId1"/>
          <a:stretch/>
        </p:blipFill>
        <p:spPr>
          <a:xfrm>
            <a:off x="0" y="1447920"/>
            <a:ext cx="3643200" cy="4647960"/>
          </a:xfrm>
          <a:prstGeom prst="rect">
            <a:avLst/>
          </a:prstGeom>
          <a:ln w="0">
            <a:noFill/>
          </a:ln>
        </p:spPr>
      </p:pic>
      <p:sp>
        <p:nvSpPr>
          <p:cNvPr id="273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04E4-7DBD-43DE-9CF9-770009D03C7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5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Second Trimest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At the end of 5 month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aby is 8 to 10 inches lo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eight is about 1 pou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air begins to grow on baby's hea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oft woolly hair called lanugo will cover its body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ther begins to feel fetal movement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ternal organs are matur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yebrows, eyelids and eyelashes appe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38" name="Picture 5" descr="wc_fd_f-5"/>
          <p:cNvPicPr/>
          <p:nvPr/>
        </p:nvPicPr>
        <p:blipFill>
          <a:blip r:embed="rId1"/>
          <a:stretch/>
        </p:blipFill>
        <p:spPr>
          <a:xfrm>
            <a:off x="0" y="152388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73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EC3-EF5C-49D4-A437-EAE4BFACE014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th 6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Second Trimest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6 month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11 to 14 inches lo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ight is about 1 3/4 to 2 pound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yelids begin to part and eyes open sometimes for short periods of tim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kin is covered with protective coating called vernix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43" name="Picture 5" descr="wc_fd_f-6"/>
          <p:cNvPicPr/>
          <p:nvPr/>
        </p:nvPicPr>
        <p:blipFill>
          <a:blip r:embed="rId1"/>
          <a:stretch/>
        </p:blipFill>
        <p:spPr>
          <a:xfrm>
            <a:off x="0" y="152388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74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95F-10B0-43AC-A83E-BA697CB448FA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nth 7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Third Trimester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At the end of 7 month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aby is 14 to 16 inches lo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eight is about 2 1/2 to 3 1/2 pound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at layers are form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rgans are matur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kin is still wrinkled and re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f born at this time, baby will be considered a premature baby and require special car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48" name="Picture 5" descr="wc_fd_f-7"/>
          <p:cNvPicPr/>
          <p:nvPr/>
        </p:nvPicPr>
        <p:blipFill>
          <a:blip r:embed="rId1"/>
          <a:stretch/>
        </p:blipFill>
        <p:spPr>
          <a:xfrm>
            <a:off x="0" y="152388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274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3D5E-CCB7-4CE2-99CB-525BE80180B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h 8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Third Trimester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w Cen MT"/>
              </a:rPr>
              <a:t>At the end of 8 months: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Baby is 16 1/2 to 18 inches long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Weight is about 4 to 6 pounds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Overall growth is rapid this month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Tremendous brain growth occurs at this time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ost body organs are now developed with the exception of the lungs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ovements or "kicks" are strong enough to be visible from the outside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Kidneys are mature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kin is less wrinkled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Fingernails now extend beyond fingertip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53" name="Picture 5" descr="wc_fd_f-8"/>
          <p:cNvPicPr/>
          <p:nvPr/>
        </p:nvPicPr>
        <p:blipFill>
          <a:blip r:embed="rId1"/>
          <a:stretch/>
        </p:blipFill>
        <p:spPr>
          <a:xfrm>
            <a:off x="0" y="152388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7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CD21-6CE0-4ABA-A1AC-5FD63F97355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th 9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hird Trimest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At the end of 9 months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19 to 20 inches lo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ight is about 7 to 7 1/2 pound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lungs are matur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is now fully developed and can survive outside the mother's body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kin is pink and smooth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by settles down lower in the abdomen in preparation for birth and may seem less acti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58" name="Picture 5" descr="wc_fd_f-9"/>
          <p:cNvPicPr/>
          <p:nvPr/>
        </p:nvPicPr>
        <p:blipFill>
          <a:blip r:embed="rId1"/>
          <a:stretch/>
        </p:blipFill>
        <p:spPr>
          <a:xfrm>
            <a:off x="0" y="1523880"/>
            <a:ext cx="3733920" cy="4648320"/>
          </a:xfrm>
          <a:prstGeom prst="rect">
            <a:avLst/>
          </a:prstGeom>
          <a:ln w="0">
            <a:noFill/>
          </a:ln>
        </p:spPr>
      </p:pic>
      <p:sp>
        <p:nvSpPr>
          <p:cNvPr id="275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107D-8349-41A8-A247-2C27680B50F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gular visits during pregnanc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6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03C-4587-48F1-85EF-87CC1F47543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54"/>
          <p:cNvSpPr/>
          <p:nvPr/>
        </p:nvSpPr>
        <p:spPr>
          <a:xfrm>
            <a:off x="1000080" y="17859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仿宋"/>
              </a:rPr>
              <a:t>Prenatal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Q 4 weeks for 1st 28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Q 2 weeks until 36 weeks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Q 1 week until 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Gain During Preg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weight gai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.5 to 16 k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5 to 35 lb) for women who begin pregnancy at normal B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4238-3523-473F-96B4-334E87FA719F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  <a:ea typeface="SimSun"/>
              </a:rPr>
              <a:t>Sign and symptoms of pregnanc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1741-FE5C-4302-A03F-0868FF82B03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28584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w Cen MT"/>
                <a:ea typeface="SimSun"/>
              </a:rPr>
              <a:t>1. Cessation of menstru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This is the first frequent symptom of pregnancy, although a few women may have slight bleeding after conception. But amenorrhea is not only due to pregnancy but also other reas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0" y="15480"/>
            <a:ext cx="8610480" cy="679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Gain During Preg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of weight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recommendation is an increment of about 0.5 to 2 kg (1.1 to 4.4 lb) during the first tri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9354-5360-4BDE-B5DD-6953D16731D7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1" name="Picture 6" descr="009001"/>
          <p:cNvPicPr/>
          <p:nvPr/>
        </p:nvPicPr>
        <p:blipFill>
          <a:blip r:embed="rId1"/>
          <a:srcRect l="0" t="20048" r="0" b="0"/>
          <a:stretch/>
        </p:blipFill>
        <p:spPr>
          <a:xfrm>
            <a:off x="2195640" y="907920"/>
            <a:ext cx="4221000" cy="5569200"/>
          </a:xfrm>
          <a:prstGeom prst="rect">
            <a:avLst/>
          </a:prstGeom>
          <a:ln w="0">
            <a:noFill/>
          </a:ln>
        </p:spPr>
      </p:pic>
      <p:sp>
        <p:nvSpPr>
          <p:cNvPr id="2772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769B-24B5-492E-A176-F8BC7CEF275B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SimSun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isks of Low Weight Gai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567B-EF74-43BB-881D-B784A1BA310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w weight gain in second or third trimester increases risk of intrauterine growth retard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w weight gain in third trimester increases risk of preterm delive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633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asured in kilocalories (calori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energy and fat-soluble vitami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l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pregnant women need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200 to 2900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alories dai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237D-B393-4C28-BC3A-2A4346B252AC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for metabolism, tissue synthesis, and tissue re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otein RDA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6 g for nonpregn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recommended protein intake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1 g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61B-03B0-4E4D-8BF7-13FA2E09B9D3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Vitam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-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D, E, and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in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intake of these vitamins can be tox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-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6, B12, and C; folic acid; thiamin; riboflavin; and niac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included in the daily di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c acid (also called fol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ecrease the occurrence of neural tube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0C1A-6922-47F3-9C90-23ABE2E2124C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79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Min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in the formation of hemoglob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regnancy approximately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000 m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bsorbed iron above maternal iron stores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for mineralization of fetal bones and tee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ium absorption and retention increase during pregnanc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dium needs are increased during pregnancy to provide for an expanded blood volume and the needs of the fe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1284-3F39-4121-9AD8-5498360B2182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8229600" cy="704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 Requirement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al Sup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the best source of nutr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are providers usually prescribe prenatal vitamin-mineral supp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ith adequate diets may not need supplements except for iron and fol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each woman’s individualized needs determines whether supplementation is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BB11-E96F-4515-A3F0-AD23BDA08BFE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al Requirements: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important during pregnanc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expanded blood vol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the increased maternal and fetal t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should drink approximatel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 to 10 cup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fluids that are mostly water each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ABBE-98D1-4EB1-A07C-067870DC6D63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 After B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ating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6 months of lactation, the estimated energy requirement (EER) is 330 additional cal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6 months require 400 additional cal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mins and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2A1D-8550-43F7-9F8D-287E89C7FFC9}" type="slidenum"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Footer Placeholder 1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F72-2BB7-4E36-A60B-CD97759389F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30492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w Cen MT"/>
                <a:ea typeface="SimSun"/>
              </a:rPr>
              <a:t>2. Nausea and vomi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w Cen MT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w Cen MT"/>
                <a:ea typeface="SimSun"/>
              </a:rPr>
              <a:t>Also called morning sickness because they occur upon arising. These symptoms appear one or two weeks after the period is missed and last until 10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w Cen MT"/>
                <a:ea typeface="SimSun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Tw Cen MT"/>
                <a:ea typeface="SimSun"/>
              </a:rPr>
              <a:t> to 12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w Cen MT"/>
                <a:ea typeface="SimSun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Tw Cen MT"/>
                <a:ea typeface="SimSun"/>
              </a:rPr>
              <a:t> week, its severity varies from mild nausea to persistent vomiting (e.g. Hyperemesis gravidarum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  <a:ea typeface="SimSun"/>
              </a:rPr>
              <a:t>Sign and symptoms of pregnanc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5f55"/>
                </a:solidFill>
                <a:latin typeface="Tw Cen MT"/>
              </a:rPr>
              <a:t>Health Promotion During Pregnancy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First-Trimester Discomfort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6" name=""/>
          <p:cNvSpPr txBox="1"/>
          <p:nvPr/>
        </p:nvSpPr>
        <p:spPr>
          <a:xfrm>
            <a:off x="837720" y="2361960"/>
            <a:ext cx="376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reast tendern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nstip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ausea, vomi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uscle cramp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4762080" y="2361960"/>
            <a:ext cx="4095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aricosit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emorrhoid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eart palpita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requent urin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bdominal discomfor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8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29EC-23E9-41B6-BF6A-2D51641536F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9" name="Picture 5" descr="CVIS2212"/>
          <p:cNvPicPr/>
          <p:nvPr/>
        </p:nvPicPr>
        <p:blipFill>
          <a:blip r:embed="rId1"/>
          <a:stretch/>
        </p:blipFill>
        <p:spPr>
          <a:xfrm>
            <a:off x="7572240" y="164304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18840" y="214200"/>
            <a:ext cx="79534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Health Promotion During Pregnanc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92EE-4E25-4288-9A9D-E1CEA5D61295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ddle to Late Pregnancy Discomfor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ckach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eadach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yspn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nkle edem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13" name="Picture 4" descr="CVIS2212"/>
          <p:cNvPicPr/>
          <p:nvPr/>
        </p:nvPicPr>
        <p:blipFill>
          <a:blip r:embed="rId1"/>
          <a:stretch/>
        </p:blipFill>
        <p:spPr>
          <a:xfrm>
            <a:off x="5724360" y="335772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539280" y="3141360"/>
            <a:ext cx="8153640" cy="963720"/>
          </a:xfrm>
          <a:prstGeom prst="rect">
            <a:avLst/>
          </a:prstGeom>
          <a:solidFill>
            <a:srgbClr val="e6dedb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Application of the Nurs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ADCD-DBEB-4209-ABF1-310DB512E62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5490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Nursing Proces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4F38-644D-4109-A64D-ED3A6E1850AB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 txBox="1"/>
          <p:nvPr/>
        </p:nvSpPr>
        <p:spPr>
          <a:xfrm>
            <a:off x="837720" y="1904760"/>
            <a:ext cx="8055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Nursing Diagno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ealth-seeking behavio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nxie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isk for deficit flui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nstip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isturbed body im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isk for altered sexuality patter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isturbed sleep patter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atigu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isk for fetal inju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20" name="Picture 4" descr="CVIS2212"/>
          <p:cNvPicPr/>
          <p:nvPr/>
        </p:nvPicPr>
        <p:blipFill>
          <a:blip r:embed="rId1"/>
          <a:stretch/>
        </p:blipFill>
        <p:spPr>
          <a:xfrm>
            <a:off x="6588000" y="2997360"/>
            <a:ext cx="1008360" cy="12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5f55"/>
                </a:solidFill>
                <a:latin typeface="Tw Cen MT"/>
              </a:rPr>
              <a:t>Discomforts associated with pregnancy </a:t>
            </a:r>
            <a:br>
              <a:rPr sz="2000"/>
            </a:br>
            <a:r>
              <a:rPr b="0" i="1" lang="en-US" sz="2000" spc="-1" strike="noStrike">
                <a:solidFill>
                  <a:srgbClr val="775f55"/>
                </a:solidFill>
                <a:latin typeface="Tw Cen MT"/>
              </a:rPr>
              <a:t>1. First trimester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BE46-F2A2-4CBE-B955-1661B51B8AB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ausea and vomiting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“morning sickness”)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related to altered hormone levels and metabolic chang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advise small snacks of dry crackers before arising, small feedings of bland food, mil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Urinary frequency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urgency without dysuria; fluid intake should not be restric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creased vaginal discharg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manage with good hygiene  and loose-fitting cotton underwear; report signs or symptoms of vaginit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24" name="Picture 4" descr="CVIS2212"/>
          <p:cNvPicPr/>
          <p:nvPr/>
        </p:nvPicPr>
        <p:blipFill>
          <a:blip r:embed="rId1"/>
          <a:stretch/>
        </p:blipFill>
        <p:spPr>
          <a:xfrm>
            <a:off x="1476360" y="544500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65B8-198E-4A6D-92FD-F9ADAB102200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Breast sorenes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ue to hormonal changes; suggest wearing a well-fitting, supportive brassie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Headach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ue to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tension from emotional and physical stresses at any time during pregnancy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provide reassurance, suggest relaxation techniques; inform patient to report persistent and/or severe episod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27" name="Picture 4" descr="CVIS2212"/>
          <p:cNvPicPr/>
          <p:nvPr/>
        </p:nvPicPr>
        <p:blipFill>
          <a:blip r:embed="rId1"/>
          <a:stretch/>
        </p:blipFill>
        <p:spPr>
          <a:xfrm>
            <a:off x="1908000" y="522936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Second and third trimest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1403-7242-434B-BA71-145CB7E7384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 txBox="1"/>
          <p:nvPr/>
        </p:nvSpPr>
        <p:spPr>
          <a:xfrm>
            <a:off x="713880" y="1785600"/>
            <a:ext cx="75438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Heartburn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y be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related to tension and vomiting in early pregnancy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w Cen MT"/>
              </a:rPr>
              <a:t>progesterone-induced decreased motility and relaxation of the cardiac sphincter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</a:t>
            </a:r>
            <a:r>
              <a:rPr b="0" lang="en-US" sz="2400" spc="-1" strike="noStrike">
                <a:solidFill>
                  <a:srgbClr val="ff6600"/>
                </a:solidFill>
                <a:latin typeface="Tw Cen MT"/>
              </a:rPr>
              <a:t>displacement of the stomach by the growing uteru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encourage small, frequent meals and discourage overeating, ingesting fried/fatty foods, lying down soon after eating, use of sodium bicarbonate (would interfere with sodium balan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1" name="Picture 4" descr="CVIS2212"/>
          <p:cNvPicPr/>
          <p:nvPr/>
        </p:nvPicPr>
        <p:blipFill>
          <a:blip r:embed="rId1"/>
          <a:stretch/>
        </p:blipFill>
        <p:spPr>
          <a:xfrm>
            <a:off x="1619280" y="5500800"/>
            <a:ext cx="130968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8E3-9DCD-4C91-9879-C22A88C25E7B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642600" y="1714320"/>
            <a:ext cx="7929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nstipation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related </a:t>
            </a:r>
            <a:r>
              <a:rPr b="0" lang="en-US" sz="2000" spc="-1" strike="noStrike">
                <a:solidFill>
                  <a:srgbClr val="ff0066"/>
                </a:solidFill>
                <a:latin typeface="Tw Cen MT"/>
              </a:rPr>
              <a:t>to progesterone-induced hypoperistalsis, </a:t>
            </a:r>
            <a:r>
              <a:rPr b="0" lang="en-US" sz="2000" spc="-1" strike="noStrike">
                <a:solidFill>
                  <a:srgbClr val="000099"/>
                </a:solidFill>
                <a:latin typeface="Tw Cen MT"/>
              </a:rPr>
              <a:t>compression/displacement of the bowel by the enlarging uteru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oor food choices, lack of fluids, and/or iron supplementation;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vise bulk foods, fruits and vegetables, exercise, and generous fluid intake; avoid laxativ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Hemorrhoid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due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elvic congestion related to pressure from enlarged uteru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; suggest regulation of bowel habits, gentle reinsertion into rectum with use of lubricant, relief measures, e.g., ice packs, topical ointments, sitz baths, lying down with legs eleva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4" name="Picture 4" descr="CVIS2212"/>
          <p:cNvPicPr/>
          <p:nvPr/>
        </p:nvPicPr>
        <p:blipFill>
          <a:blip r:embed="rId1"/>
          <a:stretch/>
        </p:blipFill>
        <p:spPr>
          <a:xfrm>
            <a:off x="1835280" y="5732640"/>
            <a:ext cx="7617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8827-80C2-4428-8363-E3995A55EF5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 txBox="1"/>
          <p:nvPr/>
        </p:nvSpPr>
        <p:spPr>
          <a:xfrm>
            <a:off x="1042560" y="2421000"/>
            <a:ext cx="7543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Uterine contraction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raxton-Hicks) due to tension on the round ligaments as a result of displacement of the uterus; instruct patient to rest, change position or activi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Backache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due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increased spinal curvature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; educate the patient on the importance good postu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aintnes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related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vasomotor lability or postural hypotension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; instruct the patient to use slow, deliberate movements when rising, avoid prolonged standing and warm, stuffy environments; elastic hose may be need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7" name="Picture 4" descr="CVIS2212"/>
          <p:cNvPicPr/>
          <p:nvPr/>
        </p:nvPicPr>
        <p:blipFill>
          <a:blip r:embed="rId1"/>
          <a:stretch/>
        </p:blipFill>
        <p:spPr>
          <a:xfrm>
            <a:off x="1692360" y="5589720"/>
            <a:ext cx="76176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B288-6825-4820-989A-B6D0B3C309F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 txBox="1"/>
          <p:nvPr/>
        </p:nvSpPr>
        <p:spPr>
          <a:xfrm>
            <a:off x="899640" y="2349000"/>
            <a:ext cx="76201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Leg cramp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lated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ressure on the nerves supplying the lower extremities aggravated by poor peripheral circulation or fatigue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; instruct the patient to increase calcium and decrease phosphorus intake; encourage dorsiflexion of fee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nkle edema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lated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decreased venous return from lower extremitie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, instruct the patient to avoid wearing anything that constricts blood flow, elevate legs when sitting or resting, and dorsiflex feet when sitting or standing for any length of time; medical management if edema persists in AM, is pitting, involves the face, or associated with elevated BP, proteinuria, persistent heada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40" name="Picture 4" descr="CVIS2212"/>
          <p:cNvPicPr/>
          <p:nvPr/>
        </p:nvPicPr>
        <p:blipFill>
          <a:blip r:embed="rId1"/>
          <a:stretch/>
        </p:blipFill>
        <p:spPr>
          <a:xfrm>
            <a:off x="1619280" y="580536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B8CB-52C0-4A2B-9FF4-4516716EF38A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66"/>
                </a:solidFill>
                <a:latin typeface="Tw Cen MT"/>
                <a:ea typeface="SimSun"/>
              </a:rPr>
              <a:t>3. Urinary sympto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SimSun"/>
              </a:rPr>
              <a:t>   </a:t>
            </a:r>
            <a:r>
              <a:rPr b="1" lang="en-US" sz="2900" spc="-1" strike="noStrike">
                <a:solidFill>
                  <a:srgbClr val="000099"/>
                </a:solidFill>
                <a:latin typeface="Tw Cen MT"/>
                <a:ea typeface="SimSun"/>
              </a:rPr>
              <a:t>Increased frequency of urination is due to increased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SimSun"/>
              </a:rPr>
              <a:t>circulation associated </a:t>
            </a:r>
            <a:r>
              <a:rPr b="1" lang="en-US" sz="2900" spc="-1" strike="noStrike">
                <a:solidFill>
                  <a:srgbClr val="000099"/>
                </a:solidFill>
                <a:latin typeface="Tw Cen MT"/>
                <a:ea typeface="SimSun"/>
              </a:rPr>
              <a:t>with the effect of estrogen and progesterone on the bladd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8" name="AutoShape 2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</a:rPr>
              <a:t>Sign and symptoms of pregna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85B-4AA4-4992-BB6B-0AD0869E581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ricosities of extremities or vulva related to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uterine compression of venous return, increased vein wall distensibility from progesterone-initiated relaxation, or inherited tendency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 suggest elevating legs frequently, avoid sitting with legs crossed, standing/sitting for long periods of time, or wearing constrictive clothing; support/elastic stockings may be helpfu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43" name="Picture 4" descr="CVIS2212"/>
          <p:cNvPicPr/>
          <p:nvPr/>
        </p:nvPicPr>
        <p:blipFill>
          <a:blip r:embed="rId1"/>
          <a:stretch/>
        </p:blipFill>
        <p:spPr>
          <a:xfrm>
            <a:off x="1763640" y="5516640"/>
            <a:ext cx="76212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8655120" cy="752400"/>
          </a:xfrm>
          <a:prstGeom prst="rect">
            <a:avLst/>
          </a:prstGeom>
          <a:solidFill>
            <a:srgbClr val="e6ded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Danger Signs of Pregnanc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5" name=""/>
          <p:cNvSpPr txBox="1"/>
          <p:nvPr/>
        </p:nvSpPr>
        <p:spPr>
          <a:xfrm>
            <a:off x="837720" y="2071800"/>
            <a:ext cx="376884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bdominal or chest pa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gnancy-induced hypertens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crease or decrease in fetal move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6" name=""/>
          <p:cNvSpPr txBox="1"/>
          <p:nvPr/>
        </p:nvSpPr>
        <p:spPr>
          <a:xfrm>
            <a:off x="4762080" y="2143080"/>
            <a:ext cx="376884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ginal bleed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sistent vomi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ills and fev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uptured membra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7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63D6-C1A7-452A-A281-8CFA0812EE5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246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w Cen MT"/>
              </a:rPr>
              <a:t>Teratogens</a:t>
            </a:r>
            <a:endParaRPr b="0" lang="en-US" sz="43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BF63-C3F0-466A-A9EC-297A1747557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y factor that adversely affects fertilized ovum, embryo or fetu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246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5f55"/>
                </a:solidFill>
                <a:latin typeface="Tw Cen MT"/>
              </a:rPr>
              <a:t>Teratogenic Fetal Exposur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C6AA-8E26-45CC-B74F-68F1BB17A60A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ternal infections: Toxoplasmosis, Rubella, Cytomegalovir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rpes simplex virus, Syphil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cci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ru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garet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246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Teratogenic Fetal Exposu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8B6A-F47C-4B5D-B8E3-299C209B178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yperthermia and hypotherm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ternal str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Perspectives in preg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Footer Placeholder 5"/>
          <p:cNvSpPr/>
          <p:nvPr/>
        </p:nvSpPr>
        <p:spPr>
          <a:xfrm>
            <a:off x="1143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4, 2010, 2006, 2002, 1998, 1994, by Saunders, an imprint of Elsevier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Slide Number Placeholder 3"/>
          <p:cNvSpPr/>
          <p:nvPr/>
        </p:nvSpPr>
        <p:spPr>
          <a:xfrm>
            <a:off x="8305920" y="649296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B02A-B3A3-44DF-A75B-1F4D5CC5F74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0" name="Picture 2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F73-1659-4DF3-9667-A4E3DDDB39AD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WordArt 3"/>
          <p:cNvSpPr txBox="1"/>
          <p:nvPr/>
        </p:nvSpPr>
        <p:spPr>
          <a:xfrm>
            <a:off x="1071720" y="2428920"/>
            <a:ext cx="7010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Slide Number Placeholder 4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803-7FBD-4D61-B27A-50998DF93019}" type="slidenum">
              <a:rPr b="1" lang="en-US" sz="1400" spc="-1" strike="noStrike">
                <a:solidFill>
                  <a:srgbClr val="775f55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0" name="Picture 2" descr="female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605B-D2F0-476B-B083-CB85693618B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 txBox="1"/>
          <p:nvPr/>
        </p:nvSpPr>
        <p:spPr>
          <a:xfrm>
            <a:off x="0" y="1928520"/>
            <a:ext cx="8610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w Cen MT"/>
                <a:ea typeface="SimSun"/>
              </a:rPr>
              <a:t>4. Breast chang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Breast enlargement and vascular engorgement. Nipple and areola become blacker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5. Fatigue and dizzin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59474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w Cen MT"/>
                <a:ea typeface="SimSun"/>
              </a:rPr>
              <a:t>Sign and symptoms of pregnanc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7T14:22:06Z</dcterms:created>
  <dc:creator>lf</dc:creator>
  <dc:description/>
  <dc:language>en-US</dc:language>
  <cp:lastModifiedBy>Ahmad Rawhi</cp:lastModifiedBy>
  <dcterms:modified xsi:type="dcterms:W3CDTF">2017-10-15T18:14:44Z</dcterms:modified>
  <cp:revision>84</cp:revision>
  <dc:subject/>
  <dc:title>The Diagnosis of Pregnancy</dc:title>
</cp:coreProperties>
</file>