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  <p:sldId id="269" r:id="rId78"/>
    <p:sldId id="270" r:id="rId79"/>
    <p:sldId id="271" r:id="rId80"/>
    <p:sldId id="272" r:id="rId81"/>
    <p:sldId id="273" r:id="rId82"/>
    <p:sldId id="274" r:id="rId83"/>
    <p:sldId id="275" r:id="rId84"/>
    <p:sldId id="276" r:id="rId85"/>
    <p:sldId id="277" r:id="rId86"/>
    <p:sldId id="278" r:id="rId87"/>
    <p:sldId id="279" r:id="rId88"/>
    <p:sldId id="280" r:id="rId89"/>
    <p:sldId id="281" r:id="rId90"/>
    <p:sldId id="282" r:id="rId91"/>
    <p:sldId id="283" r:id="rId92"/>
    <p:sldId id="284" r:id="rId93"/>
    <p:sldId id="285" r:id="rId94"/>
    <p:sldId id="286" r:id="rId95"/>
    <p:sldId id="287" r:id="rId96"/>
    <p:sldId id="288" r:id="rId97"/>
    <p:sldId id="289" r:id="rId98"/>
    <p:sldId id="290" r:id="rId99"/>
    <p:sldId id="291" r:id="rId100"/>
    <p:sldId id="292" r:id="rId101"/>
    <p:sldId id="293" r:id="rId102"/>
    <p:sldId id="294" r:id="rId103"/>
    <p:sldId id="295" r:id="rId104"/>
    <p:sldId id="296" r:id="rId105"/>
    <p:sldId id="297" r:id="rId106"/>
    <p:sldId id="298" r:id="rId107"/>
    <p:sldId id="299" r:id="rId108"/>
    <p:sldId id="300" r:id="rId109"/>
    <p:sldId id="301" r:id="rId110"/>
    <p:sldId id="302" r:id="rId111"/>
    <p:sldId id="303" r:id="rId112"/>
    <p:sldId id="304" r:id="rId113"/>
    <p:sldId id="305" r:id="rId114"/>
    <p:sldId id="306" r:id="rId115"/>
    <p:sldId id="307" r:id="rId116"/>
    <p:sldId id="308" r:id="rId117"/>
    <p:sldId id="309" r:id="rId118"/>
    <p:sldId id="310" r:id="rId119"/>
    <p:sldId id="311" r:id="rId120"/>
    <p:sldId id="312" r:id="rId121"/>
    <p:sldId id="313" r:id="rId122"/>
    <p:sldId id="314" r:id="rId123"/>
    <p:sldId id="315" r:id="rId124"/>
    <p:sldId id="316" r:id="rId125"/>
    <p:sldId id="317" r:id="rId126"/>
    <p:sldId id="318" r:id="rId127"/>
    <p:sldId id="319" r:id="rId128"/>
    <p:sldId id="320" r:id="rId129"/>
    <p:sldId id="321" r:id="rId130"/>
    <p:sldId id="322" r:id="rId131"/>
    <p:sldId id="323" r:id="rId132"/>
    <p:sldId id="324" r:id="rId133"/>
    <p:sldId id="325" r:id="rId134"/>
    <p:sldId id="326" r:id="rId135"/>
    <p:sldId id="327" r:id="rId136"/>
    <p:sldId id="328" r:id="rId137"/>
    <p:sldId id="329" r:id="rId138"/>
    <p:sldId id="330" r:id="rId139"/>
    <p:sldId id="331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slide" Target="slides/slide14.xml"/><Relationship Id="rId79" Type="http://schemas.openxmlformats.org/officeDocument/2006/relationships/slide" Target="slides/slide15.xml"/><Relationship Id="rId80" Type="http://schemas.openxmlformats.org/officeDocument/2006/relationships/slide" Target="slides/slide16.xml"/><Relationship Id="rId81" Type="http://schemas.openxmlformats.org/officeDocument/2006/relationships/slide" Target="slides/slide17.xml"/><Relationship Id="rId82" Type="http://schemas.openxmlformats.org/officeDocument/2006/relationships/slide" Target="slides/slide18.xml"/><Relationship Id="rId83" Type="http://schemas.openxmlformats.org/officeDocument/2006/relationships/slide" Target="slides/slide19.xml"/><Relationship Id="rId84" Type="http://schemas.openxmlformats.org/officeDocument/2006/relationships/slide" Target="slides/slide20.xml"/><Relationship Id="rId85" Type="http://schemas.openxmlformats.org/officeDocument/2006/relationships/slide" Target="slides/slide21.xml"/><Relationship Id="rId86" Type="http://schemas.openxmlformats.org/officeDocument/2006/relationships/slide" Target="slides/slide22.xml"/><Relationship Id="rId87" Type="http://schemas.openxmlformats.org/officeDocument/2006/relationships/slide" Target="slides/slide23.xml"/><Relationship Id="rId88" Type="http://schemas.openxmlformats.org/officeDocument/2006/relationships/slide" Target="slides/slide24.xml"/><Relationship Id="rId89" Type="http://schemas.openxmlformats.org/officeDocument/2006/relationships/slide" Target="slides/slide25.xml"/><Relationship Id="rId90" Type="http://schemas.openxmlformats.org/officeDocument/2006/relationships/slide" Target="slides/slide26.xml"/><Relationship Id="rId91" Type="http://schemas.openxmlformats.org/officeDocument/2006/relationships/slide" Target="slides/slide27.xml"/><Relationship Id="rId92" Type="http://schemas.openxmlformats.org/officeDocument/2006/relationships/slide" Target="slides/slide28.xml"/><Relationship Id="rId93" Type="http://schemas.openxmlformats.org/officeDocument/2006/relationships/slide" Target="slides/slide29.xml"/><Relationship Id="rId94" Type="http://schemas.openxmlformats.org/officeDocument/2006/relationships/slide" Target="slides/slide30.xml"/><Relationship Id="rId95" Type="http://schemas.openxmlformats.org/officeDocument/2006/relationships/slide" Target="slides/slide31.xml"/><Relationship Id="rId96" Type="http://schemas.openxmlformats.org/officeDocument/2006/relationships/slide" Target="slides/slide32.xml"/><Relationship Id="rId97" Type="http://schemas.openxmlformats.org/officeDocument/2006/relationships/slide" Target="slides/slide33.xml"/><Relationship Id="rId98" Type="http://schemas.openxmlformats.org/officeDocument/2006/relationships/slide" Target="slides/slide34.xml"/><Relationship Id="rId99" Type="http://schemas.openxmlformats.org/officeDocument/2006/relationships/slide" Target="slides/slide35.xml"/><Relationship Id="rId100" Type="http://schemas.openxmlformats.org/officeDocument/2006/relationships/slide" Target="slides/slide36.xml"/><Relationship Id="rId101" Type="http://schemas.openxmlformats.org/officeDocument/2006/relationships/slide" Target="slides/slide37.xml"/><Relationship Id="rId102" Type="http://schemas.openxmlformats.org/officeDocument/2006/relationships/slide" Target="slides/slide38.xml"/><Relationship Id="rId103" Type="http://schemas.openxmlformats.org/officeDocument/2006/relationships/slide" Target="slides/slide39.xml"/><Relationship Id="rId104" Type="http://schemas.openxmlformats.org/officeDocument/2006/relationships/slide" Target="slides/slide40.xml"/><Relationship Id="rId105" Type="http://schemas.openxmlformats.org/officeDocument/2006/relationships/slide" Target="slides/slide41.xml"/><Relationship Id="rId106" Type="http://schemas.openxmlformats.org/officeDocument/2006/relationships/slide" Target="slides/slide42.xml"/><Relationship Id="rId107" Type="http://schemas.openxmlformats.org/officeDocument/2006/relationships/slide" Target="slides/slide43.xml"/><Relationship Id="rId108" Type="http://schemas.openxmlformats.org/officeDocument/2006/relationships/slide" Target="slides/slide44.xml"/><Relationship Id="rId109" Type="http://schemas.openxmlformats.org/officeDocument/2006/relationships/slide" Target="slides/slide45.xml"/><Relationship Id="rId110" Type="http://schemas.openxmlformats.org/officeDocument/2006/relationships/slide" Target="slides/slide46.xml"/><Relationship Id="rId111" Type="http://schemas.openxmlformats.org/officeDocument/2006/relationships/slide" Target="slides/slide47.xml"/><Relationship Id="rId112" Type="http://schemas.openxmlformats.org/officeDocument/2006/relationships/slide" Target="slides/slide48.xml"/><Relationship Id="rId113" Type="http://schemas.openxmlformats.org/officeDocument/2006/relationships/slide" Target="slides/slide49.xml"/><Relationship Id="rId114" Type="http://schemas.openxmlformats.org/officeDocument/2006/relationships/slide" Target="slides/slide50.xml"/><Relationship Id="rId115" Type="http://schemas.openxmlformats.org/officeDocument/2006/relationships/slide" Target="slides/slide51.xml"/><Relationship Id="rId116" Type="http://schemas.openxmlformats.org/officeDocument/2006/relationships/slide" Target="slides/slide52.xml"/><Relationship Id="rId117" Type="http://schemas.openxmlformats.org/officeDocument/2006/relationships/slide" Target="slides/slide53.xml"/><Relationship Id="rId118" Type="http://schemas.openxmlformats.org/officeDocument/2006/relationships/slide" Target="slides/slide54.xml"/><Relationship Id="rId119" Type="http://schemas.openxmlformats.org/officeDocument/2006/relationships/slide" Target="slides/slide55.xml"/><Relationship Id="rId120" Type="http://schemas.openxmlformats.org/officeDocument/2006/relationships/slide" Target="slides/slide56.xml"/><Relationship Id="rId121" Type="http://schemas.openxmlformats.org/officeDocument/2006/relationships/slide" Target="slides/slide57.xml"/><Relationship Id="rId122" Type="http://schemas.openxmlformats.org/officeDocument/2006/relationships/slide" Target="slides/slide58.xml"/><Relationship Id="rId123" Type="http://schemas.openxmlformats.org/officeDocument/2006/relationships/slide" Target="slides/slide59.xml"/><Relationship Id="rId124" Type="http://schemas.openxmlformats.org/officeDocument/2006/relationships/slide" Target="slides/slide60.xml"/><Relationship Id="rId125" Type="http://schemas.openxmlformats.org/officeDocument/2006/relationships/slide" Target="slides/slide61.xml"/><Relationship Id="rId126" Type="http://schemas.openxmlformats.org/officeDocument/2006/relationships/slide" Target="slides/slide62.xml"/><Relationship Id="rId127" Type="http://schemas.openxmlformats.org/officeDocument/2006/relationships/slide" Target="slides/slide63.xml"/><Relationship Id="rId128" Type="http://schemas.openxmlformats.org/officeDocument/2006/relationships/slide" Target="slides/slide64.xml"/><Relationship Id="rId129" Type="http://schemas.openxmlformats.org/officeDocument/2006/relationships/slide" Target="slides/slide65.xml"/><Relationship Id="rId130" Type="http://schemas.openxmlformats.org/officeDocument/2006/relationships/slide" Target="slides/slide66.xml"/><Relationship Id="rId131" Type="http://schemas.openxmlformats.org/officeDocument/2006/relationships/slide" Target="slides/slide67.xml"/><Relationship Id="rId132" Type="http://schemas.openxmlformats.org/officeDocument/2006/relationships/slide" Target="slides/slide68.xml"/><Relationship Id="rId133" Type="http://schemas.openxmlformats.org/officeDocument/2006/relationships/slide" Target="slides/slide69.xml"/><Relationship Id="rId134" Type="http://schemas.openxmlformats.org/officeDocument/2006/relationships/slide" Target="slides/slide70.xml"/><Relationship Id="rId135" Type="http://schemas.openxmlformats.org/officeDocument/2006/relationships/slide" Target="slides/slide71.xml"/><Relationship Id="rId136" Type="http://schemas.openxmlformats.org/officeDocument/2006/relationships/slide" Target="slides/slide72.xml"/><Relationship Id="rId137" Type="http://schemas.openxmlformats.org/officeDocument/2006/relationships/slide" Target="slides/slide73.xml"/><Relationship Id="rId138" Type="http://schemas.openxmlformats.org/officeDocument/2006/relationships/slide" Target="slides/slide74.xml"/><Relationship Id="rId139" Type="http://schemas.openxmlformats.org/officeDocument/2006/relationships/slide" Target="slides/slide75.xml"/><Relationship Id="rId140" Type="http://schemas.openxmlformats.org/officeDocument/2006/relationships/slide" Target="slides/slide76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 type="dt" idx="1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 type="ftr" idx="1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6"/>
          <p:cNvSpPr>
            <a:spLocks noGrp="1"/>
          </p:cNvSpPr>
          <p:nvPr>
            <p:ph type="sldNum" idx="1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06BB-A2BF-4749-8914-72BAF002FB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C72C-3C2A-4541-8E08-7D41B3D1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53D-4A6E-478D-8B7D-BAB88FAA6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0581-CBC3-4788-88E2-56B7C28A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5152-F4CE-4100-933F-B295608B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AD0A-5FB4-46EC-9820-3A547BB4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7BD-0ADA-4896-BDA3-82FD77BA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5FCD-6846-437C-92DE-3370D772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9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4DAA-E4F3-48E9-9B45-F4F5079F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22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FE3-CBB1-4DB6-8E5B-2AE4535A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50% more blood flow through maternal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metabolic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requires more blood f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ipate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to breasts &gt;2–3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in engor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ling of blood of deep and superficial veins of legs/vulva/re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co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rrh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onents increase during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supplementation usually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is a HYPERCOAGULABL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ability to form c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from hemorrhage during child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risk of clo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DCFC-7A45-417C-A24D-3A3385F5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50% more blood flow through maternal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metabolic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requires more blood f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ipate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to breasts &gt;2–3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in engor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ling of blood of deep and superficial veins of legs/vulva/re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co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rrh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onents increase during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supplementation usually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is a HYPERCOAGULABL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ability to form c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from hemorrhage during child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risk of clo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1C6B-98A4-4061-99E9-0196FBE2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31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adaptation occurs to provide for maternal and fetal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nal oxygen requirement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the oxygen is used by fetus and plac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 major factor in respiratory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mild hyper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VASCULARITY of mucu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respiratory tract more 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ise to NASAL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LA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relaxation of ligaments around r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ribcage exp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s for upward pressure of uterus on 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sensitivity of respiratory center t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mild hyper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73FE-91ED-4933-AD07-6C5E4DBCF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34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t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ppetite if not naus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gums/gingivitis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salivation (PTYAL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ux of acidic stomach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/small intes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TONE and MOTILITY of GI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levated levels of PROGESTER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xes all smooth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/small intes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 takes longer to emp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PATION: decreased motility in large intes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and Gallbla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pushed upward and backward (last trim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function al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tying time prolo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sposed to gall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4119-7DA1-48CC-AEFC-E333099E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pi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patc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k of pregnancy CHLOASMA or ME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 ALBA darkens to become LINEA NIG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h pubis to top of fund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 marks (stria gravidar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and nails grow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7E0-8DBB-4CF1-8470-EAB4D0544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40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B67-A455-402E-A9BD-FBF63FDF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43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D25-F3EB-4C9E-93F4-D5C4761E2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EFA-7C43-451A-9D57-E5E1A4597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581-18D1-4B63-83E5-5C264D0C0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8105-883F-45B0-B1EA-BCC7B0393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E7F0-AD9A-4936-B704-3EA70D86A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350-501A-473F-B8CF-3C017132C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ing of weight gain during pregnancy is also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ardless of pre-pregnancy weight, women with low weight gain in the second or third trimester increases the risk of growth retardation of the f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weight gain in the third trimester is also associated with an increased risk of a preterm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100-FAA1-4DF2-9208-1A59D4906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78C9-5E7B-42B0-9537-C47FCE91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1AD7-0210-4B14-9F24-966539CF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963D-7EA8-4431-AF5F-0E5D5A49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19F6-964B-4DD1-975A-BD4318489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C4C-3E03-4E8D-9854-E0A54EA6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636-E412-4E64-87E2-668386F4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A2FC-101F-4096-812C-35666CB3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18989-9136-4A15-ADDA-8351F2B8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EED7-574F-4F0E-8AD5-42E957B9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BEC28-A329-43D4-B80B-689E8649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2F1AA-3BC9-4DD3-8D97-C44942C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86453-4653-45A8-81D3-CEA0F12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C838-511F-44B2-AD5C-52EFDB6E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1435B-E5B2-40D4-9B35-B86AB39E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5013-F33C-4288-928A-599D27AC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084666-13BE-4E63-8109-81EB47D13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FE3-6F52-4700-ABEA-BD8FED91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44F695-68F7-4532-980C-7F8E4D62328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57E07-3A52-4DEC-B8DA-DE6EA956A6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335A5-26FB-49D5-AF6B-221124AEBC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E0DA0-A963-4B47-AF49-9D650A2851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7B3276-4AE7-41E7-A371-150C5D848F8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DBEAD-F76F-4FE0-971F-64C628766B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8ABAC-2A87-4C85-8B0A-61CB06D172B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6FD29-CD4E-4D55-86D7-E0E6CD7A78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DE267F-8AC3-4291-B614-DDB68014E46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31760-9421-4308-86C8-C61F2A38D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588-BA6B-4401-A3B3-0DC089C3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3F52D-2890-4D76-932D-E31A73B3AA0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51CF4-153C-499B-8A6B-9DF1FA05EAB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8A773-7E05-46CD-9A6C-0400D0487AD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2E7D4-8BFD-4C32-BC92-3B71803E65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30CE2-BB38-4578-9CCC-CD2A72344E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9DE5F-37EB-455A-AB6C-A2C9E967F10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22949-6229-45C8-9BF8-7AD254002A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DDB9F-7F08-42D0-9C3A-377059D3C3E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2C314-06F3-41CE-BC68-38739FA7207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9B6D9-6D62-475D-914F-ECC0F8821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9AE90-685B-49AD-A2A7-2BF67883382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F5709-4A77-45A5-B57A-9D17E45B82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821FB-E7C2-4E65-B5A7-FC94AB79022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23D30-4E00-4821-B201-56E133C1C7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D8EEF-0B59-4B76-A42C-4675BA11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40631-C012-4B9C-914F-74BA7471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B515E-130D-49EC-99A0-8D79146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3710C-6BDE-4258-B822-1B88A4A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EF81E-6B8C-4B9A-B0F1-8A15A62D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53883-3E3C-4203-97B2-ADE55EE8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1A777-E2B3-4444-8EA7-D75F1E81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BD037-9001-47FA-8C6A-1B35F02B573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63D53-08E4-4C78-A82A-09817FE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B88AA-FE52-4884-BC7E-F51873DF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A3B8D-0100-4284-9529-5697B87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E9E35-2439-4CFA-84E2-F53AF8BB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7EE21-1639-46DE-B4D7-99013E62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BD09-C533-40BC-BBFC-688D4C87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264BD-6D0D-4F6A-91BA-AD66AEF1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FD082-A2B2-4BC0-BD4C-74691CBC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79458-283B-47B1-AFD4-FF7B3890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75EFA-45A5-4129-857F-60103370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AC59B-4AB3-4641-8660-F79280BFF30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8B42A-D33F-4879-A3B4-188FC569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F85CB-19A0-4D3C-B3DE-E14B18E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50B93-E63E-4ACC-A53C-37C80D90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AE84E-FA41-41CF-B33D-090659D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C9A93-FABD-4B1E-831A-3B6A5927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E148C-09D5-4522-B209-62E9C6B0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EA02C-E019-4D7C-ADB4-383608EE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A1019-3AE0-4C06-9BFB-B0406C48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2BB7B-B37B-4960-8112-BE225CD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D7C6B-D56E-4DB2-87F0-CB49020E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3C64A-3981-4D27-9643-8491186FEFE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CC958-DA3B-4BFD-804C-76718F63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1D81D-58FB-42F0-A4E5-9F152A3E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4153B-EB66-427F-8712-158875A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E1194-EB16-48D7-A77B-8B53448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7AE1C-A030-4EAB-B177-170D96A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BB01B-FA73-439F-8816-F5C55950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82055-B771-4C79-B878-10955EBD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85DE9-DC0A-4CC1-A9AD-0D27F5AE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1737B-B4F5-4DEF-B3BD-8422F592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6518B-DAA8-41C1-BB53-8E88F43C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D4070-3C08-405C-B073-8A69F74DB37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4C253-DF91-4337-B120-6C3BDB0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840BE-E76E-4BAD-B75B-3F6D0E4E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04CF1-55CF-46C9-839A-BBAC910B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A5893-FC43-4863-BC6A-54C76725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A02C0-3832-4000-AD77-2713D031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822FB-0D0B-4397-8E44-550860BC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14705-A559-4B33-A53E-92C459A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F9249-525A-4AF7-8C7A-F3D9B388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37757-CDA3-4DCD-B897-9C24907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3CE7E-53CE-499B-B8A4-7D218982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B6175-8302-4851-8819-A23E6359E0E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132D7-A49D-427D-910C-D9A53906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C67235-3CC2-46A9-BB92-308BBFA7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6444DC-B779-4963-8761-5622327B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B477DC-D1D6-42F0-AE2A-493A0BBA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9957ED-80C3-4E3C-805D-BBD13912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AC603B-D74C-4FDA-A9C0-7C0FBD2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945D34-DC35-4A96-8955-E7C062D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60BF2C-EE3A-400A-9E19-1EBB7A6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5F30CA-3D1B-4466-87AB-70330545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0D4BFA-91D8-4240-8E28-6272784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4468F-D6F1-4BC5-9C04-A54FA1C0C73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B37368-3097-42C4-B77C-6AB274EB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94531E-9614-4A20-96E3-A25CA976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31B97B-3F99-42FC-BB67-378D4328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01FE5-696D-4752-AE3E-C701D33D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A5014-508B-4A14-8BA1-B9145F24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6E3E6-CA8E-49B0-87FF-49F4F597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03CF6-8402-4F58-B73B-AA98C9D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E5605-7DC8-46F6-863D-ED8FAD71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2FFFE-204F-4CD4-83E0-6BDB3513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E791C-02FA-4C9B-9DC7-3D1DC5A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B7B-C8DF-4C01-82BC-73D40551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2D9F4-9033-4D80-B6D1-FFAEF46DD25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138C3-781A-4377-B685-85197ECD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FBBA6-8CBD-4077-93E9-782ADCE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A49C2-5F33-4B80-AD0F-E735AF56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534EF-7DA6-4179-BC04-53A2EC00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EAF9E-E2A5-4ECA-B480-65BC9F6B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7C3DDD-2638-4A5A-B248-42234D90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D8963B-3150-41BF-BDF5-8ED9C2F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20DDCE-1E56-43FD-93FF-7047931E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6C614A-15FA-408A-9A40-2F2E558F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7F87AA-5DBA-47B6-B37C-AFF1B4AD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7A4C3-3DCC-4088-9F58-DD524842423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4432DA-7FD1-4CAF-9069-442A4ED5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1186BC-0447-473A-8526-05A4374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A75D72-CF96-40D4-96DB-F9BA52BA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FB7966-FFE9-4422-9739-46F40DF9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3122E8-9867-4FCE-B54C-6CEB80A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6BF20E-DEC4-4E6F-8F35-A70DCC43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05121B-1762-411F-931B-FA25810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D73E02-4E02-46D9-8EDF-6D89031DA18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D273E0-60E1-4B48-8F8D-B0408C04B37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4DA995-88AB-4974-9B85-CE8169067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7F227-03FC-47D1-88DD-496CF709139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1B0546-6C5D-47D6-8C90-E2C0D30C462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FBC40A-EBEE-47F3-8D14-B88582E6049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F69D02-76F6-4385-9634-EB08A0F6428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08DE69-D7AA-4BA6-A86A-1F45A2FDD89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F46446-858B-4C19-9CE6-7DA8D31407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CB78DE-9B93-410A-8FFC-68C41D0FA12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8B2200-C40A-4155-B3E8-7CE019F64D4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E324B4-76C0-4251-8F4B-E655BF1D367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3A120A-B7EC-467A-82A6-B590D940FA1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87D5E8-ACD9-4409-84EC-1EBF5F06F3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B6F85-1B75-41EA-A80D-995D16A0109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DB807F-0855-4EE5-9256-781E436B54F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7C7EE3-B2E6-47E2-AE21-4CF1CA08AA5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0AF6D5-240B-4A10-883A-7BBA6FD7B09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8A385C-0A02-4492-A91B-679EADC4053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A4372E-EEB8-447E-A6DA-C756990B9C5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E1E7EB-CEF7-4B66-94AE-5551E71637A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CCFC00-DAB6-405E-96F9-6D0B23124C7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EB2D72-D3E4-4198-8F9A-9E01B2B5A92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B9A59E-DEB7-43A9-90A3-65B20B98317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94FE20-4C94-4285-BEB4-44CAE9A2B8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C93AF-C2BD-4BF9-B18B-5C6155ECE20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B30F9F-D368-49EC-B20C-D5843AC8CAC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E421E-9ECD-469C-AB07-AFE1F17065B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89277-31CC-4EE4-BF5B-2FD26AC5733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58145-C197-44BF-9481-CD3C835498D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4B902-1E13-4481-92F7-00A093FD6BB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100D25-BDBB-42CA-8F52-189CA3F3D92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654F3-BB41-4D13-8289-B8C9F3158A4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7F8FA-A374-485E-88ED-E1B623848EB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CE288-F0C6-4111-8E14-9561A5CC74D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9D398-EB9E-4CEE-B3A2-4835F83DAA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5414-47AC-4303-8747-E60E8ABF974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6E5A2-A921-4EDA-BD8B-B7A02AD2164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2A796-C7DD-49DB-AC48-CAABAC965DD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870D7-E6B5-41A5-A5AA-B02F023620E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4674D2-BCC4-4C34-A0D9-1039A03FF9D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4C98C0-1A8E-4C25-96DD-E8F76190A1C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C2D15D-0F49-48F4-99A4-3635CB3C60E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35B1D7-A3BD-40E1-B1CD-955769F1996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31EFCE-E6D1-47F2-BFDE-588B3A92284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786EB0-5570-4E59-8150-255F6D1FB00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1EB601-8F44-4C93-95F5-5267A72999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AB84-2A3C-4334-98FE-E004EF36BE6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06D308-63F5-489F-9C60-2F06F7C183F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078551-FA2D-4C4F-9E74-B12B5631987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479919-4478-4ECD-92B7-86728CA868A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8B0B90-A516-41AD-9DEC-E7E68602A30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5D5F71-FCCC-4C33-A260-1BB2D4B18CE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C394C3-E78B-4E7D-98A8-3F1D73C34CD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8A0CC4-6724-4956-8E5A-332C8B54F43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D7ADFC-A52B-4619-A085-DF43DBD1623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73BC05-4064-4AF7-8147-634D237D757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C46877-CBC5-432B-AAFC-C2A465D0AC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834A-7D04-4C30-8B7D-0A697481638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F9669C1-1AF1-48B1-9B34-2FD1B0CD10A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FC5517-1710-48C9-98C4-B084D425ACC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92DFEF-7FEA-4E26-ABE2-E8C53E1CD2D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1D3156-E371-4862-8B7C-D16393F7B8A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68C906-7191-4682-AA3B-A8BF2C4F224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A1CFA2-5602-4AA9-ABFE-00105328B5D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758370-AD7C-4A62-9B69-B40093A8DEC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C13C66-7333-4398-BC9D-032E9E78171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6A595-CEE2-4B32-8F27-4497A26D155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479C0-DF74-4496-BFF0-7A276240D9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05CB-74A8-4648-9BE1-5213EEF1654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97B88-1413-4F92-A81C-791E00D4FF3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CA87D-2DA5-4A15-9477-B91ADA3D389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72F73-6E5D-4191-BEED-EACFBA07C1B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BF6A6-ED9A-44AE-825D-6461D6F0D9D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46E4C-F5B7-4FE4-88B7-5F98632C185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C212F-68F9-4AA9-9CEA-DE46EF13E2A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A1EB6-DEA0-42C7-9A52-AD1D42E9727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E199A-CA7F-421C-8BFC-79A426FBBB0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87038-B412-48AF-B4F9-9CAFBE47A9C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B083BF-3DDC-4831-8401-00AB4F5AA7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97EC-111B-48ED-810F-E7FF27A9F95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C9654C-17D3-49A4-84E6-3B6CBCF5108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8903E07-C77B-4821-BA64-0E3DFD39247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B43095-9E82-4662-9168-5142C886FFE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559504-75A9-4545-83A1-D46B05B666C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1909B1-D077-47CE-B848-93427DA0EFB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D81563-959B-4700-93AA-5ED6C263D8A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B775C0-714A-486D-8FF5-9CB68550875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70961A-13BB-4363-9E4C-DA36E3C1548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426FDA-1FFE-4F6A-A6B2-AF317C5514D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93852C-B8EF-487B-9545-B2EDC4D1C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164-F48E-48BD-8F78-F7E33F62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11BA-A8B3-49A8-9E40-BEFF4AAF532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E4ABBE-283A-46E2-A8C9-372643210B6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C4486D-0481-436C-B3EA-50CCB261422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D701494-B67B-49B4-800E-049AC081BF0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AD75DC-3CD1-4A51-B91D-F0E63EF6B7C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048490-3C5C-4A83-AFA4-C3800A0D1B2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6F5FA6F-0FFE-4AA0-AF0F-91D29F2C0E0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BC769B-16D5-44AA-AEF8-0C67607D481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EB2C4B-2073-4D7D-9BCC-920C3DBF9D4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D7CE01-328C-4113-9ADB-7CBE51D54A3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880DE4-9E68-46EF-9F6B-5A608E2BB2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E1C5-AEB2-4597-95A9-7E448358249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7DE0ABB-9416-4EA9-A3E8-1C59D1B36B6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B1D3B60-4BE7-4C44-BA68-164F9F770D5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DFBB58-B71D-4AFE-8E62-2335BD087FC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79569-C764-4F2B-93C6-4D280A1BE12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4E261C-59DA-4D38-9E06-051113BA63D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00188C-A66B-44CC-A374-AD4D3FB1E07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F9CD7-B520-45F2-8284-7BDB1BB89C9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49499-F75F-4FB6-BC2A-90B6FF0A8FC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C00F35-C250-4BFE-B071-89FAE40C736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8AA0D-3BED-4DD1-80D0-205CFE2E30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3FAB-A2BB-44B0-ADA1-AB80192B8B3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E269C-4552-49BD-B620-BB02F950A29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7B633-0D47-423B-A286-4CEA8FD4A99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DCDFD-65A9-4558-AEB8-F8B68FB789A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16559-3E58-4800-AAE3-3FAF85E3859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D5D8B-3FE0-470A-9FDE-D6E937FA651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677A75-0553-4481-9DDC-0497FBB5EEC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5B73CB-1F91-483F-9C21-601962EF45B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663C92-C0C8-4B6C-BA42-406EDA76BC5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5419F4-4CCD-4661-8782-D9AA4D7EEBF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EE01E8-BC70-4183-9713-67285DF57E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C69-EA35-4C78-94BA-5779B648BF8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6255CA4-B97D-4ACB-8BCD-638E79DA772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5DC728-5B18-4572-B519-583060AB36B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796CA8-F78A-4503-BB56-F7A6D5E0795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40CED7-AFA9-4751-8BAA-56828448787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EB3D05-6B96-45B4-80E1-57D44F91508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4AD315-47ED-4EC9-8E9B-DCAD4796944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D3973F-3852-458A-AAF3-07E246FAEA4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23DBAEC-C519-455F-A2F8-3971CB7E450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4E9ED9-1A64-45CA-A1FF-7CF86517928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12B533-BF75-4737-8492-CF01981E76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3BDB-7D62-4BFF-989F-60AC839F2FD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678F57-E078-4B70-BD10-3A9A5291AA9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8E5976-21BB-41F3-AC9E-CB1D22DA3E8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4FE3ED9-F842-46FC-A775-AFFBE819849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FE265B5-4B36-4334-9188-B37C009F98C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D9E7129-5760-4ECE-85BC-3A72A23B9A3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364CC64-943A-413A-AC45-6B3B94D8DB2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77B3C28-3F43-4878-A9A0-4BFBA42951C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918D2F-4EAA-4141-A391-1258DA22169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9F29DF8-7D73-4859-BE52-5505725895F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5A8388-225E-4E82-AC63-0E3B4CE581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5B8D-F4B4-41FE-B144-C510645789D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5BD917-7CB1-424F-905D-FA51B231726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BAEE88-FF36-4496-B60E-31324ECEE2B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F90696-94FC-4326-87CC-0F0B7CCF707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6993C-F631-4B27-81BC-5BD8B604138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8D159F-7B5C-46C3-A737-536937D1EAB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A960E8-9EA3-4F6E-860E-E51A2398C56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15C6E-99E2-40E7-9B28-75887F56319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8D8B60-C374-4407-83FE-9C8C0F15D8E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44791B-F74F-4ADB-BF56-744C1B4AA12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1DECA-28E9-4AC4-9FF0-4D494E0A2D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4741-90A7-419A-92D3-59076C2D7BD6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5063B3-558F-4EF2-A599-C695C6A2718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0EF36C3-B88B-44A8-9B4F-E1AE9134B411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1947CC-8E74-4F72-AA5C-6DA6DA6FBA1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6F6CE4-F6AD-4482-B30E-79CD29387DA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50036E-EE3F-4693-9FA4-0A14A8BBC7E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1080CA-834E-4921-B26A-F6E1F8B58BA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6590DA-5281-437F-8902-1D9310DAEBF9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235FB3-B7F2-42A6-AEE1-4FA00C4F7E7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17B2CA-832F-4561-82FE-76E18764236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770098-7E9C-491F-A05C-929671D9E1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7E4C1-4679-4C2E-9693-5C6B9E12AC7B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D346C6-9BB6-424C-93DF-F116F00BEFF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425495-054A-4805-9682-BF4D12D5368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A2CABB-E9CB-4E9C-B522-CF42CDE4DDD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B4F0327-8CE3-44CB-AC4B-111F0E8E72B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25AF70D-0F07-4A8A-900D-435FB19F2CF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D580C2E-E225-421B-A1A1-BB1586D24C7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8FA2BCA-C23B-41DD-A71A-0A67FF1F23B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A957801-886D-4FB7-9A4C-93332F7C134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09BCDB-8384-4285-8DFE-47F9D79EF7B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E89EA0-DF34-4BE0-9C2D-BFEC7EAF58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0D28F-6A1B-47A6-8F34-E9F9F2BC2EF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ED81E26-44A1-496D-A644-25A1F6C628C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019AC6E-B61C-444B-BE91-45DDD25BF74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5A2357-A053-4520-9A27-D90E80EF8F4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5F1F1CB-59BE-49E2-8CCB-7562604FDBA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62C7AB-F919-4529-BC79-2EE538992D9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80B8A2-EB91-4D2E-9C67-EE0C22C079E9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2B0D52-451F-4CC6-8B73-B1B30A7E8D5F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EA92F-2014-4985-A08E-74EE23DF1F4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40D623-F596-4F02-AC48-81AD4B444A9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BCCF9E-C506-4E99-9E12-A9AFB08AD7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D96FA-3DC2-459A-8FED-308AA4BCC955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BC7BD5-BCBF-4E8D-8C67-CB4ED7058F9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51EA86-F707-4865-AAF7-8A3ECF1FAA9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73E181-F870-4450-BC48-4D08D02B975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D776A5-28F7-4C4C-AE4C-D56E41E70C84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9EA27B-7E40-4F19-85F8-D7E8B398DC22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1F7847-EA82-4901-820F-3E66F1507D2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16470-4AD3-4513-8A65-3072F55B83C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015CC9F-BAFB-4E05-A4BF-6C437E79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036B989-8974-4434-8376-E00E492A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0E3FD3-F445-4F61-8806-46888135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847-555D-4622-9316-BD385AC0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E92C8-17E7-477B-868C-D2F11DA57FDF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9B402E-23F8-44CA-98C8-1A6C24E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FA948A6-AEFC-4B6E-BB77-133F617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6B13C2E-F443-4622-BC7D-2F992052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FA09190-76EB-4310-8611-694BDF4B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613317-F885-42E5-8154-64D17AD2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C23338C-901B-40FA-A958-30764B2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D9DFC5E-BAE4-4229-8AB9-0E19654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80C1AFB-CD7C-42C2-9C47-AD7425B0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DA1EF52-1C73-4E72-BCB9-1EE67EC7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474E9C-54D7-4282-A906-0A957284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26F8C-7E79-4807-B1ED-66C969B93E31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7210A3-5238-4C8C-8ECF-D13A2E25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A19D6F-8D10-4620-B096-7F6C679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1C3314-5452-4F3D-AC74-B7511EB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E9D0C8-000F-4FF1-98A6-233B4FD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962010-E38A-4687-AAB2-3EF57DF2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204A38-DDCB-4C9E-9A14-6EA96A6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E22361-AD34-4D33-9014-FDC9CE6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4484F7-4486-43DE-A01B-6DC7025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31EAD3-1978-4E7C-8C55-F2358D0D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0D397E-0ED8-4F55-8F1E-D310226A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244E1-DDA8-48C1-BCB9-6E313EB3D6C6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58B9CF-FF71-4E49-980F-49CBEB9F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283BFC-B6E7-4162-BBB5-987BD819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B967E7-6A1E-4771-BE23-73FA27AC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032ADB-D9BD-4004-9B72-B08C6FE1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F00A3A-8138-4683-B26C-2F5A0F9B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9F2CA7-1510-42A7-A007-DD7D53F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4EA6EF-0C96-4AC4-83D7-CB1F9E28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78432B-A0B4-48EF-9760-A5C1C61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834B7B-E364-4CFD-8A2B-3703D4FA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307F91-4ED7-4BFD-B4FA-A9D4B10B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6756D-F02C-4082-92B0-9E013561AB6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3B5600-3090-4C30-8279-A295D6C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F0ED40-C22D-4E10-9B80-B36182DB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40756E-A4A8-49C1-81EE-EBF01473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458ACD-5146-49A7-B070-3B7D53B7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628E3E-8DCE-4D24-BCCC-C8524C4F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D04861-BE42-4526-8DF9-F82DBB5F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EF403A-A8E9-419D-8151-4CC2CFBD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87B473-8B19-4F8D-AA44-607413E2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2FFF07-A1F5-4B81-8A7E-393084F5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666CF4-ED01-43ED-B23E-33FC5ADC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A0DC8-A809-4B8D-97B0-888CFC3FCC60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5F2D1E-7AEB-47B6-B8A3-D9A4EFF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82A140-856F-4BD4-BB52-785D891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24A0C9-DC2D-433C-A88F-FC7529BC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F186B8-BBC9-4010-A415-AFC18A4F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CC972E-7E96-4F08-B7AC-4C016690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2F06841-438E-44A7-BE0B-8132DA1D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17BBCE0-0FC9-402B-97F5-CB86FD56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29A7B2E-14A1-40C0-9D2A-5D813D0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13034BD-CE15-492F-B83C-85506537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5DAACFD-FAB6-4177-BE53-EA7FA943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9325C-DEC7-4EB7-A4B6-08EEB02D67B6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5256D4C-6D32-4108-A48D-FBF5B697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F0FCFF9-5DC9-4B6E-B089-2D9D47C9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6683584-E856-49BE-ADA3-0B7AAE4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168D5DF-B646-4DAB-BDD7-20BE57E6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A6CB75B-F4E2-49C1-A2D2-B6E468C0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649F373-F7BA-41EA-8B37-004B0B20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090F1F2-D575-4CB0-90A0-3174691F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C61B63-A433-4D84-81FE-B147E234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409469-BAB0-41D3-9138-65120D15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92D23F-A856-4FE5-9E2D-772C43B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A197E-7939-4EEB-9263-9F7C66F0503B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63CC5F-4FBA-424E-9CC9-1860705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B4D5DB-DEB9-482A-93A4-84845F23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CEFC89-0685-4A95-BB15-29557DAE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6BE0EC-F1EC-4908-AC89-27598C85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55DAD1-D79C-4F8B-B285-2E2E23F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171F11-F60C-4024-BC3F-5D7B5E6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9AFC6A-018A-4358-8134-3EDD7ACC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46D263-85EB-4106-92DF-DDBE4AB5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B22E2E-165C-4352-9937-AC3635F0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E7E61FB-6BD3-4C05-BC8D-31ADE8D0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B7D1-0192-4D1B-82EB-0055A39C135F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1F27293-BE1F-4A62-8EDA-DC1B3CC3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D21012C-2254-4537-BFD9-215080E9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931C4DB-DAEF-4B31-BD62-71E95B6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3CEBD2D-6572-4165-989E-815684CA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31859A5-64DE-4D6C-A9FC-A741DC22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1138E64-CC29-4338-9283-B9569D1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6605391-B8DF-43B8-8C29-04F8F8A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D8EEEC8-1520-4F59-824F-1757B5FA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E5AA38E-2D32-4480-A4EA-7A8CB25F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38D6F37-E0FF-4F9E-A16E-1B35B808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9BB14-008D-4569-9360-514ECC77EFD7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91A9E51-AB48-44C7-A260-A74F3E47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CDCD096-2D07-4296-97A5-BF77FA3C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02D82C2-897B-4DE9-ACF9-82A1B74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9656CB8-9784-4D78-8DD9-8092F6D0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EB1C5FF-5313-4BC8-A3D2-55E320D7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5DAF39C-E852-4950-897F-539E15CB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7E2AEDB-00BC-4496-AE9C-CC90F2A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A4DA7F-EA43-4DEB-AFDD-6FEC87D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E2E176B-6B32-4412-A11F-62277F7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2AB38F2-5B3F-4964-91E9-FFA60B8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D3A06-F880-46E8-BB7E-AF36E655EB02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6B41735-5D0D-4FE4-834E-170DA18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750D3B4-80CC-445C-9FA7-2CC5A6D2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C11FBCD-FDBA-4AE4-9366-6C9DECAE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53423B-98B4-4B20-AE07-196BBE71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7520ED-9723-4A74-A0A2-B975918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FDE753-4B18-417B-A449-482E0FB9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637485-F63A-449C-A03C-02E955E2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24EA4E-804D-404D-8AA5-40C11C9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76775A-E1D6-4339-A82E-11043065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D423E1-05DE-43C2-B31F-D98F5A58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DB5-3703-4220-8FAE-EBACCBE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E1C2B-CCFE-4996-9D8D-F2E0A1CAC98F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EECDA2-A967-4A41-895D-976D43C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1FF182-F748-4D4E-976D-8BB71BD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3F3E90-3CE7-4D08-9445-84A09DBB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F5F691-91A4-40BE-A14E-F2C87F3D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AB675E-3C33-48DD-8856-644C49F5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C8AA42-47BF-49B3-9867-55E5D797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B26A59-835C-4A34-A110-9AEB4E27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2A2B27-6B20-4ECC-BA0D-92CB5676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E40CD2-72D6-4BCC-991F-D59AA6AA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C6E97F-9A41-4C53-BC17-028EF8B5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DF64E-1227-43E6-961F-CE37E3A2AF5E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77EA04-5347-4F89-87EB-A93F17DB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3C4036-E41B-4046-940C-503414F2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30F655-A396-4F13-A92B-1E83924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5529D1-0E46-4F1F-89E6-7748CDC2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FB2EF8-CA0F-437B-A4AB-F5E1F6FE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0B53F2-EA01-401C-BB9D-EF484922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C6A16C-5055-4670-9B5B-B17F6A72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4ED815-FE92-4EFE-9E10-2C9CCB48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3A2147-A2B0-462A-8AC8-35F23436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38B187-16E6-4D11-B2E4-EDEAD44F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F0056-41FD-4DF1-BD3E-9084F0C93531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B82634-1020-4857-AD4D-CE6CB1AC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A559E5-0FAE-4765-840E-5D7D1CB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444FC5-238B-4FE8-85BA-511890D6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C80F74-DD08-461D-9E60-FD55E059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9ED9B8-CE5A-429E-BE46-402FC315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ACBBEF-833F-4B80-A875-EDB33EB6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090B7C-D288-4F6C-B9F5-8ADC0756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8BCE00-3354-4E1D-8795-E72EDB61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52372F-6C01-4B05-8B73-A24BDA4E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2FC9777-082E-4229-951F-578430B8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6A9A3-8268-4399-94B4-2D1CA38CE154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A6F89D9-C533-4101-A518-20E8457E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8FE1230-F962-4E2F-A4D8-E16F4DF3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940688C-359B-4F40-9581-C1C3B49B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2C57DD9-7A7E-4966-8753-1C2AEAEA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1094BD7-9E8A-4178-88CF-1C5F791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0A4DB36-4661-4094-A1C2-BAAFFEF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41533EB-6944-4C56-AA33-9749FA86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B9B933A-B225-43F0-AAB1-42CAFB2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9FA8F74-77D2-4A64-9A36-B4DD375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45959AF-48B7-4B5D-A31C-04993358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C79FA-D36B-4AC4-9A87-E39985F246D9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8164D14-850E-445B-89FB-1D2E9F12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823342-7ABC-43FC-8D27-64087915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53C27F-A89E-4839-9EF5-23BACD8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F5DA88-8725-4BDB-9D92-404F1C2B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5EEE1C-9DC9-4B9D-A3F0-07961FC3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DA4C50-2DB0-478E-A639-6450CFD9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9D0DDA-29E7-4F6C-9BBD-3AA30E49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886C7F-FF6F-404F-811D-B073AC2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206D36-4650-4E7A-808D-18A2F9C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FB953F-FC08-4744-BFFC-92F97B5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7D642-470E-440C-A851-04773013BF7A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BBC2E6-6A3D-4306-90FC-7E3410E4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4464FC-7860-4563-87F4-4459718F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5A6856-4864-4400-AF92-B88C036D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A936158-A0C4-4472-99E2-1113F6B8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0C0DD85-39A7-4D4B-9088-A0C9CC20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AC25E68-F81A-47F5-BF21-58A29346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40BC70A-DD71-4A72-BE5B-385B89B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CC77244-4626-4428-B570-C58CEA2E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01CD310-CDCA-4214-8BFB-231CCEC1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4E1C774-DFC6-4FF2-B95F-BCBACB0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E1AB5-A621-4E0C-816D-ECAD5CA4BB8A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CA81C4D-0EEB-436D-B037-D110216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1420F7D-0EEF-458C-B672-2DF2943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99D6BB7-3BD4-4FE6-9613-2A909186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312F43D-5ED1-42D9-BD8D-25141434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EA73E5C-3EEC-4832-8676-53892D0C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4DCD12-05C8-4F96-BD2D-14CBB33F57C7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62979F-C6B0-45FD-951E-EEA80B9EEC8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34A179-CD9F-481A-85C9-838D04D10E1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E47754-995D-440A-9381-0B5C491C568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723A25-287D-4A08-91F6-1C188732BD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7012E-3976-4458-B20C-B21BBB631DD9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9EAA27-CBFB-4BA9-BDEA-3FC1BE62697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165BD7-607F-4DC0-8773-D980962F8C61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28CB84-2964-4298-B156-B3CC726115E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0A648C-AB8E-4131-8320-67046C86294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25E8DF-847A-42F5-902A-EDD6A57CD10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9399A4-9CB9-4866-91B6-CFB27661289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98410A-C428-48C0-BF4A-7586B254780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0468F60-2901-4AEA-815D-41B2D850DA37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B974D11-365D-4A44-BCE4-653C065472C0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C78BD52-1699-4B02-ADE3-469175F014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0626E-6B35-466B-8C7A-E989D8545F36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2924320-9E9D-4A81-A10D-5A314E5C3629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A54486D-08BD-49BB-9CD2-4D0BD21C3DA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2124B71-96BA-4240-813C-5D236C831588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50EB135-64F4-47DD-A149-34BA67C4D935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C82F385-CCD2-4C8F-AA52-EDB7981124E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2BE0339-65C0-410C-AADA-AD5DC78E42C8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AC74D00-3404-4A01-8FE7-AC7525E6CC12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93CA0C3-22AD-4A80-B39D-45F0807CFB0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3DAE256-549A-43DE-947A-A6C3DA6BA6B5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05FF086-6302-4EBC-953F-C630AF0904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CB8BA-03A8-4355-AEFC-0AC3EBF0A018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BA0416F-292A-47B6-851D-E1FD2BF5E5E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96DA063-A45C-4B02-8CE6-69EE6B5134E4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4545751-97B1-405B-80F5-A94203F270E4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3BA0A03-3BF9-422B-AA9A-B2B39A7DD490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659D6A1-24D9-48D8-9664-EE335A6BB062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84683D4-AB3A-417D-98D5-B61F86FD60AC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B632297-0265-4535-84EB-FE07D3EE200A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7529FED-08C4-499E-81B9-31B4F8EF530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52F1F6B-0CE9-498F-AF06-359E987B3BD9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507A03C-3C35-437B-BBEF-401289474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C5F-BC24-4DD1-B734-BC504EEF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CCE09-F86A-4337-9B44-032CB0C8CA51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A5E7DEC-BA17-4D6D-8969-125B4E5D4BD5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3F3F3A-D8DD-4A58-BCFC-995359AC9377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AB0B50-9FF3-4E18-9344-B341B92717D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5E9AB2-F3E9-411A-BD56-78292E93084A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D658C2-6193-440C-81E8-77F2E714437B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D27B29-11D7-4BE4-942A-347C6DC5F7BD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5EC940-D96D-492C-92B1-536B03A0FA35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3A1B50-71B8-4919-BDB0-489424918F3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5E16BB-FAE5-4D83-B03B-3B50DFC8B23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405012-92EB-43EF-97B8-D3EC7E4D7F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F81F-7010-4BE1-91E1-C2953DD7D1A7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E3C86F-7977-4D78-9CBF-7AA756E3E31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5ACC437-8BDE-4D76-9D76-9D9D6B3C5DB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B10C55-0865-42D5-A22B-EA3BC8BE8C02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84EEC35-DF01-4A8E-B460-837CE78B20AF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9393B42-647F-4A73-9D11-60EA5E20ACEB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7BE6046-103C-463C-8506-5996382FC582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A426CE2-FE7F-41E7-B6AC-515DABF95AD5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52E660E-94AE-4102-B732-EAB2514677F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19065C8-16EC-4766-99B6-F71C0A1524F2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A0EDAB2-CE9B-4366-911B-4E1D870B92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409D-206C-4404-9114-568C2C6180A4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8858469-F204-48D3-AC1E-C01EABE7DC19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137238D-D3D1-4561-AADF-7125B823B2D9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A2D8123-3928-4FDA-A5A9-E6A152A48578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1C4543C-F456-4E8C-B7DC-2163898C5447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ECD5E39-DB55-4EB9-9CB7-7F4C5276CD04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035143A-D765-4726-AC32-C7BCCC0E782E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9554F75-C9E4-4E69-B623-6008F77DC995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C9D40DE-4FED-4639-A35C-92516B3A5952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2947023-9B2B-4756-A118-3D8B69BF9291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2FA2FE1-EA49-4E4A-B526-DDD25CCA10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E106-70E3-414B-9872-F35BA6245ED8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1E5A35D-D6EC-4D1F-8331-04603939E20B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74B7318-70C3-4B8A-8B49-0681617AE4EE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EA1D312-89E2-40A8-B021-F0DA9DBC32C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3C77829-C548-4207-B425-AF547DB566D5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B7DF8E0-270C-484B-B19D-BFD8D6DA38F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45E0596-D87A-432F-9994-4C485FB2BEC1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BCBD66C-8473-4117-A63F-EEF1BA74CA86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6A922C-EEDA-434A-A841-C7E336F29FA2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1E6075-E6FE-4238-B970-1056B1EB0E73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4BC29F-5AC4-4B5E-8385-03255E7EEC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7041-DCFF-4355-BDE5-67DE500A592F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6070F2-14FA-4767-9734-80FE7A251C08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93D66B-4748-4F61-BA22-EE308FBC036F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1B0BF5-A1EA-4393-87C6-DD205A103A74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79AEE1-6CB2-41CD-BD2E-3B078D2CB33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343CE6-2212-4CFC-9AB7-BF1AC15B7D03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0E9AC5-764F-44F4-B516-285C4C0F55B4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D0F7BB-16EA-4EB1-A7FD-B9DD1CA89D7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06E2AE-E018-43F5-AC4D-9A7482A5B08C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9046DF-3E09-406F-939F-237EED6DA953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FAA0044-5419-4262-B295-89331C6618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D92F-3E90-4B2B-86BD-0AAB394A1E25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842F4ED-DC47-477D-9785-F37E6D14A7F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4246A26-B6E3-45D7-BF48-78E6FB566FE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D900EB1-1B1D-47DC-A2E9-EDE85250F47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F1D1A64-EA5B-4210-93CF-E81F7E7F7B9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C5BC21D-1B07-45AE-9292-DFBC665B3A63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3B3B303-CBC0-45A6-9553-91ECE94E3FF3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5251937-C2DC-43D4-83F2-845B3C6E2770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1A36450-71F4-4AB7-8FE7-BAD03C10B49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DA4493C-CCB5-4415-9E26-66AFD0D52F0A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A5AE63A-B4C6-4D63-BC61-CB1353683C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8E12-5636-4655-952F-1797C12540B8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D21652D-92F0-4E38-9478-B359F7580742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B4EBE87-D6F3-45B5-A60F-757B1181880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608D28B-3DA2-4C87-9604-2C19126DD070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AD0D460-3151-47F8-AB52-4098A2B72244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1ABC1D9-DD8D-4F44-9C9D-181232F8DA2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F8FEDF1-7E6D-46A2-B6AA-333148338DD1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5293D36-5CEC-496B-9850-4E45EA4D82C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065C33B-EE8A-4982-AF44-2B9AA745F43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6F50452-8D1C-41CE-9186-3D9E646DFEB1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648F326-D981-415E-A8D3-74535EECD9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612E-CF37-44BB-8C33-EBBDB14D07B6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4838282-9C4A-4F79-A270-8864ABCB90C5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789559A-B6F2-4A0B-8F92-30C7F8958E0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042B107-55A3-466F-9D00-178750F09544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C77380-59CC-4F13-9181-8EE50985828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44624C-265D-4D88-A07E-416593B6D471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2ABD82-BBDB-480E-859E-4DCDCC7534D9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956843-594F-42DC-8187-3E4EAC04BA7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CE4BAB-15EF-4DCE-B09C-77F1A3CD0FA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0A0464-8AD7-40F2-AF35-C6B275335AD6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607548-ADF5-48C6-9686-C8223E9BB9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35A2-6D98-43EA-B84C-EED63FAD3F3F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B55D76-7EBE-41DB-9287-6D164C226BED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AEB48B-7671-441E-8C31-31753DF27EB8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A63321-7555-4A00-AA65-6B5C1A5472C9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B614A9-5114-46D6-A024-F1142FD1F83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FBDE06C-C1B2-484D-9D8E-753D76D6E1C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C82B2FF-4698-403B-BD20-BE8B6DA24AF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9164927-46F6-44F1-9325-E3CF384A47E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8207E4D-895D-4617-92C1-A6A788FD7BE9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3A14A5F-BE30-4CB1-9AB6-93C4E8AC0D3E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774D8FF-7B5D-4DEB-A1BE-AF1FD444A0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4189-D9B9-44D6-A0DE-37ABD73118EA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21EF6F4-F128-4AC0-BF7F-A0CACC7A7387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C8FA333-09C2-42FA-B018-51771150DAB2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AC69BEC-0C1A-4663-B8C8-E6C5621C972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BE13491-9DF7-45BB-A9EC-0E1C68C4F4E1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6068F69-AE24-4DAA-92EF-B3C44334888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45BDE30-0D6A-4075-A871-E90C43F84CA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96C1639-C71C-4FD8-85D2-40A390AEC466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B385220-77D6-4501-9AA6-71241375F85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727A684-9C19-4FF4-83F3-40C4D236099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4E5F1EF-60A6-4E40-819D-7D54D8253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B76-8815-458C-B49B-D91F0DD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6607-C043-4F04-A460-073347D69682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3E96079-B880-4DFD-A28F-67AC4B82B2D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2E5FC57-0BD1-4587-A18E-1899596C25F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A68A1C5-B228-4224-94F7-4B3E03823420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10F0F2A-3FA5-4FBF-B3BE-397DCAA0DDD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CAA0FD1-3B13-462E-9738-2684AADDAD6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6EC41A1-A29B-4B65-BB91-1DD679A7A46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9777A9C-36BF-48BB-85D2-70BED5E25E5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876F5D3-A407-4B6E-BE35-45DC34E03CA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AA93B0C-5306-4086-89D5-49499A93445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9B0210-1CB9-41F8-93C4-5F0C54141A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F838-E581-4E75-ABF8-66037FEEBD38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77E8DC-D998-4A80-B1FE-8F65131D47A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5A6836-7552-4D10-99FF-92D0B1A7D284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A6A5B2-491A-4652-8897-0C1A1054ACD2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93FDD3F-1C9B-497C-B8C3-FE0E74BE1318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3299E46-65B6-49EF-A557-5A566765FDE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85A21A-A406-4405-91E4-E04A45F3603E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1A2B7F-9CE2-439E-A3D5-F7522FE36BAA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C82F20-01CE-4317-9E92-3BC7D6BF30D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C46E8A-DD76-4573-B699-5DB2FC7DB856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1BD87F-95B3-47BF-9C06-F4E688145D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BBA5-0A02-47A8-8C22-4018E68CFC57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CB93731-A4C1-4F79-8CD2-0E252436132B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E2F170E-A7A6-47B8-B8F1-3F3AD941C1D3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773B131-C85C-41EA-BF09-815FE6F50FCF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2B41BE5-5F1A-4B01-B771-B2C1B9792F2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435C123-61DF-4697-8C27-7AA966A9BAC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7F76146-4681-48BB-886B-C626E1E250A7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8A67CA6-79B3-4D22-BDDD-C232BA69FC2B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BB48D66-95BB-48DD-B34A-FEAC58D2E32E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39D4FA0-E4A0-4C62-9F00-6362C8F38CD3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C904649-5203-42C1-8FEC-5F3B4FC01F2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D5462-570E-4F70-9AC1-C8135943B4E1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97C0CC5-C518-4CEC-800F-435D71B6CF26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4349777-A424-4CC7-9DF0-8E1A0FA9DA0E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898EF3D-F613-451B-9279-C7DDEA5D0266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D993F6B-94CA-4C42-9501-493B658C476D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4B6C6B2-0A72-4AE8-B80B-6D89FC6C552A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03F8095-39A1-4BD6-8A77-209F3D8A6D68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971EB1D-6E35-4453-8045-D2613B32A49E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2904262-F70A-4CE7-8FA8-AA65C4537696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0329A64-164A-449C-9294-D56D554E7294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3A9011B-5587-470A-ACF0-E0A08F03A6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86728-486C-4C9D-8897-795B40D41345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4B8CC2C-6331-4BF2-A44C-8401642F2D14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6DE5E3E-6A07-434E-BBC4-C073AE29D622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82578A2-D64B-4F7F-9DD3-63D50AB87EE2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D1D11F4-E9E7-4FA1-8964-E237DC8143E2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8732E4F-1F46-4CE6-9744-21DA544C98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7158E-3816-43A8-976B-89B6E7D1B1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FF9B6-8AC7-4CE2-AA35-2B36581E82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4DA5F-6D3F-4C4E-AA96-87CC12879E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3E5F1-CA70-47FD-A4BC-2995369228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A58C6-35AD-4B17-841D-EB6B34F38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6C8-1D7F-4F26-8538-3612910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DFB34-E4CF-4F13-93ED-E4D65A853D6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58F03-3925-41B6-8F31-49FC9960AD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94D1C-3E57-48F7-8DC1-C319BE0DFB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97B11-EE47-47DF-A5F7-136F854EA20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40C24-51B1-472A-BD0A-7AAAACC516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78F8-29B3-4BED-B1FE-BFF50CF8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AA99B-8D63-4EEE-852D-A64966A9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2DC4-C595-420E-A244-E480767B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AA33-A3A9-4C52-B553-AD51032D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B83F8-DD9D-490C-9317-A60C4134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936-8E3E-4F41-A2AE-C39ADCD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56A78-7451-48EC-BAC8-BA57F81A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9CE1-4773-4F7C-A5AA-E32731EC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BD54B-DD5A-46A7-B75A-BCC949B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AB075-5734-4B04-9B53-C495C78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D585-2B01-4D42-A984-B19E8431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EB18-9497-4DDA-BE91-23C9450F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7F485-B76D-427E-87E8-C04C8297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8C7DB-A8FA-4E92-85E6-423B1065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37DA-135E-42DC-BE15-57ABA24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34A0D-608F-4EDC-BA26-923B7839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13BA-D1B8-48B6-B360-DBEA3133278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936-E586-4FF3-96E9-EB345E5334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C81-F995-484E-A981-A7A11B1B66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6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7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8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98E3-8E18-447C-B7CE-8016544A603E}" type="slidenum">
              <a:rPr b="1" lang="en-US" sz="1400" spc="-1" strike="noStrike">
                <a:solidFill>
                  <a:srgbClr val="ebddc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sldNum" idx="3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8806-A8D1-42EF-9180-1E57935C10E1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CF9C-D050-4744-A133-37E309973F3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FA5-C072-48FC-B68F-31924D906BF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ftr" idx="3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0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8AA-E9C2-4F78-9836-69FFD1E94E2B}" type="slidenum">
              <a:rPr b="1" lang="en-US" sz="1400" spc="-1" strike="noStrike">
                <a:solidFill>
                  <a:srgbClr val="775f55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1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42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8ACA-405A-45A3-99DD-4E7A3A289E0E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3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D08-289E-4EF7-980C-F29BE948F02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47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4266-AEAE-4311-BD4D-5819FA98DF8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48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CC85-B1DD-4C70-A797-F525A6D4153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Num" idx="49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F6FD-531B-42D9-86E9-D702E00832B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0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Num" idx="51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690-83A6-4651-B6A2-62DBC831DE9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5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E50A-3350-456A-B3EC-3565821E590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5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Num" idx="5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01B-C286-413A-9E03-9282D826427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6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sldNum" idx="57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A67-FDD6-454C-95F4-1BB50456CB2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8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9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DC78-DE35-4CA6-9365-0F06F61659C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60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Num" idx="61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051-13D5-40D2-8B41-897679F0EFF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6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sldNum" idx="6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7A6E-A5EB-4D34-93EF-3CD5EF2197B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6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6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4876-FE7A-4C14-A20E-0B012E38398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66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sldNum" idx="67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284E-0936-43D6-A7A0-6C03C457C67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68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4146-A565-49F8-9B63-838070E2A05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sldNum" idx="69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0CAA-E673-41D0-B6E1-5F77DE61D6F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70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sldNum" idx="71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E45B-8D37-4B5C-89B7-17E94D45E4E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ftr" idx="7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7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F2EF-6C8D-42FF-AF7B-08F81869CCB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7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sldNum" idx="7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AA1-0815-4B82-969B-D482705EC2E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76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7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7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7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6190-8229-400A-AB12-E330D978A414}" type="slidenum">
              <a:rPr b="1" lang="en-US" sz="1400" spc="-1" strike="noStrike">
                <a:solidFill>
                  <a:srgbClr val="ebddc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8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sldNum" idx="8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AC0-A3DE-4FC6-AC9C-FDA63A9FB8D5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ftr" idx="8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8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sldNum" idx="8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780E-7C3E-4BCE-9A2F-10585C2E1C8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ftr" idx="8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dt" idx="8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sldNum" idx="8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96E-5D31-4E1C-97B3-757C9C7F8A0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 type="ftr" idx="8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8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9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9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CC5-7455-44CB-86A6-F3CCD5803266}" type="slidenum">
              <a:rPr b="1" lang="en-US" sz="1400" spc="-1" strike="noStrike">
                <a:solidFill>
                  <a:srgbClr val="775f55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sldNum" idx="9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2619-8AF7-4C67-ABCE-5EFBACB07A0D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ftr" idx="9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DC86-3D4A-46D0-A063-AA5EAEC987A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9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9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9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0C0C-EF04-4A85-AF51-80C6BABED57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 type="dt" idx="98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 type="ftr" idx="99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 type="sldNum" idx="100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F80F-67C8-4FDA-BCB9-6E6FCD6EA8B1}" type="slidenum">
              <a:rPr b="1" lang="en-US" sz="1400" spc="-1" strike="noStrike">
                <a:solidFill>
                  <a:srgbClr val="ebddc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10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sldNum" idx="102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312-4010-4F9A-BB2F-0CF9739343E3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ftr" idx="10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10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sldNum" idx="10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7F89-408C-44FB-812E-A78365358AF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ftr" idx="10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 type="dt" idx="10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 type="sldNum" idx="10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E9E6-A2FF-476E-80FF-2A9142432C7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 type="ftr" idx="10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 type="dt" idx="1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 type="ftr" idx="1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5"/>
          <p:cNvSpPr>
            <a:spLocks noGrp="1"/>
          </p:cNvSpPr>
          <p:nvPr>
            <p:ph type="sldNum" idx="1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CEC8-D9D3-4EC2-A70A-2C4184591A97}" type="slidenum">
              <a:rPr b="1" lang="en-US" sz="1400" spc="-1" strike="noStrike">
                <a:solidFill>
                  <a:srgbClr val="775f55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sldNum" idx="1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6DB9-897C-46C7-9103-CC45C5C01A0A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ftr" idx="1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0F0B-9658-47B3-9B66-5B8B294D895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 type="ftr" idx="11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 type="sldNum" idx="12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508A-E073-46EF-805A-73CEA9241F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ftr" idx="12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sldNum" idx="12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BCD5-631D-4BFC-83B2-6B34F4BC77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B99A-FFAA-49DF-A7D9-9276BBEAFBA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ftr" idx="12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sldNum" idx="12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13DA-A544-4605-9EC7-55B7DAC9C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ftr" idx="12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sldNum" idx="12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D452-0F9F-4FCA-BF72-A8636F76A9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ftr" idx="12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sldNum" idx="12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B77-34DD-4099-BB15-E187AD059C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 type="ftr" idx="12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 type="sldNum" idx="13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B23C-97DB-4992-82EF-1854A35AA5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 type="ftr" idx="13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 type="sldNum" idx="13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E708-BF2A-4CA9-B937-5DFB4420BB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13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 type="sldNum" idx="13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34C4-ABB0-4BCE-975E-9444ADC8E0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 type="ftr" idx="13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 type="sldNum" idx="13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082-ED4A-4533-9F07-D040CE83C5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13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13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A66-BEDB-4873-8730-C2E0521C53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 type="ftr" idx="13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 type="sldNum" idx="14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AA1E-DB53-4AA9-ABF6-F90A641A2D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ftr" idx="14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sldNum" idx="14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34CE-E12A-45CD-A3AC-68B75C01EC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4E62-331C-4843-B364-65F0FF38861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 type="ftr" idx="14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 type="sldNum" idx="14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0348-F0C2-4E46-8D87-8CF87ED5A6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 type="ftr" idx="14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 type="sldNum" idx="14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540-A7CB-43E3-BDFA-C1C660445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 type="ftr" idx="14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 type="sldNum" idx="14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273C-07B5-4C15-9B9E-0714AB8BA5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928-BB97-47F1-9C8B-157ABCA743A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F896-FAED-4E43-BE76-7C094E5D871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580A-822F-4B95-ACD0-B66A32C84EA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iwN32-vLWAhWDVhoKHaymAr4QjRwIBw&amp;url=http%3A%2F%2Fwww.carewellmedicalcentre.com%2Fskin-laser-clinic%2Fmelasma-hyperpigmentation-treatment%2F&amp;psig=AOvVaw1K07llZS1XvbtlXPpFlvUr&amp;ust=1508168169275755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F8JG8m_PWAhVKwBQKHZDdDz8QjRwIBw&amp;url=http%3A%2F%2Fwww.kentmedicalimaging.co.uk%2F3D4D_Ultrasound_Scans&amp;psig=AOvVaw0NNRbkcA5UqmXjZy95iNxK&amp;ust=150817702616509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2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5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2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143000"/>
          </a:xfrm>
          <a:prstGeom prst="rect">
            <a:avLst/>
          </a:prstGeom>
          <a:solidFill>
            <a:srgbClr val="20190b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SimSun"/>
              </a:rPr>
              <a:t>PREGNANCY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78" name="Rectangle 11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D15-F848-489B-8073-F0204181449F}" type="slidenum">
              <a:rPr b="1" lang="en-US" sz="1400" spc="-1" strike="noStrike">
                <a:solidFill>
                  <a:srgbClr val="ebddc3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9" name="Rounded Rectangle 7" descr=""/>
          <p:cNvPicPr/>
          <p:nvPr/>
        </p:nvPicPr>
        <p:blipFill>
          <a:blip r:embed="rId1"/>
          <a:stretch/>
        </p:blipFill>
        <p:spPr>
          <a:xfrm>
            <a:off x="-6480" y="3780000"/>
            <a:ext cx="34448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A64B-6F1F-43CC-9136-EA48FD93CE5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571680" y="21430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w Cen MT"/>
                <a:ea typeface="SimSun"/>
              </a:rPr>
              <a:t>6 . Pregnancy test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The laboratory test for pregnancy are based on the identification of human chorionic gonadotrophin (</a:t>
            </a:r>
            <a:r>
              <a:rPr b="1" lang="en-US" sz="2800" spc="-1" strike="noStrike">
                <a:solidFill>
                  <a:srgbClr val="ff0066"/>
                </a:solidFill>
                <a:latin typeface="Tw Cen MT"/>
                <a:ea typeface="SimSun"/>
              </a:rPr>
              <a:t>hCG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), which can be detected as early as 7-9 days after fertilization by high sensitive technique. The samples may be blood or urine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7" name="AutoShap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</a:rPr>
              <a:t>Sign and symptoms of pregna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AD8B-02CF-42BB-ACDE-B978FF12521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214200" y="2142720"/>
            <a:ext cx="76932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SimSun"/>
              </a:rPr>
              <a:t>7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Basal body temperature (BB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w Cen MT"/>
                <a:ea typeface="SimSun"/>
              </a:rPr>
              <a:t>A persistent elevation of BBT for longer than 18 days may be presumptive evidence of pregnancy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. Fetal move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. Braxton Hicks contra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. Ballotte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. Auscultation of fetal heart soun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1" name="AutoShap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</a:rPr>
              <a:t>Sign and symptoms of pregna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2" name="Picture 6" descr="007009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261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A9A8-A14B-4087-AE9B-E0A71F83C6C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8688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ooper BlkIt BT"/>
              </a:rPr>
              <a:t>Call the doctor if any of the following occur</a:t>
            </a:r>
            <a:r>
              <a:rPr b="1" lang="en-US" sz="2800" spc="-1" strike="noStrike">
                <a:solidFill>
                  <a:srgbClr val="f2f2f2"/>
                </a:solidFill>
                <a:latin typeface="Cooper BlkIt BT"/>
              </a:rPr>
              <a:t>: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ginal blee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arp abdominal pain or cramp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 of fluid from the va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re or prolonged nausea or vomi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quent dizz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inful uri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fev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ginal discharge that is irrit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91D6-D093-4488-BC41-7E0B84F8A11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779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nges in Body Systems: 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rine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DAA-0EC9-4F0F-AD35-AE364246EA70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1" name="Picture 6" descr="007001"/>
          <p:cNvPicPr/>
          <p:nvPr/>
        </p:nvPicPr>
        <p:blipFill>
          <a:blip r:embed="rId1"/>
          <a:stretch/>
        </p:blipFill>
        <p:spPr>
          <a:xfrm>
            <a:off x="2397240" y="304920"/>
            <a:ext cx="4349520" cy="6095880"/>
          </a:xfrm>
          <a:prstGeom prst="rect">
            <a:avLst/>
          </a:prstGeom>
          <a:ln w="0">
            <a:noFill/>
          </a:ln>
        </p:spPr>
      </p:pic>
      <p:sp>
        <p:nvSpPr>
          <p:cNvPr id="262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98AD-471B-4BD5-8A14-C9082F355363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6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s in Body Systems: Reproductiv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 txBox="1"/>
          <p:nvPr/>
        </p:nvSpPr>
        <p:spPr>
          <a:xfrm>
            <a:off x="0" y="7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dwick’s 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is a bluish discoloration of the cervix, vagina, and labia resulting from increased blood flo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odell’s 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It is a significant softening of the vaginal portion of the cervix from increased vascu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cus 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A3FA-5E82-4F49-8F47-012BA19AF32F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8" name="Picture 1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0052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9" name="Picture 6" descr="007002"/>
          <p:cNvPicPr/>
          <p:nvPr/>
        </p:nvPicPr>
        <p:blipFill>
          <a:blip r:embed="rId1"/>
          <a:stretch/>
        </p:blipFill>
        <p:spPr>
          <a:xfrm>
            <a:off x="755640" y="1403280"/>
            <a:ext cx="6769080" cy="4186440"/>
          </a:xfrm>
          <a:prstGeom prst="rect">
            <a:avLst/>
          </a:prstGeom>
          <a:ln w="0">
            <a:noFill/>
          </a:ln>
        </p:spPr>
      </p:pic>
      <p:sp>
        <p:nvSpPr>
          <p:cNvPr id="263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1643-38A2-4687-B92D-7051606AD813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680" y="0"/>
            <a:ext cx="8229600" cy="706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s in Body Systems: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roductiv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gina and vu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ascula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ginal mucosa thic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inal rugae become prom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oduction of lact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7A19-7B56-4400-AC92-ADFCC62A37F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87440" y="260280"/>
            <a:ext cx="8229600" cy="8510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sterone must be present in adequate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us luteum of the ovaries secretes progeste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ulation ceases during pre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CEE2-875E-4393-BCC4-B174A0054997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7560" y="333000"/>
            <a:ext cx="7924680" cy="809640"/>
          </a:xfrm>
          <a:prstGeom prst="rect">
            <a:avLst/>
          </a:prstGeom>
          <a:solidFill>
            <a:srgbClr val="e6de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w Cen MT"/>
              </a:rPr>
              <a:t>Reference book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“</a:t>
            </a:r>
            <a:r>
              <a:rPr b="0" lang="en-US" sz="2900" spc="-1" strike="noStrike">
                <a:solidFill>
                  <a:srgbClr val="0070c0"/>
                </a:solidFill>
                <a:latin typeface="Tw Cen MT"/>
              </a:rPr>
              <a:t>Foundations of Maternal-Newborn and Women's Health Nursing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by Sharon Murray, Emily McKinney, 6th Edition; Saunders . 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481-AC87-4BDD-B00D-773D14B86C5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-25560" y="11556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e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ogen stimulates the growth of mammary ductal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sterone promotes the growth of the lobes, lobules, and alve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strum is secr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7485-D60A-4751-84B8-B6F32E6AA38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4" name="Picture 6" descr="007003"/>
          <p:cNvPicPr/>
          <p:nvPr/>
        </p:nvPicPr>
        <p:blipFill>
          <a:blip r:embed="rId1"/>
          <a:stretch/>
        </p:blipFill>
        <p:spPr>
          <a:xfrm>
            <a:off x="762120" y="771480"/>
            <a:ext cx="7619760" cy="5315040"/>
          </a:xfrm>
          <a:prstGeom prst="rect">
            <a:avLst/>
          </a:prstGeom>
          <a:ln w="0">
            <a:noFill/>
          </a:ln>
        </p:spPr>
      </p:pic>
      <p:sp>
        <p:nvSpPr>
          <p:cNvPr id="264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618C-07FD-4B13-99BB-4BA6D2CAA042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93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s of the heart (myocardium) enlarge 10% to 15% during the first tri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ood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begins by 6 weeks of ge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sma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from 6 to 8 weeks until 32 week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e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 blood cel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increases by about 20% to 3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8C06-34E9-4AE2-926A-7FB5528F8FD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-25560" y="3240"/>
            <a:ext cx="8229600" cy="922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ovascular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ic vascula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during pregn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f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ine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CCA0-B3B3-4FFB-AAFC-6DCFC718D76A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5" name="Picture 6" descr="007004"/>
          <p:cNvPicPr/>
          <p:nvPr/>
        </p:nvPicPr>
        <p:blipFill>
          <a:blip r:embed="rId1"/>
          <a:srcRect l="52875" t="0" r="-2726" b="15082"/>
          <a:stretch/>
        </p:blipFill>
        <p:spPr>
          <a:xfrm>
            <a:off x="1187280" y="380880"/>
            <a:ext cx="7402680" cy="5079960"/>
          </a:xfrm>
          <a:prstGeom prst="rect">
            <a:avLst/>
          </a:prstGeom>
          <a:ln w="0">
            <a:noFill/>
          </a:ln>
        </p:spPr>
      </p:pic>
      <p:sp>
        <p:nvSpPr>
          <p:cNvPr id="2656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9E6-B137-41C7-98F4-288D0BFD3AC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xygen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rmon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effects of the enlarging 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ing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ation of the ligaments around the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D8F7-C8ED-441D-A229-BF3623DD8078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6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in Body Systems:  Gastro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nd small intes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 and gall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4661-9CE5-4B73-97E5-C9DC6D464D9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u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pi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 nig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aneous vascula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nectiv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ae gravida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9F21-BC9A-49B8-B58A-F8A61A2146BD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0" name="Picture 7" descr="نتيجة بحث الصور عن ‪Melasma‬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5157720"/>
            <a:ext cx="5940360" cy="1692360"/>
          </a:xfrm>
          <a:prstGeom prst="rect">
            <a:avLst/>
          </a:prstGeom>
          <a:ln w="0">
            <a:noFill/>
          </a:ln>
        </p:spPr>
      </p:pic>
      <p:pic>
        <p:nvPicPr>
          <p:cNvPr id="2671" name="Picture 8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3516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8229600" cy="849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act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yroid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in total thyroxine (T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2EF-3359-4807-8FF8-AAC605CECE3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3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thyroid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homeost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ctuations in insulin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in res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renal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oster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7332-8F6E-451C-B9B0-0B8CA7A4760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925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Whole Period of Pregnancy Can Be Divided Into Three Stages (Trimesters ):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2584" name=""/>
          <p:cNvGraphicFramePr/>
          <p:nvPr/>
        </p:nvGraphicFramePr>
        <p:xfrm>
          <a:off x="857160" y="2143080"/>
          <a:ext cx="7486920" cy="3678120"/>
        </p:xfrm>
        <a:graphic>
          <a:graphicData uri="http://schemas.openxmlformats.org/drawingml/2006/table">
            <a:tbl>
              <a:tblPr/>
              <a:tblGrid>
                <a:gridCol w="5688000"/>
                <a:gridCol w="179892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mes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trimester (early pregnanc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trimester (middle pregnanc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-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trimester (late pregnanc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-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5" name="Slide Number Placeholder 2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9A95-4EB5-4A2E-B368-34126B8410A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ications for Fetal Diagnostic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congenital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the condition of the f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Doppler 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pha-Fetoprotein Scre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n stress Tes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whether an increase in the FHR occurs w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tus mo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673-7E5F-4BB6-AA0F-39A0DB9441E0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Ultra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frequency sound waves are aimed at body t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rected through tissues of the abdomen or vagina to provide two-dimensional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86C-4B9C-4F72-AE3F-F03B023257B0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dimensional ultrasound images have greater det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more accurate identification of the extent and size of abnorma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movement as it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observer to see fetal heart mo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5FBE-303F-44E7-B937-0C8A1583CE9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2" name="Picture 2" descr="نتيجة بحث الصور عن ‪Three-dimensional ultrasound images‬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292640"/>
            <a:ext cx="2678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Slide Number Placeholder 5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5A86-009A-4B7A-8A33-82BFD4D66507}" type="slidenum">
              <a:rPr b="1" lang="en-US" sz="1400" spc="-1" strike="noStrike">
                <a:solidFill>
                  <a:srgbClr val="775f55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4" name="Picture 3" descr="huan5"/>
          <p:cNvPicPr/>
          <p:nvPr/>
        </p:nvPicPr>
        <p:blipFill>
          <a:blip r:embed="rId1"/>
          <a:stretch/>
        </p:blipFill>
        <p:spPr>
          <a:xfrm>
            <a:off x="250920" y="404640"/>
            <a:ext cx="8353440" cy="4608720"/>
          </a:xfrm>
          <a:prstGeom prst="rect">
            <a:avLst/>
          </a:prstGeom>
          <a:ln w="0">
            <a:noFill/>
          </a:ln>
        </p:spPr>
      </p:pic>
      <p:sp>
        <p:nvSpPr>
          <p:cNvPr id="2695" name="Text Box 4"/>
          <p:cNvSpPr/>
          <p:nvPr/>
        </p:nvSpPr>
        <p:spPr>
          <a:xfrm>
            <a:off x="2050920" y="5229360"/>
            <a:ext cx="556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SimSun"/>
              </a:rPr>
              <a:t>Picture of gestational s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Slide Number Placeholder 5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3D3-A653-487D-AFFD-109A3A785CC7}" type="slidenum">
              <a:rPr b="1" lang="en-US" sz="1400" spc="-1" strike="noStrike">
                <a:solidFill>
                  <a:srgbClr val="775f55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Text Box 2"/>
          <p:cNvSpPr/>
          <p:nvPr/>
        </p:nvSpPr>
        <p:spPr>
          <a:xfrm>
            <a:off x="914400" y="4292640"/>
            <a:ext cx="714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icture of normal f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regnancy of 8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regnancy of 18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BL-blad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UT-uter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S-gestational s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8" name="Picture 3" descr="huan1"/>
          <p:cNvPicPr/>
          <p:nvPr/>
        </p:nvPicPr>
        <p:blipFill>
          <a:blip r:embed="rId1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12240" y="-360"/>
            <a:ext cx="8580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trasound: Emotional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rents are exc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rents report anx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ples expect to know the gender of the fe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do not want to know the ge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8DB2-426A-4BEA-A0BF-F8FDFAA6531D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8229600" cy="849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trasound: First Trim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 pregn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y the location of the pregnan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multifetal ges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gestational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1429-ADE0-4AF2-95C7-8B22006DB5C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Doppler Ultra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which diagnoses the pregnancy by revealing the heart bea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876-5940-4918-97DB-0221311A98F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7920" y="15480"/>
            <a:ext cx="8229600" cy="7779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Alpha-Fetoprotein Scre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concentrations of AFP are associated with serious fetal anomal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 levels of MSAF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chromosomal abnormalities such as trisomy 2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v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SAFP levels are associated with body wall def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enceph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a bif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creening is offered at 16 and 18 weeks of ge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5F3A-22D2-4418-8D44-60B93C75048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1 Month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844520" y="1499760"/>
            <a:ext cx="38862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irst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four week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/4 inch in length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art, digestive system, backbone and spinal cord begin to form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acenta begins to develop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ingle fertilized egg is now 10,000 times larger than size at concep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18" name="Picture 5" descr="wc_fd_f-1"/>
          <p:cNvPicPr/>
          <p:nvPr/>
        </p:nvPicPr>
        <p:blipFill>
          <a:blip r:embed="rId1"/>
          <a:stretch/>
        </p:blipFill>
        <p:spPr>
          <a:xfrm>
            <a:off x="0" y="1600200"/>
            <a:ext cx="4381560" cy="4495680"/>
          </a:xfrm>
          <a:prstGeom prst="rect">
            <a:avLst/>
          </a:prstGeom>
          <a:ln w="0">
            <a:noFill/>
          </a:ln>
        </p:spPr>
      </p:pic>
      <p:sp>
        <p:nvSpPr>
          <p:cNvPr id="271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069C-5C46-4E46-A4DD-DB5B1FBB4CB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7148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w Cen MT"/>
              </a:rPr>
              <a:t>GESTATIONAL 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357120" y="1600200"/>
            <a:ext cx="8408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9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w Cen MT"/>
              </a:rPr>
              <a:t>Nagele’s R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dd 7 days to the first day of the last normal menstrual period, subtract 3 months and add 1 year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ay of LNMP= October, 16 201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dd 7 days =Oct. 23 2017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btract 3 months = July, 23 201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dd 1 year =Sept 23 2018, estimated due date (ED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w Cen MT"/>
              </a:rPr>
              <a:t>Johnson’s Rule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:  estimates the weight of the fetus in gra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AEF1-84EC-4BC6-B019-8BA557B5432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2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irst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8 week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-1/8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art is function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yes, nose, lips, tongue, ears and teeth are form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nis begins to appear in boy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moving, although the mother can not yet feel mov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23" name="Picture 5" descr="wc_fd_f-2"/>
          <p:cNvPicPr/>
          <p:nvPr/>
        </p:nvPicPr>
        <p:blipFill>
          <a:blip r:embed="rId1"/>
          <a:stretch/>
        </p:blipFill>
        <p:spPr>
          <a:xfrm>
            <a:off x="0" y="14479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29C2-DB12-4AE7-914F-4CA70B55037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3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609480" y="1589040"/>
            <a:ext cx="353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143240" y="1589040"/>
            <a:ext cx="458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First Trimester</a:t>
            </a:r>
            <a:br>
              <a:rPr sz="16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12 week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2 1/2 to 3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ight is about 1/2 to 1 ounc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ails start to develop and earlobes are form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rms, hands, fingers, legs, feet and toes are fully form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yes are almost fully develop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has developed most of his/her organs and tissu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's heart rate can be heard at 10 weeks with a special instrument called a Dopp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28" name="Picture 5" descr="wc_fd_f-3"/>
          <p:cNvPicPr/>
          <p:nvPr/>
        </p:nvPicPr>
        <p:blipFill>
          <a:blip r:embed="rId1"/>
          <a:stretch/>
        </p:blipFill>
        <p:spPr>
          <a:xfrm>
            <a:off x="0" y="1523880"/>
            <a:ext cx="3714840" cy="4572000"/>
          </a:xfrm>
          <a:prstGeom prst="rect">
            <a:avLst/>
          </a:prstGeom>
          <a:ln w="0">
            <a:noFill/>
          </a:ln>
        </p:spPr>
      </p:pic>
      <p:sp>
        <p:nvSpPr>
          <p:cNvPr id="272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745-84FA-4310-8690-A7A5969C915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4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214880" y="158904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Second Trimester</a:t>
            </a:r>
            <a:br>
              <a:rPr sz="1600"/>
            </a:b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At the end of 4 month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6 1/2 to 7 inches lo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is about 6 to 7 ounce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developing reflexes, such as sucking and swallowing and may begin sucking his/her thumb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ooth buds are develop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weat glands are forming on palms and sole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ngers and toes are well define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x is identifiabl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kin is bright pink, transparent and covered with soft, downy hair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lthough recognizably human in appearance, the baby would not be able to survive outside the mother's bod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33" name="Picture 5" descr="wc_fd_f-4"/>
          <p:cNvPicPr/>
          <p:nvPr/>
        </p:nvPicPr>
        <p:blipFill>
          <a:blip r:embed="rId1"/>
          <a:stretch/>
        </p:blipFill>
        <p:spPr>
          <a:xfrm>
            <a:off x="0" y="1447920"/>
            <a:ext cx="3643200" cy="4647960"/>
          </a:xfrm>
          <a:prstGeom prst="rect">
            <a:avLst/>
          </a:prstGeom>
          <a:ln w="0">
            <a:noFill/>
          </a:ln>
        </p:spPr>
      </p:pic>
      <p:sp>
        <p:nvSpPr>
          <p:cNvPr id="273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ED5A-2164-4CC1-893B-8D09E0CD7121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5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econd Trimest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At the end of 5 month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8 to 10 inches lo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is about 1 pou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air begins to grow on baby's hea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oft woolly hair called lanugo will cover its body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ther begins to feel fetal movement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rnal organs are matur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yebrows, eyelids and eyelashes appe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38" name="Picture 5" descr="wc_fd_f-5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3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B7DE-5CE5-4C9D-B076-AF080761733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th 6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Second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6 month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1 to 14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ight is about 1 3/4 to 2 pound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yelids begin to part and eyes open sometimes for short periods of tim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kin is covered with protective coating called vernix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43" name="Picture 5" descr="wc_fd_f-6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5B78-E28C-45FB-8A2E-7E89C13AD81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th 7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Third Trimest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At the end of 7 month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14 to 16 inches lo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is about 2 1/2 to 3 1/2 pou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at layers are form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rgans are matur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kin is still wrinkled and re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f born at this time, baby will be considered a premature baby and require special car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48" name="Picture 5" descr="wc_fd_f-7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274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7475-BC44-4C7D-AE10-03AC208B989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8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Third Trimest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At the end of 8 months: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Baby is 16 1/2 to 18 inches long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eight is about 4 to 6 pounds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verall growth is rapid this month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remendous brain growth occurs at this time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ost body organs are now developed with the exception of the lungs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ovements or "kicks" are strong enough to be visible from the outside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Kidneys are mature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kin is less wrinkled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Fingernails now extend beyond fingertip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53" name="Picture 5" descr="wc_fd_f-8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59B-ED8F-484C-8CD1-EAF6737DDF3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th 9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hird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9 month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9 to 20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ight is about 7 to 7 1/2 pound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lungs are matur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now fully developed and can survive outside the mother's body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kin is pink and smooth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settles down lower in the abdomen in preparation for birth and may seem less ac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58" name="Picture 5" descr="wc_fd_f-9"/>
          <p:cNvPicPr/>
          <p:nvPr/>
        </p:nvPicPr>
        <p:blipFill>
          <a:blip r:embed="rId1"/>
          <a:stretch/>
        </p:blipFill>
        <p:spPr>
          <a:xfrm>
            <a:off x="0" y="1523880"/>
            <a:ext cx="3733920" cy="4648320"/>
          </a:xfrm>
          <a:prstGeom prst="rect">
            <a:avLst/>
          </a:prstGeom>
          <a:ln w="0">
            <a:noFill/>
          </a:ln>
        </p:spPr>
      </p:pic>
      <p:sp>
        <p:nvSpPr>
          <p:cNvPr id="275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B050-AC79-4772-AC66-7A53AC6DD33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gular visits during pregnanc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10D6-A593-4CAF-849D-4A5AAEB21B7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54"/>
          <p:cNvSpPr/>
          <p:nvPr/>
        </p:nvSpPr>
        <p:spPr>
          <a:xfrm>
            <a:off x="1000080" y="17859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仿宋"/>
              </a:rPr>
              <a:t>Prenatal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Q 4 weeks for 1st 28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Q 2 weeks until 36 weeks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Q 1 week until 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Gain During Preg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weight gai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5 to 16 k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 to 35 lb) for women who begin pregnancy at normal B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A75-A3CE-489C-9C73-4CE9065E81A5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  <a:ea typeface="SimSun"/>
              </a:rPr>
              <a:t>Sign and symptoms of pregnanc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AE93-5839-4B9B-9DDF-460DBA073AA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28584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w Cen MT"/>
                <a:ea typeface="SimSun"/>
              </a:rPr>
              <a:t>1. Cessation of menstr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This is the first frequent symptom of pregnancy, although a few women may have slight bleeding after conception. But amenorrhea is not only due to pregnancy but also other reas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0" y="15480"/>
            <a:ext cx="8610480" cy="679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Gain During Preg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of weight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recommendation is an increment of about 0.5 to 2 kg (1.1 to 4.4 lb) during the first tri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158-4B24-40CE-A012-02FFB515F92B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1" name="Picture 6" descr="009001"/>
          <p:cNvPicPr/>
          <p:nvPr/>
        </p:nvPicPr>
        <p:blipFill>
          <a:blip r:embed="rId1"/>
          <a:srcRect l="0" t="20048" r="0" b="0"/>
          <a:stretch/>
        </p:blipFill>
        <p:spPr>
          <a:xfrm>
            <a:off x="2195640" y="907920"/>
            <a:ext cx="4221000" cy="5569200"/>
          </a:xfrm>
          <a:prstGeom prst="rect">
            <a:avLst/>
          </a:prstGeom>
          <a:ln w="0">
            <a:noFill/>
          </a:ln>
        </p:spPr>
      </p:pic>
      <p:sp>
        <p:nvSpPr>
          <p:cNvPr id="277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AB4D-4FE2-442F-927A-68A506C5864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isks of Low Weight Gai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209-7B8F-4368-982D-89F14902C90C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w weight gain in second or third trimester increases risk of intrauterine growth retar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w weight gain in third trimester increases risk of preterm delive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633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asured in kilocalories (calori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energy and fat-soluble vitam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l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pregnant women need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200 to 2900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alories da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8F5-1EFB-421F-A803-EEC0B0425C48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for metabolism, tissue synthesis, and tissue re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otein RDA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6 g for nonpregn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recommended protein intake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1 g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8E1-D267-42C0-B891-3D4E5952BB9F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Vitam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-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D, E, and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in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intake of these vitamins can be tox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6, B12, and C; folic acid; thiamin; riboflavin; and nia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included in the daily d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c acid (also called fol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ecrease the occurrence of neural tube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DC7D-B45B-4FF0-8BF8-68C089B91CBD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79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Min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in the formation of hemoglob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regnancy approximatel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000 m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bsorbed iron above maternal iron store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for mineralization of fetal bones and tee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ium absorption and retention increase during pregnan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dium needs are increased during pregnancy to provide for an expanded blood volume and the needs of the fe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2543-E5D5-46A5-B0AE-DC8062285CA4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8229600" cy="704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Requirement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al Sup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the best source of nutr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are providers usually prescribe prenatal vitamin-mineral supp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ith adequate diets may not need supplements except for iron and fol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each woman’s individualized needs determines whether supplementation is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013-A5B1-4578-8918-B2C3F0649B6F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important during pregnan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expanded blood vol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the increased maternal and fetal t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should drink approximate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 to 10 cup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luids that are mostly water each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91D4-77E6-4819-8B28-B9811307038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After 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ating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6 months of lactation, the estimated energy requirement (EER) is 330 additional cal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6 months require 400 additional cal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s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DD9E-FA37-49D9-984C-1168DDCAA4B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C73F-137C-4644-A827-A239EFC77AD1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30492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w Cen MT"/>
                <a:ea typeface="SimSun"/>
              </a:rPr>
              <a:t>2. Nausea and vomi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Also called morning sickness because they occur upon arising. These symptoms appear one or two weeks after the period is missed and last until 10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w Cen MT"/>
                <a:ea typeface="SimSun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 to 1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w Cen MT"/>
                <a:ea typeface="SimSun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 week, its severity varies from mild nausea to persistent vomiting (e.g. Hyperemesis gravidarum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  <a:ea typeface="SimSun"/>
              </a:rPr>
              <a:t>Sign and symptoms of pregnanc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Health Promotion During Pregnancy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First-Trimester Discomfort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6" name=""/>
          <p:cNvSpPr txBox="1"/>
          <p:nvPr/>
        </p:nvSpPr>
        <p:spPr>
          <a:xfrm>
            <a:off x="837720" y="2361960"/>
            <a:ext cx="376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reast tendern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nstip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ausea, vomi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uscle cramp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4762080" y="2361960"/>
            <a:ext cx="4095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aricosit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morrhoi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art palpit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requent urin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bdominal discomfor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8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6D6-24CD-47A1-BD7B-0B059D9B2A1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9" name="Picture 5" descr="CVIS2212"/>
          <p:cNvPicPr/>
          <p:nvPr/>
        </p:nvPicPr>
        <p:blipFill>
          <a:blip r:embed="rId1"/>
          <a:stretch/>
        </p:blipFill>
        <p:spPr>
          <a:xfrm>
            <a:off x="7572240" y="164304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18840" y="214200"/>
            <a:ext cx="79534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Health Promotion During Pregnanc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0C76-DC1B-4F14-B502-F62A68B03C9C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ddle to Late Pregnancy Discomfor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ckach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eadach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yspn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kle ede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13" name="Picture 4" descr="CVIS2212"/>
          <p:cNvPicPr/>
          <p:nvPr/>
        </p:nvPicPr>
        <p:blipFill>
          <a:blip r:embed="rId1"/>
          <a:stretch/>
        </p:blipFill>
        <p:spPr>
          <a:xfrm>
            <a:off x="5724360" y="335772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539280" y="3141360"/>
            <a:ext cx="8153640" cy="963720"/>
          </a:xfrm>
          <a:prstGeom prst="rect">
            <a:avLst/>
          </a:prstGeom>
          <a:solidFill>
            <a:srgbClr val="e6dedb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Application of the Nurs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29EB-EA78-432F-A652-478484DFEDC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5490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Nursing Proces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1C1E-2EC7-4182-9D03-151FC789BAB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837720" y="1904760"/>
            <a:ext cx="8055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Nursing Diagno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alth-seeking behavio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nxie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isk for deficit flu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nstip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isturbed body im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isk for altered sexuality patter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isturbed sleep patter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tigu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isk for fetal inju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20" name="Picture 4" descr="CVIS2212"/>
          <p:cNvPicPr/>
          <p:nvPr/>
        </p:nvPicPr>
        <p:blipFill>
          <a:blip r:embed="rId1"/>
          <a:stretch/>
        </p:blipFill>
        <p:spPr>
          <a:xfrm>
            <a:off x="6588000" y="2997360"/>
            <a:ext cx="1008360" cy="12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Discomforts associated with pregnancy </a:t>
            </a:r>
            <a:br>
              <a:rPr sz="2000"/>
            </a:br>
            <a:r>
              <a:rPr b="0" i="1" lang="en-US" sz="2000" spc="-1" strike="noStrike">
                <a:solidFill>
                  <a:srgbClr val="775f55"/>
                </a:solidFill>
                <a:latin typeface="Tw Cen MT"/>
              </a:rPr>
              <a:t>1. First trimester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FA70-935A-43C8-94CE-9A326E40C83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ausea and vomiting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“morning sickness”)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related to altered hormone levels and metabolic chang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advise small snacks of dry crackers before arising, small feedings of bland food, mil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Urinary frequenc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urgency without dysuria; fluid intake should not be restric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creased vaginal discharg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manage with good hygiene  and loose-fitting cotton underwear; report signs or symptoms of vaginit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24" name="Picture 4" descr="CVIS2212"/>
          <p:cNvPicPr/>
          <p:nvPr/>
        </p:nvPicPr>
        <p:blipFill>
          <a:blip r:embed="rId1"/>
          <a:stretch/>
        </p:blipFill>
        <p:spPr>
          <a:xfrm>
            <a:off x="1476360" y="544500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E0CE-FB50-4AFF-8DD0-1915F649338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reast sorenes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e to hormonal changes; suggest wearing a well-fitting, supportive brassie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Headach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e to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tension from emotional and physical stresses at any time during pregnanc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provide reassurance, suggest relaxation techniques; inform patient to report persistent and/or severe episod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27" name="Picture 4" descr="CVIS2212"/>
          <p:cNvPicPr/>
          <p:nvPr/>
        </p:nvPicPr>
        <p:blipFill>
          <a:blip r:embed="rId1"/>
          <a:stretch/>
        </p:blipFill>
        <p:spPr>
          <a:xfrm>
            <a:off x="1908000" y="522936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Second and third trimest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14E2-2CAF-40D4-8CFA-FE8178BA0ED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 txBox="1"/>
          <p:nvPr/>
        </p:nvSpPr>
        <p:spPr>
          <a:xfrm>
            <a:off x="713880" y="1785600"/>
            <a:ext cx="75438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Heartbur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be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related to tension and vomiting in early pregnanc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progesterone-induced decreased motility and relaxation of the cardiac sphincter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</a:t>
            </a:r>
            <a:r>
              <a:rPr b="0" lang="en-US" sz="2400" spc="-1" strike="noStrike">
                <a:solidFill>
                  <a:srgbClr val="ff6600"/>
                </a:solidFill>
                <a:latin typeface="Tw Cen MT"/>
              </a:rPr>
              <a:t>displacement of the stomach by the growing uteru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encourage small, frequent meals and discourage overeating, ingesting fried/fatty foods, lying down soon after eating, use of sodium bicarbonate (would interfere with sodium balan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1" name="Picture 4" descr="CVIS2212"/>
          <p:cNvPicPr/>
          <p:nvPr/>
        </p:nvPicPr>
        <p:blipFill>
          <a:blip r:embed="rId1"/>
          <a:stretch/>
        </p:blipFill>
        <p:spPr>
          <a:xfrm>
            <a:off x="1619280" y="5500800"/>
            <a:ext cx="130968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9DC-11DA-4A94-B957-E402DD76FA4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642600" y="1714320"/>
            <a:ext cx="7929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nstipation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related </a:t>
            </a:r>
            <a:r>
              <a:rPr b="0" lang="en-US" sz="2000" spc="-1" strike="noStrike">
                <a:solidFill>
                  <a:srgbClr val="ff0066"/>
                </a:solidFill>
                <a:latin typeface="Tw Cen MT"/>
              </a:rPr>
              <a:t>to progesterone-induced hypoperistalsis, </a:t>
            </a:r>
            <a:r>
              <a:rPr b="0" lang="en-US" sz="2000" spc="-1" strike="noStrike">
                <a:solidFill>
                  <a:srgbClr val="000099"/>
                </a:solidFill>
                <a:latin typeface="Tw Cen MT"/>
              </a:rPr>
              <a:t>compression/displacement of the bowel by the enlarging uteru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oor food choices, lack of fluids, and/or iron supplementation;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vise bulk foods, fruits and vegetables, exercise, and generous fluid intake; avoid laxat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Hemorrhoid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due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elvic congestion related to pressure from enlarged uteru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suggest regulation of bowel habits, gentle reinsertion into rectum with use of lubricant, relief measures, e.g., ice packs, topical ointments, sitz baths, lying down with legs eleva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4" name="Picture 4" descr="CVIS2212"/>
          <p:cNvPicPr/>
          <p:nvPr/>
        </p:nvPicPr>
        <p:blipFill>
          <a:blip r:embed="rId1"/>
          <a:stretch/>
        </p:blipFill>
        <p:spPr>
          <a:xfrm>
            <a:off x="1835280" y="5732640"/>
            <a:ext cx="7617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97EC-B13E-45AD-A281-743BFAD2EDC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1042560" y="2421000"/>
            <a:ext cx="754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Uterine contraction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raxton-Hicks) due to tension on the round ligaments as a result of displacement of the uterus; instruct patient to rest, change position or activ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Backach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due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increased spinal curvatur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educate the patient on the importance good postu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aintnes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related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vasomotor lability or postural hypotension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instruct the patient to use slow, deliberate movements when rising, avoid prolonged standing and warm, stuffy environments; elastic hose may be need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7" name="Picture 4" descr="CVIS2212"/>
          <p:cNvPicPr/>
          <p:nvPr/>
        </p:nvPicPr>
        <p:blipFill>
          <a:blip r:embed="rId1"/>
          <a:stretch/>
        </p:blipFill>
        <p:spPr>
          <a:xfrm>
            <a:off x="1692360" y="5589720"/>
            <a:ext cx="7617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7BCC-84D0-4C42-AC21-7398F65E49D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 txBox="1"/>
          <p:nvPr/>
        </p:nvSpPr>
        <p:spPr>
          <a:xfrm>
            <a:off x="899640" y="2349000"/>
            <a:ext cx="7620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Leg cramp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lated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ressure on the nerves supplying the lower extremities aggravated by poor peripheral circulation or fatigu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instruct the patient to increase calcium and decrease phosphorus intake; encourage dorsiflexion of fee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nkle edema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lated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decreased venous return from lower extremitie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instruct the patient to avoid wearing anything that constricts blood flow, elevate legs when sitting or resting, and dorsiflex feet when sitting or standing for any length of time; medical management if edema persists in AM, is pitting, involves the face, or associated with elevated BP, proteinuria, persistent heada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40" name="Picture 4" descr="CVIS2212"/>
          <p:cNvPicPr/>
          <p:nvPr/>
        </p:nvPicPr>
        <p:blipFill>
          <a:blip r:embed="rId1"/>
          <a:stretch/>
        </p:blipFill>
        <p:spPr>
          <a:xfrm>
            <a:off x="1619280" y="580536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74C9-C094-40F3-BEEC-7AF164CEE89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66"/>
                </a:solidFill>
                <a:latin typeface="Tw Cen MT"/>
                <a:ea typeface="SimSun"/>
              </a:rPr>
              <a:t>3. Urinary sympto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SimSun"/>
              </a:rPr>
              <a:t>   </a:t>
            </a:r>
            <a:r>
              <a:rPr b="1" lang="en-US" sz="2900" spc="-1" strike="noStrike">
                <a:solidFill>
                  <a:srgbClr val="000099"/>
                </a:solidFill>
                <a:latin typeface="Tw Cen MT"/>
                <a:ea typeface="SimSun"/>
              </a:rPr>
              <a:t>Increased frequency of urination is due to increased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SimSun"/>
              </a:rPr>
              <a:t>circulation associated </a:t>
            </a:r>
            <a:r>
              <a:rPr b="1" lang="en-US" sz="2900" spc="-1" strike="noStrike">
                <a:solidFill>
                  <a:srgbClr val="000099"/>
                </a:solidFill>
                <a:latin typeface="Tw Cen MT"/>
                <a:ea typeface="SimSun"/>
              </a:rPr>
              <a:t>with the effect of estrogen and progesterone on the bladd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8" name="AutoShap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</a:rPr>
              <a:t>Sign and symptoms of pregna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7BFE-167A-4A6C-B2DF-E51059C0C3D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ricosities of extremities or vulva related to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uterine compression of venous return, increased vein wall distensibility from progesterone-initiated relaxation, or inherited tendenc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suggest elevating legs frequently, avoid sitting with legs crossed, standing/sitting for long periods of time, or wearing constrictive clothing; support/elastic stockings may be helpfu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43" name="Picture 4" descr="CVIS2212"/>
          <p:cNvPicPr/>
          <p:nvPr/>
        </p:nvPicPr>
        <p:blipFill>
          <a:blip r:embed="rId1"/>
          <a:stretch/>
        </p:blipFill>
        <p:spPr>
          <a:xfrm>
            <a:off x="1763640" y="551664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8655120" cy="752400"/>
          </a:xfrm>
          <a:prstGeom prst="rect">
            <a:avLst/>
          </a:prstGeom>
          <a:solidFill>
            <a:srgbClr val="e6de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Danger Signs of Pregnanc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5" name=""/>
          <p:cNvSpPr txBox="1"/>
          <p:nvPr/>
        </p:nvSpPr>
        <p:spPr>
          <a:xfrm>
            <a:off x="837720" y="2071800"/>
            <a:ext cx="376884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bdominal or chest pa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gnancy-induced hyperten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crease or decrease in fetal move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6" name=""/>
          <p:cNvSpPr txBox="1"/>
          <p:nvPr/>
        </p:nvSpPr>
        <p:spPr>
          <a:xfrm>
            <a:off x="4762080" y="2143080"/>
            <a:ext cx="37688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ginal bleed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sistent vomi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ills and fev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uptured membra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7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FFB-21CA-4BAA-A64E-7CD0FD58BEB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w Cen MT"/>
              </a:rPr>
              <a:t>Teratogens</a:t>
            </a:r>
            <a:endParaRPr b="0" lang="en-US" sz="43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9A8-25EB-48DE-84F9-82A6A5BB286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y factor that adversely affects fertilized ovum, embryo or fetu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5f55"/>
                </a:solidFill>
                <a:latin typeface="Tw Cen MT"/>
              </a:rPr>
              <a:t>Teratogenic Fetal Exposur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6F4-758D-4190-8698-F632B2B5265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ternal infections: Toxoplasmosis, Rubella, Cytomegalovir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rpes simplex virus, Syphil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cci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ru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garet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Teratogenic Fetal Exposu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455-0EAF-4A32-B506-D2B289EF4BF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yperthermia and hypotherm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ternal str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Perspectives in preg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Footer Placeholder 5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108F-91B4-442E-BEEC-353354D22D9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0" name="Picture 2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E5E7-FFA9-479F-9411-D72CB30DC61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WordArt 3"/>
          <p:cNvSpPr txBox="1"/>
          <p:nvPr/>
        </p:nvSpPr>
        <p:spPr>
          <a:xfrm>
            <a:off x="1071720" y="2428920"/>
            <a:ext cx="7010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Slide Number Placeholder 4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88D-DA78-47F0-A74D-C367388F8E10}" type="slidenum">
              <a:rPr b="1" lang="en-US" sz="1400" spc="-1" strike="noStrike">
                <a:solidFill>
                  <a:srgbClr val="775f55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0" name="Picture 2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102-F7B6-4E63-9EAC-4DBE49F6AAE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 txBox="1"/>
          <p:nvPr/>
        </p:nvSpPr>
        <p:spPr>
          <a:xfrm>
            <a:off x="0" y="1928520"/>
            <a:ext cx="8610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w Cen MT"/>
                <a:ea typeface="SimSun"/>
              </a:rPr>
              <a:t>4. Breast chang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Breast enlargement and vascular engorgement. Nipple and areola become blacker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5. Fatigue and dizzin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  <a:ea typeface="SimSun"/>
              </a:rPr>
              <a:t>Sign and symptoms of pregnanc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14:22:06Z</dcterms:created>
  <dc:creator>lf</dc:creator>
  <dc:description/>
  <dc:language>en-US</dc:language>
  <cp:lastModifiedBy>Ahmad Rawhi</cp:lastModifiedBy>
  <dcterms:modified xsi:type="dcterms:W3CDTF">2017-10-15T18:14:44Z</dcterms:modified>
  <cp:revision>84</cp:revision>
  <dc:subject/>
  <dc:title>The Diagnosis of Pregnancy</dc:title>
</cp:coreProperties>
</file>