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7F1-1F4D-4A15-B313-6FA6FBD7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BE0-9865-4C32-A15B-580CD693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61C-D8E9-4512-AD40-561500B8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7D8-9099-4015-820C-94D1B9F1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4458-B43A-42E8-BD4C-46A7832F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B1B4-05E1-49F7-9D32-02373E9D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B767-9A1B-46C7-91D0-856DEAE3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F12C-2AAD-4CF6-9713-E490AED3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FF65-56AB-483D-B859-37F76D91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C685-2455-410C-A760-2BEB8D0A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486B-1ACA-458D-9D8F-5A36D2F0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DCA-5F23-4A47-A03C-D8AC619E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6248-1C09-498E-B8A4-AA6C19A0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7A24-D1DA-4F5F-B3BC-68A3DBE9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5120-5D19-4026-AD86-1E4D309E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25DA-FD8E-4B6F-970D-F820DB03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FD47-6196-4B84-8143-EC557D5B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D2CD-462A-4B1D-A249-0AD43888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E0FA-0CC4-43DE-8700-55F33C90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24514-CA34-4EE0-9579-7707F237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78B0-7597-4108-96FC-6637D8CD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861E-50E7-4AB8-BF64-04B2E90B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1AE-5F3F-4258-AECB-DF067D74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8100-C73B-4207-9BA9-B4FFCF97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1835-138B-45C3-962A-409C20F1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AE33-84E0-4AD3-A47A-5321E3D8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0FE74-19FC-4FEB-BDA0-BECE993E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2DA0-20BF-48EF-AAA7-F22064A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BC23-ABF7-4E92-A686-751CBA33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5974-091F-488C-90E5-34EACC68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00B30-A44F-41D6-8AC1-FE7B0743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58C27-87A9-482B-93C2-D6B68A47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E2ED-AFAF-4522-91C6-FD9EAA91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684-0DA8-4869-82BB-EC840C30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E7D1-06E0-4F1D-BBDC-6E29450D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23F60-C300-42D3-911F-D359CAB8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67E93-859C-454B-B4C8-42AA0694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A775-82EB-46AC-84CD-730A2BF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A342E-0B76-4744-9645-7BEBD6A1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4F72F-5B6B-46FC-9C17-B581C45A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38B4-9975-4C5A-A9E3-C4DF4EC8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843C6-7A05-49CC-8C79-B0E1AA60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4EAD8-5F49-4A8A-B8FE-902CC8A5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B92-18E7-47DE-BEF5-F983738E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A88-C326-4A22-9C3F-8B29C36F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E59-60D6-4729-90EC-B559BAF0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A48-05A3-41E6-99BB-18EAB07E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C0F-A7C3-461B-8176-3DD56EFA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8838-6553-4141-A074-F8692BC229F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22DA-2F0F-4C31-8BD9-F6D90C27F29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C54D-3429-4814-925D-5CDEA1E3B49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1CE3-A323-4660-A175-12E92A37D12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104E-64A8-483B-8966-E7EB0745470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د أشرف مشالي</cp:lastModifiedBy>
  <dcterms:modified xsi:type="dcterms:W3CDTF">2013-09-01T08:09:56Z</dcterms:modified>
  <cp:revision>8</cp:revision>
  <dc:subject/>
  <dc:title>Slide 1</dc:title>
</cp:coreProperties>
</file>